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291F7-BA08-4564-9279-7551D6C9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9B97A-1784-4659-A541-4AEF92381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E5790-797D-40F2-960B-D7F77061C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DB3D1-3A75-4E41-AAF0-FF1970CC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5F81-28C0-475E-AF1D-E9303CD0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CFFD-45DE-4083-BE16-0A1E7BA6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D423-7855-486D-905F-47B4465B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9B07-02E9-4686-8531-DBC674D5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69C3-91AC-49EC-8464-8EB950A8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BF95-7012-46B8-889E-731CB61C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7235-E788-41C0-BAF7-5CD0AE1B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5D4E2-1A17-41A8-8257-ADFF2E6F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58AD-46F5-44C5-8FF0-B378B06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FF26-3322-450C-9887-2B777FA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FF68-A117-46DE-B38A-474E0BFE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8950-5317-4932-B61C-F8643821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6B96-4C21-494B-895E-8B461D2D5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879EB-69D0-4A99-98DF-914C19C27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278E2-162A-459B-B2AA-2D96603F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F3922-673C-42F7-980F-313768BB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6F28-E33D-4531-8742-EF7EED70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E34FB-D9B5-443E-BB7C-680FD34F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786EC-27A6-4DBC-BF53-DB5FE6A1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AC792-C3B9-4DDC-B88D-E8E7F1C0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C5343-F57F-4E83-8BA2-23F74B40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A80CB-B446-49C6-B647-A2D7D2D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E654-EF90-4F5E-B227-9E6DF1D2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4D2D8-729C-431C-B021-5F18AB50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E8A7F-17F9-493C-BC7B-D0397C81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0C4D2-88B7-4C52-831D-D9214C4E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D03C8-F8EA-43E0-9505-585C220A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4DB746-FE62-4B35-B131-B7FA9067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9ECB18-8763-497A-9469-4058950F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94D91-0659-44E8-BA7C-2DA45DF9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5683E7-69C6-4A50-BFC4-0D0FAE98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BC098-AA0E-4217-AA44-4A4F146E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E95140-53C5-4253-8444-86C053B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A42BBC-ABFC-490E-9A27-08447D42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8E048D-3A1F-4EC9-8263-D5C3602C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BBFEE9-91C5-4906-A5CB-9B92B49D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C8159E-B43B-4168-9C19-80386EC8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F16AC-7C60-4896-928A-EB04C53A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810381-0B44-4E4E-B093-80EE18B4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64A4-57E1-4036-BCFC-631FD82F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69C0C-8E66-4439-BFEB-B420A7F1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52EE-2CAC-4FA3-9003-5D1E8087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15660-E87B-41C5-BF5E-3AC6E8DA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2AE7-E8AD-4FC8-9173-75CDD86B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804F-CC9C-4B47-A747-413F17BB8EE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18BB-1C8A-4DAA-AA03-2DFBF08E0A3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8CA9-0A1D-4823-9459-6F2F2ABC0D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2CB7-5932-4EA3-9616-8635ED1E83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viveklak@gmail.com" TargetMode="External"/><Relationship Id="rId2" Type="http://schemas.openxmlformats.org/officeDocument/2006/relationships/hyperlink" Target="mailto:dkozimor@gmail.com" TargetMode="External"/><Relationship Id="rId3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OmniEditor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oup 0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vek Lakshman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w McCa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yan Figueire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niel Kozim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rian Bala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 want to work with you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op us a line and we would be glad to arrange a presentation/demo of our service to you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viveklak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dkozimor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ethodolog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keep track of changes in the following w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lient adds/removes text from their document or marks/selects/guards tex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resentation of the modification/enveloping is sent to the server at the client’s command using Web Servi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ched Upda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ents can cache edits and do batch upd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es bandwidth us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ffici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onsive hence enhanced user experience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capable of working with sim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-cached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rror Resolu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ehensive suite of SOAP:fault messages to easily signify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 requirement specifications chart all possible conditions and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 of “guarding” tex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portion of buffer as protected and disallow changes from other cli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rief Overview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receives the command and, if it does not conflict with another user’s change, changes the server-side text b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erver then propagates the change out to the rest of the clients that it knows to be connected to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ase of a conflict, the client is alerted to the problem and the changes they asked for are not merg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 u="sng">
                <a:solidFill>
                  <a:srgbClr val="ffffff"/>
                </a:solidFill>
                <a:uFillTx/>
                <a:latin typeface="Arial"/>
              </a:rPr>
              <a:t>Step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dentify and Classify Change Requ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each Change Request a type (Corrective, Adaptive, Perfective, and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eventi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sion Board will look it over and it will be given a priority if it is accept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p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nalysis of Change Reques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gure out what sub-systems must be changed and the propagating effects it will ha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multiple solutions for the Change Requ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nal decision of what solution to use will be decided in this ste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intenance Pla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tep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mplement the Chang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will be implemented on a priority ba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lementations will be assigned to group members most familiar with the sub-system(s) involv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Group 8 Advant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vide sample test client and complete support for developing clie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ive and plentiful test cases updated and verified constant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 24 hour turn around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ly experienced staff with work experience in corporate development projects at companies like RedHat, IBM and Cybermatio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1:28:06Z</dcterms:created>
  <dc:creator>dmc</dc:creator>
  <dc:description/>
  <dc:language>en-US</dc:language>
  <cp:lastModifiedBy>ryanfigu</cp:lastModifiedBy>
  <dcterms:modified xsi:type="dcterms:W3CDTF">2004-11-07T10:26:12Z</dcterms:modified>
  <cp:revision>17</cp:revision>
  <dc:subject/>
  <dc:title>OmniEditor</dc:title>
</cp:coreProperties>
</file>