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09FB-77E2-417C-ADB2-E45F98175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8A6-EDE1-48EB-861C-FB76701D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FF4B-3E25-4029-B96B-27B6EAD7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97C-F8C7-4878-AA39-DE4DC8079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61C7-FD08-4DB0-A076-52698A18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0894-47F5-4AF0-A253-98EE2976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6DD1-D046-4AD8-9CCE-EC0318E9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31A-22E0-47DB-B125-3594F58C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2B2-05A5-44E6-8458-713F7625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66D-4FDC-418E-ABF7-680F1828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E4E-EA12-42B4-8F0B-B8844273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AA3-EFAE-4271-A651-D27C8C2B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A20-CDCA-4897-9EBD-72DA5434C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awolf.cdf.toronto.edu:8081/axis/c408h006/doc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mniEditor Web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m 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y choose our Web Servic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nderst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l documented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limited technica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unctions did we imp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p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ructure of our web serv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400800" cy="462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web service deplo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 to http://seawolf.cdf.toronto.edu:8081/axis/services/c408h006.OMNIEdit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bout document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can be found at: </a:t>
            </a:r>
            <a:r>
              <a:rPr b="0" lang="fr-FR" sz="2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seawolf.cdf.toronto.edu:8081/axis/c408h006/docs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http://home.utm.utoronto.ca/~dwudom/OmniEditorDoc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ny inquiries, do not hesitate to contac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nt 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ject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ntv33@g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0:18:50Z</dcterms:created>
  <dc:creator>dwudom</dc:creator>
  <dc:description/>
  <dc:language>en-US</dc:language>
  <cp:lastModifiedBy>dwudom</cp:lastModifiedBy>
  <dcterms:modified xsi:type="dcterms:W3CDTF">2004-11-08T00:32:46Z</dcterms:modified>
  <cp:revision>2</cp:revision>
  <dc:subject/>
  <dc:title>OmniEditor Web Service</dc:title>
</cp:coreProperties>
</file>