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3B15-BC6E-49D4-A871-7A00330D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014B-5014-4BA0-B769-D1CCC72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886D-8228-410B-98C6-36FB78E4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FD11-E482-4A95-B6C2-C3BC654D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7CC-03C0-4402-A8B8-245A6C1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F2B9-75CF-467F-944C-67FC779A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634-B6CF-485C-BB2D-049E4CEB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9FD-3DF2-41EE-AE3E-642672E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5EAB-80A6-4E54-B8F7-8F023CBB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5B3-55B8-48D8-A0A7-AD4E774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45CF-1164-49EC-A451-51D6AFC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25F0-D6B9-4E8F-B2FD-0CA65DD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622D-C539-49CE-8C56-049DEFF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B533-D764-4FEB-8B24-DD856F6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0FE-2416-4A18-BB1B-9AF21B8A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1A5D-DCF7-4B0F-A035-A7926A4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EF8-17F7-4F34-A61F-705184A1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65A7-4606-4BF9-B07E-260AA680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A2BB-0B9E-41FB-8B19-B034101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492E-9B82-4518-B62C-6BA9A19F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2161-9D17-4406-ACC8-C655620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B080-8C4A-4B5E-8246-A3616D64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BEA6-117D-470D-9FD7-C5CEE8F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7491-D801-473A-8586-BCC3696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8265-1A14-4FE1-9E7E-429EB3F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E67D-0F51-45F6-8F4A-0E40FAD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AD7B-5F39-44A7-B1E3-347F911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31E4-96DD-40D0-BD63-38FC3EAB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5F34-9CCB-4D17-B1EE-0F0B07E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DBF4-33B0-4EB2-B7A0-B166A1AA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DB304-98B5-407B-9513-6CB6D7CE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06273-1928-4C63-9A10-40511DA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75098-8FAA-4675-AC2D-8B394CA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0A10-D0DB-47BC-89A7-95ED82E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1FCEC-6B9B-44F6-AB3F-3102C3D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E943F-4B33-4547-8FF4-B93A2D58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D1EC9-E668-4C5F-9BA0-BB821B0E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49D96-0C62-4DEC-9FD0-7C8DF0A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A1945-8FF0-43FF-BE80-D0695C9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13598-D261-4702-8D84-CF6D835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52775-D908-4E50-877F-56FC766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18BC6-79F4-42D9-A521-78BCE0D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0F014-D330-43A2-AD88-78FEACC1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2122-A746-4118-BA50-D9470D25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9AA8-F505-4949-8F5E-5124EABD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3394-16B5-483F-8A2B-49B8D93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3E00-7330-4B41-937B-1AD3003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20A4-348F-40BE-8BCB-969A1E2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CC0E-EBFB-42F7-8573-B7928B2946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C38-7BFE-40AD-BF6B-BD959A43C2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BB9-1F0D-4B7D-80B9-0F8EC7E89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19F-55DD-42C6-8C38-E8C986C296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viveklak@gmail.com" TargetMode="External"/><Relationship Id="rId2" Type="http://schemas.openxmlformats.org/officeDocument/2006/relationships/hyperlink" Target="mailto:dkozimor@gmail.com" TargetMode="External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OmniEdito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vek Lakshman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w McCa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yan Figueire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Kozim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Bal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want to work with you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us a line and we would be glad to arrange a presentation/demo of our service to yo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viveklak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dkozimor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eep track of changes in the following w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ient adds/removes text from their document or marks/selects/guards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resentation of the modification/enveloping is sent to the server at the client’s command using Web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hed Upd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s can cache edits and do batch upd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bandwidth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ffici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onsive hence enhanced user experi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pable of working with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-cached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rror Reso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ve suite of SOAP:fault messages to easily signify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 requirement specifications chart all possible conditions and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 of “guarding”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portion of buffer as protected and disallow changes from other cl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rief Overview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receives the command and, if it does not conflict with another user’s change, changes the server-side text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then propagates the change out to the rest of the clients that it knows to be connected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se of a conflict, the client is alerted to the problem and the changes they asked for are not me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dentify and Classify Change Requ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each Change Request a type (Corrective, Adaptive, Perfective, and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even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 Board will look it over and it will be given a priority if it is accep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alysis of Change Requ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sub-systems must be changed and the propagating effects it will h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multiple solutions for the Change Requ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decision of what solution to use will be decided in this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mplement the Chan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implemented on a priority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s will be assigned to group members most familiar with the sub-system(s)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Group 8 Advant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vide sample test client and complete support for developing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nd plentiful test cases updated and verified co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 24 hour turn aroun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experienced staff with work experience in corporate development projects at companies like RedHat, IBM and Cyberm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1:28:06Z</dcterms:created>
  <dc:creator>dmc</dc:creator>
  <dc:description/>
  <dc:language>en-US</dc:language>
  <cp:lastModifiedBy>ryanfigu</cp:lastModifiedBy>
  <dcterms:modified xsi:type="dcterms:W3CDTF">2004-11-07T10:26:12Z</dcterms:modified>
  <cp:revision>17</cp:revision>
  <dc:subject/>
  <dc:title>OmniEditor</dc:title>
</cp:coreProperties>
</file>