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EFD1-0D15-4734-B3A9-CC137749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BBA3-6ECE-4C26-9023-83E1A558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C366-4846-4845-B6D2-485C4EA92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3837-F671-41E6-A5FB-8E028ADB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49AF-8E3F-48D5-9644-716F8983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83CC-E2BE-41A7-94B5-15045385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6098-27E7-43DA-A3FD-763F8FDD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CE95-CDC9-49E2-8815-01DC78B6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5401-DF74-46E7-8C20-07D6AF98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2838-06DE-41B1-B88C-EFDBDDBE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333F-A212-4544-B51A-25E690F4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0A3D-9EB1-4971-A978-C5B858DC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0D04-B5DC-4E99-8FA1-B93CF3F899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eawolf.cdf.toronto.edu:8081/axis/c408h006/docs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mniEditor Web Serv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 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choose our Web Servic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nderst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ll documented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limited technical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unctions did we imple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l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wnl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ructure of our web serv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400800" cy="462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is the web service deploy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 to http://seawolf.cdf.toronto.edu:8081/axis/services/c408h006.OMNIEdit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bout document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can be found at: </a:t>
            </a:r>
            <a:r>
              <a:rPr b="0" lang="fr-FR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seawolf.cdf.toronto.edu:8081/axis/c408h006/docs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 http://home.utm.utoronto.ca/~dwudom/OmniEditorDoc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ny inquiries, do not hesitate to contac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nt 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ntv33@gmail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00:18:50Z</dcterms:created>
  <dc:creator>dwudom</dc:creator>
  <dc:description/>
  <dc:language>en-US</dc:language>
  <cp:lastModifiedBy>dwudom</cp:lastModifiedBy>
  <dcterms:modified xsi:type="dcterms:W3CDTF">2004-11-08T00:32:46Z</dcterms:modified>
  <cp:revision>2</cp:revision>
  <dc:subject/>
  <dc:title>OmniEditor Web Service</dc:title>
</cp:coreProperties>
</file>