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642100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611-7E53-4348-8F9C-8AA196D3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DC4D-AC23-4F75-8E19-8CBF21AD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D014-C7EB-4FBF-A9A6-120F1A75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C48-2F06-4EF0-8764-0B176B55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0FE-7688-42AB-AE98-39AA2CC1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0E6-EA18-4EBC-91D2-2F379106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3934-C7F1-40FD-8002-A938444A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0FE8-C2B3-4D06-A0FB-647B06F5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1D38-4715-4FA1-ABD2-AF04B254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189A-B9C4-4224-AEC8-58EF3384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C846-F1BB-41D0-8F7A-358582AD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BB6-9A23-4279-9AF1-12026826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6EA7-C713-4224-AE57-2769F440B8AF}" type="slidenum"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puting Full Disjunction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65716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Yaron Kanza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Yehoshua Sagiv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Selim and Rachel Ben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chool of Engineering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nd Computer Scienc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Hebrew University of Jerusalem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43" name="huji_small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96960" cy="15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B51-AF62-46B4-B5B3-2FEBB95B85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228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1522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7160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1028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990720" y="1143000"/>
            <a:ext cx="38088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3400" y="457200"/>
            <a:ext cx="144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371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67616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1219320"/>
            <a:ext cx="381240" cy="1295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2514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1120" y="9144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62920" y="1219320"/>
            <a:ext cx="6858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29000" y="14479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0512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9568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67080" y="22860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1008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16002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43400" y="1219320"/>
            <a:ext cx="7632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15238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21337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791320" y="1143000"/>
            <a:ext cx="12189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76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657600" y="1143000"/>
            <a:ext cx="53352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4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4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eli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812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tz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9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33520" y="1219320"/>
            <a:ext cx="1066680" cy="2089800"/>
            <a:chOff x="533520" y="1219320"/>
            <a:chExt cx="1066680" cy="2089800"/>
          </a:xfrm>
        </p:grpSpPr>
        <p:sp>
          <p:nvSpPr>
            <p:cNvPr id="281" name=""/>
            <p:cNvSpPr/>
            <p:nvPr/>
          </p:nvSpPr>
          <p:spPr>
            <a:xfrm>
              <a:off x="990720" y="2590920"/>
              <a:ext cx="304560" cy="3045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142640" y="1219320"/>
              <a:ext cx="304920" cy="1371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3520" y="29718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English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3152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/12/193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81480" y="1981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oody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llen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526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988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32320" y="977760"/>
            <a:ext cx="4330800" cy="330228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76520" y="343080"/>
            <a:ext cx="7632720" cy="464796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1143000"/>
            <a:ext cx="541008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9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4038480"/>
            <a:ext cx="2438280" cy="1524240"/>
          </a:xfrm>
          <a:prstGeom prst="rect">
            <a:avLst/>
          </a:prstGeom>
          <a:solidFill>
            <a:srgbClr val="ffff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Suppose that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Node 6 i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miss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52280" y="1219320"/>
            <a:ext cx="1447920" cy="2089800"/>
            <a:chOff x="152280" y="1219320"/>
            <a:chExt cx="1447920" cy="2089800"/>
          </a:xfrm>
        </p:grpSpPr>
        <p:sp>
          <p:nvSpPr>
            <p:cNvPr id="295" name=""/>
            <p:cNvSpPr/>
            <p:nvPr/>
          </p:nvSpPr>
          <p:spPr>
            <a:xfrm>
              <a:off x="152280" y="20574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33520" y="1219320"/>
              <a:ext cx="1066680" cy="2089800"/>
              <a:chOff x="533520" y="1219320"/>
              <a:chExt cx="1066680" cy="2089800"/>
            </a:xfrm>
          </p:grpSpPr>
          <p:sp>
            <p:nvSpPr>
              <p:cNvPr id="297" name=""/>
              <p:cNvSpPr/>
              <p:nvPr/>
            </p:nvSpPr>
            <p:spPr>
              <a:xfrm>
                <a:off x="990720" y="2590920"/>
                <a:ext cx="304560" cy="30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1142640" y="1219320"/>
                <a:ext cx="304920" cy="1371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33520" y="2971800"/>
                <a:ext cx="1066680" cy="3373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English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 flipV="1">
            <a:off x="1143000" y="3276720"/>
            <a:ext cx="0" cy="76176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DA8-CAE7-49EC-BC3D-0790000C38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4191120" y="1522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1028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990720" y="1143000"/>
            <a:ext cx="38088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43400" y="457200"/>
            <a:ext cx="144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1371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167616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23880" y="1219320"/>
            <a:ext cx="381240" cy="1295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28800" y="2514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91120" y="9144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62920" y="1219320"/>
            <a:ext cx="6858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29000" y="14479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0512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9568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67080" y="22860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008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16002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05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43400" y="1219320"/>
            <a:ext cx="7632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15238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96080" y="21337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791320" y="1143000"/>
            <a:ext cx="12189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76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657600" y="1143000"/>
            <a:ext cx="53352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52680" y="4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4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eli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812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tz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48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9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152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/12/193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81480" y="1981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oody Allen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526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32320" y="977760"/>
            <a:ext cx="4330800" cy="330228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76520" y="343080"/>
            <a:ext cx="7632720" cy="464796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76520" y="1143000"/>
            <a:ext cx="541008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199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280" y="4038480"/>
            <a:ext cx="5562720" cy="2667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19520" y="4175280"/>
            <a:ext cx="30456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71560" y="4937040"/>
            <a:ext cx="30492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" y="5165640"/>
            <a:ext cx="38088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4403880"/>
            <a:ext cx="6858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057040" y="4403880"/>
            <a:ext cx="762120" cy="5331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94040" y="4861080"/>
            <a:ext cx="304920" cy="37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486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1523520" y="5334120"/>
            <a:ext cx="304920" cy="4413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11480" y="4338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241960"/>
            <a:ext cx="9903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09120" y="5165640"/>
            <a:ext cx="1143000" cy="152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92200" y="43941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2320" y="486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09680" y="58514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57400" y="4848120"/>
            <a:ext cx="1752480" cy="241560"/>
          </a:xfrm>
          <a:custGeom>
            <a:avLst/>
            <a:gdLst/>
            <a:ahLst/>
            <a:rect l="l" t="t" r="r" b="b"/>
            <a:pathLst>
              <a:path w="1104" h="152">
                <a:moveTo>
                  <a:pt x="1104" y="152"/>
                </a:moveTo>
                <a:cubicBezTo>
                  <a:pt x="956" y="84"/>
                  <a:pt x="808" y="16"/>
                  <a:pt x="624" y="8"/>
                </a:cubicBezTo>
                <a:cubicBezTo>
                  <a:pt x="440" y="0"/>
                  <a:pt x="220" y="52"/>
                  <a:pt x="0" y="104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57400" y="524196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0"/>
                </a:moveTo>
                <a:cubicBezTo>
                  <a:pt x="984" y="216"/>
                  <a:pt x="816" y="432"/>
                  <a:pt x="624" y="432"/>
                </a:cubicBezTo>
                <a:cubicBezTo>
                  <a:pt x="432" y="432"/>
                  <a:pt x="216" y="216"/>
                  <a:pt x="0" y="0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577548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29200" y="508968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569916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14800" y="5165640"/>
            <a:ext cx="914400" cy="76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711600" y="550404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92480" y="48290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531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971800" y="152280"/>
            <a:ext cx="1523880" cy="4038840"/>
            <a:chOff x="2971800" y="152280"/>
            <a:chExt cx="1523880" cy="4038840"/>
          </a:xfrm>
        </p:grpSpPr>
        <p:sp>
          <p:nvSpPr>
            <p:cNvPr id="366" name=""/>
            <p:cNvSpPr/>
            <p:nvPr/>
          </p:nvSpPr>
          <p:spPr>
            <a:xfrm flipV="1">
              <a:off x="2971800" y="457200"/>
              <a:ext cx="129528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91120" y="152280"/>
              <a:ext cx="30456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371600" y="914400"/>
            <a:ext cx="533160" cy="4038120"/>
            <a:chOff x="1371600" y="914400"/>
            <a:chExt cx="533160" cy="4038120"/>
          </a:xfrm>
        </p:grpSpPr>
        <p:sp>
          <p:nvSpPr>
            <p:cNvPr id="369" name=""/>
            <p:cNvSpPr/>
            <p:nvPr/>
          </p:nvSpPr>
          <p:spPr>
            <a:xfrm flipH="1" flipV="1">
              <a:off x="1523520" y="1218960"/>
              <a:ext cx="381240" cy="3733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371600" y="9144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80880" y="1371600"/>
            <a:ext cx="609840" cy="3809880"/>
            <a:chOff x="380880" y="1371600"/>
            <a:chExt cx="609840" cy="3809880"/>
          </a:xfrm>
        </p:grpSpPr>
        <p:sp>
          <p:nvSpPr>
            <p:cNvPr id="372" name=""/>
            <p:cNvSpPr/>
            <p:nvPr/>
          </p:nvSpPr>
          <p:spPr>
            <a:xfrm flipV="1">
              <a:off x="380880" y="1676520"/>
              <a:ext cx="381240" cy="350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5800" y="13716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038480" y="914400"/>
            <a:ext cx="3276720" cy="3962520"/>
            <a:chOff x="4038480" y="914400"/>
            <a:chExt cx="3276720" cy="3962520"/>
          </a:xfrm>
        </p:grpSpPr>
        <p:sp>
          <p:nvSpPr>
            <p:cNvPr id="375" name=""/>
            <p:cNvSpPr/>
            <p:nvPr/>
          </p:nvSpPr>
          <p:spPr>
            <a:xfrm flipV="1">
              <a:off x="4038480" y="1143000"/>
              <a:ext cx="297180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10280" y="9144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181480" y="1600200"/>
            <a:ext cx="609840" cy="3505320"/>
            <a:chOff x="5181480" y="1600200"/>
            <a:chExt cx="609840" cy="3505320"/>
          </a:xfrm>
        </p:grpSpPr>
        <p:sp>
          <p:nvSpPr>
            <p:cNvPr id="378" name=""/>
            <p:cNvSpPr/>
            <p:nvPr/>
          </p:nvSpPr>
          <p:spPr>
            <a:xfrm flipV="1">
              <a:off x="5181480" y="1905120"/>
              <a:ext cx="457200" cy="3200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86400" y="16002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181480" y="2133720"/>
            <a:ext cx="2819520" cy="3581280"/>
            <a:chOff x="5181480" y="2133720"/>
            <a:chExt cx="2819520" cy="3581280"/>
          </a:xfrm>
        </p:grpSpPr>
        <p:sp>
          <p:nvSpPr>
            <p:cNvPr id="381" name=""/>
            <p:cNvSpPr/>
            <p:nvPr/>
          </p:nvSpPr>
          <p:spPr>
            <a:xfrm flipV="1">
              <a:off x="5181480" y="2438280"/>
              <a:ext cx="2514600" cy="327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696080" y="2133720"/>
              <a:ext cx="30492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6172200" y="4724280"/>
            <a:ext cx="28195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An incomplete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match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2200" y="5638680"/>
            <a:ext cx="2819520" cy="1067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is matching i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maxim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04920" y="5769000"/>
            <a:ext cx="1371600" cy="860400"/>
            <a:chOff x="304920" y="5769000"/>
            <a:chExt cx="1371600" cy="860400"/>
          </a:xfrm>
        </p:grpSpPr>
        <p:sp>
          <p:nvSpPr>
            <p:cNvPr id="386" name=""/>
            <p:cNvSpPr/>
            <p:nvPr/>
          </p:nvSpPr>
          <p:spPr>
            <a:xfrm>
              <a:off x="1295280" y="5769000"/>
              <a:ext cx="381240" cy="3808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304920" y="6019920"/>
              <a:ext cx="990360" cy="609480"/>
              <a:chOff x="304920" y="6019920"/>
              <a:chExt cx="990360" cy="609480"/>
            </a:xfrm>
          </p:grpSpPr>
          <p:sp>
            <p:nvSpPr>
              <p:cNvPr id="388" name=""/>
              <p:cNvSpPr/>
              <p:nvPr/>
            </p:nvSpPr>
            <p:spPr>
              <a:xfrm flipH="1">
                <a:off x="990720" y="6019920"/>
                <a:ext cx="304560" cy="304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04920" y="6324480"/>
                <a:ext cx="761760" cy="3049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ull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1945-DC3B-4037-BBA7-0A364F8701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6400800" y="4114800"/>
            <a:ext cx="2514600" cy="2568600"/>
            <a:chOff x="6400800" y="4114800"/>
            <a:chExt cx="2514600" cy="2568600"/>
          </a:xfrm>
        </p:grpSpPr>
        <p:sp>
          <p:nvSpPr>
            <p:cNvPr id="391" name=""/>
            <p:cNvSpPr/>
            <p:nvPr/>
          </p:nvSpPr>
          <p:spPr>
            <a:xfrm>
              <a:off x="6400800" y="4168800"/>
              <a:ext cx="2209680" cy="2514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72400" y="4114800"/>
              <a:ext cx="1143000" cy="380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  <a:ea typeface="Times New Roman"/>
                </a:rPr>
                <a:t>Databas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62920" y="4343400"/>
              <a:ext cx="304560" cy="304920"/>
            </a:xfrm>
            <a:prstGeom prst="ellipse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352680" y="4473720"/>
            <a:ext cx="2514600" cy="2232000"/>
            <a:chOff x="3352680" y="4473720"/>
            <a:chExt cx="2514600" cy="2232000"/>
          </a:xfrm>
        </p:grpSpPr>
        <p:sp>
          <p:nvSpPr>
            <p:cNvPr id="395" name=""/>
            <p:cNvSpPr/>
            <p:nvPr/>
          </p:nvSpPr>
          <p:spPr>
            <a:xfrm>
              <a:off x="3657600" y="4473720"/>
              <a:ext cx="2209680" cy="2209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33800" y="506736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33800" y="571500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86440" y="5372280"/>
              <a:ext cx="0" cy="342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52960" y="506736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52960" y="571500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05240" y="5372280"/>
              <a:ext cx="0" cy="342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67080" y="4724280"/>
              <a:ext cx="381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95680" y="457200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52920" y="6248520"/>
              <a:ext cx="3049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857480" y="6019920"/>
              <a:ext cx="22860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24320" y="6019920"/>
              <a:ext cx="22860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343040" y="4800600"/>
              <a:ext cx="15228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00600" y="480060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67080" y="5334120"/>
              <a:ext cx="381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00600" y="464832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43400" y="586728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29200" y="533412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76920" y="594360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49680" y="6248520"/>
              <a:ext cx="304920" cy="3045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352680" y="6324480"/>
              <a:ext cx="99072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  <a:ea typeface="Times New Roman"/>
                </a:rPr>
                <a:t>Quer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he Reachability Constraint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n Partial Matching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query node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hat is mapped to a database object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atisfies the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reachability constrain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f there is a path from the query root to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such that all edge constraints along this path are satisfi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495680" y="4343400"/>
            <a:ext cx="3581640" cy="2005560"/>
            <a:chOff x="4495680" y="4343400"/>
            <a:chExt cx="3581640" cy="2005560"/>
          </a:xfrm>
        </p:grpSpPr>
        <p:sp>
          <p:nvSpPr>
            <p:cNvPr id="419" name=""/>
            <p:cNvSpPr/>
            <p:nvPr/>
          </p:nvSpPr>
          <p:spPr>
            <a:xfrm flipV="1">
              <a:off x="5257800" y="5638320"/>
              <a:ext cx="2362320" cy="22860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495680" y="4572000"/>
              <a:ext cx="914400" cy="1776960"/>
              <a:chOff x="4495680" y="4572000"/>
              <a:chExt cx="914400" cy="1776960"/>
            </a:xfrm>
          </p:grpSpPr>
          <p:sp>
            <p:nvSpPr>
              <p:cNvPr id="421" name=""/>
              <p:cNvSpPr/>
              <p:nvPr/>
            </p:nvSpPr>
            <p:spPr>
              <a:xfrm>
                <a:off x="4933800" y="5067000"/>
                <a:ext cx="304920" cy="30456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933800" y="5714640"/>
                <a:ext cx="304920" cy="30456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z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086440" y="5371920"/>
                <a:ext cx="0" cy="3423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95680" y="4572000"/>
                <a:ext cx="304920" cy="30456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4857480" y="6019560"/>
                <a:ext cx="228600" cy="3045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800600" y="4800240"/>
                <a:ext cx="228600" cy="3045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800600" y="4647960"/>
                <a:ext cx="380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3399"/>
                    </a:solidFill>
                    <a:latin typeface="Times New Roman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029200" y="5333760"/>
                <a:ext cx="380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3399"/>
                    </a:solidFill>
                    <a:latin typeface="Times New Roman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876920" y="5943240"/>
                <a:ext cx="380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3399"/>
                    </a:solidFill>
                    <a:latin typeface="Times New Roman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3399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7162920" y="4343400"/>
              <a:ext cx="914400" cy="1905120"/>
              <a:chOff x="7162920" y="4343400"/>
              <a:chExt cx="914400" cy="1905120"/>
            </a:xfrm>
          </p:grpSpPr>
          <p:sp>
            <p:nvSpPr>
              <p:cNvPr id="431" name=""/>
              <p:cNvSpPr/>
              <p:nvPr/>
            </p:nvSpPr>
            <p:spPr>
              <a:xfrm>
                <a:off x="7601040" y="4838760"/>
                <a:ext cx="304560" cy="304920"/>
              </a:xfrm>
              <a:prstGeom prst="ellipse">
                <a:avLst/>
              </a:prstGeom>
              <a:solidFill>
                <a:srgbClr val="00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601040" y="5486400"/>
                <a:ext cx="304560" cy="304920"/>
              </a:xfrm>
              <a:prstGeom prst="ellipse">
                <a:avLst/>
              </a:prstGeom>
              <a:solidFill>
                <a:srgbClr val="00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53320" y="5143680"/>
                <a:ext cx="0" cy="3427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62920" y="4343400"/>
                <a:ext cx="304560" cy="304920"/>
              </a:xfrm>
              <a:prstGeom prst="ellipse">
                <a:avLst/>
              </a:prstGeom>
              <a:solidFill>
                <a:srgbClr val="00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7543800" y="5791320"/>
                <a:ext cx="209520" cy="45720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467480" y="4572000"/>
                <a:ext cx="228600" cy="3049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467480" y="4419720"/>
                <a:ext cx="381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3399"/>
                    </a:solidFill>
                    <a:latin typeface="Times New Roman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696080" y="5105520"/>
                <a:ext cx="381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3399"/>
                    </a:solidFill>
                    <a:latin typeface="Times New Roman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620120" y="5791320"/>
                <a:ext cx="380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3399"/>
                    </a:solidFill>
                    <a:latin typeface="Times New Roman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3399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 flipV="1">
              <a:off x="5257800" y="5028840"/>
              <a:ext cx="2362320" cy="15228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800600" y="4495320"/>
              <a:ext cx="2362320" cy="22860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4148280" y="4343400"/>
            <a:ext cx="3471840" cy="2209680"/>
            <a:chOff x="4148280" y="4343400"/>
            <a:chExt cx="3471840" cy="2209680"/>
          </a:xfrm>
        </p:grpSpPr>
        <p:grpSp>
          <p:nvGrpSpPr>
            <p:cNvPr id="443" name=""/>
            <p:cNvGrpSpPr/>
            <p:nvPr/>
          </p:nvGrpSpPr>
          <p:grpSpPr>
            <a:xfrm>
              <a:off x="4148280" y="4572000"/>
              <a:ext cx="704880" cy="1980720"/>
              <a:chOff x="4148280" y="4572000"/>
              <a:chExt cx="704880" cy="1980720"/>
            </a:xfrm>
          </p:grpSpPr>
          <p:sp>
            <p:nvSpPr>
              <p:cNvPr id="444" name=""/>
              <p:cNvSpPr/>
              <p:nvPr/>
            </p:nvSpPr>
            <p:spPr>
              <a:xfrm>
                <a:off x="4148280" y="5067000"/>
                <a:ext cx="304560" cy="30456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148280" y="5714640"/>
                <a:ext cx="304560" cy="30456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300560" y="5371920"/>
                <a:ext cx="0" cy="3423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262400" y="4724280"/>
                <a:ext cx="381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3399"/>
                    </a:solidFill>
                    <a:latin typeface="Times New Roman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491000" y="4572000"/>
                <a:ext cx="304920" cy="30456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548240" y="6248160"/>
                <a:ext cx="304920" cy="304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9640" y="6019560"/>
                <a:ext cx="228600" cy="3045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4338360" y="4800240"/>
                <a:ext cx="152280" cy="3045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262400" y="5333760"/>
                <a:ext cx="381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3399"/>
                    </a:solidFill>
                    <a:latin typeface="Times New Roman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38720" y="5867280"/>
                <a:ext cx="380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3399"/>
                    </a:solidFill>
                    <a:latin typeface="Times New Roman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3399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545000" y="6248160"/>
                <a:ext cx="304920" cy="30456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419720" y="4343400"/>
              <a:ext cx="3200400" cy="2209680"/>
              <a:chOff x="4419720" y="4343400"/>
              <a:chExt cx="3200400" cy="220968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6819840" y="4343400"/>
                <a:ext cx="800280" cy="2209680"/>
                <a:chOff x="6819840" y="4343400"/>
                <a:chExt cx="800280" cy="22096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7162920" y="4343400"/>
                  <a:ext cx="304560" cy="304920"/>
                </a:xfrm>
                <a:prstGeom prst="ellipse">
                  <a:avLst/>
                </a:prstGeom>
                <a:solidFill>
                  <a:srgbClr val="66ffcc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315200" y="6248520"/>
                  <a:ext cx="304920" cy="304560"/>
                </a:xfrm>
                <a:prstGeom prst="ellipse">
                  <a:avLst/>
                </a:prstGeom>
                <a:solidFill>
                  <a:srgbClr val="66ffcc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55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819840" y="4838760"/>
                  <a:ext cx="304920" cy="304920"/>
                </a:xfrm>
                <a:prstGeom prst="ellipse">
                  <a:avLst/>
                </a:prstGeom>
                <a:solidFill>
                  <a:srgbClr val="00ffcc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819840" y="5486400"/>
                  <a:ext cx="304920" cy="304920"/>
                </a:xfrm>
                <a:prstGeom prst="ellipse">
                  <a:avLst/>
                </a:prstGeom>
                <a:solidFill>
                  <a:srgbClr val="00ffcc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972480" y="5143680"/>
                  <a:ext cx="1440" cy="34272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934320" y="4495680"/>
                  <a:ext cx="3808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3399"/>
                      </a:solidFill>
                      <a:latin typeface="Times New Roman"/>
                    </a:rPr>
                    <a:t>l</a:t>
                  </a:r>
                  <a:r>
                    <a:rPr b="1" i="1" lang="en-US" sz="18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162920" y="4343400"/>
                  <a:ext cx="304560" cy="304920"/>
                </a:xfrm>
                <a:prstGeom prst="ellipse">
                  <a:avLst/>
                </a:prstGeom>
                <a:solidFill>
                  <a:srgbClr val="00ffcc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991200" y="5791320"/>
                  <a:ext cx="324000" cy="45720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>
                  <a:off x="7010280" y="4572000"/>
                  <a:ext cx="152640" cy="30492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934320" y="5105520"/>
                  <a:ext cx="3808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3399"/>
                      </a:solidFill>
                      <a:latin typeface="Times New Roman"/>
                    </a:rPr>
                    <a:t>l</a:t>
                  </a:r>
                  <a:r>
                    <a:rPr b="1" i="1" lang="en-US" sz="18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010280" y="5638680"/>
                  <a:ext cx="3812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3399"/>
                      </a:solidFill>
                      <a:latin typeface="Times New Roman"/>
                    </a:rPr>
                    <a:t>l</a:t>
                  </a:r>
                  <a:r>
                    <a:rPr b="1" i="1" lang="en-US" sz="18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8" name=""/>
              <p:cNvSpPr/>
              <p:nvPr/>
            </p:nvSpPr>
            <p:spPr>
              <a:xfrm flipV="1">
                <a:off x="4495680" y="4952520"/>
                <a:ext cx="2286000" cy="228600"/>
              </a:xfrm>
              <a:prstGeom prst="line">
                <a:avLst/>
              </a:prstGeom>
              <a:ln w="19080">
                <a:solidFill>
                  <a:srgbClr val="cc33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4419720" y="5638320"/>
                <a:ext cx="2438280" cy="228600"/>
              </a:xfrm>
              <a:prstGeom prst="line">
                <a:avLst/>
              </a:prstGeom>
              <a:ln w="19080">
                <a:solidFill>
                  <a:srgbClr val="cc33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4876920" y="4495320"/>
                <a:ext cx="2286000" cy="228600"/>
              </a:xfrm>
              <a:prstGeom prst="line">
                <a:avLst/>
              </a:prstGeom>
              <a:ln w="19080">
                <a:solidFill>
                  <a:srgbClr val="cc33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1" name=""/>
          <p:cNvGrpSpPr/>
          <p:nvPr/>
        </p:nvGrpSpPr>
        <p:grpSpPr>
          <a:xfrm>
            <a:off x="4876920" y="6248520"/>
            <a:ext cx="2743200" cy="304560"/>
            <a:chOff x="4876920" y="6248520"/>
            <a:chExt cx="2743200" cy="304560"/>
          </a:xfrm>
        </p:grpSpPr>
        <p:sp>
          <p:nvSpPr>
            <p:cNvPr id="472" name=""/>
            <p:cNvSpPr/>
            <p:nvPr/>
          </p:nvSpPr>
          <p:spPr>
            <a:xfrm>
              <a:off x="4876920" y="6400800"/>
              <a:ext cx="24382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15200" y="6248520"/>
              <a:ext cx="304920" cy="304560"/>
            </a:xfrm>
            <a:prstGeom prst="ellipse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5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F97-3C34-4014-8CDC-06F461D213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7621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n edge constraint is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weakly satisfie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if it is eith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tisfied (as defined earlier), o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ne (or more) of its nodes is mapped to a null valu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Weak Satisfaction of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dge Constraint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52280" y="4343400"/>
            <a:ext cx="1447920" cy="1295280"/>
            <a:chOff x="152280" y="4343400"/>
            <a:chExt cx="1447920" cy="1295280"/>
          </a:xfrm>
        </p:grpSpPr>
        <p:sp>
          <p:nvSpPr>
            <p:cNvPr id="477" name=""/>
            <p:cNvSpPr/>
            <p:nvPr/>
          </p:nvSpPr>
          <p:spPr>
            <a:xfrm>
              <a:off x="380880" y="434340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0880" y="5334120"/>
              <a:ext cx="3049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95280" y="4343400"/>
              <a:ext cx="304920" cy="304920"/>
            </a:xfrm>
            <a:prstGeom prst="ellipse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95280" y="5334120"/>
              <a:ext cx="304920" cy="304560"/>
            </a:xfrm>
            <a:prstGeom prst="ellipse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352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4792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228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06668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5800" y="4495680"/>
              <a:ext cx="6094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5800" y="5486400"/>
              <a:ext cx="6094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981080" y="3809880"/>
            <a:ext cx="6705720" cy="2286000"/>
            <a:chOff x="1981080" y="3809880"/>
            <a:chExt cx="6705720" cy="2286000"/>
          </a:xfrm>
        </p:grpSpPr>
        <p:sp>
          <p:nvSpPr>
            <p:cNvPr id="488" name=""/>
            <p:cNvSpPr/>
            <p:nvPr/>
          </p:nvSpPr>
          <p:spPr>
            <a:xfrm>
              <a:off x="2209680" y="434340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209680" y="5334120"/>
              <a:ext cx="3049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57600" y="4343400"/>
              <a:ext cx="304920" cy="304920"/>
            </a:xfrm>
            <a:prstGeom prst="ellipse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57600" y="5334120"/>
              <a:ext cx="304920" cy="304560"/>
            </a:xfrm>
            <a:prstGeom prst="ellipse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36232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8108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2900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514600" y="4495680"/>
              <a:ext cx="114300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14600" y="5486400"/>
              <a:ext cx="380880" cy="30492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48320" y="4343400"/>
              <a:ext cx="30456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48320" y="5334120"/>
              <a:ext cx="3045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172200" y="4343400"/>
              <a:ext cx="304920" cy="304920"/>
            </a:xfrm>
            <a:prstGeom prst="ellipse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172200" y="5334120"/>
              <a:ext cx="304920" cy="304560"/>
            </a:xfrm>
            <a:prstGeom prst="ellipse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0060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419720" y="4800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248520" y="4800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4952880" y="4191120"/>
              <a:ext cx="457200" cy="30456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952880" y="5486400"/>
              <a:ext cx="121932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0988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2448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95480" y="5791320"/>
              <a:ext cx="762120" cy="30456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10080" y="3962520"/>
              <a:ext cx="762120" cy="30456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162920" y="4267080"/>
              <a:ext cx="30456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62920" y="5257800"/>
              <a:ext cx="30456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315200" y="457200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34320" y="47242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7467480" y="4038120"/>
              <a:ext cx="457200" cy="30492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924680" y="3809880"/>
              <a:ext cx="762120" cy="30492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467480" y="5486400"/>
              <a:ext cx="381240" cy="30492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48720" y="5791320"/>
              <a:ext cx="761760" cy="30456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652-D14F-4528-95DE-D34C620A69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Weak Matching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A partial matching is a </a:t>
            </a: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weak matching </a:t>
            </a: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lvl="1" marL="914400" indent="-4572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root constraint is satisfi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914400" indent="-4572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reachability constraint is satisfied by every query node that is mapped to a database nod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914400" indent="-4572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very edge constraint is weakly satisfi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90720" y="3124080"/>
            <a:ext cx="7467480" cy="221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5334120"/>
            <a:ext cx="746748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D40-6451-4029-A22D-3E1F5F41E8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4191120" y="1522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37160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01028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990720" y="1143000"/>
            <a:ext cx="38088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343400" y="457200"/>
            <a:ext cx="144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5800" y="1371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67616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23880" y="1219320"/>
            <a:ext cx="381240" cy="1295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28800" y="2514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91120" y="9144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162920" y="1219320"/>
            <a:ext cx="6858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0666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29000" y="14479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90512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9568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267080" y="22860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1008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86400" y="16002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905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43400" y="1219320"/>
            <a:ext cx="7632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858000" y="15238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696080" y="21337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5791320" y="1143000"/>
            <a:ext cx="12189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676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3657600" y="1143000"/>
            <a:ext cx="53352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352680" y="4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334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eli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4812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tz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148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9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/12/193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81480" y="1981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oody Allen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526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0988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432320" y="977760"/>
            <a:ext cx="4330800" cy="330228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76520" y="343080"/>
            <a:ext cx="7632720" cy="464796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1143000"/>
            <a:ext cx="541008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0199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2280" y="4038480"/>
            <a:ext cx="5562720" cy="2667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19520" y="4175280"/>
            <a:ext cx="30456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771560" y="4937040"/>
            <a:ext cx="30492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28600" y="5165640"/>
            <a:ext cx="38088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24080" y="4403880"/>
            <a:ext cx="6858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057040" y="4403880"/>
            <a:ext cx="762120" cy="5331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94040" y="4861080"/>
            <a:ext cx="304920" cy="37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62120" y="486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1523520" y="5334120"/>
            <a:ext cx="304920" cy="4413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111480" y="4338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62520" y="5241960"/>
            <a:ext cx="9903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609120" y="5165640"/>
            <a:ext cx="1143000" cy="152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492200" y="43941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362320" y="486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09680" y="58514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057400" y="4848120"/>
            <a:ext cx="1752480" cy="241560"/>
          </a:xfrm>
          <a:custGeom>
            <a:avLst/>
            <a:gdLst/>
            <a:ahLst/>
            <a:rect l="l" t="t" r="r" b="b"/>
            <a:pathLst>
              <a:path w="1104" h="152">
                <a:moveTo>
                  <a:pt x="1104" y="152"/>
                </a:moveTo>
                <a:cubicBezTo>
                  <a:pt x="956" y="84"/>
                  <a:pt x="808" y="16"/>
                  <a:pt x="624" y="8"/>
                </a:cubicBezTo>
                <a:cubicBezTo>
                  <a:pt x="440" y="0"/>
                  <a:pt x="220" y="52"/>
                  <a:pt x="0" y="104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524196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0"/>
                </a:moveTo>
                <a:cubicBezTo>
                  <a:pt x="984" y="216"/>
                  <a:pt x="816" y="432"/>
                  <a:pt x="624" y="432"/>
                </a:cubicBezTo>
                <a:cubicBezTo>
                  <a:pt x="432" y="432"/>
                  <a:pt x="216" y="216"/>
                  <a:pt x="0" y="0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95280" y="577548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029200" y="508968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952880" y="569916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4800" y="5165640"/>
            <a:ext cx="914400" cy="76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711600" y="550404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092480" y="48290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33520" y="531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2971800" y="152280"/>
            <a:ext cx="1523880" cy="4038840"/>
            <a:chOff x="2971800" y="152280"/>
            <a:chExt cx="1523880" cy="4038840"/>
          </a:xfrm>
        </p:grpSpPr>
        <p:sp>
          <p:nvSpPr>
            <p:cNvPr id="587" name=""/>
            <p:cNvSpPr/>
            <p:nvPr/>
          </p:nvSpPr>
          <p:spPr>
            <a:xfrm flipV="1">
              <a:off x="2971800" y="457200"/>
              <a:ext cx="129528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191120" y="152280"/>
              <a:ext cx="30456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1371600" y="914400"/>
            <a:ext cx="533160" cy="4038120"/>
            <a:chOff x="1371600" y="914400"/>
            <a:chExt cx="533160" cy="4038120"/>
          </a:xfrm>
        </p:grpSpPr>
        <p:sp>
          <p:nvSpPr>
            <p:cNvPr id="590" name=""/>
            <p:cNvSpPr/>
            <p:nvPr/>
          </p:nvSpPr>
          <p:spPr>
            <a:xfrm flipH="1" flipV="1">
              <a:off x="1523520" y="1218960"/>
              <a:ext cx="381240" cy="3733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371600" y="9144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380880" y="1371600"/>
            <a:ext cx="609840" cy="3809880"/>
            <a:chOff x="380880" y="1371600"/>
            <a:chExt cx="609840" cy="3809880"/>
          </a:xfrm>
        </p:grpSpPr>
        <p:sp>
          <p:nvSpPr>
            <p:cNvPr id="593" name=""/>
            <p:cNvSpPr/>
            <p:nvPr/>
          </p:nvSpPr>
          <p:spPr>
            <a:xfrm flipV="1">
              <a:off x="380880" y="1676520"/>
              <a:ext cx="381240" cy="350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85800" y="13716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038480" y="914400"/>
            <a:ext cx="3276720" cy="3962520"/>
            <a:chOff x="4038480" y="914400"/>
            <a:chExt cx="3276720" cy="3962520"/>
          </a:xfrm>
        </p:grpSpPr>
        <p:sp>
          <p:nvSpPr>
            <p:cNvPr id="596" name=""/>
            <p:cNvSpPr/>
            <p:nvPr/>
          </p:nvSpPr>
          <p:spPr>
            <a:xfrm flipV="1">
              <a:off x="4038480" y="1143000"/>
              <a:ext cx="297180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10280" y="9144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181480" y="1600200"/>
            <a:ext cx="609840" cy="3505320"/>
            <a:chOff x="5181480" y="1600200"/>
            <a:chExt cx="609840" cy="3505320"/>
          </a:xfrm>
        </p:grpSpPr>
        <p:sp>
          <p:nvSpPr>
            <p:cNvPr id="599" name=""/>
            <p:cNvSpPr/>
            <p:nvPr/>
          </p:nvSpPr>
          <p:spPr>
            <a:xfrm flipV="1">
              <a:off x="5181480" y="1905120"/>
              <a:ext cx="457200" cy="3200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486400" y="16002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5181480" y="2133720"/>
            <a:ext cx="2819520" cy="3581280"/>
            <a:chOff x="5181480" y="2133720"/>
            <a:chExt cx="2819520" cy="3581280"/>
          </a:xfrm>
        </p:grpSpPr>
        <p:sp>
          <p:nvSpPr>
            <p:cNvPr id="602" name=""/>
            <p:cNvSpPr/>
            <p:nvPr/>
          </p:nvSpPr>
          <p:spPr>
            <a:xfrm flipV="1">
              <a:off x="5181480" y="2438280"/>
              <a:ext cx="2514600" cy="327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96080" y="2133720"/>
              <a:ext cx="30492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6095880" y="4952880"/>
            <a:ext cx="28195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A weak match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5769000"/>
            <a:ext cx="381240" cy="3808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304920" y="6019920"/>
            <a:ext cx="990360" cy="609480"/>
            <a:chOff x="304920" y="6019920"/>
            <a:chExt cx="990360" cy="609480"/>
          </a:xfrm>
        </p:grpSpPr>
        <p:sp>
          <p:nvSpPr>
            <p:cNvPr id="607" name=""/>
            <p:cNvSpPr/>
            <p:nvPr/>
          </p:nvSpPr>
          <p:spPr>
            <a:xfrm flipH="1">
              <a:off x="990720" y="6019920"/>
              <a:ext cx="304560" cy="3045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4920" y="6324480"/>
              <a:ext cx="76176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30A-BCB0-4E05-B9B8-60337643BB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4191120" y="1522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37160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01028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990720" y="1143000"/>
            <a:ext cx="38088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343400" y="457200"/>
            <a:ext cx="144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85800" y="1371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167616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94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23880" y="1219320"/>
            <a:ext cx="381240" cy="1295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828800" y="2514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9144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162920" y="1219320"/>
            <a:ext cx="6858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666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429000" y="14479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49568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267080" y="22860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1008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486400" y="16002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05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343400" y="1219320"/>
            <a:ext cx="7632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858000" y="15238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696080" y="21337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791320" y="1143000"/>
            <a:ext cx="12189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76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3657600" y="1143000"/>
            <a:ext cx="53352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352680" y="4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334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eli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04812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tz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148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9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3152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/12/193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81480" y="1981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oody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llen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3526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0988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432320" y="977760"/>
            <a:ext cx="4330800" cy="330228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676520" y="343080"/>
            <a:ext cx="7632720" cy="464796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676520" y="1143000"/>
            <a:ext cx="5410080" cy="4343400"/>
            <a:chOff x="1676520" y="1143000"/>
            <a:chExt cx="5410080" cy="4343400"/>
          </a:xfrm>
        </p:grpSpPr>
        <p:sp>
          <p:nvSpPr>
            <p:cNvPr id="646" name=""/>
            <p:cNvSpPr/>
            <p:nvPr/>
          </p:nvSpPr>
          <p:spPr>
            <a:xfrm>
              <a:off x="1905120" y="34290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dire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76520" y="1143000"/>
              <a:ext cx="5410080" cy="4343400"/>
            </a:xfrm>
            <a:custGeom>
              <a:avLst/>
              <a:gdLst/>
              <a:ahLst/>
              <a:rect l="l" t="t" r="r" b="b"/>
              <a:pathLst>
                <a:path w="3408" h="2736">
                  <a:moveTo>
                    <a:pt x="0" y="0"/>
                  </a:moveTo>
                  <a:cubicBezTo>
                    <a:pt x="288" y="260"/>
                    <a:pt x="576" y="520"/>
                    <a:pt x="720" y="864"/>
                  </a:cubicBezTo>
                  <a:cubicBezTo>
                    <a:pt x="864" y="1208"/>
                    <a:pt x="624" y="1808"/>
                    <a:pt x="864" y="2064"/>
                  </a:cubicBezTo>
                  <a:cubicBezTo>
                    <a:pt x="1104" y="2320"/>
                    <a:pt x="1736" y="2736"/>
                    <a:pt x="2160" y="2400"/>
                  </a:cubicBezTo>
                  <a:cubicBezTo>
                    <a:pt x="2584" y="2064"/>
                    <a:pt x="2996" y="1056"/>
                    <a:pt x="3408" y="48"/>
                  </a:cubicBezTo>
                </a:path>
              </a:pathLst>
            </a:custGeom>
            <a:noFill/>
            <a:ln w="9360">
              <a:solidFill>
                <a:srgbClr val="00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60199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672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0880" y="5257800"/>
            <a:ext cx="3657600" cy="762120"/>
          </a:xfrm>
          <a:prstGeom prst="rect">
            <a:avLst/>
          </a:prstGeom>
          <a:solidFill>
            <a:srgbClr val="66ffcc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 Movie Databas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724280" y="5638680"/>
            <a:ext cx="3886200" cy="990720"/>
          </a:xfrm>
          <a:prstGeom prst="rect">
            <a:avLst/>
          </a:prstGeom>
          <a:solidFill>
            <a:srgbClr val="ffff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Consider the case wher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the director edge is miss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4724280" y="5181480"/>
            <a:ext cx="152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1676520" y="1143000"/>
            <a:ext cx="5410080" cy="4343400"/>
            <a:chOff x="1676520" y="1143000"/>
            <a:chExt cx="5410080" cy="4343400"/>
          </a:xfrm>
        </p:grpSpPr>
        <p:sp>
          <p:nvSpPr>
            <p:cNvPr id="654" name=""/>
            <p:cNvSpPr/>
            <p:nvPr/>
          </p:nvSpPr>
          <p:spPr>
            <a:xfrm>
              <a:off x="1905120" y="3429000"/>
              <a:ext cx="106668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dire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76520" y="1143000"/>
              <a:ext cx="5410080" cy="4343400"/>
            </a:xfrm>
            <a:custGeom>
              <a:avLst/>
              <a:gdLst/>
              <a:ahLst/>
              <a:rect l="l" t="t" r="r" b="b"/>
              <a:pathLst>
                <a:path w="3408" h="2736">
                  <a:moveTo>
                    <a:pt x="0" y="0"/>
                  </a:moveTo>
                  <a:cubicBezTo>
                    <a:pt x="288" y="260"/>
                    <a:pt x="576" y="520"/>
                    <a:pt x="720" y="864"/>
                  </a:cubicBezTo>
                  <a:cubicBezTo>
                    <a:pt x="864" y="1208"/>
                    <a:pt x="624" y="1808"/>
                    <a:pt x="864" y="2064"/>
                  </a:cubicBezTo>
                  <a:cubicBezTo>
                    <a:pt x="1104" y="2320"/>
                    <a:pt x="1736" y="2736"/>
                    <a:pt x="2160" y="2400"/>
                  </a:cubicBezTo>
                  <a:cubicBezTo>
                    <a:pt x="2584" y="2064"/>
                    <a:pt x="2996" y="1056"/>
                    <a:pt x="3408" y="48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4CB9-3B05-40BB-B7E4-70BAC87A24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76320" y="3886200"/>
            <a:ext cx="5486400" cy="2743200"/>
          </a:xfrm>
          <a:custGeom>
            <a:avLst/>
            <a:gdLst/>
            <a:ahLst/>
            <a:rect l="l" t="t" r="r" b="b"/>
            <a:pathLst>
              <a:path w="3408" h="1632">
                <a:moveTo>
                  <a:pt x="48" y="336"/>
                </a:moveTo>
                <a:lnTo>
                  <a:pt x="0" y="1584"/>
                </a:lnTo>
                <a:lnTo>
                  <a:pt x="3312" y="1632"/>
                </a:lnTo>
                <a:lnTo>
                  <a:pt x="3408" y="672"/>
                </a:lnTo>
                <a:lnTo>
                  <a:pt x="1920" y="0"/>
                </a:lnTo>
                <a:lnTo>
                  <a:pt x="48" y="33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91120" y="1522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37160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01028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990720" y="1143000"/>
            <a:ext cx="38088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343400" y="457200"/>
            <a:ext cx="144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5800" y="1371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167616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23880" y="1219320"/>
            <a:ext cx="381240" cy="1295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828800" y="2514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91120" y="9144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62920" y="1219320"/>
            <a:ext cx="6858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666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429000" y="14479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9568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22860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41008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486400" y="16002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05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43400" y="1219320"/>
            <a:ext cx="7632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0" y="15238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696080" y="21337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5791320" y="1143000"/>
            <a:ext cx="12189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676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657600" y="1143000"/>
            <a:ext cx="53352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352680" y="4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334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04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eli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04812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tz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148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9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3152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/12/193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181480" y="1981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oody Allen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3526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0988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32320" y="977760"/>
            <a:ext cx="4330800" cy="330228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676520" y="343080"/>
            <a:ext cx="7632720" cy="464796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199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672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819520" y="4175280"/>
            <a:ext cx="30456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771560" y="4937040"/>
            <a:ext cx="30492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8600" y="5165640"/>
            <a:ext cx="38088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4403880"/>
            <a:ext cx="6858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2057040" y="4403880"/>
            <a:ext cx="762120" cy="5331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794040" y="4861080"/>
            <a:ext cx="304920" cy="37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62120" y="486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523520" y="5334120"/>
            <a:ext cx="304920" cy="4413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111480" y="4338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962520" y="5241960"/>
            <a:ext cx="9903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609120" y="5165640"/>
            <a:ext cx="1143000" cy="152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92200" y="43941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362320" y="486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209680" y="58514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57400" y="4848120"/>
            <a:ext cx="1752480" cy="241560"/>
          </a:xfrm>
          <a:custGeom>
            <a:avLst/>
            <a:gdLst/>
            <a:ahLst/>
            <a:rect l="l" t="t" r="r" b="b"/>
            <a:pathLst>
              <a:path w="1104" h="152">
                <a:moveTo>
                  <a:pt x="1104" y="152"/>
                </a:moveTo>
                <a:cubicBezTo>
                  <a:pt x="956" y="84"/>
                  <a:pt x="808" y="16"/>
                  <a:pt x="624" y="8"/>
                </a:cubicBezTo>
                <a:cubicBezTo>
                  <a:pt x="440" y="0"/>
                  <a:pt x="220" y="52"/>
                  <a:pt x="0" y="104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57400" y="524196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0"/>
                </a:moveTo>
                <a:cubicBezTo>
                  <a:pt x="984" y="216"/>
                  <a:pt x="816" y="432"/>
                  <a:pt x="624" y="432"/>
                </a:cubicBezTo>
                <a:cubicBezTo>
                  <a:pt x="432" y="432"/>
                  <a:pt x="216" y="216"/>
                  <a:pt x="0" y="0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295280" y="577548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029200" y="508968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52880" y="569916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14800" y="5165640"/>
            <a:ext cx="914400" cy="76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711600" y="550404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092480" y="48290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33520" y="531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971800" y="152280"/>
            <a:ext cx="1523880" cy="4038840"/>
            <a:chOff x="2971800" y="152280"/>
            <a:chExt cx="1523880" cy="4038840"/>
          </a:xfrm>
        </p:grpSpPr>
        <p:sp>
          <p:nvSpPr>
            <p:cNvPr id="719" name=""/>
            <p:cNvSpPr/>
            <p:nvPr/>
          </p:nvSpPr>
          <p:spPr>
            <a:xfrm flipV="1">
              <a:off x="2971800" y="457200"/>
              <a:ext cx="129528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191120" y="152280"/>
              <a:ext cx="30456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1371600" y="914400"/>
            <a:ext cx="533160" cy="4038120"/>
            <a:chOff x="1371600" y="914400"/>
            <a:chExt cx="533160" cy="4038120"/>
          </a:xfrm>
        </p:grpSpPr>
        <p:sp>
          <p:nvSpPr>
            <p:cNvPr id="722" name=""/>
            <p:cNvSpPr/>
            <p:nvPr/>
          </p:nvSpPr>
          <p:spPr>
            <a:xfrm flipH="1" flipV="1">
              <a:off x="1523520" y="1218960"/>
              <a:ext cx="381240" cy="3733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71600" y="9144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380880" y="1371600"/>
            <a:ext cx="609840" cy="3809880"/>
            <a:chOff x="380880" y="1371600"/>
            <a:chExt cx="609840" cy="3809880"/>
          </a:xfrm>
        </p:grpSpPr>
        <p:sp>
          <p:nvSpPr>
            <p:cNvPr id="725" name=""/>
            <p:cNvSpPr/>
            <p:nvPr/>
          </p:nvSpPr>
          <p:spPr>
            <a:xfrm flipV="1">
              <a:off x="380880" y="1676520"/>
              <a:ext cx="381240" cy="350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5800" y="13716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4038480" y="914400"/>
            <a:ext cx="3276720" cy="3962520"/>
            <a:chOff x="4038480" y="914400"/>
            <a:chExt cx="3276720" cy="3962520"/>
          </a:xfrm>
        </p:grpSpPr>
        <p:sp>
          <p:nvSpPr>
            <p:cNvPr id="728" name=""/>
            <p:cNvSpPr/>
            <p:nvPr/>
          </p:nvSpPr>
          <p:spPr>
            <a:xfrm flipV="1">
              <a:off x="4038480" y="1143000"/>
              <a:ext cx="297180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10280" y="9144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5181480" y="1600200"/>
            <a:ext cx="609840" cy="3505320"/>
            <a:chOff x="5181480" y="1600200"/>
            <a:chExt cx="609840" cy="3505320"/>
          </a:xfrm>
        </p:grpSpPr>
        <p:sp>
          <p:nvSpPr>
            <p:cNvPr id="731" name=""/>
            <p:cNvSpPr/>
            <p:nvPr/>
          </p:nvSpPr>
          <p:spPr>
            <a:xfrm flipV="1">
              <a:off x="5181480" y="1905120"/>
              <a:ext cx="457200" cy="3200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86400" y="16002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5181480" y="2133720"/>
            <a:ext cx="2819520" cy="3581280"/>
            <a:chOff x="5181480" y="2133720"/>
            <a:chExt cx="2819520" cy="3581280"/>
          </a:xfrm>
        </p:grpSpPr>
        <p:sp>
          <p:nvSpPr>
            <p:cNvPr id="734" name=""/>
            <p:cNvSpPr/>
            <p:nvPr/>
          </p:nvSpPr>
          <p:spPr>
            <a:xfrm flipV="1">
              <a:off x="5181480" y="2438280"/>
              <a:ext cx="2514600" cy="327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96080" y="2133720"/>
              <a:ext cx="30492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6172200" y="4746600"/>
            <a:ext cx="2819520" cy="1143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n incomplet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matching that is not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 weak match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95280" y="5769000"/>
            <a:ext cx="381240" cy="3808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304920" y="6019920"/>
            <a:ext cx="990360" cy="609480"/>
            <a:chOff x="304920" y="6019920"/>
            <a:chExt cx="990360" cy="609480"/>
          </a:xfrm>
        </p:grpSpPr>
        <p:sp>
          <p:nvSpPr>
            <p:cNvPr id="739" name=""/>
            <p:cNvSpPr/>
            <p:nvPr/>
          </p:nvSpPr>
          <p:spPr>
            <a:xfrm flipH="1">
              <a:off x="990720" y="6019920"/>
              <a:ext cx="304560" cy="3045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4920" y="6324480"/>
              <a:ext cx="76176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2057400" y="4863960"/>
            <a:ext cx="6933960" cy="1765080"/>
            <a:chOff x="2057400" y="4863960"/>
            <a:chExt cx="6933960" cy="1765080"/>
          </a:xfrm>
        </p:grpSpPr>
        <p:grpSp>
          <p:nvGrpSpPr>
            <p:cNvPr id="742" name=""/>
            <p:cNvGrpSpPr/>
            <p:nvPr/>
          </p:nvGrpSpPr>
          <p:grpSpPr>
            <a:xfrm>
              <a:off x="3047760" y="5257440"/>
              <a:ext cx="5943600" cy="1371600"/>
              <a:chOff x="3047760" y="5257440"/>
              <a:chExt cx="5943600" cy="1371600"/>
            </a:xfrm>
          </p:grpSpPr>
          <p:sp>
            <p:nvSpPr>
              <p:cNvPr id="743" name=""/>
              <p:cNvSpPr/>
              <p:nvPr/>
            </p:nvSpPr>
            <p:spPr>
              <a:xfrm>
                <a:off x="5583600" y="5903280"/>
                <a:ext cx="3407760" cy="72576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66"/>
                </a:solidFill>
                <a:miter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There is an edge that is 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not weakly satisfied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3761280" y="6467760"/>
                <a:ext cx="18223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 flipV="1">
                <a:off x="3047760" y="5257440"/>
                <a:ext cx="713160" cy="120996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2057400" y="4863960"/>
              <a:ext cx="1752480" cy="241560"/>
            </a:xfrm>
            <a:custGeom>
              <a:avLst/>
              <a:gdLst/>
              <a:ahLst/>
              <a:rect l="l" t="t" r="r" b="b"/>
              <a:pathLst>
                <a:path w="1104" h="152">
                  <a:moveTo>
                    <a:pt x="1104" y="152"/>
                  </a:moveTo>
                  <a:cubicBezTo>
                    <a:pt x="956" y="84"/>
                    <a:pt x="808" y="16"/>
                    <a:pt x="624" y="8"/>
                  </a:cubicBezTo>
                  <a:cubicBezTo>
                    <a:pt x="440" y="0"/>
                    <a:pt x="220" y="52"/>
                    <a:pt x="0" y="10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529-4CBC-4E37-9E6A-489801EBB7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R Matching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A partial matching is an </a:t>
            </a: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OR matching</a:t>
            </a: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 if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root constraint is satisfi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reachability constraint is satisfied by every query node that is mapped to a database nod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219320" y="5334120"/>
            <a:ext cx="6705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Differently from a weak matching, in an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R Matching,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n edge constraint does not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have to be weakly satisfie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3E51-4B56-49D6-8651-37090CA3B5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aximal Matching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atchings can be represented as tuples (where numbers are object id’s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matching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subsumes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matching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f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an be obtained from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by replacing some nulls in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with non-null valu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matching is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maximal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f no other matching subsumes it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query result consists only of maximal matching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752480" y="3749760"/>
            <a:ext cx="25146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=(1, 5, 2, null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365720" y="3749760"/>
            <a:ext cx="2514600" cy="457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=(1, null, 2, null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752480" y="3733920"/>
            <a:ext cx="5257800" cy="53316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7009-752B-4BB4-B4D3-05EDC30FC9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verview of the Talk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R-semantics and weak semantics for querying incomplete data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omplexity of query evalua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ull disjunctions as a special case of weak semantic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eneralizing full disjunctions – the join constraints are not restricted to be equality constraint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ower bounds for some related problem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2921-E049-423B-B734-DB7955F1F2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  <a:ea typeface="Arial"/>
              </a:rPr>
              <a:t>More Exampl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7" name="">
            <a:hlinkClick r:id="rId1" action="ppaction://hlinksldjump"/>
          </p:cNvPr>
          <p:cNvSpPr/>
          <p:nvPr/>
        </p:nvSpPr>
        <p:spPr>
          <a:xfrm>
            <a:off x="7391520" y="251460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3794"/>
                </a:moveTo>
                <a:lnTo>
                  <a:pt x="18882" y="10800"/>
                </a:lnTo>
                <a:lnTo>
                  <a:pt x="48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B852-B191-4606-8CEB-AAEE493C5B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191120" y="1522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01028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990720" y="1143000"/>
            <a:ext cx="38088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343400" y="457200"/>
            <a:ext cx="144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1371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990720" y="2590920"/>
            <a:ext cx="30456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167616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142640" y="1219320"/>
            <a:ext cx="304920" cy="13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5228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523880" y="1219320"/>
            <a:ext cx="381240" cy="1295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828800" y="2514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191120" y="9144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162920" y="1219320"/>
            <a:ext cx="6858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666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429000" y="14479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90512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49568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267080" y="22860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41008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86400" y="16002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905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343400" y="1219320"/>
            <a:ext cx="7632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58000" y="15238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696080" y="21337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5791320" y="1143000"/>
            <a:ext cx="12189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676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3657600" y="1143000"/>
            <a:ext cx="53352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352680" y="4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334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4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eli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04812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tz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1148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9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33520" y="29718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Englis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3152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/12/193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181480" y="1981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oody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llen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3526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0988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432320" y="977760"/>
            <a:ext cx="4330800" cy="330228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676520" y="343080"/>
            <a:ext cx="7632720" cy="464796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676520" y="1143000"/>
            <a:ext cx="541008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0199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8672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33520" y="5334120"/>
            <a:ext cx="7315200" cy="838080"/>
          </a:xfrm>
          <a:prstGeom prst="rect">
            <a:avLst/>
          </a:prstGeom>
          <a:solidFill>
            <a:srgbClr val="66ffcc"/>
          </a:solidFill>
          <a:ln w="38160">
            <a:solidFill>
              <a:srgbClr val="000066"/>
            </a:solidFill>
            <a:miter/>
          </a:ln>
          <a:effectLst>
            <a:outerShdw dist="107932" dir="135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The Movie Database Before the Removal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C1AF-4F4C-48E2-A248-CFC914F28F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4191120" y="1522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37160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01028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990720" y="1143000"/>
            <a:ext cx="38088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343400" y="457200"/>
            <a:ext cx="144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85800" y="1371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990720" y="2590920"/>
            <a:ext cx="30456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167616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142640" y="1219320"/>
            <a:ext cx="304920" cy="13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28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23880" y="1219320"/>
            <a:ext cx="381240" cy="1295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828800" y="2514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191120" y="9144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162920" y="1219320"/>
            <a:ext cx="6858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0666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29000" y="14479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90512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49568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267080" y="22860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41008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486400" y="16002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05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343400" y="1219320"/>
            <a:ext cx="7632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58000" y="15238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696080" y="21337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5791320" y="1143000"/>
            <a:ext cx="12189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676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3657600" y="1143000"/>
            <a:ext cx="53352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352680" y="4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334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04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eli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04812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tz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1148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9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33520" y="29718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Englis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3152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/12/193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81480" y="1981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oody Allen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526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0988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432320" y="977760"/>
            <a:ext cx="4330800" cy="330228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676520" y="343080"/>
            <a:ext cx="7632720" cy="464796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676520" y="1143000"/>
            <a:ext cx="541008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0199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8672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52280" y="4038480"/>
            <a:ext cx="5562720" cy="2667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819520" y="4175280"/>
            <a:ext cx="30456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771560" y="4937040"/>
            <a:ext cx="30492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8600" y="5165640"/>
            <a:ext cx="38088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124080" y="4403880"/>
            <a:ext cx="6858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057040" y="4403880"/>
            <a:ext cx="762120" cy="5331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794040" y="4861080"/>
            <a:ext cx="304920" cy="37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62120" y="486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1523520" y="5165640"/>
            <a:ext cx="228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111480" y="4338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962520" y="5241960"/>
            <a:ext cx="9903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609120" y="5165640"/>
            <a:ext cx="1143000" cy="152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492200" y="43941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362320" y="486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209680" y="5867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057400" y="4848120"/>
            <a:ext cx="1752480" cy="241560"/>
          </a:xfrm>
          <a:custGeom>
            <a:avLst/>
            <a:gdLst/>
            <a:ahLst/>
            <a:rect l="l" t="t" r="r" b="b"/>
            <a:pathLst>
              <a:path w="1104" h="152">
                <a:moveTo>
                  <a:pt x="1104" y="152"/>
                </a:moveTo>
                <a:cubicBezTo>
                  <a:pt x="956" y="84"/>
                  <a:pt x="808" y="16"/>
                  <a:pt x="624" y="8"/>
                </a:cubicBezTo>
                <a:cubicBezTo>
                  <a:pt x="440" y="0"/>
                  <a:pt x="220" y="52"/>
                  <a:pt x="0" y="104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057400" y="524196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0"/>
                </a:moveTo>
                <a:cubicBezTo>
                  <a:pt x="984" y="216"/>
                  <a:pt x="816" y="432"/>
                  <a:pt x="624" y="432"/>
                </a:cubicBezTo>
                <a:cubicBezTo>
                  <a:pt x="432" y="432"/>
                  <a:pt x="216" y="216"/>
                  <a:pt x="0" y="0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295280" y="577548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029200" y="508968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952880" y="569916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14800" y="5165640"/>
            <a:ext cx="914400" cy="76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711600" y="550404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092480" y="48290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33520" y="531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2971800" y="152280"/>
            <a:ext cx="1523880" cy="4038840"/>
            <a:chOff x="2971800" y="152280"/>
            <a:chExt cx="1523880" cy="4038840"/>
          </a:xfrm>
        </p:grpSpPr>
        <p:sp>
          <p:nvSpPr>
            <p:cNvPr id="872" name=""/>
            <p:cNvSpPr/>
            <p:nvPr/>
          </p:nvSpPr>
          <p:spPr>
            <a:xfrm flipV="1">
              <a:off x="2971800" y="457200"/>
              <a:ext cx="129528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191120" y="152280"/>
              <a:ext cx="30456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1371600" y="914400"/>
            <a:ext cx="533160" cy="4038120"/>
            <a:chOff x="1371600" y="914400"/>
            <a:chExt cx="533160" cy="4038120"/>
          </a:xfrm>
        </p:grpSpPr>
        <p:sp>
          <p:nvSpPr>
            <p:cNvPr id="875" name=""/>
            <p:cNvSpPr/>
            <p:nvPr/>
          </p:nvSpPr>
          <p:spPr>
            <a:xfrm flipH="1" flipV="1">
              <a:off x="1523520" y="1218960"/>
              <a:ext cx="381240" cy="3733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371600" y="9144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 flipH="1">
            <a:off x="2057040" y="4419720"/>
            <a:ext cx="762120" cy="5331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380880" y="1371600"/>
            <a:ext cx="609840" cy="3809880"/>
            <a:chOff x="380880" y="1371600"/>
            <a:chExt cx="609840" cy="3809880"/>
          </a:xfrm>
        </p:grpSpPr>
        <p:sp>
          <p:nvSpPr>
            <p:cNvPr id="879" name=""/>
            <p:cNvSpPr/>
            <p:nvPr/>
          </p:nvSpPr>
          <p:spPr>
            <a:xfrm flipV="1">
              <a:off x="380880" y="1676520"/>
              <a:ext cx="381240" cy="350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5800" y="13716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 flipH="1">
            <a:off x="609120" y="5181480"/>
            <a:ext cx="1143000" cy="1526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990720" y="2590920"/>
            <a:ext cx="456840" cy="3200400"/>
            <a:chOff x="990720" y="2590920"/>
            <a:chExt cx="456840" cy="3200400"/>
          </a:xfrm>
        </p:grpSpPr>
        <p:sp>
          <p:nvSpPr>
            <p:cNvPr id="883" name=""/>
            <p:cNvSpPr/>
            <p:nvPr/>
          </p:nvSpPr>
          <p:spPr>
            <a:xfrm flipH="1" flipV="1">
              <a:off x="1142640" y="2895480"/>
              <a:ext cx="304920" cy="289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90720" y="2590920"/>
              <a:ext cx="30456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 flipH="1">
            <a:off x="1523520" y="5181480"/>
            <a:ext cx="228600" cy="60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4038480" y="914400"/>
            <a:ext cx="3276720" cy="3962520"/>
            <a:chOff x="4038480" y="914400"/>
            <a:chExt cx="3276720" cy="3962520"/>
          </a:xfrm>
        </p:grpSpPr>
        <p:sp>
          <p:nvSpPr>
            <p:cNvPr id="887" name=""/>
            <p:cNvSpPr/>
            <p:nvPr/>
          </p:nvSpPr>
          <p:spPr>
            <a:xfrm flipV="1">
              <a:off x="4038480" y="1143000"/>
              <a:ext cx="297180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010280" y="9144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181480" y="1600200"/>
            <a:ext cx="609840" cy="3505320"/>
            <a:chOff x="5181480" y="1600200"/>
            <a:chExt cx="609840" cy="3505320"/>
          </a:xfrm>
        </p:grpSpPr>
        <p:sp>
          <p:nvSpPr>
            <p:cNvPr id="890" name=""/>
            <p:cNvSpPr/>
            <p:nvPr/>
          </p:nvSpPr>
          <p:spPr>
            <a:xfrm flipV="1">
              <a:off x="5181480" y="1905120"/>
              <a:ext cx="457200" cy="3200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86400" y="16002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5181480" y="2133720"/>
            <a:ext cx="2819520" cy="3581280"/>
            <a:chOff x="5181480" y="2133720"/>
            <a:chExt cx="2819520" cy="3581280"/>
          </a:xfrm>
        </p:grpSpPr>
        <p:sp>
          <p:nvSpPr>
            <p:cNvPr id="893" name=""/>
            <p:cNvSpPr/>
            <p:nvPr/>
          </p:nvSpPr>
          <p:spPr>
            <a:xfrm flipV="1">
              <a:off x="5181480" y="2438280"/>
              <a:ext cx="2514600" cy="327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696080" y="2133720"/>
              <a:ext cx="30492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4114800" y="5181480"/>
            <a:ext cx="914400" cy="763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62520" y="5257800"/>
            <a:ext cx="990360" cy="5335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2057400" y="4419720"/>
            <a:ext cx="1828800" cy="1523880"/>
            <a:chOff x="2057400" y="4419720"/>
            <a:chExt cx="1828800" cy="1523880"/>
          </a:xfrm>
        </p:grpSpPr>
        <p:sp>
          <p:nvSpPr>
            <p:cNvPr id="898" name=""/>
            <p:cNvSpPr/>
            <p:nvPr/>
          </p:nvSpPr>
          <p:spPr>
            <a:xfrm>
              <a:off x="3124080" y="4419720"/>
              <a:ext cx="609840" cy="53316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57400" y="4863960"/>
              <a:ext cx="1752480" cy="241560"/>
            </a:xfrm>
            <a:custGeom>
              <a:avLst/>
              <a:gdLst/>
              <a:ahLst/>
              <a:rect l="l" t="t" r="r" b="b"/>
              <a:pathLst>
                <a:path w="1104" h="152">
                  <a:moveTo>
                    <a:pt x="1104" y="152"/>
                  </a:moveTo>
                  <a:cubicBezTo>
                    <a:pt x="956" y="84"/>
                    <a:pt x="808" y="16"/>
                    <a:pt x="624" y="8"/>
                  </a:cubicBezTo>
                  <a:cubicBezTo>
                    <a:pt x="440" y="0"/>
                    <a:pt x="220" y="52"/>
                    <a:pt x="0" y="104"/>
                  </a:cubicBezTo>
                </a:path>
              </a:pathLst>
            </a:custGeom>
            <a:noFill/>
            <a:ln w="38160">
              <a:solidFill>
                <a:srgbClr val="660066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57400" y="5257800"/>
              <a:ext cx="1828800" cy="6858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1152" y="0"/>
                  </a:moveTo>
                  <a:cubicBezTo>
                    <a:pt x="984" y="216"/>
                    <a:pt x="816" y="432"/>
                    <a:pt x="624" y="432"/>
                  </a:cubicBezTo>
                  <a:cubicBezTo>
                    <a:pt x="432" y="432"/>
                    <a:pt x="216" y="216"/>
                    <a:pt x="0" y="0"/>
                  </a:cubicBezTo>
                </a:path>
              </a:pathLst>
            </a:custGeom>
            <a:noFill/>
            <a:ln w="38160">
              <a:solidFill>
                <a:srgbClr val="66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6019920" y="5486400"/>
            <a:ext cx="29718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 complet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match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19920" y="5486400"/>
            <a:ext cx="29718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t is also a maximal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weak match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19920" y="5486400"/>
            <a:ext cx="29718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t is also a maxima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R-match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990720" y="228600"/>
            <a:ext cx="7391160" cy="289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In the result, 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the actor must be both an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actor in the movie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and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the director of the movie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E04-8C53-473C-80EF-FCFEFDCD8F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4191120" y="1522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37160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01028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990720" y="1143000"/>
            <a:ext cx="38088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343400" y="457200"/>
            <a:ext cx="144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85800" y="1371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990720" y="2590920"/>
            <a:ext cx="30456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167616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1142640" y="1219320"/>
            <a:ext cx="304920" cy="13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094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5228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523880" y="1219320"/>
            <a:ext cx="381240" cy="1295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28800" y="2514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191120" y="9144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162920" y="1219320"/>
            <a:ext cx="6858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0666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429000" y="14479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90512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49568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267080" y="22860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41008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486400" y="16002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05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43400" y="1219320"/>
            <a:ext cx="7632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0" y="15238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96080" y="21337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5791320" y="1143000"/>
            <a:ext cx="12189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676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3657600" y="1143000"/>
            <a:ext cx="53352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352680" y="4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4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04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eli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04812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tz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1148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9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33520" y="29718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Englis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3152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/12/193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181480" y="1981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oody Allen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3526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0988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432320" y="977760"/>
            <a:ext cx="4330800" cy="330228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76520" y="343080"/>
            <a:ext cx="7632720" cy="464796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676520" y="1143000"/>
            <a:ext cx="541008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0199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8672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2280" y="4038480"/>
            <a:ext cx="5562720" cy="2667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819520" y="4175280"/>
            <a:ext cx="30456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771560" y="4937040"/>
            <a:ext cx="30492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28600" y="5165640"/>
            <a:ext cx="38088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124080" y="4403880"/>
            <a:ext cx="6858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2057040" y="4403880"/>
            <a:ext cx="762120" cy="5331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794040" y="4861080"/>
            <a:ext cx="304920" cy="37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62120" y="486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1523520" y="5165640"/>
            <a:ext cx="228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111480" y="4338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62520" y="5241960"/>
            <a:ext cx="9903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09120" y="5165640"/>
            <a:ext cx="1143000" cy="152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92200" y="43941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362320" y="486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209680" y="58514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057400" y="4848120"/>
            <a:ext cx="1752480" cy="241560"/>
          </a:xfrm>
          <a:custGeom>
            <a:avLst/>
            <a:gdLst/>
            <a:ahLst/>
            <a:rect l="l" t="t" r="r" b="b"/>
            <a:pathLst>
              <a:path w="1104" h="152">
                <a:moveTo>
                  <a:pt x="1104" y="152"/>
                </a:moveTo>
                <a:cubicBezTo>
                  <a:pt x="956" y="84"/>
                  <a:pt x="808" y="16"/>
                  <a:pt x="624" y="8"/>
                </a:cubicBezTo>
                <a:cubicBezTo>
                  <a:pt x="440" y="0"/>
                  <a:pt x="220" y="52"/>
                  <a:pt x="0" y="104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057400" y="524196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0"/>
                </a:moveTo>
                <a:cubicBezTo>
                  <a:pt x="984" y="216"/>
                  <a:pt x="816" y="432"/>
                  <a:pt x="624" y="432"/>
                </a:cubicBezTo>
                <a:cubicBezTo>
                  <a:pt x="432" y="432"/>
                  <a:pt x="216" y="216"/>
                  <a:pt x="0" y="0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295280" y="577548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029200" y="508968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952880" y="569916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114800" y="5165640"/>
            <a:ext cx="914400" cy="76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711600" y="550404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092480" y="48290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33520" y="531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971800" y="152280"/>
            <a:ext cx="1523880" cy="4038840"/>
            <a:chOff x="2971800" y="152280"/>
            <a:chExt cx="1523880" cy="4038840"/>
          </a:xfrm>
        </p:grpSpPr>
        <p:sp>
          <p:nvSpPr>
            <p:cNvPr id="974" name=""/>
            <p:cNvSpPr/>
            <p:nvPr/>
          </p:nvSpPr>
          <p:spPr>
            <a:xfrm flipV="1">
              <a:off x="2971800" y="457200"/>
              <a:ext cx="129528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191120" y="152280"/>
              <a:ext cx="30456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 flipH="1">
            <a:off x="2057040" y="4419720"/>
            <a:ext cx="762120" cy="5331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380880" y="1447920"/>
            <a:ext cx="3353040" cy="3733560"/>
            <a:chOff x="380880" y="1447920"/>
            <a:chExt cx="3353040" cy="3733560"/>
          </a:xfrm>
        </p:grpSpPr>
        <p:sp>
          <p:nvSpPr>
            <p:cNvPr id="978" name=""/>
            <p:cNvSpPr/>
            <p:nvPr/>
          </p:nvSpPr>
          <p:spPr>
            <a:xfrm flipV="1">
              <a:off x="380880" y="1676520"/>
              <a:ext cx="3048120" cy="350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429000" y="1447920"/>
              <a:ext cx="30492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 flipH="1">
            <a:off x="609120" y="5181480"/>
            <a:ext cx="1143000" cy="1526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1905120" y="914400"/>
            <a:ext cx="2590560" cy="4038120"/>
            <a:chOff x="1905120" y="914400"/>
            <a:chExt cx="2590560" cy="4038120"/>
          </a:xfrm>
        </p:grpSpPr>
        <p:sp>
          <p:nvSpPr>
            <p:cNvPr id="982" name=""/>
            <p:cNvSpPr/>
            <p:nvPr/>
          </p:nvSpPr>
          <p:spPr>
            <a:xfrm flipV="1">
              <a:off x="1905120" y="1218960"/>
              <a:ext cx="2361960" cy="3733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91120" y="914400"/>
              <a:ext cx="30456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5979960" y="5607000"/>
            <a:ext cx="289584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 second maxima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weak match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304920" y="6019920"/>
            <a:ext cx="990360" cy="609480"/>
            <a:chOff x="304920" y="6019920"/>
            <a:chExt cx="990360" cy="609480"/>
          </a:xfrm>
        </p:grpSpPr>
        <p:sp>
          <p:nvSpPr>
            <p:cNvPr id="986" name=""/>
            <p:cNvSpPr/>
            <p:nvPr/>
          </p:nvSpPr>
          <p:spPr>
            <a:xfrm flipH="1">
              <a:off x="990720" y="6019920"/>
              <a:ext cx="304560" cy="3045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4920" y="6324480"/>
              <a:ext cx="761760" cy="30492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4724280" y="6095880"/>
            <a:ext cx="762120" cy="533520"/>
            <a:chOff x="4724280" y="6095880"/>
            <a:chExt cx="762120" cy="533520"/>
          </a:xfrm>
        </p:grpSpPr>
        <p:sp>
          <p:nvSpPr>
            <p:cNvPr id="989" name=""/>
            <p:cNvSpPr/>
            <p:nvPr/>
          </p:nvSpPr>
          <p:spPr>
            <a:xfrm flipH="1">
              <a:off x="5029200" y="6095880"/>
              <a:ext cx="76320" cy="2286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724280" y="6324480"/>
              <a:ext cx="762120" cy="30492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5410080" y="5181480"/>
            <a:ext cx="1295640" cy="304920"/>
            <a:chOff x="5410080" y="5181480"/>
            <a:chExt cx="1295640" cy="304920"/>
          </a:xfrm>
        </p:grpSpPr>
        <p:sp>
          <p:nvSpPr>
            <p:cNvPr id="992" name=""/>
            <p:cNvSpPr/>
            <p:nvPr/>
          </p:nvSpPr>
          <p:spPr>
            <a:xfrm>
              <a:off x="5410080" y="5334120"/>
              <a:ext cx="5335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943600" y="5181480"/>
              <a:ext cx="762120" cy="30492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4114800" y="4419720"/>
            <a:ext cx="1219320" cy="533160"/>
            <a:chOff x="4114800" y="4419720"/>
            <a:chExt cx="1219320" cy="533160"/>
          </a:xfrm>
        </p:grpSpPr>
        <p:sp>
          <p:nvSpPr>
            <p:cNvPr id="995" name=""/>
            <p:cNvSpPr/>
            <p:nvPr/>
          </p:nvSpPr>
          <p:spPr>
            <a:xfrm>
              <a:off x="4572000" y="4419720"/>
              <a:ext cx="762120" cy="30456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4114800" y="4648320"/>
              <a:ext cx="457200" cy="3045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990720" y="228600"/>
            <a:ext cx="7391160" cy="289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In the result, if the actor and the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movie are assigned non-null values,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then the actor must be both an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actor in the movie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and 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the director of the movie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08D-F83D-457E-8B3D-006EB034E3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4191120" y="1522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37160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990720" y="1143000"/>
            <a:ext cx="38088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343400" y="457200"/>
            <a:ext cx="144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85800" y="1371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990720" y="2590920"/>
            <a:ext cx="30456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167616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1142640" y="1219320"/>
            <a:ext cx="304920" cy="13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94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5228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523880" y="1219320"/>
            <a:ext cx="381240" cy="1295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28800" y="2514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191120" y="9144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162920" y="1219320"/>
            <a:ext cx="6858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0666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429000" y="14479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90512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49568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67080" y="22860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41008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486400" y="16002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905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343400" y="1219320"/>
            <a:ext cx="7632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858000" y="15238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696080" y="21337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5791320" y="1143000"/>
            <a:ext cx="12189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676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3657600" y="1143000"/>
            <a:ext cx="53352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352680" y="4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334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04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eli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04812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tz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1148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9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33520" y="29718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Englis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3152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/12/193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181480" y="1981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oody Allen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3526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80988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432320" y="977760"/>
            <a:ext cx="4330800" cy="330228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343080"/>
            <a:ext cx="7632720" cy="464796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676520" y="1143000"/>
            <a:ext cx="541008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0199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8672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52280" y="4038480"/>
            <a:ext cx="5562720" cy="2667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819520" y="4175280"/>
            <a:ext cx="30456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771560" y="4937040"/>
            <a:ext cx="30492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28600" y="5165640"/>
            <a:ext cx="38088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124080" y="4403880"/>
            <a:ext cx="6858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057040" y="4403880"/>
            <a:ext cx="762120" cy="5331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794040" y="4861080"/>
            <a:ext cx="304920" cy="37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120" y="486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1523520" y="5165640"/>
            <a:ext cx="228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111480" y="4338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962520" y="5241960"/>
            <a:ext cx="9903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609120" y="5165640"/>
            <a:ext cx="1143000" cy="152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492200" y="43941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362320" y="486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209680" y="58514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057400" y="4848120"/>
            <a:ext cx="1752480" cy="241560"/>
          </a:xfrm>
          <a:custGeom>
            <a:avLst/>
            <a:gdLst/>
            <a:ahLst/>
            <a:rect l="l" t="t" r="r" b="b"/>
            <a:pathLst>
              <a:path w="1104" h="152">
                <a:moveTo>
                  <a:pt x="1104" y="152"/>
                </a:moveTo>
                <a:cubicBezTo>
                  <a:pt x="956" y="84"/>
                  <a:pt x="808" y="16"/>
                  <a:pt x="624" y="8"/>
                </a:cubicBezTo>
                <a:cubicBezTo>
                  <a:pt x="440" y="0"/>
                  <a:pt x="220" y="52"/>
                  <a:pt x="0" y="104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057400" y="524196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0"/>
                </a:moveTo>
                <a:cubicBezTo>
                  <a:pt x="984" y="216"/>
                  <a:pt x="816" y="432"/>
                  <a:pt x="624" y="432"/>
                </a:cubicBezTo>
                <a:cubicBezTo>
                  <a:pt x="432" y="432"/>
                  <a:pt x="216" y="216"/>
                  <a:pt x="0" y="0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295280" y="577548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029200" y="508968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52880" y="569916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114800" y="5165640"/>
            <a:ext cx="914400" cy="76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711600" y="550404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092480" y="48290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33520" y="531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2971800" y="152280"/>
            <a:ext cx="1523880" cy="4038840"/>
            <a:chOff x="2971800" y="152280"/>
            <a:chExt cx="1523880" cy="4038840"/>
          </a:xfrm>
        </p:grpSpPr>
        <p:sp>
          <p:nvSpPr>
            <p:cNvPr id="1067" name=""/>
            <p:cNvSpPr/>
            <p:nvPr/>
          </p:nvSpPr>
          <p:spPr>
            <a:xfrm flipV="1">
              <a:off x="2971800" y="457200"/>
              <a:ext cx="129528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191120" y="152280"/>
              <a:ext cx="30456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69" name=""/>
          <p:cNvSpPr/>
          <p:nvPr/>
        </p:nvSpPr>
        <p:spPr>
          <a:xfrm flipH="1">
            <a:off x="2057040" y="4419720"/>
            <a:ext cx="762120" cy="5331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380880" y="1447920"/>
            <a:ext cx="3353040" cy="3733560"/>
            <a:chOff x="380880" y="1447920"/>
            <a:chExt cx="3353040" cy="3733560"/>
          </a:xfrm>
        </p:grpSpPr>
        <p:sp>
          <p:nvSpPr>
            <p:cNvPr id="1071" name=""/>
            <p:cNvSpPr/>
            <p:nvPr/>
          </p:nvSpPr>
          <p:spPr>
            <a:xfrm flipV="1">
              <a:off x="380880" y="1676520"/>
              <a:ext cx="3048120" cy="350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429000" y="1447920"/>
              <a:ext cx="30492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73" name=""/>
          <p:cNvSpPr/>
          <p:nvPr/>
        </p:nvSpPr>
        <p:spPr>
          <a:xfrm flipH="1">
            <a:off x="609120" y="5181480"/>
            <a:ext cx="1143000" cy="1526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1905120" y="914400"/>
            <a:ext cx="2590560" cy="4038120"/>
            <a:chOff x="1905120" y="914400"/>
            <a:chExt cx="2590560" cy="4038120"/>
          </a:xfrm>
        </p:grpSpPr>
        <p:sp>
          <p:nvSpPr>
            <p:cNvPr id="1075" name=""/>
            <p:cNvSpPr/>
            <p:nvPr/>
          </p:nvSpPr>
          <p:spPr>
            <a:xfrm flipV="1">
              <a:off x="1905120" y="1218960"/>
              <a:ext cx="2361960" cy="3733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191120" y="914400"/>
              <a:ext cx="30456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4038480" y="914400"/>
            <a:ext cx="3276720" cy="3962520"/>
            <a:chOff x="4038480" y="914400"/>
            <a:chExt cx="3276720" cy="3962520"/>
          </a:xfrm>
        </p:grpSpPr>
        <p:sp>
          <p:nvSpPr>
            <p:cNvPr id="1078" name=""/>
            <p:cNvSpPr/>
            <p:nvPr/>
          </p:nvSpPr>
          <p:spPr>
            <a:xfrm flipV="1">
              <a:off x="4038480" y="1143000"/>
              <a:ext cx="297180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010280" y="9144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5181480" y="1600200"/>
            <a:ext cx="609840" cy="3505320"/>
            <a:chOff x="5181480" y="1600200"/>
            <a:chExt cx="609840" cy="3505320"/>
          </a:xfrm>
        </p:grpSpPr>
        <p:sp>
          <p:nvSpPr>
            <p:cNvPr id="1081" name=""/>
            <p:cNvSpPr/>
            <p:nvPr/>
          </p:nvSpPr>
          <p:spPr>
            <a:xfrm flipV="1">
              <a:off x="5181480" y="1905120"/>
              <a:ext cx="457200" cy="3200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486400" y="16002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5181480" y="2133720"/>
            <a:ext cx="2819520" cy="3581280"/>
            <a:chOff x="5181480" y="2133720"/>
            <a:chExt cx="2819520" cy="3581280"/>
          </a:xfrm>
        </p:grpSpPr>
        <p:sp>
          <p:nvSpPr>
            <p:cNvPr id="1084" name=""/>
            <p:cNvSpPr/>
            <p:nvPr/>
          </p:nvSpPr>
          <p:spPr>
            <a:xfrm flipV="1">
              <a:off x="5181480" y="2438280"/>
              <a:ext cx="2514600" cy="327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696080" y="2133720"/>
              <a:ext cx="30492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86" name=""/>
          <p:cNvSpPr/>
          <p:nvPr/>
        </p:nvSpPr>
        <p:spPr>
          <a:xfrm>
            <a:off x="4114800" y="5181480"/>
            <a:ext cx="914400" cy="763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962520" y="5257800"/>
            <a:ext cx="990360" cy="5335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2057400" y="4419720"/>
            <a:ext cx="1828800" cy="1523880"/>
            <a:chOff x="2057400" y="4419720"/>
            <a:chExt cx="1828800" cy="1523880"/>
          </a:xfrm>
        </p:grpSpPr>
        <p:sp>
          <p:nvSpPr>
            <p:cNvPr id="1089" name=""/>
            <p:cNvSpPr/>
            <p:nvPr/>
          </p:nvSpPr>
          <p:spPr>
            <a:xfrm>
              <a:off x="3124080" y="4419720"/>
              <a:ext cx="609840" cy="53316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057400" y="5257800"/>
              <a:ext cx="1828800" cy="6858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1152" y="0"/>
                  </a:moveTo>
                  <a:cubicBezTo>
                    <a:pt x="984" y="216"/>
                    <a:pt x="816" y="432"/>
                    <a:pt x="624" y="432"/>
                  </a:cubicBezTo>
                  <a:cubicBezTo>
                    <a:pt x="432" y="432"/>
                    <a:pt x="216" y="216"/>
                    <a:pt x="0" y="0"/>
                  </a:cubicBezTo>
                </a:path>
              </a:pathLst>
            </a:custGeom>
            <a:noFill/>
            <a:ln w="38160">
              <a:solidFill>
                <a:srgbClr val="66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304920" y="6019920"/>
            <a:ext cx="990360" cy="609480"/>
            <a:chOff x="304920" y="6019920"/>
            <a:chExt cx="990360" cy="609480"/>
          </a:xfrm>
        </p:grpSpPr>
        <p:sp>
          <p:nvSpPr>
            <p:cNvPr id="1092" name=""/>
            <p:cNvSpPr/>
            <p:nvPr/>
          </p:nvSpPr>
          <p:spPr>
            <a:xfrm flipH="1">
              <a:off x="990720" y="6019920"/>
              <a:ext cx="304560" cy="3045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04920" y="6324480"/>
              <a:ext cx="761760" cy="30492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6019920" y="5562720"/>
            <a:ext cx="25146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 maxima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R-match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2057400" y="4876920"/>
            <a:ext cx="6477120" cy="1650960"/>
            <a:chOff x="2057400" y="4876920"/>
            <a:chExt cx="6477120" cy="1650960"/>
          </a:xfrm>
        </p:grpSpPr>
        <p:sp>
          <p:nvSpPr>
            <p:cNvPr id="1096" name=""/>
            <p:cNvSpPr/>
            <p:nvPr/>
          </p:nvSpPr>
          <p:spPr>
            <a:xfrm>
              <a:off x="2057400" y="4876920"/>
              <a:ext cx="1752480" cy="241200"/>
            </a:xfrm>
            <a:custGeom>
              <a:avLst/>
              <a:gdLst/>
              <a:ahLst/>
              <a:rect l="l" t="t" r="r" b="b"/>
              <a:pathLst>
                <a:path w="1104" h="152">
                  <a:moveTo>
                    <a:pt x="1104" y="152"/>
                  </a:moveTo>
                  <a:cubicBezTo>
                    <a:pt x="956" y="84"/>
                    <a:pt x="808" y="16"/>
                    <a:pt x="624" y="8"/>
                  </a:cubicBezTo>
                  <a:cubicBezTo>
                    <a:pt x="440" y="0"/>
                    <a:pt x="220" y="52"/>
                    <a:pt x="0" y="10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819520" y="5029200"/>
              <a:ext cx="3200400" cy="1498680"/>
            </a:xfrm>
            <a:custGeom>
              <a:avLst/>
              <a:gdLst/>
              <a:ahLst/>
              <a:rect l="l" t="t" r="r" b="b"/>
              <a:pathLst>
                <a:path w="2016" h="944">
                  <a:moveTo>
                    <a:pt x="2016" y="768"/>
                  </a:moveTo>
                  <a:cubicBezTo>
                    <a:pt x="1440" y="856"/>
                    <a:pt x="864" y="944"/>
                    <a:pt x="528" y="816"/>
                  </a:cubicBezTo>
                  <a:cubicBezTo>
                    <a:pt x="192" y="688"/>
                    <a:pt x="96" y="344"/>
                    <a:pt x="0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019920" y="5562720"/>
              <a:ext cx="2514600" cy="9144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It is not a weak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matching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990720" y="228600"/>
            <a:ext cx="7391160" cy="289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In the result, 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the actor either played in the movie,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directed the movie,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or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 is not related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at all to the movie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E72-34BA-4253-93C8-B4556B96EF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761760" y="1752480"/>
            <a:ext cx="75438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  <a:ea typeface="Arial"/>
              </a:rPr>
              <a:t>Complexity of Evaluating Maximal Weak Matchings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"/>
                <a:ea typeface="Arial"/>
              </a:rPr>
              <a:t>and Maximal OR Matching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2463-28F1-43D6-A776-95F568E7F4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Data Complexity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Under data complexity, the time complexity is a function of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size of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atabas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08F0-5292-4BD0-BBB0-8CB38D4491F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wo Alternatives for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Query Evaluation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naïve algorithm computes all matchings and then removes subsumed matching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better algorithm avoids computing all matchings – ideally it only computes maximal matching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nder data complexity, both algorithms are polynomial tim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E528-99B2-4400-867F-68DCA93555F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nput-Output Complexity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Under input-output complexity, the time complexity is a function of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size of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query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size of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atabase,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nd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size of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esul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0D94-7F0D-47D9-8B81-9472C864F96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 Naïve Algorithm vs.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 Better Algorithm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Under I-O complexity, a naïve algorithm is exponential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Is there a better algorithm with a polynomial time I-O complexity?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answer is positive for DAG queries [Kanza, Nutt &amp; Sagiv 1999]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0AE0-7A4F-4A95-8C2B-196CB142F2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Querying Incomplete Data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Requires a Special Semantics 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sually, answers to a query are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assignments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of database objects (or values) to the query variabl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sequently, partial information is los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r example, dangling tuples are lost when joining several rela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purpose of outerjoins and full disjunctions is to solve this problem, i.e., answers could be partial assignments (to some of the variables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665-9EF2-427E-B7A2-59C23EF654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yclic Queri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467840" cy="39621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For a query Q and a database D,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set of all maximal weak matchings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an be computed in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dm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) time, wher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s the size of the query,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s the size of the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atabase and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s the size of the result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(computing all maximal OR matchings has the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ame complexity)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5AF-9EF4-4F20-8FB0-E7AAF01CBC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066680" y="914400"/>
            <a:ext cx="693432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Full Disjunc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066680" y="2362320"/>
            <a:ext cx="701064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What is the full disjunc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of a set of relations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066680" y="3657600"/>
            <a:ext cx="701064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How are full disjunctions related t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queries with incomplete answers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8A5-6FAE-4FFF-9001-05DEFF9A28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4" name=""/>
          <p:cNvGraphicFramePr/>
          <p:nvPr/>
        </p:nvGraphicFramePr>
        <p:xfrm>
          <a:off x="228600" y="762120"/>
          <a:ext cx="426708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  <a:gridCol w="762120"/>
                <a:gridCol w="1218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languag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8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40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115" name=""/>
          <p:cNvSpPr/>
          <p:nvPr/>
        </p:nvSpPr>
        <p:spPr>
          <a:xfrm>
            <a:off x="228600" y="22860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16" name=""/>
          <p:cNvGraphicFramePr/>
          <p:nvPr/>
        </p:nvGraphicFramePr>
        <p:xfrm>
          <a:off x="4724280" y="762120"/>
          <a:ext cx="3886200" cy="1581120"/>
        </p:xfrm>
        <a:graphic>
          <a:graphicData uri="http://schemas.openxmlformats.org/drawingml/2006/table">
            <a:tbl>
              <a:tblPr/>
              <a:tblGrid>
                <a:gridCol w="609480"/>
                <a:gridCol w="1600200"/>
                <a:gridCol w="1676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date-of-birt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/12/1935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/3/1955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8/10/1967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117" name=""/>
          <p:cNvSpPr/>
          <p:nvPr/>
        </p:nvSpPr>
        <p:spPr>
          <a:xfrm>
            <a:off x="4724280" y="228600"/>
            <a:ext cx="12193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18" name=""/>
          <p:cNvGraphicFramePr/>
          <p:nvPr/>
        </p:nvGraphicFramePr>
        <p:xfrm>
          <a:off x="6400800" y="2514600"/>
          <a:ext cx="2209680" cy="1581120"/>
        </p:xfrm>
        <a:graphic>
          <a:graphicData uri="http://schemas.openxmlformats.org/drawingml/2006/table">
            <a:tbl>
              <a:tblPr/>
              <a:tblGrid>
                <a:gridCol w="625320"/>
                <a:gridCol w="745920"/>
                <a:gridCol w="83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19" name=""/>
          <p:cNvSpPr/>
          <p:nvPr/>
        </p:nvSpPr>
        <p:spPr>
          <a:xfrm>
            <a:off x="4952880" y="2514600"/>
            <a:ext cx="1371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20" name=""/>
          <p:cNvGraphicFramePr/>
          <p:nvPr/>
        </p:nvGraphicFramePr>
        <p:xfrm>
          <a:off x="3276720" y="2895480"/>
          <a:ext cx="1371600" cy="790560"/>
        </p:xfrm>
        <a:graphic>
          <a:graphicData uri="http://schemas.openxmlformats.org/drawingml/2006/table">
            <a:tbl>
              <a:tblPr/>
              <a:tblGrid>
                <a:gridCol w="625680"/>
                <a:gridCol w="745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121" name=""/>
          <p:cNvSpPr/>
          <p:nvPr/>
        </p:nvSpPr>
        <p:spPr>
          <a:xfrm>
            <a:off x="228600" y="2895480"/>
            <a:ext cx="2971800" cy="4572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-that-Directe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22" name=""/>
          <p:cNvGraphicFramePr/>
          <p:nvPr/>
        </p:nvGraphicFramePr>
        <p:xfrm>
          <a:off x="380880" y="4419720"/>
          <a:ext cx="8305920" cy="2190600"/>
        </p:xfrm>
        <a:graphic>
          <a:graphicData uri="http://schemas.openxmlformats.org/drawingml/2006/table">
            <a:tbl>
              <a:tblPr/>
              <a:tblGrid>
                <a:gridCol w="762120"/>
                <a:gridCol w="1447920"/>
                <a:gridCol w="685800"/>
                <a:gridCol w="1066680"/>
                <a:gridCol w="609480"/>
                <a:gridCol w="1447920"/>
                <a:gridCol w="149544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Date-of-birt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8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/12/19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/12/19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/3/195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8/10/196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pSp>
        <p:nvGrpSpPr>
          <p:cNvPr id="1123" name=""/>
          <p:cNvGrpSpPr/>
          <p:nvPr/>
        </p:nvGrpSpPr>
        <p:grpSpPr>
          <a:xfrm>
            <a:off x="228600" y="1143000"/>
            <a:ext cx="8458200" cy="3962520"/>
            <a:chOff x="228600" y="1143000"/>
            <a:chExt cx="8458200" cy="3962520"/>
          </a:xfrm>
        </p:grpSpPr>
        <p:sp>
          <p:nvSpPr>
            <p:cNvPr id="1124" name=""/>
            <p:cNvSpPr/>
            <p:nvPr/>
          </p:nvSpPr>
          <p:spPr>
            <a:xfrm>
              <a:off x="228600" y="1143000"/>
              <a:ext cx="426708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724280" y="1143000"/>
              <a:ext cx="388620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276720" y="3276720"/>
              <a:ext cx="137160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400800" y="2895480"/>
              <a:ext cx="2209680" cy="381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80880" y="4800600"/>
              <a:ext cx="830592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228600" y="1549440"/>
            <a:ext cx="8458200" cy="4317840"/>
            <a:chOff x="228600" y="1549440"/>
            <a:chExt cx="8458200" cy="4317840"/>
          </a:xfrm>
        </p:grpSpPr>
        <p:sp>
          <p:nvSpPr>
            <p:cNvPr id="1130" name=""/>
            <p:cNvSpPr/>
            <p:nvPr/>
          </p:nvSpPr>
          <p:spPr>
            <a:xfrm>
              <a:off x="228600" y="1981080"/>
              <a:ext cx="4267080" cy="381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724280" y="1549440"/>
              <a:ext cx="388620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400800" y="3720960"/>
              <a:ext cx="2209680" cy="381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80880" y="5562720"/>
              <a:ext cx="8305920" cy="304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228600" y="2362320"/>
            <a:ext cx="8458200" cy="3886200"/>
            <a:chOff x="228600" y="2362320"/>
            <a:chExt cx="8458200" cy="3886200"/>
          </a:xfrm>
        </p:grpSpPr>
        <p:sp>
          <p:nvSpPr>
            <p:cNvPr id="1135" name=""/>
            <p:cNvSpPr/>
            <p:nvPr/>
          </p:nvSpPr>
          <p:spPr>
            <a:xfrm>
              <a:off x="228600" y="2362320"/>
              <a:ext cx="426708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80880" y="5943600"/>
              <a:ext cx="830592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80880" y="1968480"/>
            <a:ext cx="8305920" cy="4648320"/>
            <a:chOff x="380880" y="1968480"/>
            <a:chExt cx="8305920" cy="4648320"/>
          </a:xfrm>
        </p:grpSpPr>
        <p:sp>
          <p:nvSpPr>
            <p:cNvPr id="1138" name=""/>
            <p:cNvSpPr/>
            <p:nvPr/>
          </p:nvSpPr>
          <p:spPr>
            <a:xfrm>
              <a:off x="4724280" y="1968480"/>
              <a:ext cx="388620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6311880"/>
              <a:ext cx="830592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40" name=""/>
          <p:cNvGrpSpPr/>
          <p:nvPr/>
        </p:nvGrpSpPr>
        <p:grpSpPr>
          <a:xfrm>
            <a:off x="228600" y="1143000"/>
            <a:ext cx="8458200" cy="4356000"/>
            <a:chOff x="228600" y="1143000"/>
            <a:chExt cx="8458200" cy="4356000"/>
          </a:xfrm>
        </p:grpSpPr>
        <p:sp>
          <p:nvSpPr>
            <p:cNvPr id="1141" name=""/>
            <p:cNvSpPr/>
            <p:nvPr/>
          </p:nvSpPr>
          <p:spPr>
            <a:xfrm>
              <a:off x="228600" y="1549440"/>
              <a:ext cx="426708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400800" y="3301920"/>
              <a:ext cx="2209680" cy="381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80880" y="5194440"/>
              <a:ext cx="8305920" cy="304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724280" y="1143000"/>
              <a:ext cx="388620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380880" y="3886200"/>
            <a:ext cx="5867640" cy="4572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The Full Disjunction of the Given Rela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CCD4-986B-42E5-A5DB-88B164F46F3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380880" y="3886200"/>
            <a:ext cx="5867640" cy="4572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The Full Disjunction of the Given Rela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47" name=""/>
          <p:cNvGraphicFramePr/>
          <p:nvPr/>
        </p:nvGraphicFramePr>
        <p:xfrm>
          <a:off x="380880" y="4419720"/>
          <a:ext cx="8305920" cy="2190600"/>
        </p:xfrm>
        <a:graphic>
          <a:graphicData uri="http://schemas.openxmlformats.org/drawingml/2006/table">
            <a:tbl>
              <a:tblPr/>
              <a:tblGrid>
                <a:gridCol w="762120"/>
                <a:gridCol w="1447920"/>
                <a:gridCol w="685800"/>
                <a:gridCol w="1066680"/>
                <a:gridCol w="609480"/>
                <a:gridCol w="1447920"/>
                <a:gridCol w="149544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Date-of-birt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8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/12/19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/12/19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/3/195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8/10/196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8" name=""/>
          <p:cNvGraphicFramePr/>
          <p:nvPr/>
        </p:nvGraphicFramePr>
        <p:xfrm>
          <a:off x="380880" y="2819520"/>
          <a:ext cx="8305560" cy="73008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85800"/>
                <a:gridCol w="1066680"/>
                <a:gridCol w="609840"/>
                <a:gridCol w="1447560"/>
                <a:gridCol w="149544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Date-of-birt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8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149" name=""/>
          <p:cNvSpPr/>
          <p:nvPr/>
        </p:nvSpPr>
        <p:spPr>
          <a:xfrm>
            <a:off x="228600" y="6019920"/>
            <a:ext cx="868680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 full disjunction does not include subsumed tupl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50" name=""/>
          <p:cNvGraphicFramePr/>
          <p:nvPr/>
        </p:nvGraphicFramePr>
        <p:xfrm>
          <a:off x="228600" y="762120"/>
          <a:ext cx="426708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  <a:gridCol w="762120"/>
                <a:gridCol w="1218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languag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8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40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151" name=""/>
          <p:cNvSpPr/>
          <p:nvPr/>
        </p:nvSpPr>
        <p:spPr>
          <a:xfrm>
            <a:off x="228600" y="22860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228600" y="1143000"/>
            <a:ext cx="5029200" cy="2438280"/>
            <a:chOff x="228600" y="1143000"/>
            <a:chExt cx="5029200" cy="2438280"/>
          </a:xfrm>
        </p:grpSpPr>
        <p:sp>
          <p:nvSpPr>
            <p:cNvPr id="1153" name=""/>
            <p:cNvSpPr/>
            <p:nvPr/>
          </p:nvSpPr>
          <p:spPr>
            <a:xfrm>
              <a:off x="228600" y="1143000"/>
              <a:ext cx="426708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0880" y="3200400"/>
              <a:ext cx="396252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394160" y="1371600"/>
              <a:ext cx="863640" cy="1981080"/>
            </a:xfrm>
            <a:custGeom>
              <a:avLst/>
              <a:gdLst/>
              <a:ahLst/>
              <a:rect l="l" t="t" r="r" b="b"/>
              <a:pathLst>
                <a:path w="544" h="1248">
                  <a:moveTo>
                    <a:pt x="96" y="0"/>
                  </a:moveTo>
                  <a:cubicBezTo>
                    <a:pt x="320" y="184"/>
                    <a:pt x="544" y="368"/>
                    <a:pt x="528" y="576"/>
                  </a:cubicBezTo>
                  <a:cubicBezTo>
                    <a:pt x="512" y="784"/>
                    <a:pt x="256" y="1016"/>
                    <a:pt x="0" y="1248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380880" y="3581280"/>
            <a:ext cx="3962520" cy="1600200"/>
            <a:chOff x="380880" y="3581280"/>
            <a:chExt cx="3962520" cy="1600200"/>
          </a:xfrm>
        </p:grpSpPr>
        <p:sp>
          <p:nvSpPr>
            <p:cNvPr id="1157" name=""/>
            <p:cNvSpPr/>
            <p:nvPr/>
          </p:nvSpPr>
          <p:spPr>
            <a:xfrm>
              <a:off x="380880" y="4800600"/>
              <a:ext cx="396252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225960" y="3581280"/>
              <a:ext cx="368280" cy="1219320"/>
            </a:xfrm>
            <a:custGeom>
              <a:avLst/>
              <a:gdLst/>
              <a:ahLst/>
              <a:rect l="l" t="t" r="r" b="b"/>
              <a:pathLst>
                <a:path w="232" h="768">
                  <a:moveTo>
                    <a:pt x="80" y="0"/>
                  </a:moveTo>
                  <a:cubicBezTo>
                    <a:pt x="156" y="92"/>
                    <a:pt x="232" y="184"/>
                    <a:pt x="224" y="288"/>
                  </a:cubicBezTo>
                  <a:cubicBezTo>
                    <a:pt x="216" y="392"/>
                    <a:pt x="64" y="544"/>
                    <a:pt x="32" y="624"/>
                  </a:cubicBezTo>
                  <a:cubicBezTo>
                    <a:pt x="0" y="704"/>
                    <a:pt x="16" y="736"/>
                    <a:pt x="32" y="768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5486400" y="1371600"/>
            <a:ext cx="3352680" cy="1371600"/>
            <a:chOff x="5486400" y="1371600"/>
            <a:chExt cx="3352680" cy="1371600"/>
          </a:xfrm>
        </p:grpSpPr>
        <p:sp>
          <p:nvSpPr>
            <p:cNvPr id="1160" name=""/>
            <p:cNvSpPr/>
            <p:nvPr/>
          </p:nvSpPr>
          <p:spPr>
            <a:xfrm>
              <a:off x="5486400" y="1371600"/>
              <a:ext cx="3352680" cy="106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This tuple will not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be in the full disjunction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6629400" y="2438280"/>
              <a:ext cx="7632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51F-E687-4CFC-812D-D1CA5FB48D1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2" name=""/>
          <p:cNvGraphicFramePr/>
          <p:nvPr/>
        </p:nvGraphicFramePr>
        <p:xfrm>
          <a:off x="228600" y="762120"/>
          <a:ext cx="426708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  <a:gridCol w="762120"/>
                <a:gridCol w="1218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languag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8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40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163" name=""/>
          <p:cNvSpPr/>
          <p:nvPr/>
        </p:nvSpPr>
        <p:spPr>
          <a:xfrm>
            <a:off x="228600" y="22860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64" name=""/>
          <p:cNvGraphicFramePr/>
          <p:nvPr/>
        </p:nvGraphicFramePr>
        <p:xfrm>
          <a:off x="4648320" y="762120"/>
          <a:ext cx="3886200" cy="1581120"/>
        </p:xfrm>
        <a:graphic>
          <a:graphicData uri="http://schemas.openxmlformats.org/drawingml/2006/table">
            <a:tbl>
              <a:tblPr/>
              <a:tblGrid>
                <a:gridCol w="609480"/>
                <a:gridCol w="1600200"/>
                <a:gridCol w="1676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date-of-birt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/12/1935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/3/1955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8/10/1967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165" name=""/>
          <p:cNvSpPr/>
          <p:nvPr/>
        </p:nvSpPr>
        <p:spPr>
          <a:xfrm>
            <a:off x="4724280" y="228600"/>
            <a:ext cx="12193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66" name=""/>
          <p:cNvGraphicFramePr/>
          <p:nvPr/>
        </p:nvGraphicFramePr>
        <p:xfrm>
          <a:off x="6400800" y="2610000"/>
          <a:ext cx="2209680" cy="1581120"/>
        </p:xfrm>
        <a:graphic>
          <a:graphicData uri="http://schemas.openxmlformats.org/drawingml/2006/table">
            <a:tbl>
              <a:tblPr/>
              <a:tblGrid>
                <a:gridCol w="625320"/>
                <a:gridCol w="745920"/>
                <a:gridCol w="83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67" name=""/>
          <p:cNvSpPr/>
          <p:nvPr/>
        </p:nvSpPr>
        <p:spPr>
          <a:xfrm>
            <a:off x="4876920" y="2514600"/>
            <a:ext cx="1371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68" name=""/>
          <p:cNvGraphicFramePr/>
          <p:nvPr/>
        </p:nvGraphicFramePr>
        <p:xfrm>
          <a:off x="3276720" y="2895480"/>
          <a:ext cx="1371600" cy="790560"/>
        </p:xfrm>
        <a:graphic>
          <a:graphicData uri="http://schemas.openxmlformats.org/drawingml/2006/table">
            <a:tbl>
              <a:tblPr/>
              <a:tblGrid>
                <a:gridCol w="625680"/>
                <a:gridCol w="745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169" name=""/>
          <p:cNvSpPr/>
          <p:nvPr/>
        </p:nvSpPr>
        <p:spPr>
          <a:xfrm>
            <a:off x="152280" y="2895480"/>
            <a:ext cx="2971800" cy="4572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-that-Directe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70" name=""/>
          <p:cNvGraphicFramePr/>
          <p:nvPr/>
        </p:nvGraphicFramePr>
        <p:xfrm>
          <a:off x="380880" y="4419720"/>
          <a:ext cx="8305920" cy="2190600"/>
        </p:xfrm>
        <a:graphic>
          <a:graphicData uri="http://schemas.openxmlformats.org/drawingml/2006/table">
            <a:tbl>
              <a:tblPr/>
              <a:tblGrid>
                <a:gridCol w="762120"/>
                <a:gridCol w="1447920"/>
                <a:gridCol w="685800"/>
                <a:gridCol w="1066680"/>
                <a:gridCol w="609480"/>
                <a:gridCol w="1447920"/>
                <a:gridCol w="149544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Date-of-birt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8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/12/19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/12/19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/3/195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8/10/196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171" name=""/>
          <p:cNvSpPr/>
          <p:nvPr/>
        </p:nvSpPr>
        <p:spPr>
          <a:xfrm>
            <a:off x="380880" y="3886200"/>
            <a:ext cx="5867640" cy="4572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The Full Disjunction of the Given Rela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52280" y="3809880"/>
            <a:ext cx="8763120" cy="2895840"/>
          </a:xfrm>
          <a:prstGeom prst="rect">
            <a:avLst/>
          </a:prstGeom>
          <a:solidFill>
            <a:srgbClr val="00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73" name=""/>
          <p:cNvGraphicFramePr/>
          <p:nvPr/>
        </p:nvGraphicFramePr>
        <p:xfrm>
          <a:off x="380880" y="4648320"/>
          <a:ext cx="8305560" cy="73008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85800"/>
                <a:gridCol w="1066680"/>
                <a:gridCol w="609840"/>
                <a:gridCol w="1447560"/>
                <a:gridCol w="149544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Date-of-birt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8/10/196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174" name=""/>
          <p:cNvSpPr/>
          <p:nvPr/>
        </p:nvSpPr>
        <p:spPr>
          <a:xfrm>
            <a:off x="380880" y="5638680"/>
            <a:ext cx="830592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The full disjunction does not include tuples that are based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on Cartesian Product rather than jo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4343400" y="1981080"/>
            <a:ext cx="4191120" cy="3429000"/>
            <a:chOff x="4343400" y="1981080"/>
            <a:chExt cx="4191120" cy="3429000"/>
          </a:xfrm>
        </p:grpSpPr>
        <p:sp>
          <p:nvSpPr>
            <p:cNvPr id="1176" name=""/>
            <p:cNvSpPr/>
            <p:nvPr/>
          </p:nvSpPr>
          <p:spPr>
            <a:xfrm flipV="1">
              <a:off x="4800600" y="2437920"/>
              <a:ext cx="380880" cy="2590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343400" y="5029200"/>
              <a:ext cx="350532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648320" y="1981080"/>
              <a:ext cx="3886200" cy="381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228600" y="2362320"/>
            <a:ext cx="4267080" cy="3047760"/>
            <a:chOff x="228600" y="2362320"/>
            <a:chExt cx="4267080" cy="3047760"/>
          </a:xfrm>
        </p:grpSpPr>
        <p:sp>
          <p:nvSpPr>
            <p:cNvPr id="1180" name=""/>
            <p:cNvSpPr/>
            <p:nvPr/>
          </p:nvSpPr>
          <p:spPr>
            <a:xfrm>
              <a:off x="406440" y="5029200"/>
              <a:ext cx="3886200" cy="38088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28600" y="2362320"/>
              <a:ext cx="4267080" cy="38088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 flipV="1">
              <a:off x="3581280" y="2819520"/>
              <a:ext cx="152640" cy="22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C3AA-0096-4294-B981-0433769CB7A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n the Full Disjunction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f a Given Set of Relations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00200" y="2286000"/>
            <a:ext cx="579132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Every tuple of the input is a par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of at least one tuple of the outpu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600200" y="3505320"/>
            <a:ext cx="579132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uples are joined as in a natur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join, padded with null values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600200" y="4724280"/>
            <a:ext cx="579132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 result includes only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maximal connected portions”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262A-3CCF-4264-ABCE-CDFC8AD941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otivation for Full Disjunction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ull disjunctions have been proposed by Galiando-Legaria as an alternative for outerjoins [SIGMOD’94]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ajaraman and Ullman suggested to use full disjunctions for information integration [PODS’96]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915-C2B2-45B8-BC1E-715F5FDAE58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puting Full Disjunctions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or 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γ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-acyclic Relation Schema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ajaraman and Ullman have shown how to evaluate the full disjunction by a sequence of natural outerjoins when the relation schemas are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γ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-acyclic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Hence, the full disjunction can be computed  in polynomial time, under input-output complexity, when the relation schemas are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γ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-acyclic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3CA-7152-45C9-8681-80616832D2A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Weak Semantics Generalizes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ull Disjunction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lations can be converted into a semistructured databas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full disjunction can be expressed as the union of several queries that are evaluated under weak semantic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CDC7-383A-4445-AC7D-1EBC597BA63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2362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94" name=""/>
          <p:cNvGraphicFramePr/>
          <p:nvPr/>
        </p:nvGraphicFramePr>
        <p:xfrm>
          <a:off x="6172200" y="1752480"/>
          <a:ext cx="228600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195" name=""/>
          <p:cNvSpPr/>
          <p:nvPr/>
        </p:nvSpPr>
        <p:spPr>
          <a:xfrm>
            <a:off x="6172200" y="121428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96" name=""/>
          <p:cNvGraphicFramePr/>
          <p:nvPr/>
        </p:nvGraphicFramePr>
        <p:xfrm>
          <a:off x="533520" y="1752480"/>
          <a:ext cx="2209680" cy="1581120"/>
        </p:xfrm>
        <a:graphic>
          <a:graphicData uri="http://schemas.openxmlformats.org/drawingml/2006/table">
            <a:tbl>
              <a:tblPr/>
              <a:tblGrid>
                <a:gridCol w="60948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197" name=""/>
          <p:cNvSpPr/>
          <p:nvPr/>
        </p:nvSpPr>
        <p:spPr>
          <a:xfrm>
            <a:off x="533520" y="1219320"/>
            <a:ext cx="121896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98" name=""/>
          <p:cNvGraphicFramePr/>
          <p:nvPr/>
        </p:nvGraphicFramePr>
        <p:xfrm>
          <a:off x="3352680" y="1752480"/>
          <a:ext cx="2210040" cy="1581120"/>
        </p:xfrm>
        <a:graphic>
          <a:graphicData uri="http://schemas.openxmlformats.org/drawingml/2006/table">
            <a:tbl>
              <a:tblPr/>
              <a:tblGrid>
                <a:gridCol w="625680"/>
                <a:gridCol w="745920"/>
                <a:gridCol w="83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99" name=""/>
          <p:cNvSpPr/>
          <p:nvPr/>
        </p:nvSpPr>
        <p:spPr>
          <a:xfrm>
            <a:off x="3352680" y="1219320"/>
            <a:ext cx="1371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172200" y="2128680"/>
            <a:ext cx="2286000" cy="3812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172200" y="2585880"/>
            <a:ext cx="2286000" cy="3049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172200" y="296712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172200" y="337356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352680" y="219708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352680" y="2590920"/>
            <a:ext cx="2210040" cy="304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352680" y="297180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33520" y="220968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3520" y="2590920"/>
            <a:ext cx="2209680" cy="304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33520" y="297180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2743200" y="2209680"/>
            <a:ext cx="609480" cy="838440"/>
            <a:chOff x="2743200" y="2209680"/>
            <a:chExt cx="609480" cy="838440"/>
          </a:xfrm>
        </p:grpSpPr>
        <p:sp>
          <p:nvSpPr>
            <p:cNvPr id="1211" name=""/>
            <p:cNvSpPr/>
            <p:nvPr/>
          </p:nvSpPr>
          <p:spPr>
            <a:xfrm>
              <a:off x="2743200" y="2209680"/>
              <a:ext cx="6094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743200" y="2362320"/>
              <a:ext cx="609480" cy="3808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743200" y="2666880"/>
              <a:ext cx="609480" cy="38124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2743200" y="2286000"/>
            <a:ext cx="3429000" cy="838080"/>
            <a:chOff x="2743200" y="2286000"/>
            <a:chExt cx="3429000" cy="838080"/>
          </a:xfrm>
        </p:grpSpPr>
        <p:sp>
          <p:nvSpPr>
            <p:cNvPr id="1215" name=""/>
            <p:cNvSpPr/>
            <p:nvPr/>
          </p:nvSpPr>
          <p:spPr>
            <a:xfrm>
              <a:off x="5562720" y="228600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562720" y="266688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562720" y="304812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743200" y="228600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743200" y="2438280"/>
              <a:ext cx="60948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743200" y="2743200"/>
              <a:ext cx="60948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5562720" y="2362320"/>
            <a:ext cx="609480" cy="761760"/>
            <a:chOff x="5562720" y="2362320"/>
            <a:chExt cx="609480" cy="761760"/>
          </a:xfrm>
        </p:grpSpPr>
        <p:sp>
          <p:nvSpPr>
            <p:cNvPr id="1222" name=""/>
            <p:cNvSpPr/>
            <p:nvPr/>
          </p:nvSpPr>
          <p:spPr>
            <a:xfrm>
              <a:off x="5562720" y="2362320"/>
              <a:ext cx="6094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562720" y="2743200"/>
              <a:ext cx="6094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562720" y="3124080"/>
              <a:ext cx="6094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609480" y="3886200"/>
            <a:ext cx="815364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 node is created for each tupl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4572000"/>
            <a:ext cx="815364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dges are added between connected tuples, in both direc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09480" y="5257800"/>
            <a:ext cx="815364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 root is added, and edges are added from the root to every nod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486400" y="6095880"/>
            <a:ext cx="327672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reating The Databas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685800" y="380880"/>
            <a:ext cx="7238880" cy="2971800"/>
            <a:chOff x="685800" y="380880"/>
            <a:chExt cx="7238880" cy="2971800"/>
          </a:xfrm>
        </p:grpSpPr>
        <p:sp>
          <p:nvSpPr>
            <p:cNvPr id="1230" name=""/>
            <p:cNvSpPr/>
            <p:nvPr/>
          </p:nvSpPr>
          <p:spPr>
            <a:xfrm>
              <a:off x="4191120" y="380880"/>
              <a:ext cx="533160" cy="457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2438280" y="609120"/>
              <a:ext cx="1752840" cy="16002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1676520" y="533160"/>
              <a:ext cx="2514600" cy="20574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>
              <a:off x="685800" y="456840"/>
              <a:ext cx="3505320" cy="25146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3505320" y="838080"/>
              <a:ext cx="761760" cy="1371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V="1">
              <a:off x="3809880" y="837720"/>
              <a:ext cx="609840" cy="1752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4267080" y="837720"/>
              <a:ext cx="304920" cy="2133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 flipV="1">
              <a:off x="4724280" y="456840"/>
              <a:ext cx="3200400" cy="16765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 flipV="1">
              <a:off x="4723920" y="533160"/>
              <a:ext cx="3048120" cy="2057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 flipV="1">
              <a:off x="4724280" y="609480"/>
              <a:ext cx="2819520" cy="23623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 flipV="1">
              <a:off x="4723920" y="762120"/>
              <a:ext cx="2514600" cy="2590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241" name=""/>
          <p:cNvSpPr/>
          <p:nvPr/>
        </p:nvSpPr>
        <p:spPr>
          <a:xfrm>
            <a:off x="609480" y="5943600"/>
            <a:ext cx="4343400" cy="6094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e use colors instead of label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DDCE-62F2-4455-A810-64B2E30E67B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Querying Incomplete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emistructured Data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 semistructured data, incompleteness of data is prevalen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R-semantics and weak semantics were introduced so that queries over semistructured data would return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maximal answers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rather than complete answers [Kanza, Nutt &amp; Sagiv 1999]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5CB-B119-4CD3-A19F-C60F504ED8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2" name=""/>
          <p:cNvGraphicFramePr/>
          <p:nvPr/>
        </p:nvGraphicFramePr>
        <p:xfrm>
          <a:off x="6172200" y="1752480"/>
          <a:ext cx="228600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3" name=""/>
          <p:cNvSpPr/>
          <p:nvPr/>
        </p:nvSpPr>
        <p:spPr>
          <a:xfrm>
            <a:off x="6172200" y="121428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533520" y="1752480"/>
          <a:ext cx="2209680" cy="1581120"/>
        </p:xfrm>
        <a:graphic>
          <a:graphicData uri="http://schemas.openxmlformats.org/drawingml/2006/table">
            <a:tbl>
              <a:tblPr/>
              <a:tblGrid>
                <a:gridCol w="60948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245" name=""/>
          <p:cNvSpPr/>
          <p:nvPr/>
        </p:nvSpPr>
        <p:spPr>
          <a:xfrm>
            <a:off x="533520" y="1219320"/>
            <a:ext cx="121896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246" name=""/>
          <p:cNvGraphicFramePr/>
          <p:nvPr/>
        </p:nvGraphicFramePr>
        <p:xfrm>
          <a:off x="3352680" y="1752480"/>
          <a:ext cx="2210040" cy="1581120"/>
        </p:xfrm>
        <a:graphic>
          <a:graphicData uri="http://schemas.openxmlformats.org/drawingml/2006/table">
            <a:tbl>
              <a:tblPr/>
              <a:tblGrid>
                <a:gridCol w="625680"/>
                <a:gridCol w="745920"/>
                <a:gridCol w="83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247" name=""/>
          <p:cNvSpPr/>
          <p:nvPr/>
        </p:nvSpPr>
        <p:spPr>
          <a:xfrm>
            <a:off x="3352680" y="1219320"/>
            <a:ext cx="1371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172200" y="2128680"/>
            <a:ext cx="2286000" cy="3812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172200" y="2585880"/>
            <a:ext cx="2286000" cy="3049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172200" y="296712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172200" y="337356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352680" y="219708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352680" y="2590920"/>
            <a:ext cx="2210040" cy="304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352680" y="297180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33520" y="220968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33520" y="2590920"/>
            <a:ext cx="2209680" cy="304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33520" y="297180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2743200" y="2209680"/>
            <a:ext cx="609480" cy="838440"/>
            <a:chOff x="2743200" y="2209680"/>
            <a:chExt cx="609480" cy="838440"/>
          </a:xfrm>
        </p:grpSpPr>
        <p:sp>
          <p:nvSpPr>
            <p:cNvPr id="1259" name=""/>
            <p:cNvSpPr/>
            <p:nvPr/>
          </p:nvSpPr>
          <p:spPr>
            <a:xfrm>
              <a:off x="2743200" y="2209680"/>
              <a:ext cx="6094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743200" y="2362320"/>
              <a:ext cx="609480" cy="3808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743200" y="2666880"/>
              <a:ext cx="609480" cy="38124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380880" y="4876920"/>
            <a:ext cx="4343400" cy="1752480"/>
          </a:xfrm>
          <a:prstGeom prst="rect">
            <a:avLst/>
          </a:prstGeom>
          <a:solidFill>
            <a:srgbClr val="dddddd"/>
          </a:solidFill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533520" y="5486400"/>
            <a:ext cx="4038480" cy="990720"/>
            <a:chOff x="533520" y="5486400"/>
            <a:chExt cx="4038480" cy="990720"/>
          </a:xfrm>
        </p:grpSpPr>
        <p:sp>
          <p:nvSpPr>
            <p:cNvPr id="1264" name=""/>
            <p:cNvSpPr/>
            <p:nvPr/>
          </p:nvSpPr>
          <p:spPr>
            <a:xfrm>
              <a:off x="3352680" y="6095880"/>
              <a:ext cx="1219320" cy="38124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Movies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33520" y="6095880"/>
              <a:ext cx="121896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</a:rPr>
                <a:t>Actors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28800" y="5486400"/>
              <a:ext cx="1295280" cy="3808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Acted-in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2743200" y="2286000"/>
            <a:ext cx="3429000" cy="838080"/>
            <a:chOff x="2743200" y="2286000"/>
            <a:chExt cx="3429000" cy="838080"/>
          </a:xfrm>
        </p:grpSpPr>
        <p:sp>
          <p:nvSpPr>
            <p:cNvPr id="1268" name=""/>
            <p:cNvSpPr/>
            <p:nvPr/>
          </p:nvSpPr>
          <p:spPr>
            <a:xfrm>
              <a:off x="5562720" y="228600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562720" y="266688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562720" y="304812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743200" y="228600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743200" y="2438280"/>
              <a:ext cx="60948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743200" y="2743200"/>
              <a:ext cx="60948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5562720" y="2362320"/>
            <a:ext cx="609480" cy="761760"/>
            <a:chOff x="5562720" y="2362320"/>
            <a:chExt cx="609480" cy="761760"/>
          </a:xfrm>
        </p:grpSpPr>
        <p:sp>
          <p:nvSpPr>
            <p:cNvPr id="1275" name=""/>
            <p:cNvSpPr/>
            <p:nvPr/>
          </p:nvSpPr>
          <p:spPr>
            <a:xfrm>
              <a:off x="5562720" y="2362320"/>
              <a:ext cx="6094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562720" y="2743200"/>
              <a:ext cx="6094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562720" y="3124080"/>
              <a:ext cx="6094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278" name=""/>
          <p:cNvSpPr/>
          <p:nvPr/>
        </p:nvSpPr>
        <p:spPr>
          <a:xfrm>
            <a:off x="5486400" y="6019920"/>
            <a:ext cx="3276720" cy="533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reating The Quer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28600" y="228600"/>
            <a:ext cx="2362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80880" y="3809880"/>
            <a:ext cx="822960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 node is created for each relation schema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0880" y="3962520"/>
            <a:ext cx="8229600" cy="533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dges are added between connected schemas, in both direc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209680" y="4952880"/>
            <a:ext cx="6098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80880" y="4114800"/>
            <a:ext cx="822960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number of queries is equal to the number of schema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80880" y="4267080"/>
            <a:ext cx="822960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each query, the root is connected to a different schema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761760" y="5029200"/>
            <a:ext cx="1447560" cy="10666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514600" y="525780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819520" y="5105520"/>
            <a:ext cx="1600200" cy="99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1447920" y="5562720"/>
            <a:ext cx="2590560" cy="533160"/>
            <a:chOff x="1447920" y="5562720"/>
            <a:chExt cx="2590560" cy="533160"/>
          </a:xfrm>
        </p:grpSpPr>
        <p:sp>
          <p:nvSpPr>
            <p:cNvPr id="1289" name=""/>
            <p:cNvSpPr/>
            <p:nvPr/>
          </p:nvSpPr>
          <p:spPr>
            <a:xfrm flipV="1">
              <a:off x="1600200" y="5715000"/>
              <a:ext cx="228600" cy="3808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111480" y="5715000"/>
              <a:ext cx="68580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1447920" y="5562720"/>
              <a:ext cx="380880" cy="533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124080" y="5562720"/>
              <a:ext cx="914400" cy="5331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293" name=""/>
          <p:cNvGrpSpPr/>
          <p:nvPr/>
        </p:nvGrpSpPr>
        <p:grpSpPr>
          <a:xfrm>
            <a:off x="685800" y="380880"/>
            <a:ext cx="7238880" cy="2971800"/>
            <a:chOff x="685800" y="380880"/>
            <a:chExt cx="7238880" cy="2971800"/>
          </a:xfrm>
        </p:grpSpPr>
        <p:sp>
          <p:nvSpPr>
            <p:cNvPr id="1294" name=""/>
            <p:cNvSpPr/>
            <p:nvPr/>
          </p:nvSpPr>
          <p:spPr>
            <a:xfrm>
              <a:off x="4191120" y="380880"/>
              <a:ext cx="533160" cy="457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2438280" y="609120"/>
              <a:ext cx="1752840" cy="16002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1676520" y="533160"/>
              <a:ext cx="2514600" cy="20574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685800" y="456840"/>
              <a:ext cx="3505320" cy="25146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3505320" y="838080"/>
              <a:ext cx="761760" cy="1371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3809880" y="837720"/>
              <a:ext cx="609840" cy="1752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4267080" y="837720"/>
              <a:ext cx="304920" cy="2133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 flipV="1">
              <a:off x="4724280" y="456840"/>
              <a:ext cx="3200400" cy="16765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 flipV="1">
              <a:off x="4723920" y="533160"/>
              <a:ext cx="3048120" cy="2057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 flipV="1">
              <a:off x="4724280" y="609480"/>
              <a:ext cx="2819520" cy="23623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4723920" y="762120"/>
              <a:ext cx="2514600" cy="2590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503-47AB-4143-963B-930D2C2B69B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4724280" y="5791320"/>
            <a:ext cx="419112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ueries are Evaluated under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eak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306" name=""/>
          <p:cNvGraphicFramePr/>
          <p:nvPr/>
        </p:nvGraphicFramePr>
        <p:xfrm>
          <a:off x="6172200" y="1752480"/>
          <a:ext cx="228600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307" name=""/>
          <p:cNvSpPr/>
          <p:nvPr/>
        </p:nvSpPr>
        <p:spPr>
          <a:xfrm>
            <a:off x="6172200" y="121428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308" name=""/>
          <p:cNvGraphicFramePr/>
          <p:nvPr/>
        </p:nvGraphicFramePr>
        <p:xfrm>
          <a:off x="533520" y="1752480"/>
          <a:ext cx="2209680" cy="1581120"/>
        </p:xfrm>
        <a:graphic>
          <a:graphicData uri="http://schemas.openxmlformats.org/drawingml/2006/table">
            <a:tbl>
              <a:tblPr/>
              <a:tblGrid>
                <a:gridCol w="60948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309" name=""/>
          <p:cNvSpPr/>
          <p:nvPr/>
        </p:nvSpPr>
        <p:spPr>
          <a:xfrm>
            <a:off x="533520" y="1219320"/>
            <a:ext cx="121896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310" name=""/>
          <p:cNvGraphicFramePr/>
          <p:nvPr/>
        </p:nvGraphicFramePr>
        <p:xfrm>
          <a:off x="3352680" y="1752480"/>
          <a:ext cx="2210040" cy="1581120"/>
        </p:xfrm>
        <a:graphic>
          <a:graphicData uri="http://schemas.openxmlformats.org/drawingml/2006/table">
            <a:tbl>
              <a:tblPr/>
              <a:tblGrid>
                <a:gridCol w="625680"/>
                <a:gridCol w="745920"/>
                <a:gridCol w="83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311" name=""/>
          <p:cNvSpPr/>
          <p:nvPr/>
        </p:nvSpPr>
        <p:spPr>
          <a:xfrm>
            <a:off x="3352680" y="1219320"/>
            <a:ext cx="1371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172200" y="2128680"/>
            <a:ext cx="2286000" cy="3812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172200" y="2585880"/>
            <a:ext cx="2286000" cy="3049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172200" y="296712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172200" y="337356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352680" y="219708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352680" y="2590920"/>
            <a:ext cx="2210040" cy="304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352680" y="297180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20968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33520" y="2590920"/>
            <a:ext cx="2209680" cy="304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33520" y="297180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743200" y="2209680"/>
            <a:ext cx="609480" cy="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743200" y="2362320"/>
            <a:ext cx="609480" cy="38088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743200" y="2666880"/>
            <a:ext cx="609480" cy="3812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562720" y="22860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562720" y="266688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562720" y="304812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743200" y="22860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743200" y="2438280"/>
            <a:ext cx="609480" cy="381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743200" y="2743200"/>
            <a:ext cx="60948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562720" y="236232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562720" y="274320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562720" y="312408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28600" y="228600"/>
            <a:ext cx="2362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91120" y="380880"/>
            <a:ext cx="53316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2438280" y="609120"/>
            <a:ext cx="1752840" cy="16002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676520" y="533160"/>
            <a:ext cx="2514600" cy="20574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685800" y="456840"/>
            <a:ext cx="3505320" cy="25146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3505320" y="838080"/>
            <a:ext cx="761760" cy="13716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3809880" y="837720"/>
            <a:ext cx="609840" cy="17528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4267080" y="837720"/>
            <a:ext cx="304920" cy="21337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 flipV="1">
            <a:off x="4724280" y="456840"/>
            <a:ext cx="3200400" cy="16765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H="1" flipV="1">
            <a:off x="4723920" y="533160"/>
            <a:ext cx="3048120" cy="205740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H="1" flipV="1">
            <a:off x="4724280" y="609480"/>
            <a:ext cx="2819520" cy="23623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 flipV="1">
            <a:off x="4723920" y="762120"/>
            <a:ext cx="2514600" cy="259056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80880" y="3886200"/>
            <a:ext cx="2971800" cy="2743200"/>
          </a:xfrm>
          <a:prstGeom prst="rect">
            <a:avLst/>
          </a:prstGeom>
          <a:solidFill>
            <a:srgbClr val="dddddd"/>
          </a:solidFill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981080" y="5791320"/>
            <a:ext cx="1219320" cy="380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57200" y="5791320"/>
            <a:ext cx="1219320" cy="380880"/>
          </a:xfrm>
          <a:prstGeom prst="rect">
            <a:avLst/>
          </a:prstGeom>
          <a:solidFill>
            <a:srgbClr val="cc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295280" y="4876920"/>
            <a:ext cx="1295640" cy="3808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838080" y="4038480"/>
            <a:ext cx="6098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762120" y="4343400"/>
            <a:ext cx="380880" cy="14479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1447920" y="5257800"/>
            <a:ext cx="152280" cy="533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09680" y="5257800"/>
            <a:ext cx="30492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1295280" y="5257800"/>
            <a:ext cx="15264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981080" y="5257800"/>
            <a:ext cx="381240" cy="533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533520" y="2209680"/>
            <a:ext cx="2209680" cy="3581640"/>
            <a:chOff x="533520" y="2209680"/>
            <a:chExt cx="2209680" cy="3581640"/>
          </a:xfrm>
        </p:grpSpPr>
        <p:sp>
          <p:nvSpPr>
            <p:cNvPr id="1357" name=""/>
            <p:cNvSpPr/>
            <p:nvPr/>
          </p:nvSpPr>
          <p:spPr>
            <a:xfrm flipV="1">
              <a:off x="609480" y="2514600"/>
              <a:ext cx="76320" cy="3276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33520" y="2209680"/>
              <a:ext cx="220968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2057400" y="2197080"/>
            <a:ext cx="3505320" cy="2679840"/>
            <a:chOff x="2057400" y="2197080"/>
            <a:chExt cx="3505320" cy="2679840"/>
          </a:xfrm>
        </p:grpSpPr>
        <p:sp>
          <p:nvSpPr>
            <p:cNvPr id="1360" name=""/>
            <p:cNvSpPr/>
            <p:nvPr/>
          </p:nvSpPr>
          <p:spPr>
            <a:xfrm flipV="1">
              <a:off x="2057400" y="2514600"/>
              <a:ext cx="1447920" cy="2362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52680" y="2197080"/>
              <a:ext cx="221004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2666880" y="2128680"/>
            <a:ext cx="5791320" cy="3662280"/>
            <a:chOff x="2666880" y="2128680"/>
            <a:chExt cx="5791320" cy="3662280"/>
          </a:xfrm>
        </p:grpSpPr>
        <p:sp>
          <p:nvSpPr>
            <p:cNvPr id="1363" name=""/>
            <p:cNvSpPr/>
            <p:nvPr/>
          </p:nvSpPr>
          <p:spPr>
            <a:xfrm flipV="1">
              <a:off x="2666880" y="2285640"/>
              <a:ext cx="3505320" cy="3505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172200" y="2128680"/>
              <a:ext cx="2286000" cy="381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1143000" y="380880"/>
            <a:ext cx="3581280" cy="3657600"/>
            <a:chOff x="1143000" y="380880"/>
            <a:chExt cx="3581280" cy="3657600"/>
          </a:xfrm>
        </p:grpSpPr>
        <p:sp>
          <p:nvSpPr>
            <p:cNvPr id="1366" name=""/>
            <p:cNvSpPr/>
            <p:nvPr/>
          </p:nvSpPr>
          <p:spPr>
            <a:xfrm flipV="1">
              <a:off x="1143000" y="838080"/>
              <a:ext cx="3048120" cy="3200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191120" y="380880"/>
              <a:ext cx="533160" cy="4572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aphicFrame>
        <p:nvGraphicFramePr>
          <p:cNvPr id="1368" name=""/>
          <p:cNvGraphicFramePr/>
          <p:nvPr/>
        </p:nvGraphicFramePr>
        <p:xfrm>
          <a:off x="3886200" y="4038480"/>
          <a:ext cx="5057640" cy="73008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369" name=""/>
          <p:cNvSpPr/>
          <p:nvPr/>
        </p:nvSpPr>
        <p:spPr>
          <a:xfrm flipV="1">
            <a:off x="2438280" y="609120"/>
            <a:ext cx="1752840" cy="16002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743200" y="228600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743200" y="220968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562720" y="228600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562720" y="236232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374" name=""/>
          <p:cNvGraphicFramePr/>
          <p:nvPr/>
        </p:nvGraphicFramePr>
        <p:xfrm>
          <a:off x="3886200" y="4038480"/>
          <a:ext cx="5057640" cy="36504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8DA7-3E56-4759-91EE-F16B057EFE9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5" name=""/>
          <p:cNvGraphicFramePr/>
          <p:nvPr/>
        </p:nvGraphicFramePr>
        <p:xfrm>
          <a:off x="6172200" y="1752480"/>
          <a:ext cx="228600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376" name=""/>
          <p:cNvSpPr/>
          <p:nvPr/>
        </p:nvSpPr>
        <p:spPr>
          <a:xfrm>
            <a:off x="6172200" y="121428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377" name=""/>
          <p:cNvGraphicFramePr/>
          <p:nvPr/>
        </p:nvGraphicFramePr>
        <p:xfrm>
          <a:off x="533520" y="1752480"/>
          <a:ext cx="2209680" cy="1581120"/>
        </p:xfrm>
        <a:graphic>
          <a:graphicData uri="http://schemas.openxmlformats.org/drawingml/2006/table">
            <a:tbl>
              <a:tblPr/>
              <a:tblGrid>
                <a:gridCol w="60948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378" name=""/>
          <p:cNvSpPr/>
          <p:nvPr/>
        </p:nvSpPr>
        <p:spPr>
          <a:xfrm>
            <a:off x="533520" y="1219320"/>
            <a:ext cx="121896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379" name=""/>
          <p:cNvGraphicFramePr/>
          <p:nvPr/>
        </p:nvGraphicFramePr>
        <p:xfrm>
          <a:off x="3352680" y="1752480"/>
          <a:ext cx="2210040" cy="1581120"/>
        </p:xfrm>
        <a:graphic>
          <a:graphicData uri="http://schemas.openxmlformats.org/drawingml/2006/table">
            <a:tbl>
              <a:tblPr/>
              <a:tblGrid>
                <a:gridCol w="625680"/>
                <a:gridCol w="745920"/>
                <a:gridCol w="83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380" name=""/>
          <p:cNvSpPr/>
          <p:nvPr/>
        </p:nvSpPr>
        <p:spPr>
          <a:xfrm>
            <a:off x="3352680" y="1219320"/>
            <a:ext cx="1371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172200" y="2128680"/>
            <a:ext cx="2286000" cy="3812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172200" y="2585880"/>
            <a:ext cx="2286000" cy="3049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172200" y="296712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172200" y="337356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352680" y="219708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352680" y="2590920"/>
            <a:ext cx="2210040" cy="304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352680" y="297180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33520" y="220968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33520" y="2590920"/>
            <a:ext cx="2209680" cy="304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33520" y="297180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743200" y="2209680"/>
            <a:ext cx="609480" cy="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743200" y="2362320"/>
            <a:ext cx="609480" cy="38088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743200" y="2666880"/>
            <a:ext cx="609480" cy="3812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562720" y="22860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562720" y="266688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562720" y="304812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743200" y="22860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743200" y="2438280"/>
            <a:ext cx="609480" cy="381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743200" y="2743200"/>
            <a:ext cx="60948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562720" y="236232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562720" y="274320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562720" y="312408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28600" y="228600"/>
            <a:ext cx="2362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191120" y="380880"/>
            <a:ext cx="53316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2438280" y="609120"/>
            <a:ext cx="1752840" cy="16002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1676520" y="533160"/>
            <a:ext cx="2514600" cy="20574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685800" y="456840"/>
            <a:ext cx="3505320" cy="25146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3505320" y="838080"/>
            <a:ext cx="761760" cy="13716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3809880" y="837720"/>
            <a:ext cx="609840" cy="17528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4267080" y="837720"/>
            <a:ext cx="304920" cy="21337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80880" y="3886200"/>
            <a:ext cx="2971800" cy="2743200"/>
          </a:xfrm>
          <a:prstGeom prst="rect">
            <a:avLst/>
          </a:prstGeom>
          <a:solidFill>
            <a:srgbClr val="dddddd"/>
          </a:solidFill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981080" y="5791320"/>
            <a:ext cx="1219320" cy="380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57200" y="5791320"/>
            <a:ext cx="1219320" cy="380880"/>
          </a:xfrm>
          <a:prstGeom prst="rect">
            <a:avLst/>
          </a:prstGeom>
          <a:solidFill>
            <a:srgbClr val="cc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295280" y="4876920"/>
            <a:ext cx="1295640" cy="3808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838080" y="4038480"/>
            <a:ext cx="6098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762120" y="4343400"/>
            <a:ext cx="380880" cy="14479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1447920" y="5257800"/>
            <a:ext cx="152280" cy="533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209680" y="5257800"/>
            <a:ext cx="30492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1295280" y="5257800"/>
            <a:ext cx="15264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981080" y="5257800"/>
            <a:ext cx="381240" cy="533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533520" y="2209680"/>
            <a:ext cx="2209680" cy="3581640"/>
            <a:chOff x="533520" y="2209680"/>
            <a:chExt cx="2209680" cy="3581640"/>
          </a:xfrm>
        </p:grpSpPr>
        <p:sp>
          <p:nvSpPr>
            <p:cNvPr id="1422" name=""/>
            <p:cNvSpPr/>
            <p:nvPr/>
          </p:nvSpPr>
          <p:spPr>
            <a:xfrm flipV="1">
              <a:off x="609480" y="2514600"/>
              <a:ext cx="76320" cy="3276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33520" y="2209680"/>
              <a:ext cx="220968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2209680" y="2577960"/>
            <a:ext cx="3353040" cy="2298960"/>
            <a:chOff x="2209680" y="2577960"/>
            <a:chExt cx="3353040" cy="2298960"/>
          </a:xfrm>
        </p:grpSpPr>
        <p:sp>
          <p:nvSpPr>
            <p:cNvPr id="1425" name=""/>
            <p:cNvSpPr/>
            <p:nvPr/>
          </p:nvSpPr>
          <p:spPr>
            <a:xfrm flipV="1">
              <a:off x="2209680" y="2895480"/>
              <a:ext cx="1295640" cy="198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352680" y="2577960"/>
              <a:ext cx="221004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2666880" y="2590920"/>
            <a:ext cx="5791320" cy="3200040"/>
            <a:chOff x="2666880" y="2590920"/>
            <a:chExt cx="5791320" cy="3200040"/>
          </a:xfrm>
        </p:grpSpPr>
        <p:sp>
          <p:nvSpPr>
            <p:cNvPr id="1428" name=""/>
            <p:cNvSpPr/>
            <p:nvPr/>
          </p:nvSpPr>
          <p:spPr>
            <a:xfrm flipV="1">
              <a:off x="2666880" y="2819160"/>
              <a:ext cx="3505320" cy="2971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172200" y="2590920"/>
              <a:ext cx="2286000" cy="304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430" name=""/>
          <p:cNvGrpSpPr/>
          <p:nvPr/>
        </p:nvGrpSpPr>
        <p:grpSpPr>
          <a:xfrm>
            <a:off x="1143000" y="380880"/>
            <a:ext cx="3581280" cy="3657600"/>
            <a:chOff x="1143000" y="380880"/>
            <a:chExt cx="3581280" cy="3657600"/>
          </a:xfrm>
        </p:grpSpPr>
        <p:sp>
          <p:nvSpPr>
            <p:cNvPr id="1431" name=""/>
            <p:cNvSpPr/>
            <p:nvPr/>
          </p:nvSpPr>
          <p:spPr>
            <a:xfrm flipV="1">
              <a:off x="1143000" y="838080"/>
              <a:ext cx="3048120" cy="3200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191120" y="380880"/>
              <a:ext cx="533160" cy="4572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aphicFrame>
        <p:nvGraphicFramePr>
          <p:cNvPr id="1433" name=""/>
          <p:cNvGraphicFramePr/>
          <p:nvPr/>
        </p:nvGraphicFramePr>
        <p:xfrm>
          <a:off x="3886200" y="4038480"/>
          <a:ext cx="5057640" cy="73008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434" name=""/>
          <p:cNvSpPr/>
          <p:nvPr/>
        </p:nvSpPr>
        <p:spPr>
          <a:xfrm flipV="1">
            <a:off x="2438280" y="609120"/>
            <a:ext cx="1752840" cy="16002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743200" y="2438280"/>
            <a:ext cx="609480" cy="381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743200" y="2362320"/>
            <a:ext cx="609480" cy="3808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562720" y="266688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562720" y="274320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439" name=""/>
          <p:cNvGraphicFramePr/>
          <p:nvPr/>
        </p:nvGraphicFramePr>
        <p:xfrm>
          <a:off x="3882960" y="4035600"/>
          <a:ext cx="5057640" cy="109512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440" name=""/>
          <p:cNvSpPr/>
          <p:nvPr/>
        </p:nvSpPr>
        <p:spPr>
          <a:xfrm>
            <a:off x="4724280" y="5791320"/>
            <a:ext cx="419112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ueries are Evaluated under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eak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 flipV="1">
            <a:off x="4724280" y="456840"/>
            <a:ext cx="3200400" cy="16765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H="1" flipV="1">
            <a:off x="4723920" y="533160"/>
            <a:ext cx="3048120" cy="205740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H="1" flipV="1">
            <a:off x="4724280" y="609480"/>
            <a:ext cx="2819520" cy="23623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H="1" flipV="1">
            <a:off x="4723920" y="762120"/>
            <a:ext cx="2514600" cy="259056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41A1-82D9-42FD-862B-C7C1B862C5E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5" name=""/>
          <p:cNvGraphicFramePr/>
          <p:nvPr/>
        </p:nvGraphicFramePr>
        <p:xfrm>
          <a:off x="6172200" y="1752480"/>
          <a:ext cx="228600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446" name=""/>
          <p:cNvSpPr/>
          <p:nvPr/>
        </p:nvSpPr>
        <p:spPr>
          <a:xfrm>
            <a:off x="6172200" y="121428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447" name=""/>
          <p:cNvGraphicFramePr/>
          <p:nvPr/>
        </p:nvGraphicFramePr>
        <p:xfrm>
          <a:off x="533520" y="1752480"/>
          <a:ext cx="2209680" cy="1581120"/>
        </p:xfrm>
        <a:graphic>
          <a:graphicData uri="http://schemas.openxmlformats.org/drawingml/2006/table">
            <a:tbl>
              <a:tblPr/>
              <a:tblGrid>
                <a:gridCol w="60948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448" name=""/>
          <p:cNvSpPr/>
          <p:nvPr/>
        </p:nvSpPr>
        <p:spPr>
          <a:xfrm>
            <a:off x="533520" y="1219320"/>
            <a:ext cx="121896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449" name=""/>
          <p:cNvGraphicFramePr/>
          <p:nvPr/>
        </p:nvGraphicFramePr>
        <p:xfrm>
          <a:off x="3352680" y="1752480"/>
          <a:ext cx="2210040" cy="1581120"/>
        </p:xfrm>
        <a:graphic>
          <a:graphicData uri="http://schemas.openxmlformats.org/drawingml/2006/table">
            <a:tbl>
              <a:tblPr/>
              <a:tblGrid>
                <a:gridCol w="625680"/>
                <a:gridCol w="745920"/>
                <a:gridCol w="83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450" name=""/>
          <p:cNvSpPr/>
          <p:nvPr/>
        </p:nvSpPr>
        <p:spPr>
          <a:xfrm>
            <a:off x="3352680" y="1219320"/>
            <a:ext cx="1371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172200" y="2128680"/>
            <a:ext cx="2286000" cy="3812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172200" y="2585880"/>
            <a:ext cx="2286000" cy="3049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172200" y="296712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172200" y="337356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52680" y="219708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52680" y="2590920"/>
            <a:ext cx="2210040" cy="304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2680" y="297180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33520" y="220968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33520" y="2590920"/>
            <a:ext cx="2209680" cy="304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33520" y="297180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743200" y="2209680"/>
            <a:ext cx="609480" cy="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743200" y="2362320"/>
            <a:ext cx="609480" cy="38088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743200" y="2666880"/>
            <a:ext cx="609480" cy="3812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562720" y="22860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562720" y="266688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562720" y="304812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743200" y="22860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743200" y="2438280"/>
            <a:ext cx="609480" cy="381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743200" y="2743200"/>
            <a:ext cx="60948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562720" y="236232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562720" y="274320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562720" y="312408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" y="228600"/>
            <a:ext cx="2362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191120" y="380880"/>
            <a:ext cx="53316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2438280" y="609120"/>
            <a:ext cx="1752840" cy="16002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1676520" y="533160"/>
            <a:ext cx="2514600" cy="20574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685800" y="456840"/>
            <a:ext cx="3505320" cy="25146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3505320" y="838080"/>
            <a:ext cx="761760" cy="13716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3809880" y="837720"/>
            <a:ext cx="609840" cy="17528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4267080" y="837720"/>
            <a:ext cx="304920" cy="21337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0880" y="3886200"/>
            <a:ext cx="2971800" cy="2743200"/>
          </a:xfrm>
          <a:prstGeom prst="rect">
            <a:avLst/>
          </a:prstGeom>
          <a:solidFill>
            <a:srgbClr val="dddddd"/>
          </a:solidFill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981080" y="5791320"/>
            <a:ext cx="1219320" cy="380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57200" y="5791320"/>
            <a:ext cx="1219320" cy="380880"/>
          </a:xfrm>
          <a:prstGeom prst="rect">
            <a:avLst/>
          </a:prstGeom>
          <a:solidFill>
            <a:srgbClr val="cc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295280" y="4876920"/>
            <a:ext cx="1295640" cy="3808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838080" y="4038480"/>
            <a:ext cx="6098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762120" y="4343400"/>
            <a:ext cx="380880" cy="14479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1447920" y="5257800"/>
            <a:ext cx="152280" cy="533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209680" y="5257800"/>
            <a:ext cx="30492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1295280" y="5257800"/>
            <a:ext cx="15264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981080" y="5257800"/>
            <a:ext cx="381240" cy="533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491" name=""/>
          <p:cNvGrpSpPr/>
          <p:nvPr/>
        </p:nvGrpSpPr>
        <p:grpSpPr>
          <a:xfrm>
            <a:off x="533520" y="2590920"/>
            <a:ext cx="2209680" cy="3200400"/>
            <a:chOff x="533520" y="2590920"/>
            <a:chExt cx="2209680" cy="3200400"/>
          </a:xfrm>
        </p:grpSpPr>
        <p:sp>
          <p:nvSpPr>
            <p:cNvPr id="1492" name=""/>
            <p:cNvSpPr/>
            <p:nvPr/>
          </p:nvSpPr>
          <p:spPr>
            <a:xfrm flipV="1">
              <a:off x="609480" y="2895480"/>
              <a:ext cx="76320" cy="2895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33520" y="2590920"/>
              <a:ext cx="2209680" cy="304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2209680" y="2971800"/>
            <a:ext cx="3353040" cy="1904760"/>
            <a:chOff x="2209680" y="2971800"/>
            <a:chExt cx="3353040" cy="1904760"/>
          </a:xfrm>
        </p:grpSpPr>
        <p:sp>
          <p:nvSpPr>
            <p:cNvPr id="1495" name=""/>
            <p:cNvSpPr/>
            <p:nvPr/>
          </p:nvSpPr>
          <p:spPr>
            <a:xfrm flipV="1">
              <a:off x="2209680" y="3276360"/>
              <a:ext cx="1295640" cy="1600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352680" y="2971800"/>
              <a:ext cx="221004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2666880" y="2971800"/>
            <a:ext cx="5791320" cy="2819160"/>
            <a:chOff x="2666880" y="2971800"/>
            <a:chExt cx="5791320" cy="2819160"/>
          </a:xfrm>
        </p:grpSpPr>
        <p:sp>
          <p:nvSpPr>
            <p:cNvPr id="1498" name=""/>
            <p:cNvSpPr/>
            <p:nvPr/>
          </p:nvSpPr>
          <p:spPr>
            <a:xfrm flipV="1">
              <a:off x="2666880" y="3123720"/>
              <a:ext cx="3505320" cy="2667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172200" y="2971800"/>
              <a:ext cx="228600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1143000" y="380880"/>
            <a:ext cx="3581280" cy="3657600"/>
            <a:chOff x="1143000" y="380880"/>
            <a:chExt cx="3581280" cy="3657600"/>
          </a:xfrm>
        </p:grpSpPr>
        <p:sp>
          <p:nvSpPr>
            <p:cNvPr id="1501" name=""/>
            <p:cNvSpPr/>
            <p:nvPr/>
          </p:nvSpPr>
          <p:spPr>
            <a:xfrm flipV="1">
              <a:off x="1143000" y="838080"/>
              <a:ext cx="3048120" cy="3200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191120" y="380880"/>
              <a:ext cx="533160" cy="4572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aphicFrame>
        <p:nvGraphicFramePr>
          <p:cNvPr id="1503" name=""/>
          <p:cNvGraphicFramePr/>
          <p:nvPr/>
        </p:nvGraphicFramePr>
        <p:xfrm>
          <a:off x="3886200" y="4038480"/>
          <a:ext cx="5057640" cy="73008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504" name=""/>
          <p:cNvSpPr/>
          <p:nvPr/>
        </p:nvSpPr>
        <p:spPr>
          <a:xfrm flipV="1">
            <a:off x="1676520" y="533160"/>
            <a:ext cx="2514600" cy="20574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743200" y="2743200"/>
            <a:ext cx="609480" cy="3808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743200" y="2666880"/>
            <a:ext cx="609480" cy="38124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562720" y="304812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562720" y="312408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509" name=""/>
          <p:cNvGraphicFramePr/>
          <p:nvPr/>
        </p:nvGraphicFramePr>
        <p:xfrm>
          <a:off x="3882960" y="4035600"/>
          <a:ext cx="5057640" cy="109512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0" name=""/>
          <p:cNvGraphicFramePr/>
          <p:nvPr/>
        </p:nvGraphicFramePr>
        <p:xfrm>
          <a:off x="3886200" y="4038480"/>
          <a:ext cx="5057640" cy="1460520"/>
        </p:xfrm>
        <a:graphic>
          <a:graphicData uri="http://schemas.openxmlformats.org/drawingml/2006/table">
            <a:tbl>
              <a:tblPr/>
              <a:tblGrid>
                <a:gridCol w="762120"/>
                <a:gridCol w="1447560"/>
                <a:gridCol w="609840"/>
                <a:gridCol w="144756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511" name=""/>
          <p:cNvSpPr/>
          <p:nvPr/>
        </p:nvSpPr>
        <p:spPr>
          <a:xfrm>
            <a:off x="4724280" y="5791320"/>
            <a:ext cx="419112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ueries are Evaluated under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eak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H="1" flipV="1">
            <a:off x="4724280" y="456840"/>
            <a:ext cx="3200400" cy="16765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H="1" flipV="1">
            <a:off x="4723920" y="533160"/>
            <a:ext cx="3048120" cy="205740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 flipV="1">
            <a:off x="4724280" y="609480"/>
            <a:ext cx="2819520" cy="23623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 flipV="1">
            <a:off x="4723920" y="762120"/>
            <a:ext cx="2514600" cy="259056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987-F619-46F2-BB8C-DFDF93061DC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6" name=""/>
          <p:cNvGraphicFramePr/>
          <p:nvPr/>
        </p:nvGraphicFramePr>
        <p:xfrm>
          <a:off x="6172200" y="1752480"/>
          <a:ext cx="228600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517" name=""/>
          <p:cNvSpPr/>
          <p:nvPr/>
        </p:nvSpPr>
        <p:spPr>
          <a:xfrm>
            <a:off x="6172200" y="121428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518" name=""/>
          <p:cNvGraphicFramePr/>
          <p:nvPr/>
        </p:nvGraphicFramePr>
        <p:xfrm>
          <a:off x="533520" y="1752480"/>
          <a:ext cx="2209680" cy="1581120"/>
        </p:xfrm>
        <a:graphic>
          <a:graphicData uri="http://schemas.openxmlformats.org/drawingml/2006/table">
            <a:tbl>
              <a:tblPr/>
              <a:tblGrid>
                <a:gridCol w="60948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19" name=""/>
          <p:cNvSpPr/>
          <p:nvPr/>
        </p:nvSpPr>
        <p:spPr>
          <a:xfrm>
            <a:off x="533520" y="1219320"/>
            <a:ext cx="121896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520" name=""/>
          <p:cNvGraphicFramePr/>
          <p:nvPr/>
        </p:nvGraphicFramePr>
        <p:xfrm>
          <a:off x="3352680" y="1752480"/>
          <a:ext cx="2210040" cy="1581120"/>
        </p:xfrm>
        <a:graphic>
          <a:graphicData uri="http://schemas.openxmlformats.org/drawingml/2006/table">
            <a:tbl>
              <a:tblPr/>
              <a:tblGrid>
                <a:gridCol w="625680"/>
                <a:gridCol w="745920"/>
                <a:gridCol w="83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521" name=""/>
          <p:cNvSpPr/>
          <p:nvPr/>
        </p:nvSpPr>
        <p:spPr>
          <a:xfrm>
            <a:off x="3352680" y="1219320"/>
            <a:ext cx="1371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172200" y="2128680"/>
            <a:ext cx="2286000" cy="3812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172200" y="2585880"/>
            <a:ext cx="2286000" cy="3049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172200" y="296712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172200" y="337356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352680" y="219708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352680" y="2590920"/>
            <a:ext cx="2210040" cy="304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352680" y="297180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33520" y="220968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33520" y="2590920"/>
            <a:ext cx="2209680" cy="304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33520" y="297180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743200" y="2209680"/>
            <a:ext cx="609480" cy="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743200" y="2362320"/>
            <a:ext cx="609480" cy="38088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743200" y="2666880"/>
            <a:ext cx="609480" cy="3812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5562720" y="22860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562720" y="266688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5562720" y="304812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743200" y="22860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743200" y="2438280"/>
            <a:ext cx="609480" cy="381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743200" y="2743200"/>
            <a:ext cx="60948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562720" y="236232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562720" y="274320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562720" y="312408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28600" y="228600"/>
            <a:ext cx="2362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191120" y="380880"/>
            <a:ext cx="53316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2438280" y="609120"/>
            <a:ext cx="1752840" cy="16002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1676520" y="533160"/>
            <a:ext cx="2514600" cy="20574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685800" y="456840"/>
            <a:ext cx="3505320" cy="25146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3505320" y="838080"/>
            <a:ext cx="761760" cy="13716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V="1">
            <a:off x="3809880" y="837720"/>
            <a:ext cx="609840" cy="17528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4267080" y="837720"/>
            <a:ext cx="304920" cy="21337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80880" y="3886200"/>
            <a:ext cx="2971800" cy="2743200"/>
          </a:xfrm>
          <a:prstGeom prst="rect">
            <a:avLst/>
          </a:prstGeom>
          <a:solidFill>
            <a:srgbClr val="dddddd"/>
          </a:solidFill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981080" y="5791320"/>
            <a:ext cx="1219320" cy="380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457200" y="5791320"/>
            <a:ext cx="1219320" cy="380880"/>
          </a:xfrm>
          <a:prstGeom prst="rect">
            <a:avLst/>
          </a:prstGeom>
          <a:solidFill>
            <a:srgbClr val="cc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295280" y="4876920"/>
            <a:ext cx="1295640" cy="3808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838080" y="4038480"/>
            <a:ext cx="6098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762120" y="4343400"/>
            <a:ext cx="380880" cy="14479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1447920" y="5257800"/>
            <a:ext cx="152280" cy="533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209680" y="5257800"/>
            <a:ext cx="30492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1295280" y="5257800"/>
            <a:ext cx="15264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1981080" y="5257800"/>
            <a:ext cx="381240" cy="533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533520" y="2971800"/>
            <a:ext cx="2209680" cy="2819160"/>
            <a:chOff x="533520" y="2971800"/>
            <a:chExt cx="2209680" cy="2819160"/>
          </a:xfrm>
        </p:grpSpPr>
        <p:sp>
          <p:nvSpPr>
            <p:cNvPr id="1563" name=""/>
            <p:cNvSpPr/>
            <p:nvPr/>
          </p:nvSpPr>
          <p:spPr>
            <a:xfrm flipV="1">
              <a:off x="609480" y="3276360"/>
              <a:ext cx="76320" cy="2514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33520" y="2971800"/>
              <a:ext cx="220968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1143000" y="380880"/>
            <a:ext cx="3581280" cy="3657600"/>
            <a:chOff x="1143000" y="380880"/>
            <a:chExt cx="3581280" cy="3657600"/>
          </a:xfrm>
        </p:grpSpPr>
        <p:sp>
          <p:nvSpPr>
            <p:cNvPr id="1566" name=""/>
            <p:cNvSpPr/>
            <p:nvPr/>
          </p:nvSpPr>
          <p:spPr>
            <a:xfrm flipV="1">
              <a:off x="1143000" y="838080"/>
              <a:ext cx="3048120" cy="3200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191120" y="380880"/>
              <a:ext cx="533160" cy="4572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568" name=""/>
          <p:cNvSpPr/>
          <p:nvPr/>
        </p:nvSpPr>
        <p:spPr>
          <a:xfrm flipV="1">
            <a:off x="685800" y="456840"/>
            <a:ext cx="3505320" cy="25146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569" name=""/>
          <p:cNvGraphicFramePr/>
          <p:nvPr/>
        </p:nvGraphicFramePr>
        <p:xfrm>
          <a:off x="3886200" y="4038480"/>
          <a:ext cx="5057640" cy="146052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70" name=""/>
          <p:cNvGraphicFramePr/>
          <p:nvPr/>
        </p:nvGraphicFramePr>
        <p:xfrm>
          <a:off x="3886200" y="4038480"/>
          <a:ext cx="5057640" cy="182556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pSp>
        <p:nvGrpSpPr>
          <p:cNvPr id="1571" name=""/>
          <p:cNvGrpSpPr/>
          <p:nvPr/>
        </p:nvGrpSpPr>
        <p:grpSpPr>
          <a:xfrm>
            <a:off x="1752480" y="4191120"/>
            <a:ext cx="685800" cy="685440"/>
            <a:chOff x="1752480" y="4191120"/>
            <a:chExt cx="685800" cy="685440"/>
          </a:xfrm>
        </p:grpSpPr>
        <p:sp>
          <p:nvSpPr>
            <p:cNvPr id="1572" name=""/>
            <p:cNvSpPr/>
            <p:nvPr/>
          </p:nvSpPr>
          <p:spPr>
            <a:xfrm flipV="1">
              <a:off x="1905120" y="4495320"/>
              <a:ext cx="7596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752480" y="4191120"/>
              <a:ext cx="685800" cy="304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null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574" name=""/>
          <p:cNvGrpSpPr/>
          <p:nvPr/>
        </p:nvGrpSpPr>
        <p:grpSpPr>
          <a:xfrm>
            <a:off x="2743200" y="5105520"/>
            <a:ext cx="685800" cy="685440"/>
            <a:chOff x="2743200" y="5105520"/>
            <a:chExt cx="685800" cy="685440"/>
          </a:xfrm>
        </p:grpSpPr>
        <p:sp>
          <p:nvSpPr>
            <p:cNvPr id="1575" name=""/>
            <p:cNvSpPr/>
            <p:nvPr/>
          </p:nvSpPr>
          <p:spPr>
            <a:xfrm flipV="1">
              <a:off x="2895480" y="5409720"/>
              <a:ext cx="7632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743200" y="5105520"/>
              <a:ext cx="685800" cy="304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null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577" name=""/>
          <p:cNvSpPr/>
          <p:nvPr/>
        </p:nvSpPr>
        <p:spPr>
          <a:xfrm>
            <a:off x="4724280" y="5943600"/>
            <a:ext cx="419112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ueries are Evaluated under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eak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H="1" flipV="1">
            <a:off x="4724280" y="456840"/>
            <a:ext cx="3200400" cy="16765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 flipV="1">
            <a:off x="4723920" y="533160"/>
            <a:ext cx="3048120" cy="205740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 flipV="1">
            <a:off x="4724280" y="609480"/>
            <a:ext cx="2819520" cy="23623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 flipV="1">
            <a:off x="4723920" y="762120"/>
            <a:ext cx="2514600" cy="259056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3DE0-903B-4AE8-AF41-A1D71041895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2" name=""/>
          <p:cNvGraphicFramePr/>
          <p:nvPr/>
        </p:nvGraphicFramePr>
        <p:xfrm>
          <a:off x="6172200" y="1752480"/>
          <a:ext cx="228600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583" name=""/>
          <p:cNvSpPr/>
          <p:nvPr/>
        </p:nvSpPr>
        <p:spPr>
          <a:xfrm>
            <a:off x="6172200" y="121428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584" name=""/>
          <p:cNvGraphicFramePr/>
          <p:nvPr/>
        </p:nvGraphicFramePr>
        <p:xfrm>
          <a:off x="533520" y="1752480"/>
          <a:ext cx="2209680" cy="1581120"/>
        </p:xfrm>
        <a:graphic>
          <a:graphicData uri="http://schemas.openxmlformats.org/drawingml/2006/table">
            <a:tbl>
              <a:tblPr/>
              <a:tblGrid>
                <a:gridCol w="60948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85" name=""/>
          <p:cNvSpPr/>
          <p:nvPr/>
        </p:nvSpPr>
        <p:spPr>
          <a:xfrm>
            <a:off x="533520" y="1219320"/>
            <a:ext cx="121896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586" name=""/>
          <p:cNvGraphicFramePr/>
          <p:nvPr/>
        </p:nvGraphicFramePr>
        <p:xfrm>
          <a:off x="3352680" y="1752480"/>
          <a:ext cx="2210040" cy="1581120"/>
        </p:xfrm>
        <a:graphic>
          <a:graphicData uri="http://schemas.openxmlformats.org/drawingml/2006/table">
            <a:tbl>
              <a:tblPr/>
              <a:tblGrid>
                <a:gridCol w="625680"/>
                <a:gridCol w="745920"/>
                <a:gridCol w="83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587" name=""/>
          <p:cNvSpPr/>
          <p:nvPr/>
        </p:nvSpPr>
        <p:spPr>
          <a:xfrm>
            <a:off x="3352680" y="1219320"/>
            <a:ext cx="1371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172200" y="2128680"/>
            <a:ext cx="2286000" cy="3812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172200" y="2585880"/>
            <a:ext cx="2286000" cy="3049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172200" y="296712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172200" y="337356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352680" y="219708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352680" y="2590920"/>
            <a:ext cx="2210040" cy="304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352680" y="297180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33520" y="220968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33520" y="2590920"/>
            <a:ext cx="2209680" cy="304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33520" y="297180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743200" y="2209680"/>
            <a:ext cx="609480" cy="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743200" y="2362320"/>
            <a:ext cx="609480" cy="38088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743200" y="2666880"/>
            <a:ext cx="609480" cy="3812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562720" y="22860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562720" y="266688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562720" y="304812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743200" y="22860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2743200" y="2438280"/>
            <a:ext cx="609480" cy="381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743200" y="2743200"/>
            <a:ext cx="60948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562720" y="236232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5562720" y="274320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5562720" y="312408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28600" y="228600"/>
            <a:ext cx="2362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191120" y="380880"/>
            <a:ext cx="53316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2438280" y="609120"/>
            <a:ext cx="1752840" cy="16002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1676520" y="533160"/>
            <a:ext cx="2514600" cy="20574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V="1">
            <a:off x="685800" y="456840"/>
            <a:ext cx="3505320" cy="25146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3505320" y="838080"/>
            <a:ext cx="761760" cy="13716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3809880" y="837720"/>
            <a:ext cx="609840" cy="17528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4267080" y="837720"/>
            <a:ext cx="304920" cy="21337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80880" y="3886200"/>
            <a:ext cx="2971800" cy="2743200"/>
          </a:xfrm>
          <a:prstGeom prst="rect">
            <a:avLst/>
          </a:prstGeom>
          <a:solidFill>
            <a:srgbClr val="dddddd"/>
          </a:solidFill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981080" y="5791320"/>
            <a:ext cx="1219320" cy="380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57200" y="5791320"/>
            <a:ext cx="1219320" cy="380880"/>
          </a:xfrm>
          <a:prstGeom prst="rect">
            <a:avLst/>
          </a:prstGeom>
          <a:solidFill>
            <a:srgbClr val="cc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295280" y="4876920"/>
            <a:ext cx="1295640" cy="3808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600200" y="4038480"/>
            <a:ext cx="6094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828800" y="4343400"/>
            <a:ext cx="0" cy="533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V="1">
            <a:off x="1447920" y="5257800"/>
            <a:ext cx="152280" cy="533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209680" y="5257800"/>
            <a:ext cx="30492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H="1">
            <a:off x="1295280" y="5257800"/>
            <a:ext cx="15264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981080" y="5257800"/>
            <a:ext cx="381240" cy="533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628" name=""/>
          <p:cNvGraphicFramePr/>
          <p:nvPr/>
        </p:nvGraphicFramePr>
        <p:xfrm>
          <a:off x="3886200" y="4038480"/>
          <a:ext cx="5057640" cy="146052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9" name=""/>
          <p:cNvGraphicFramePr/>
          <p:nvPr/>
        </p:nvGraphicFramePr>
        <p:xfrm>
          <a:off x="3886200" y="4038480"/>
          <a:ext cx="5057640" cy="182556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630" name=""/>
          <p:cNvSpPr/>
          <p:nvPr/>
        </p:nvSpPr>
        <p:spPr>
          <a:xfrm>
            <a:off x="4724280" y="5943600"/>
            <a:ext cx="419112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ueries are Evaluated under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eak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H="1" flipV="1">
            <a:off x="4724280" y="456840"/>
            <a:ext cx="3200400" cy="16765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H="1" flipV="1">
            <a:off x="4723920" y="533160"/>
            <a:ext cx="3048120" cy="205740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H="1" flipV="1">
            <a:off x="4724280" y="609480"/>
            <a:ext cx="2819520" cy="23623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 flipV="1">
            <a:off x="4723920" y="762120"/>
            <a:ext cx="2514600" cy="259056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03E8-548B-4F80-BF97-1B963B71B90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5" name=""/>
          <p:cNvGraphicFramePr/>
          <p:nvPr/>
        </p:nvGraphicFramePr>
        <p:xfrm>
          <a:off x="6172200" y="1752480"/>
          <a:ext cx="228600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636" name=""/>
          <p:cNvSpPr/>
          <p:nvPr/>
        </p:nvSpPr>
        <p:spPr>
          <a:xfrm>
            <a:off x="6172200" y="121428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637" name=""/>
          <p:cNvGraphicFramePr/>
          <p:nvPr/>
        </p:nvGraphicFramePr>
        <p:xfrm>
          <a:off x="533520" y="1752480"/>
          <a:ext cx="2209680" cy="1581120"/>
        </p:xfrm>
        <a:graphic>
          <a:graphicData uri="http://schemas.openxmlformats.org/drawingml/2006/table">
            <a:tbl>
              <a:tblPr/>
              <a:tblGrid>
                <a:gridCol w="60948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638" name=""/>
          <p:cNvSpPr/>
          <p:nvPr/>
        </p:nvSpPr>
        <p:spPr>
          <a:xfrm>
            <a:off x="533520" y="1219320"/>
            <a:ext cx="121896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639" name=""/>
          <p:cNvGraphicFramePr/>
          <p:nvPr/>
        </p:nvGraphicFramePr>
        <p:xfrm>
          <a:off x="3352680" y="1752480"/>
          <a:ext cx="2210040" cy="1581120"/>
        </p:xfrm>
        <a:graphic>
          <a:graphicData uri="http://schemas.openxmlformats.org/drawingml/2006/table">
            <a:tbl>
              <a:tblPr/>
              <a:tblGrid>
                <a:gridCol w="625680"/>
                <a:gridCol w="745920"/>
                <a:gridCol w="83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640" name=""/>
          <p:cNvSpPr/>
          <p:nvPr/>
        </p:nvSpPr>
        <p:spPr>
          <a:xfrm>
            <a:off x="3352680" y="1219320"/>
            <a:ext cx="1371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172200" y="2128680"/>
            <a:ext cx="2286000" cy="3812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172200" y="2585880"/>
            <a:ext cx="2286000" cy="3049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172200" y="296712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352680" y="219708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352680" y="2590920"/>
            <a:ext cx="2210040" cy="304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352680" y="297180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33520" y="220968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33520" y="2590920"/>
            <a:ext cx="2209680" cy="304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33520" y="297180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743200" y="2209680"/>
            <a:ext cx="609480" cy="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743200" y="2362320"/>
            <a:ext cx="609480" cy="38088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743200" y="2666880"/>
            <a:ext cx="609480" cy="3812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562720" y="22860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562720" y="266688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562720" y="304812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743200" y="22860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2743200" y="2438280"/>
            <a:ext cx="609480" cy="381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743200" y="2743200"/>
            <a:ext cx="60948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562720" y="236232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5562720" y="274320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562720" y="312408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28600" y="228600"/>
            <a:ext cx="2362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191120" y="380880"/>
            <a:ext cx="53316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2438280" y="609120"/>
            <a:ext cx="1752840" cy="16002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V="1">
            <a:off x="1676520" y="533160"/>
            <a:ext cx="2514600" cy="20574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V="1">
            <a:off x="685800" y="456840"/>
            <a:ext cx="3505320" cy="25146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V="1">
            <a:off x="3505320" y="838080"/>
            <a:ext cx="761760" cy="13716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809880" y="837720"/>
            <a:ext cx="609840" cy="17528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V="1">
            <a:off x="4267080" y="837720"/>
            <a:ext cx="304920" cy="21337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80880" y="3886200"/>
            <a:ext cx="2971800" cy="2743200"/>
          </a:xfrm>
          <a:prstGeom prst="rect">
            <a:avLst/>
          </a:prstGeom>
          <a:solidFill>
            <a:srgbClr val="dddddd"/>
          </a:solidFill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981080" y="5791320"/>
            <a:ext cx="1219320" cy="380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57200" y="5791320"/>
            <a:ext cx="1219320" cy="380880"/>
          </a:xfrm>
          <a:prstGeom prst="rect">
            <a:avLst/>
          </a:prstGeom>
          <a:solidFill>
            <a:srgbClr val="cc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295280" y="4876920"/>
            <a:ext cx="1295640" cy="3808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514600" y="4114800"/>
            <a:ext cx="6094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819520" y="4419720"/>
            <a:ext cx="0" cy="1371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1447920" y="5257800"/>
            <a:ext cx="152280" cy="533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209680" y="5257800"/>
            <a:ext cx="30492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H="1">
            <a:off x="1295280" y="5257800"/>
            <a:ext cx="15264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981080" y="5257800"/>
            <a:ext cx="381240" cy="533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37356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681" name=""/>
          <p:cNvGrpSpPr/>
          <p:nvPr/>
        </p:nvGrpSpPr>
        <p:grpSpPr>
          <a:xfrm>
            <a:off x="3048120" y="3352680"/>
            <a:ext cx="5410080" cy="2438280"/>
            <a:chOff x="3048120" y="3352680"/>
            <a:chExt cx="5410080" cy="2438280"/>
          </a:xfrm>
        </p:grpSpPr>
        <p:sp>
          <p:nvSpPr>
            <p:cNvPr id="1682" name=""/>
            <p:cNvSpPr/>
            <p:nvPr/>
          </p:nvSpPr>
          <p:spPr>
            <a:xfrm flipV="1">
              <a:off x="3048120" y="3580920"/>
              <a:ext cx="3124080" cy="2210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172200" y="3352680"/>
              <a:ext cx="228600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2819520" y="380880"/>
            <a:ext cx="1904760" cy="3733920"/>
            <a:chOff x="2819520" y="380880"/>
            <a:chExt cx="1904760" cy="3733920"/>
          </a:xfrm>
        </p:grpSpPr>
        <p:sp>
          <p:nvSpPr>
            <p:cNvPr id="1685" name=""/>
            <p:cNvSpPr/>
            <p:nvPr/>
          </p:nvSpPr>
          <p:spPr>
            <a:xfrm flipV="1">
              <a:off x="2819520" y="838080"/>
              <a:ext cx="1523880" cy="3276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191120" y="380880"/>
              <a:ext cx="533160" cy="4572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aphicFrame>
        <p:nvGraphicFramePr>
          <p:cNvPr id="1687" name=""/>
          <p:cNvGraphicFramePr/>
          <p:nvPr/>
        </p:nvGraphicFramePr>
        <p:xfrm>
          <a:off x="3886200" y="4038480"/>
          <a:ext cx="5057640" cy="146052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88" name=""/>
          <p:cNvGraphicFramePr/>
          <p:nvPr/>
        </p:nvGraphicFramePr>
        <p:xfrm>
          <a:off x="3886200" y="3886200"/>
          <a:ext cx="5057640" cy="182556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pSp>
        <p:nvGrpSpPr>
          <p:cNvPr id="1689" name=""/>
          <p:cNvGrpSpPr/>
          <p:nvPr/>
        </p:nvGrpSpPr>
        <p:grpSpPr>
          <a:xfrm>
            <a:off x="1523880" y="4191120"/>
            <a:ext cx="685800" cy="685440"/>
            <a:chOff x="1523880" y="4191120"/>
            <a:chExt cx="685800" cy="685440"/>
          </a:xfrm>
        </p:grpSpPr>
        <p:sp>
          <p:nvSpPr>
            <p:cNvPr id="1690" name=""/>
            <p:cNvSpPr/>
            <p:nvPr/>
          </p:nvSpPr>
          <p:spPr>
            <a:xfrm flipV="1">
              <a:off x="1676520" y="4495320"/>
              <a:ext cx="7596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523880" y="4191120"/>
              <a:ext cx="685800" cy="304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null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533520" y="5105520"/>
            <a:ext cx="685800" cy="685440"/>
            <a:chOff x="533520" y="5105520"/>
            <a:chExt cx="685800" cy="685440"/>
          </a:xfrm>
        </p:grpSpPr>
        <p:sp>
          <p:nvSpPr>
            <p:cNvPr id="1693" name=""/>
            <p:cNvSpPr/>
            <p:nvPr/>
          </p:nvSpPr>
          <p:spPr>
            <a:xfrm flipV="1">
              <a:off x="685800" y="5409720"/>
              <a:ext cx="7632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33520" y="5105520"/>
              <a:ext cx="685800" cy="304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null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aphicFrame>
        <p:nvGraphicFramePr>
          <p:cNvPr id="1695" name=""/>
          <p:cNvGraphicFramePr/>
          <p:nvPr/>
        </p:nvGraphicFramePr>
        <p:xfrm>
          <a:off x="3886200" y="3886200"/>
          <a:ext cx="5057640" cy="219060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 flipH="1" flipV="1">
            <a:off x="4724280" y="456840"/>
            <a:ext cx="3200400" cy="16765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flipH="1" flipV="1">
            <a:off x="4723920" y="533160"/>
            <a:ext cx="3048120" cy="205740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H="1" flipV="1">
            <a:off x="4724280" y="609480"/>
            <a:ext cx="2819520" cy="23623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 flipH="1" flipV="1">
            <a:off x="4723920" y="762120"/>
            <a:ext cx="2514600" cy="259056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 flipH="1" flipV="1">
            <a:off x="4723920" y="762120"/>
            <a:ext cx="2514600" cy="259056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106F-D7C4-48EB-9613-29DC55A93C7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"/>
          <p:cNvSpPr/>
          <p:nvPr/>
        </p:nvSpPr>
        <p:spPr>
          <a:xfrm>
            <a:off x="609480" y="2401920"/>
            <a:ext cx="7696440" cy="3048120"/>
          </a:xfrm>
          <a:prstGeom prst="rect">
            <a:avLst/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he full disjunction of relations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…, 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can be computed in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3399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s</a:t>
            </a:r>
            <a:r>
              <a:rPr b="0" i="1" lang="en-US" sz="3200" spc="-1" strike="noStrike" baseline="30000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3399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f </a:t>
            </a:r>
            <a:r>
              <a:rPr b="0" lang="en-US" sz="3200" spc="-1" strike="noStrike" baseline="30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) time,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ere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s the number of relations,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s the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otal size of all the relations and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s the size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f the result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he Algorithm Computes Full Disjunctions in Polynomial Time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Under Input-Output Complex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F244-8372-4A96-BFBD-C3F27F31554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Generalizing Full Disjunction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 a full disjunction, tuples are joined according to equality constraints as in a natural join (or equi-join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can generalize full disjunctions to support constraints that are not merely equality among attribut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8FA4-4D78-43DB-8BCD-0E289BD222B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85800" y="1295280"/>
            <a:ext cx="7162920" cy="198144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Movies (</a:t>
            </a:r>
            <a:r>
              <a:rPr b="1" lang="en-US" sz="2000" spc="-1" strike="noStrike" u="sng">
                <a:solidFill>
                  <a:srgbClr val="003399"/>
                </a:solidFill>
                <a:uFillTx/>
                <a:latin typeface="Courier New"/>
                <a:ea typeface="Courier New"/>
              </a:rPr>
              <a:t>m-id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, title, year, language, location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Actors (</a:t>
            </a:r>
            <a:r>
              <a:rPr b="1" lang="en-US" sz="2000" spc="-1" strike="noStrike" u="sng">
                <a:solidFill>
                  <a:srgbClr val="003399"/>
                </a:solidFill>
                <a:uFillTx/>
                <a:latin typeface="Courier New"/>
                <a:ea typeface="Courier New"/>
              </a:rPr>
              <a:t>a-id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, name, date-of-birth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Acted-in (a-id, m-id, role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Actors-that-Directed (a-id, m-id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85800" y="3505320"/>
            <a:ext cx="7162920" cy="990360"/>
          </a:xfrm>
          <a:prstGeom prst="rect">
            <a:avLst/>
          </a:prstGeom>
          <a:solidFill>
            <a:srgbClr val="ffff99"/>
          </a:solidFill>
          <a:ln w="57240">
            <a:solidFill>
              <a:srgbClr val="cc99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Historical-Events (</a:t>
            </a:r>
            <a:r>
              <a:rPr b="1" lang="en-US" sz="2000" spc="-1" strike="noStrike" u="sng">
                <a:solidFill>
                  <a:srgbClr val="003399"/>
                </a:solidFill>
                <a:uFillTx/>
                <a:latin typeface="Courier New"/>
                <a:ea typeface="Courier New"/>
              </a:rPr>
              <a:t>name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, date, description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Historical-Sites (Country, State, City, Site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708" name=""/>
          <p:cNvGrpSpPr/>
          <p:nvPr/>
        </p:nvGrpSpPr>
        <p:grpSpPr>
          <a:xfrm>
            <a:off x="762120" y="1523880"/>
            <a:ext cx="7010280" cy="4191120"/>
            <a:chOff x="762120" y="1523880"/>
            <a:chExt cx="7010280" cy="4191120"/>
          </a:xfrm>
        </p:grpSpPr>
        <p:sp>
          <p:nvSpPr>
            <p:cNvPr id="1709" name=""/>
            <p:cNvSpPr/>
            <p:nvPr/>
          </p:nvSpPr>
          <p:spPr>
            <a:xfrm>
              <a:off x="3886200" y="1523880"/>
              <a:ext cx="838080" cy="3812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457880" y="3632040"/>
              <a:ext cx="838080" cy="3812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62120" y="4952880"/>
              <a:ext cx="7010280" cy="76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he date of the historical event is a date in the year when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he movie was released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V="1">
              <a:off x="4267080" y="1905120"/>
              <a:ext cx="0" cy="3047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V="1">
              <a:off x="4876920" y="4013280"/>
              <a:ext cx="0" cy="91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762120" y="1523880"/>
            <a:ext cx="7010280" cy="4191120"/>
            <a:chOff x="762120" y="1523880"/>
            <a:chExt cx="7010280" cy="4191120"/>
          </a:xfrm>
        </p:grpSpPr>
        <p:sp>
          <p:nvSpPr>
            <p:cNvPr id="1715" name=""/>
            <p:cNvSpPr/>
            <p:nvPr/>
          </p:nvSpPr>
          <p:spPr>
            <a:xfrm>
              <a:off x="6324480" y="1523880"/>
              <a:ext cx="1447920" cy="3812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505320" y="4038480"/>
              <a:ext cx="1143000" cy="3812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724280" y="4038480"/>
              <a:ext cx="1143000" cy="3812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943600" y="4038480"/>
              <a:ext cx="762120" cy="3812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781680" y="4038480"/>
              <a:ext cx="762120" cy="3812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62120" y="4952880"/>
              <a:ext cx="7010280" cy="76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he filming location is near the historical site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V="1">
              <a:off x="7620120" y="1828800"/>
              <a:ext cx="0" cy="3124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V="1">
              <a:off x="4038480" y="4419360"/>
              <a:ext cx="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V="1">
              <a:off x="5308560" y="4419360"/>
              <a:ext cx="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V="1">
              <a:off x="6324480" y="4419360"/>
              <a:ext cx="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V="1">
              <a:off x="7162920" y="4419360"/>
              <a:ext cx="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11FC-5E94-4B9E-8DB7-6D46BEAFB49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In the Semistructured Data Model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oth data and queries are labeled rooted directed graph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Query nodes are variabl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atabase nodes are object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atchings are assignments of database objects to query variables, such th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database root is assigned to the query root, an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abels are preserv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34D4-EDC1-41B8-8FB4-64D5B5D872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he General Idea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set of constraints specifies how tuples should be joined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queries and the database are constructed according to the given constraints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pair of nodes is connected by an edge when it satisfies the corresponding constrain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Queries are evaluated w.r.t. the database under weak semantic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43C1-A2D8-4963-8FA9-FC6DD5F5172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nother Way of Generalizing Full Disjunctions: Use OR-Semantics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enerate the queries and the database as before, but the queries are evaluated under OR-semantics (rather than weak semantics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s relaxes the requirement that every pair of tuples should be join consist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stead, a tuple of the full disjunction is only required to be generated by database tuples that form a connected subgraph, but need not be pairwise join consist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D814-872F-44A5-9689-55C98AF85B2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"/>
          <p:cNvSpPr/>
          <p:nvPr/>
        </p:nvSpPr>
        <p:spPr>
          <a:xfrm>
            <a:off x="685800" y="1038240"/>
            <a:ext cx="6400800" cy="152388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Employees (e-id, ename, city, dept-no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Departments (dept-no, dname, building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Located-in (building, city, street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731" name=""/>
          <p:cNvGrpSpPr/>
          <p:nvPr/>
        </p:nvGrpSpPr>
        <p:grpSpPr>
          <a:xfrm>
            <a:off x="762120" y="2867040"/>
            <a:ext cx="5257800" cy="1523880"/>
            <a:chOff x="762120" y="2867040"/>
            <a:chExt cx="5257800" cy="1523880"/>
          </a:xfrm>
        </p:grpSpPr>
        <p:sp>
          <p:nvSpPr>
            <p:cNvPr id="1732" name=""/>
            <p:cNvSpPr/>
            <p:nvPr/>
          </p:nvSpPr>
          <p:spPr>
            <a:xfrm>
              <a:off x="762120" y="2867040"/>
              <a:ext cx="5257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Employee: (007, James Bond, London, 6)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62120" y="3400560"/>
              <a:ext cx="5257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Department:  (6, MI-6, 10)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62120" y="3933720"/>
              <a:ext cx="5257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Located-in: (10, Liverpool, King)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aphicFrame>
        <p:nvGraphicFramePr>
          <p:cNvPr id="1735" name=""/>
          <p:cNvGraphicFramePr/>
          <p:nvPr/>
        </p:nvGraphicFramePr>
        <p:xfrm>
          <a:off x="152280" y="4695840"/>
          <a:ext cx="8839440" cy="1476360"/>
        </p:xfrm>
        <a:graphic>
          <a:graphicData uri="http://schemas.openxmlformats.org/drawingml/2006/table">
            <a:tbl>
              <a:tblPr/>
              <a:tblGrid>
                <a:gridCol w="609840"/>
                <a:gridCol w="1371600"/>
                <a:gridCol w="914400"/>
                <a:gridCol w="609480"/>
                <a:gridCol w="609480"/>
                <a:gridCol w="838440"/>
                <a:gridCol w="990360"/>
                <a:gridCol w="990720"/>
                <a:gridCol w="1143000"/>
                <a:gridCol w="7621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dept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-no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dept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-no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uildin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uildin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treet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00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ames Bon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Lon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MI-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MI-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Liverpool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Kin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736" name=""/>
          <p:cNvSpPr/>
          <p:nvPr/>
        </p:nvSpPr>
        <p:spPr>
          <a:xfrm>
            <a:off x="533520" y="228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 flipH="1">
            <a:off x="2743200" y="4343400"/>
            <a:ext cx="533520" cy="1143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952880" y="3276720"/>
            <a:ext cx="2362320" cy="2590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352680" y="6172200"/>
            <a:ext cx="28195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Full Disjunctio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3657600" y="5365800"/>
            <a:ext cx="2438280" cy="839880"/>
            <a:chOff x="3657600" y="5365800"/>
            <a:chExt cx="2438280" cy="839880"/>
          </a:xfrm>
        </p:grpSpPr>
        <p:sp>
          <p:nvSpPr>
            <p:cNvPr id="1741" name=""/>
            <p:cNvSpPr/>
            <p:nvPr/>
          </p:nvSpPr>
          <p:spPr>
            <a:xfrm>
              <a:off x="3657600" y="5365800"/>
              <a:ext cx="2438280" cy="3808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657600" y="5824440"/>
              <a:ext cx="2438280" cy="3812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D7A4-3F32-4631-93DB-E5A17215018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"/>
          <p:cNvSpPr/>
          <p:nvPr/>
        </p:nvSpPr>
        <p:spPr>
          <a:xfrm>
            <a:off x="685800" y="1038240"/>
            <a:ext cx="6400800" cy="152388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Employees (e-id, ename, city, dept-no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Departments (dept-no, dname, building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Located-in (building, city, street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744" name=""/>
          <p:cNvGrpSpPr/>
          <p:nvPr/>
        </p:nvGrpSpPr>
        <p:grpSpPr>
          <a:xfrm>
            <a:off x="762120" y="2867040"/>
            <a:ext cx="5257800" cy="1523880"/>
            <a:chOff x="762120" y="2867040"/>
            <a:chExt cx="5257800" cy="1523880"/>
          </a:xfrm>
        </p:grpSpPr>
        <p:sp>
          <p:nvSpPr>
            <p:cNvPr id="1745" name=""/>
            <p:cNvSpPr/>
            <p:nvPr/>
          </p:nvSpPr>
          <p:spPr>
            <a:xfrm>
              <a:off x="762120" y="2867040"/>
              <a:ext cx="5257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Employee: (007, James Bond, London, 6)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62120" y="3400560"/>
              <a:ext cx="5257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Department:  (6, MI-6, 10)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62120" y="3933720"/>
              <a:ext cx="5257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Located-in: (10, Liverpool, King)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aphicFrame>
        <p:nvGraphicFramePr>
          <p:cNvPr id="1748" name=""/>
          <p:cNvGraphicFramePr/>
          <p:nvPr/>
        </p:nvGraphicFramePr>
        <p:xfrm>
          <a:off x="152280" y="4686480"/>
          <a:ext cx="8839440" cy="1110960"/>
        </p:xfrm>
        <a:graphic>
          <a:graphicData uri="http://schemas.openxmlformats.org/drawingml/2006/table">
            <a:tbl>
              <a:tblPr/>
              <a:tblGrid>
                <a:gridCol w="609840"/>
                <a:gridCol w="1371600"/>
                <a:gridCol w="914400"/>
                <a:gridCol w="609480"/>
                <a:gridCol w="609480"/>
                <a:gridCol w="838440"/>
                <a:gridCol w="990360"/>
                <a:gridCol w="990720"/>
                <a:gridCol w="1143000"/>
                <a:gridCol w="7621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dept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-no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dept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-no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uildin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uildin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treet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00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ames Bon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Lon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MI-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Liverpool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Kin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749" name=""/>
          <p:cNvSpPr/>
          <p:nvPr/>
        </p:nvSpPr>
        <p:spPr>
          <a:xfrm>
            <a:off x="533520" y="228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828800" y="6172200"/>
            <a:ext cx="62485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Full Disjunction under OR-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751" name=""/>
          <p:cNvGrpSpPr/>
          <p:nvPr/>
        </p:nvGrpSpPr>
        <p:grpSpPr>
          <a:xfrm>
            <a:off x="3124080" y="5410080"/>
            <a:ext cx="3657600" cy="381240"/>
            <a:chOff x="3124080" y="5410080"/>
            <a:chExt cx="3657600" cy="381240"/>
          </a:xfrm>
        </p:grpSpPr>
        <p:sp>
          <p:nvSpPr>
            <p:cNvPr id="1752" name=""/>
            <p:cNvSpPr/>
            <p:nvPr/>
          </p:nvSpPr>
          <p:spPr>
            <a:xfrm>
              <a:off x="3124080" y="5410080"/>
              <a:ext cx="381240" cy="381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733920" y="5410080"/>
              <a:ext cx="380880" cy="381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505320" y="56008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410080" y="5410080"/>
              <a:ext cx="381240" cy="381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400800" y="5410080"/>
              <a:ext cx="380880" cy="381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791320" y="560088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758" name=""/>
          <p:cNvSpPr/>
          <p:nvPr/>
        </p:nvSpPr>
        <p:spPr>
          <a:xfrm>
            <a:off x="2971800" y="5715000"/>
            <a:ext cx="4191120" cy="380880"/>
          </a:xfrm>
          <a:custGeom>
            <a:avLst/>
            <a:gdLst/>
            <a:ahLst/>
            <a:rect l="l" t="t" r="r" b="b"/>
            <a:pathLst>
              <a:path w="2640" h="240">
                <a:moveTo>
                  <a:pt x="2640" y="0"/>
                </a:moveTo>
                <a:cubicBezTo>
                  <a:pt x="2116" y="120"/>
                  <a:pt x="1592" y="240"/>
                  <a:pt x="1152" y="240"/>
                </a:cubicBezTo>
                <a:cubicBezTo>
                  <a:pt x="712" y="240"/>
                  <a:pt x="356" y="120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768-166C-49EB-81CE-805DA21BCD5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"/>
          <p:cNvSpPr/>
          <p:nvPr/>
        </p:nvSpPr>
        <p:spPr>
          <a:xfrm>
            <a:off x="533520" y="1409760"/>
            <a:ext cx="815328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Projection Problem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omputing the projection of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full disjunction on a given set of attribut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533520" y="3098880"/>
            <a:ext cx="815328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Restriction Problem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omputing only those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uples of the full disjunction that are non-null on a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iven set of attribut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2819520" y="457200"/>
            <a:ext cx="36576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Two Related Problem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533520" y="5016600"/>
            <a:ext cx="81532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projection problem and the restriction problem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annot be computed in polynomial time (under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put-output complexity) unless P=NP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0932-4505-48B0-81CA-C29FDB19FD9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yclic queries can be computed in polynomial time (in the size of the query, the database and the result) under either OR-semantics or weak semantic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reduction of full-disjunction evaluation to query evaluation under weak semantics is describ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sing the reduction, full disjunctions can be computed in polynomial time (in the size of the relation schemas, the relations and the result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7F7A-51AD-45FD-A055-4A40FB76F9E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nclusion (continued)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ull disjunctions can be generalized in two way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y using OR-semantics instead of weak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y joining tuples according to general constraint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eneralized full disjunctions can be useful in the context of data integration from heterogeneous sourc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projection problem and the restriction problem have polynomial-time algorithms (under input-output complexity) when the relations have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γ-acyclic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chemas, but not in the general cas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F5DB-8F07-4985-B81D-1014F321FFB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"/>
          <p:cNvSpPr/>
          <p:nvPr/>
        </p:nvSpPr>
        <p:spPr>
          <a:xfrm>
            <a:off x="2057400" y="1523880"/>
            <a:ext cx="464832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Thank You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2057400" y="3200400"/>
            <a:ext cx="464832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Questions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7EC6-BD39-4A61-B3DB-0FD110B839B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191120" y="1522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990720" y="1143000"/>
            <a:ext cx="38088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457200"/>
            <a:ext cx="144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371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2590920"/>
            <a:ext cx="30456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16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142640" y="1219320"/>
            <a:ext cx="304920" cy="13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219320"/>
            <a:ext cx="381240" cy="1295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2514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9144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1219320"/>
            <a:ext cx="6858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14479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22860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6002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1219320"/>
            <a:ext cx="7632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15238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21337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791320" y="1143000"/>
            <a:ext cx="12189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657600" y="1143000"/>
            <a:ext cx="53352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4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eli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tz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9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29718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Englis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152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/12/193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1981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oody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llen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32320" y="977760"/>
            <a:ext cx="4330800" cy="330228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343080"/>
            <a:ext cx="7632720" cy="464796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1143000"/>
            <a:ext cx="541008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5315040"/>
            <a:ext cx="8382240" cy="857160"/>
          </a:xfrm>
          <a:prstGeom prst="rect">
            <a:avLst/>
          </a:prstGeom>
          <a:solidFill>
            <a:srgbClr val="66ffcc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A Semistructured Database About Movi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76320" y="520560"/>
            <a:ext cx="2971800" cy="3276720"/>
          </a:xfrm>
          <a:custGeom>
            <a:avLst/>
            <a:gdLst/>
            <a:ahLst/>
            <a:rect l="l" t="t" r="r" b="b"/>
            <a:pathLst>
              <a:path w="1872" h="2064">
                <a:moveTo>
                  <a:pt x="1008" y="56"/>
                </a:moveTo>
                <a:cubicBezTo>
                  <a:pt x="800" y="48"/>
                  <a:pt x="368" y="0"/>
                  <a:pt x="240" y="296"/>
                </a:cubicBezTo>
                <a:cubicBezTo>
                  <a:pt x="112" y="592"/>
                  <a:pt x="0" y="1600"/>
                  <a:pt x="240" y="1832"/>
                </a:cubicBezTo>
                <a:cubicBezTo>
                  <a:pt x="480" y="2064"/>
                  <a:pt x="1488" y="1872"/>
                  <a:pt x="1680" y="1688"/>
                </a:cubicBezTo>
                <a:cubicBezTo>
                  <a:pt x="1872" y="1504"/>
                  <a:pt x="1424" y="952"/>
                  <a:pt x="1392" y="728"/>
                </a:cubicBezTo>
                <a:cubicBezTo>
                  <a:pt x="1360" y="504"/>
                  <a:pt x="1552" y="456"/>
                  <a:pt x="1488" y="344"/>
                </a:cubicBezTo>
                <a:cubicBezTo>
                  <a:pt x="1424" y="232"/>
                  <a:pt x="1216" y="64"/>
                  <a:pt x="1008" y="56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32120" y="520560"/>
            <a:ext cx="2527200" cy="2870280"/>
          </a:xfrm>
          <a:custGeom>
            <a:avLst/>
            <a:gdLst/>
            <a:ahLst/>
            <a:rect l="l" t="t" r="r" b="b"/>
            <a:pathLst>
              <a:path w="1592" h="1808">
                <a:moveTo>
                  <a:pt x="952" y="104"/>
                </a:moveTo>
                <a:cubicBezTo>
                  <a:pt x="736" y="96"/>
                  <a:pt x="520" y="88"/>
                  <a:pt x="376" y="248"/>
                </a:cubicBezTo>
                <a:cubicBezTo>
                  <a:pt x="232" y="408"/>
                  <a:pt x="0" y="816"/>
                  <a:pt x="88" y="1064"/>
                </a:cubicBezTo>
                <a:cubicBezTo>
                  <a:pt x="176" y="1312"/>
                  <a:pt x="664" y="1664"/>
                  <a:pt x="904" y="1736"/>
                </a:cubicBezTo>
                <a:cubicBezTo>
                  <a:pt x="1144" y="1808"/>
                  <a:pt x="1464" y="1664"/>
                  <a:pt x="1528" y="1496"/>
                </a:cubicBezTo>
                <a:cubicBezTo>
                  <a:pt x="1592" y="1328"/>
                  <a:pt x="1312" y="960"/>
                  <a:pt x="1288" y="728"/>
                </a:cubicBezTo>
                <a:cubicBezTo>
                  <a:pt x="1264" y="496"/>
                  <a:pt x="1416" y="208"/>
                  <a:pt x="1384" y="104"/>
                </a:cubicBezTo>
                <a:cubicBezTo>
                  <a:pt x="1352" y="0"/>
                  <a:pt x="1176" y="104"/>
                  <a:pt x="1096" y="104"/>
                </a:cubicBezTo>
                <a:cubicBezTo>
                  <a:pt x="1016" y="104"/>
                  <a:pt x="960" y="104"/>
                  <a:pt x="904" y="1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92640" y="12600"/>
            <a:ext cx="5079960" cy="3035520"/>
          </a:xfrm>
          <a:custGeom>
            <a:avLst/>
            <a:gdLst/>
            <a:ahLst/>
            <a:rect l="l" t="t" r="r" b="b"/>
            <a:pathLst>
              <a:path w="3200" h="1912">
                <a:moveTo>
                  <a:pt x="1352" y="280"/>
                </a:moveTo>
                <a:cubicBezTo>
                  <a:pt x="1640" y="224"/>
                  <a:pt x="2256" y="0"/>
                  <a:pt x="2504" y="232"/>
                </a:cubicBezTo>
                <a:cubicBezTo>
                  <a:pt x="2752" y="464"/>
                  <a:pt x="3200" y="1432"/>
                  <a:pt x="2840" y="1672"/>
                </a:cubicBezTo>
                <a:cubicBezTo>
                  <a:pt x="2480" y="1912"/>
                  <a:pt x="688" y="1856"/>
                  <a:pt x="344" y="1672"/>
                </a:cubicBezTo>
                <a:cubicBezTo>
                  <a:pt x="0" y="1488"/>
                  <a:pt x="608" y="800"/>
                  <a:pt x="776" y="568"/>
                </a:cubicBezTo>
                <a:cubicBezTo>
                  <a:pt x="944" y="336"/>
                  <a:pt x="1064" y="336"/>
                  <a:pt x="1352" y="28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63560" y="380880"/>
            <a:ext cx="7632720" cy="4648320"/>
            <a:chOff x="1663560" y="380880"/>
            <a:chExt cx="7632720" cy="4648320"/>
          </a:xfrm>
        </p:grpSpPr>
        <p:sp>
          <p:nvSpPr>
            <p:cNvPr id="101" name=""/>
            <p:cNvSpPr/>
            <p:nvPr/>
          </p:nvSpPr>
          <p:spPr>
            <a:xfrm>
              <a:off x="4419720" y="965160"/>
              <a:ext cx="4330440" cy="3301920"/>
            </a:xfrm>
            <a:custGeom>
              <a:avLst/>
              <a:gdLst/>
              <a:ahLst/>
              <a:rect l="l" t="t" r="r" b="b"/>
              <a:pathLst>
                <a:path w="2728" h="2080">
                  <a:moveTo>
                    <a:pt x="1816" y="56"/>
                  </a:moveTo>
                  <a:cubicBezTo>
                    <a:pt x="2032" y="28"/>
                    <a:pt x="2248" y="0"/>
                    <a:pt x="2344" y="296"/>
                  </a:cubicBezTo>
                  <a:cubicBezTo>
                    <a:pt x="2440" y="592"/>
                    <a:pt x="2728" y="1584"/>
                    <a:pt x="2392" y="1832"/>
                  </a:cubicBezTo>
                  <a:cubicBezTo>
                    <a:pt x="2056" y="2080"/>
                    <a:pt x="656" y="2008"/>
                    <a:pt x="328" y="1784"/>
                  </a:cubicBezTo>
                  <a:cubicBezTo>
                    <a:pt x="0" y="1560"/>
                    <a:pt x="472" y="776"/>
                    <a:pt x="424" y="488"/>
                  </a:cubicBezTo>
                  <a:cubicBezTo>
                    <a:pt x="376" y="200"/>
                    <a:pt x="208" y="128"/>
                    <a:pt x="40" y="5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63560" y="380880"/>
              <a:ext cx="7632720" cy="4648320"/>
            </a:xfrm>
            <a:custGeom>
              <a:avLst/>
              <a:gdLst/>
              <a:ahLst/>
              <a:rect l="l" t="t" r="r" b="b"/>
              <a:pathLst>
                <a:path w="4808" h="2928">
                  <a:moveTo>
                    <a:pt x="3552" y="408"/>
                  </a:moveTo>
                  <a:cubicBezTo>
                    <a:pt x="3844" y="204"/>
                    <a:pt x="4136" y="0"/>
                    <a:pt x="4272" y="360"/>
                  </a:cubicBezTo>
                  <a:cubicBezTo>
                    <a:pt x="4408" y="720"/>
                    <a:pt x="4808" y="2208"/>
                    <a:pt x="4368" y="2568"/>
                  </a:cubicBezTo>
                  <a:cubicBezTo>
                    <a:pt x="3928" y="2928"/>
                    <a:pt x="2152" y="2720"/>
                    <a:pt x="1632" y="2520"/>
                  </a:cubicBezTo>
                  <a:cubicBezTo>
                    <a:pt x="1112" y="2320"/>
                    <a:pt x="1392" y="1616"/>
                    <a:pt x="1248" y="1368"/>
                  </a:cubicBezTo>
                  <a:cubicBezTo>
                    <a:pt x="1104" y="1120"/>
                    <a:pt x="912" y="1160"/>
                    <a:pt x="768" y="1032"/>
                  </a:cubicBezTo>
                  <a:cubicBezTo>
                    <a:pt x="624" y="904"/>
                    <a:pt x="512" y="696"/>
                    <a:pt x="384" y="600"/>
                  </a:cubicBezTo>
                  <a:cubicBezTo>
                    <a:pt x="256" y="504"/>
                    <a:pt x="128" y="480"/>
                    <a:pt x="0" y="45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676520" y="1143000"/>
            <a:ext cx="541008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4543-F7C9-4910-A36A-195CE80C58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95280" y="1219320"/>
            <a:ext cx="6477120" cy="2666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1355760"/>
            <a:ext cx="30456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71760" y="2117880"/>
            <a:ext cx="30492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234648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1584360"/>
            <a:ext cx="6858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657240" y="1584360"/>
            <a:ext cx="76212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4240" y="2041560"/>
            <a:ext cx="304920" cy="37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20415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123720" y="2514600"/>
            <a:ext cx="304920" cy="4413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11680" y="151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2422440"/>
            <a:ext cx="9903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09320" y="2346480"/>
            <a:ext cx="1143000" cy="152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92400" y="15746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20415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3032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2028960"/>
            <a:ext cx="1752480" cy="241200"/>
          </a:xfrm>
          <a:custGeom>
            <a:avLst/>
            <a:gdLst/>
            <a:ahLst/>
            <a:rect l="l" t="t" r="r" b="b"/>
            <a:pathLst>
              <a:path w="1104" h="152">
                <a:moveTo>
                  <a:pt x="1104" y="152"/>
                </a:moveTo>
                <a:cubicBezTo>
                  <a:pt x="956" y="84"/>
                  <a:pt x="808" y="16"/>
                  <a:pt x="624" y="8"/>
                </a:cubicBezTo>
                <a:cubicBezTo>
                  <a:pt x="440" y="0"/>
                  <a:pt x="220" y="52"/>
                  <a:pt x="0" y="104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242244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0"/>
                </a:moveTo>
                <a:cubicBezTo>
                  <a:pt x="984" y="216"/>
                  <a:pt x="816" y="432"/>
                  <a:pt x="624" y="432"/>
                </a:cubicBezTo>
                <a:cubicBezTo>
                  <a:pt x="432" y="432"/>
                  <a:pt x="216" y="216"/>
                  <a:pt x="0" y="0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295596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227016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2879640"/>
            <a:ext cx="38124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2346480"/>
            <a:ext cx="914400" cy="759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11800" y="26845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92680" y="2009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24987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609480"/>
            <a:ext cx="64771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 Quer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4038480"/>
            <a:ext cx="6477120" cy="2057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Under complete semantics, the query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returns actor-movie pairs, such that th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actor played in the movie and was also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 director of the movi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FF73-5A3B-419D-BB99-2F5C80AD71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76520" y="1143000"/>
            <a:ext cx="541008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1522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990720" y="1143000"/>
            <a:ext cx="38088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457200"/>
            <a:ext cx="144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371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2590920"/>
            <a:ext cx="30456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16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142640" y="1219320"/>
            <a:ext cx="304920" cy="13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1219320"/>
            <a:ext cx="381240" cy="1295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514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9144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1219320"/>
            <a:ext cx="6858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14479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22860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16002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219320"/>
            <a:ext cx="7632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15238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96080" y="21337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791320" y="1143000"/>
            <a:ext cx="12189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657600" y="1143000"/>
            <a:ext cx="53352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4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eli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tz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9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29718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Englis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/12/193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1981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oody Allen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32320" y="977760"/>
            <a:ext cx="4330800" cy="330228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343080"/>
            <a:ext cx="7632720" cy="464796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4038480"/>
            <a:ext cx="5562720" cy="2667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4175280"/>
            <a:ext cx="30456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71560" y="4937040"/>
            <a:ext cx="30492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5165640"/>
            <a:ext cx="38088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4403880"/>
            <a:ext cx="6858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057040" y="4403880"/>
            <a:ext cx="762120" cy="5331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94040" y="4861080"/>
            <a:ext cx="304920" cy="37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486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523520" y="5334120"/>
            <a:ext cx="381240" cy="4413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11480" y="4338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241960"/>
            <a:ext cx="9903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09120" y="5165640"/>
            <a:ext cx="1143000" cy="152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92200" y="43941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486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09680" y="58514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7400" y="4848120"/>
            <a:ext cx="1752480" cy="241560"/>
          </a:xfrm>
          <a:custGeom>
            <a:avLst/>
            <a:gdLst/>
            <a:ahLst/>
            <a:rect l="l" t="t" r="r" b="b"/>
            <a:pathLst>
              <a:path w="1104" h="152">
                <a:moveTo>
                  <a:pt x="1104" y="152"/>
                </a:moveTo>
                <a:cubicBezTo>
                  <a:pt x="956" y="84"/>
                  <a:pt x="808" y="16"/>
                  <a:pt x="624" y="8"/>
                </a:cubicBezTo>
                <a:cubicBezTo>
                  <a:pt x="440" y="0"/>
                  <a:pt x="220" y="52"/>
                  <a:pt x="0" y="104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524196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0"/>
                </a:moveTo>
                <a:cubicBezTo>
                  <a:pt x="984" y="216"/>
                  <a:pt x="816" y="432"/>
                  <a:pt x="624" y="432"/>
                </a:cubicBezTo>
                <a:cubicBezTo>
                  <a:pt x="432" y="432"/>
                  <a:pt x="216" y="216"/>
                  <a:pt x="0" y="0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577548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508968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569916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5165640"/>
            <a:ext cx="914400" cy="76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11600" y="550404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92480" y="48290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531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971800" y="152280"/>
            <a:ext cx="1523880" cy="4038840"/>
            <a:chOff x="2971800" y="152280"/>
            <a:chExt cx="1523880" cy="4038840"/>
          </a:xfrm>
        </p:grpSpPr>
        <p:sp>
          <p:nvSpPr>
            <p:cNvPr id="198" name=""/>
            <p:cNvSpPr/>
            <p:nvPr/>
          </p:nvSpPr>
          <p:spPr>
            <a:xfrm flipV="1">
              <a:off x="2971800" y="457200"/>
              <a:ext cx="129528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152280"/>
              <a:ext cx="30456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371600" y="914400"/>
            <a:ext cx="533160" cy="4038120"/>
            <a:chOff x="1371600" y="914400"/>
            <a:chExt cx="533160" cy="4038120"/>
          </a:xfrm>
        </p:grpSpPr>
        <p:sp>
          <p:nvSpPr>
            <p:cNvPr id="201" name=""/>
            <p:cNvSpPr/>
            <p:nvPr/>
          </p:nvSpPr>
          <p:spPr>
            <a:xfrm flipH="1" flipV="1">
              <a:off x="1523520" y="1218960"/>
              <a:ext cx="381240" cy="3733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71600" y="9144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80880" y="1371600"/>
            <a:ext cx="609840" cy="3809880"/>
            <a:chOff x="380880" y="1371600"/>
            <a:chExt cx="609840" cy="3809880"/>
          </a:xfrm>
        </p:grpSpPr>
        <p:sp>
          <p:nvSpPr>
            <p:cNvPr id="204" name=""/>
            <p:cNvSpPr/>
            <p:nvPr/>
          </p:nvSpPr>
          <p:spPr>
            <a:xfrm flipV="1">
              <a:off x="380880" y="1676520"/>
              <a:ext cx="381240" cy="350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5800" y="13716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990720" y="2590920"/>
            <a:ext cx="456840" cy="3200400"/>
            <a:chOff x="990720" y="2590920"/>
            <a:chExt cx="456840" cy="3200400"/>
          </a:xfrm>
        </p:grpSpPr>
        <p:sp>
          <p:nvSpPr>
            <p:cNvPr id="207" name=""/>
            <p:cNvSpPr/>
            <p:nvPr/>
          </p:nvSpPr>
          <p:spPr>
            <a:xfrm flipH="1" flipV="1">
              <a:off x="1142640" y="2895480"/>
              <a:ext cx="304920" cy="289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90720" y="2590920"/>
              <a:ext cx="30456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038480" y="914400"/>
            <a:ext cx="3276720" cy="3962520"/>
            <a:chOff x="4038480" y="914400"/>
            <a:chExt cx="3276720" cy="3962520"/>
          </a:xfrm>
        </p:grpSpPr>
        <p:sp>
          <p:nvSpPr>
            <p:cNvPr id="210" name=""/>
            <p:cNvSpPr/>
            <p:nvPr/>
          </p:nvSpPr>
          <p:spPr>
            <a:xfrm flipV="1">
              <a:off x="4038480" y="1143000"/>
              <a:ext cx="297180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10280" y="9144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181480" y="1600200"/>
            <a:ext cx="609840" cy="3505320"/>
            <a:chOff x="5181480" y="1600200"/>
            <a:chExt cx="609840" cy="3505320"/>
          </a:xfrm>
        </p:grpSpPr>
        <p:sp>
          <p:nvSpPr>
            <p:cNvPr id="213" name=""/>
            <p:cNvSpPr/>
            <p:nvPr/>
          </p:nvSpPr>
          <p:spPr>
            <a:xfrm flipV="1">
              <a:off x="5181480" y="1905120"/>
              <a:ext cx="457200" cy="3200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86400" y="16002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181480" y="2133720"/>
            <a:ext cx="2819520" cy="3581280"/>
            <a:chOff x="5181480" y="2133720"/>
            <a:chExt cx="2819520" cy="3581280"/>
          </a:xfrm>
        </p:grpSpPr>
        <p:sp>
          <p:nvSpPr>
            <p:cNvPr id="216" name=""/>
            <p:cNvSpPr/>
            <p:nvPr/>
          </p:nvSpPr>
          <p:spPr>
            <a:xfrm flipV="1">
              <a:off x="5181480" y="2438280"/>
              <a:ext cx="2514600" cy="327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96080" y="2133720"/>
              <a:ext cx="30492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757840" y="5072040"/>
            <a:ext cx="3200400" cy="1447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 complete match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of the query variables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to database object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624040" y="0"/>
            <a:ext cx="2024280" cy="4702320"/>
            <a:chOff x="2624040" y="0"/>
            <a:chExt cx="2024280" cy="4702320"/>
          </a:xfrm>
        </p:grpSpPr>
        <p:sp>
          <p:nvSpPr>
            <p:cNvPr id="220" name=""/>
            <p:cNvSpPr/>
            <p:nvPr/>
          </p:nvSpPr>
          <p:spPr>
            <a:xfrm>
              <a:off x="2624040" y="4016520"/>
              <a:ext cx="685800" cy="68580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38480" y="0"/>
              <a:ext cx="609840" cy="6094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048120" y="609120"/>
              <a:ext cx="1143000" cy="3429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41680" y="12600"/>
            <a:ext cx="5168880" cy="5423040"/>
            <a:chOff x="2641680" y="12600"/>
            <a:chExt cx="5168880" cy="5423040"/>
          </a:xfrm>
        </p:grpSpPr>
        <p:sp>
          <p:nvSpPr>
            <p:cNvPr id="224" name=""/>
            <p:cNvSpPr/>
            <p:nvPr/>
          </p:nvSpPr>
          <p:spPr>
            <a:xfrm>
              <a:off x="2641680" y="4013280"/>
              <a:ext cx="1638360" cy="1422360"/>
            </a:xfrm>
            <a:custGeom>
              <a:avLst/>
              <a:gdLst/>
              <a:ahLst/>
              <a:rect l="l" t="t" r="r" b="b"/>
              <a:pathLst>
                <a:path w="1032" h="896">
                  <a:moveTo>
                    <a:pt x="64" y="112"/>
                  </a:moveTo>
                  <a:cubicBezTo>
                    <a:pt x="24" y="168"/>
                    <a:pt x="0" y="280"/>
                    <a:pt x="112" y="400"/>
                  </a:cubicBezTo>
                  <a:cubicBezTo>
                    <a:pt x="224" y="520"/>
                    <a:pt x="592" y="768"/>
                    <a:pt x="736" y="832"/>
                  </a:cubicBezTo>
                  <a:cubicBezTo>
                    <a:pt x="880" y="896"/>
                    <a:pt x="944" y="840"/>
                    <a:pt x="976" y="784"/>
                  </a:cubicBezTo>
                  <a:cubicBezTo>
                    <a:pt x="1008" y="728"/>
                    <a:pt x="1032" y="616"/>
                    <a:pt x="928" y="496"/>
                  </a:cubicBezTo>
                  <a:cubicBezTo>
                    <a:pt x="824" y="376"/>
                    <a:pt x="496" y="128"/>
                    <a:pt x="352" y="64"/>
                  </a:cubicBezTo>
                  <a:cubicBezTo>
                    <a:pt x="208" y="0"/>
                    <a:pt x="104" y="56"/>
                    <a:pt x="64" y="112"/>
                  </a:cubicBez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83160" y="12600"/>
              <a:ext cx="4127400" cy="1384560"/>
            </a:xfrm>
            <a:custGeom>
              <a:avLst/>
              <a:gdLst/>
              <a:ahLst/>
              <a:rect l="l" t="t" r="r" b="b"/>
              <a:pathLst>
                <a:path w="2600" h="872">
                  <a:moveTo>
                    <a:pt x="128" y="88"/>
                  </a:moveTo>
                  <a:cubicBezTo>
                    <a:pt x="64" y="192"/>
                    <a:pt x="0" y="296"/>
                    <a:pt x="320" y="424"/>
                  </a:cubicBezTo>
                  <a:cubicBezTo>
                    <a:pt x="640" y="552"/>
                    <a:pt x="1712" y="840"/>
                    <a:pt x="2048" y="856"/>
                  </a:cubicBezTo>
                  <a:cubicBezTo>
                    <a:pt x="2384" y="872"/>
                    <a:pt x="2600" y="656"/>
                    <a:pt x="2336" y="520"/>
                  </a:cubicBezTo>
                  <a:cubicBezTo>
                    <a:pt x="2072" y="384"/>
                    <a:pt x="840" y="80"/>
                    <a:pt x="464" y="40"/>
                  </a:cubicBezTo>
                  <a:cubicBezTo>
                    <a:pt x="88" y="0"/>
                    <a:pt x="84" y="140"/>
                    <a:pt x="80" y="28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90512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C98-84F9-4FBD-8B9B-B061D24A9B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743200" y="4952880"/>
            <a:ext cx="3124080" cy="160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2438280"/>
            <a:ext cx="678204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nstraints on Complete Matching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67800" y="25909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Query Roo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60360" y="259092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Database Roo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395520" y="2666880"/>
            <a:ext cx="2286000" cy="304920"/>
            <a:chOff x="3395520" y="2666880"/>
            <a:chExt cx="2286000" cy="304920"/>
          </a:xfrm>
        </p:grpSpPr>
        <p:sp>
          <p:nvSpPr>
            <p:cNvPr id="233" name=""/>
            <p:cNvSpPr/>
            <p:nvPr/>
          </p:nvSpPr>
          <p:spPr>
            <a:xfrm>
              <a:off x="3395520" y="2666880"/>
              <a:ext cx="30456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76600" y="2666880"/>
              <a:ext cx="304920" cy="304920"/>
            </a:xfrm>
            <a:prstGeom prst="ellipse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00080" y="2819160"/>
              <a:ext cx="167652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762120" y="13716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oot constrain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is satisfied if the query root is mapped to the database roo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 query edge is an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dge constrain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 query edge with a label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is satisfied if it is mapped to a database edge with the same label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067200" y="5105520"/>
            <a:ext cx="2361600" cy="1295280"/>
            <a:chOff x="3067200" y="5105520"/>
            <a:chExt cx="2361600" cy="1295280"/>
          </a:xfrm>
        </p:grpSpPr>
        <p:sp>
          <p:nvSpPr>
            <p:cNvPr id="238" name=""/>
            <p:cNvSpPr/>
            <p:nvPr/>
          </p:nvSpPr>
          <p:spPr>
            <a:xfrm>
              <a:off x="3295440" y="5105520"/>
              <a:ext cx="30456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95440" y="6095880"/>
              <a:ext cx="30456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24240" y="5105520"/>
              <a:ext cx="304560" cy="304560"/>
            </a:xfrm>
            <a:prstGeom prst="ellipse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24240" y="6095880"/>
              <a:ext cx="304560" cy="304920"/>
            </a:xfrm>
            <a:prstGeom prst="ellipse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48080" y="541008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76880" y="541008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67200" y="55627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95640" y="55627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00360" y="5257800"/>
              <a:ext cx="152352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00360" y="6248520"/>
              <a:ext cx="152352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D00E-1A4B-4BD1-BD1F-3862215175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hoshua Sagiv</cp:lastModifiedBy>
  <dcterms:modified xsi:type="dcterms:W3CDTF">1999-12-28T12:11:13Z</dcterms:modified>
  <cp:revision>237</cp:revision>
  <dc:subject/>
  <dc:title>מצגת של PowerPoint</dc:title>
</cp:coreProperties>
</file>