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D50-CF97-417A-AE46-B460926E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61B-61C5-4B93-80BE-CA2CC8AC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D72-AC24-4FF9-846B-36D2C2E1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6800-ACD5-40FA-AD1D-401533E9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907-4198-4EA8-AF97-50B51B1A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727-6093-4F6B-8477-B5E70C71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A3A-0F31-4CC0-8524-4172DAF0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34F-4116-49C8-A944-FC731685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A69A-36A3-43B9-8479-06AAACC5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60B9-16E9-4F69-A904-D2213B13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A6F-D579-466B-99CE-E819FB6D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758-049B-42B0-8528-8E9F4AE5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4FE2-391E-4C36-BD5F-2DE298BD8A3D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  <a:ea typeface="Arial"/>
              </a:rPr>
              <a:t>Oblivious Querying of Data with Irregular Structur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2" name="huji_small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96960" cy="1542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09480" y="38095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Yaron Kanza</a:t>
            </a:r>
            <a:br>
              <a:rPr sz="3600"/>
            </a:br>
            <a:br>
              <a:rPr sz="18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he Rachel and Selim Benin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chool of Engineering and Computer Science</a:t>
            </a:r>
            <a:br>
              <a:rPr sz="24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The Hebrew University of Jerusalem</a:t>
            </a:r>
            <a:br>
              <a:rPr sz="3600"/>
            </a:b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8A5-2460-46D5-93A6-A2ACAF4EB6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495680" y="1143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70640" y="2286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895120" y="137160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343040" y="1447920"/>
            <a:ext cx="22860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00600" y="1371600"/>
            <a:ext cx="167652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685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2590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952880" y="1676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52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33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03960" y="3429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530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3640" y="3124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981080" y="2514600"/>
            <a:ext cx="6098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590560" y="2590920"/>
            <a:ext cx="15228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809520" y="2514600"/>
            <a:ext cx="38124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590920"/>
            <a:ext cx="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2920" y="2590920"/>
            <a:ext cx="828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99240" y="2514600"/>
            <a:ext cx="9144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5632560" y="2514600"/>
            <a:ext cx="83808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.V. Serie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48320" y="1828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ilm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4792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5268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244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1932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52680" y="3824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578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8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3372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02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576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44197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850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36576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05720" y="36576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536960" y="3429000"/>
            <a:ext cx="228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828800" y="36576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63840" y="373392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Ky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cLachl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11360" y="449568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Natal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ort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97080" y="457200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5000" y="3672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2196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n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5880" y="365760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02240" y="47242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Tw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eak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42240" y="3429000"/>
            <a:ext cx="5335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994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4224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773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8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2590920"/>
            <a:ext cx="2286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9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066680" y="2438280"/>
            <a:ext cx="1524240" cy="882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3778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4235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914400" y="362592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4616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16240" y="3595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é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81280" y="1828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23623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1447920"/>
            <a:ext cx="3049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00600" y="4495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952880" y="2666880"/>
            <a:ext cx="76320" cy="1828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97480" y="4800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gnoli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81080" y="5638680"/>
            <a:ext cx="4648320" cy="685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Variations in Structur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590920" y="1523880"/>
            <a:ext cx="304560" cy="1067040"/>
            <a:chOff x="2590920" y="1523880"/>
            <a:chExt cx="304560" cy="1067040"/>
          </a:xfrm>
        </p:grpSpPr>
        <p:sp>
          <p:nvSpPr>
            <p:cNvPr id="369" name=""/>
            <p:cNvSpPr/>
            <p:nvPr/>
          </p:nvSpPr>
          <p:spPr>
            <a:xfrm>
              <a:off x="2666880" y="1523880"/>
              <a:ext cx="76320" cy="68580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90920" y="2286000"/>
              <a:ext cx="304560" cy="3049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5943600" y="838080"/>
            <a:ext cx="25909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Movi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below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cto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705720" y="1523880"/>
            <a:ext cx="1218960" cy="1905120"/>
            <a:chOff x="6705720" y="1523880"/>
            <a:chExt cx="1218960" cy="1905120"/>
          </a:xfrm>
        </p:grpSpPr>
        <p:sp>
          <p:nvSpPr>
            <p:cNvPr id="373" name=""/>
            <p:cNvSpPr/>
            <p:nvPr/>
          </p:nvSpPr>
          <p:spPr>
            <a:xfrm>
              <a:off x="7620120" y="3124080"/>
              <a:ext cx="304560" cy="30492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29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705720" y="1523880"/>
              <a:ext cx="914400" cy="152424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477120" y="1523880"/>
            <a:ext cx="1523520" cy="1067040"/>
            <a:chOff x="6477120" y="1523880"/>
            <a:chExt cx="1523520" cy="1067040"/>
          </a:xfrm>
        </p:grpSpPr>
        <p:sp>
          <p:nvSpPr>
            <p:cNvPr id="376" name=""/>
            <p:cNvSpPr/>
            <p:nvPr/>
          </p:nvSpPr>
          <p:spPr>
            <a:xfrm flipH="1">
              <a:off x="6781320" y="1523880"/>
              <a:ext cx="1219320" cy="838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7120" y="22860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851040" y="331488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51040" y="1511280"/>
            <a:ext cx="304560" cy="2102040"/>
            <a:chOff x="851040" y="1511280"/>
            <a:chExt cx="304560" cy="2102040"/>
          </a:xfrm>
        </p:grpSpPr>
        <p:sp>
          <p:nvSpPr>
            <p:cNvPr id="380" name=""/>
            <p:cNvSpPr/>
            <p:nvPr/>
          </p:nvSpPr>
          <p:spPr>
            <a:xfrm>
              <a:off x="851040" y="3308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03320" y="1511280"/>
              <a:ext cx="0" cy="1600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609480" y="838080"/>
            <a:ext cx="25909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cto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below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movi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AF4-A236-4ECF-BAF2-A6991955F5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685800" y="1295280"/>
            <a:ext cx="7162920" cy="198144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Movies (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Courier New"/>
                <a:ea typeface="Courier New"/>
              </a:rPr>
              <a:t>m-id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, title, year, language, location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Actors (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Courier New"/>
                <a:ea typeface="Courier New"/>
              </a:rPr>
              <a:t>a-id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, name, date-of-birth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Acted-in (a-id, m-id, role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Actors-that-Directed (a-id, m-id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685800" y="3505320"/>
            <a:ext cx="7162920" cy="990360"/>
          </a:xfrm>
          <a:prstGeom prst="rect">
            <a:avLst/>
          </a:prstGeom>
          <a:solidFill>
            <a:srgbClr val="ffff99"/>
          </a:solidFill>
          <a:ln w="57240">
            <a:solidFill>
              <a:srgbClr val="cc99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Historical-Events (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Courier New"/>
                <a:ea typeface="Courier New"/>
              </a:rPr>
              <a:t>nam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, date, description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Historical-Sites (Country, State, City, Site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908" name=""/>
          <p:cNvGrpSpPr/>
          <p:nvPr/>
        </p:nvGrpSpPr>
        <p:grpSpPr>
          <a:xfrm>
            <a:off x="762120" y="1523880"/>
            <a:ext cx="7010280" cy="4191120"/>
            <a:chOff x="762120" y="1523880"/>
            <a:chExt cx="7010280" cy="4191120"/>
          </a:xfrm>
        </p:grpSpPr>
        <p:sp>
          <p:nvSpPr>
            <p:cNvPr id="2909" name=""/>
            <p:cNvSpPr/>
            <p:nvPr/>
          </p:nvSpPr>
          <p:spPr>
            <a:xfrm>
              <a:off x="3886200" y="1523880"/>
              <a:ext cx="838080" cy="3812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457880" y="3632040"/>
              <a:ext cx="838080" cy="3812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62120" y="4952880"/>
              <a:ext cx="7010280" cy="762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date of the historical event is a date in the year whe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movie was released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 flipV="1">
              <a:off x="4267080" y="1905120"/>
              <a:ext cx="0" cy="3047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4876920" y="4013280"/>
              <a:ext cx="0" cy="914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914" name=""/>
          <p:cNvGrpSpPr/>
          <p:nvPr/>
        </p:nvGrpSpPr>
        <p:grpSpPr>
          <a:xfrm>
            <a:off x="762120" y="1523880"/>
            <a:ext cx="7010280" cy="4191120"/>
            <a:chOff x="762120" y="1523880"/>
            <a:chExt cx="7010280" cy="4191120"/>
          </a:xfrm>
        </p:grpSpPr>
        <p:sp>
          <p:nvSpPr>
            <p:cNvPr id="2915" name=""/>
            <p:cNvSpPr/>
            <p:nvPr/>
          </p:nvSpPr>
          <p:spPr>
            <a:xfrm>
              <a:off x="6324480" y="1523880"/>
              <a:ext cx="1447920" cy="3812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505320" y="4038480"/>
              <a:ext cx="1143000" cy="3812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724280" y="4038480"/>
              <a:ext cx="1143000" cy="3812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5943600" y="4038480"/>
              <a:ext cx="762120" cy="3812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781680" y="4038480"/>
              <a:ext cx="762120" cy="3812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62120" y="4952880"/>
              <a:ext cx="7010280" cy="762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The filming location is near the historical sit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V="1">
              <a:off x="7620120" y="1828800"/>
              <a:ext cx="0" cy="3124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 flipV="1">
              <a:off x="4038480" y="441936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 flipV="1">
              <a:off x="5308560" y="441936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V="1">
              <a:off x="6324480" y="441936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 flipV="1">
              <a:off x="7162920" y="441936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298-78C7-4AAE-A2A8-6F8825A4B77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nother Way of Generalizing Full Disjunctions: Use OR-Semantics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R-semantics is used rather than weak semantics when tuples are join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s relaxes the requirement that every pair of tuples should be join consist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stead, a tuple of the full disjunction is only required to be generated by database tuples that form a connected subgraph, but need not be pairwise join consist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F45-E28E-4EE6-9914-472AA06C1FA9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/>
          <p:nvPr/>
        </p:nvSpPr>
        <p:spPr>
          <a:xfrm>
            <a:off x="685800" y="1038240"/>
            <a:ext cx="6400800" cy="152388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Employees (e-id, ename, city, dept-no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Departments (dept-no, dname, building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Located-in (building, city, stree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762120" y="2867040"/>
            <a:ext cx="5257800" cy="1523880"/>
            <a:chOff x="762120" y="2867040"/>
            <a:chExt cx="5257800" cy="1523880"/>
          </a:xfrm>
        </p:grpSpPr>
        <p:sp>
          <p:nvSpPr>
            <p:cNvPr id="2930" name=""/>
            <p:cNvSpPr/>
            <p:nvPr/>
          </p:nvSpPr>
          <p:spPr>
            <a:xfrm>
              <a:off x="762120" y="286704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Employee: (007, James Bond, London, 6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62120" y="340056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Department:  (6, MI-6, 10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62120" y="393372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Located-in: (10, Liverpool, King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aphicFrame>
        <p:nvGraphicFramePr>
          <p:cNvPr id="2933" name=""/>
          <p:cNvGraphicFramePr/>
          <p:nvPr/>
        </p:nvGraphicFramePr>
        <p:xfrm>
          <a:off x="152280" y="4695840"/>
          <a:ext cx="8839440" cy="1476360"/>
        </p:xfrm>
        <a:graphic>
          <a:graphicData uri="http://schemas.openxmlformats.org/drawingml/2006/table">
            <a:tbl>
              <a:tblPr/>
              <a:tblGrid>
                <a:gridCol w="609840"/>
                <a:gridCol w="1371600"/>
                <a:gridCol w="914400"/>
                <a:gridCol w="609480"/>
                <a:gridCol w="609480"/>
                <a:gridCol w="838440"/>
                <a:gridCol w="990360"/>
                <a:gridCol w="990720"/>
                <a:gridCol w="1143000"/>
                <a:gridCol w="7621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ep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no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ep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no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uild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uild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tree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0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James Bon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on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I-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I-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iverpool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K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934" name=""/>
          <p:cNvSpPr/>
          <p:nvPr/>
        </p:nvSpPr>
        <p:spPr>
          <a:xfrm>
            <a:off x="533520" y="228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 flipH="1">
            <a:off x="2743200" y="4343400"/>
            <a:ext cx="533520" cy="1143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4952880" y="3276720"/>
            <a:ext cx="236232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3352680" y="6172200"/>
            <a:ext cx="28195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Full Disjunc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938" name=""/>
          <p:cNvGrpSpPr/>
          <p:nvPr/>
        </p:nvGrpSpPr>
        <p:grpSpPr>
          <a:xfrm>
            <a:off x="3657600" y="5365800"/>
            <a:ext cx="2438280" cy="839880"/>
            <a:chOff x="3657600" y="5365800"/>
            <a:chExt cx="2438280" cy="839880"/>
          </a:xfrm>
        </p:grpSpPr>
        <p:sp>
          <p:nvSpPr>
            <p:cNvPr id="2939" name=""/>
            <p:cNvSpPr/>
            <p:nvPr/>
          </p:nvSpPr>
          <p:spPr>
            <a:xfrm>
              <a:off x="3657600" y="5365800"/>
              <a:ext cx="2438280" cy="3808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657600" y="5824440"/>
              <a:ext cx="2438280" cy="3812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482-D886-40DD-8409-C752F587386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"/>
          <p:cNvSpPr/>
          <p:nvPr/>
        </p:nvSpPr>
        <p:spPr>
          <a:xfrm>
            <a:off x="685800" y="1038240"/>
            <a:ext cx="6400800" cy="152388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Employees (e-id, ename, city, dept-no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Departments (dept-no, dname, building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Located-in (building, city, stree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942" name=""/>
          <p:cNvGrpSpPr/>
          <p:nvPr/>
        </p:nvGrpSpPr>
        <p:grpSpPr>
          <a:xfrm>
            <a:off x="762120" y="2867040"/>
            <a:ext cx="5257800" cy="1523880"/>
            <a:chOff x="762120" y="2867040"/>
            <a:chExt cx="5257800" cy="1523880"/>
          </a:xfrm>
        </p:grpSpPr>
        <p:sp>
          <p:nvSpPr>
            <p:cNvPr id="2943" name=""/>
            <p:cNvSpPr/>
            <p:nvPr/>
          </p:nvSpPr>
          <p:spPr>
            <a:xfrm>
              <a:off x="762120" y="286704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Employee: (007, James Bond, London, 6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62120" y="340056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Department:  (6, MI-6, 10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762120" y="393372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Located-in: (10, Liverpool, King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aphicFrame>
        <p:nvGraphicFramePr>
          <p:cNvPr id="2946" name=""/>
          <p:cNvGraphicFramePr/>
          <p:nvPr/>
        </p:nvGraphicFramePr>
        <p:xfrm>
          <a:off x="152280" y="4686480"/>
          <a:ext cx="8839440" cy="1110960"/>
        </p:xfrm>
        <a:graphic>
          <a:graphicData uri="http://schemas.openxmlformats.org/drawingml/2006/table">
            <a:tbl>
              <a:tblPr/>
              <a:tblGrid>
                <a:gridCol w="609840"/>
                <a:gridCol w="1371600"/>
                <a:gridCol w="914400"/>
                <a:gridCol w="609480"/>
                <a:gridCol w="609480"/>
                <a:gridCol w="838440"/>
                <a:gridCol w="990360"/>
                <a:gridCol w="990720"/>
                <a:gridCol w="1143000"/>
                <a:gridCol w="7621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ep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no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ep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no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uild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uild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tree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00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James Bon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on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I-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iverpool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K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947" name=""/>
          <p:cNvSpPr/>
          <p:nvPr/>
        </p:nvSpPr>
        <p:spPr>
          <a:xfrm>
            <a:off x="533520" y="228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1828800" y="6172200"/>
            <a:ext cx="62485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Full Disjunction under OR-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949" name=""/>
          <p:cNvGrpSpPr/>
          <p:nvPr/>
        </p:nvGrpSpPr>
        <p:grpSpPr>
          <a:xfrm>
            <a:off x="3124080" y="5410080"/>
            <a:ext cx="3657600" cy="381240"/>
            <a:chOff x="3124080" y="5410080"/>
            <a:chExt cx="3657600" cy="381240"/>
          </a:xfrm>
        </p:grpSpPr>
        <p:sp>
          <p:nvSpPr>
            <p:cNvPr id="2950" name=""/>
            <p:cNvSpPr/>
            <p:nvPr/>
          </p:nvSpPr>
          <p:spPr>
            <a:xfrm>
              <a:off x="3124080" y="5410080"/>
              <a:ext cx="38124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733920" y="5410080"/>
              <a:ext cx="38088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3505320" y="56008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5410080" y="5410080"/>
              <a:ext cx="38124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400800" y="5410080"/>
              <a:ext cx="38088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5791320" y="560088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956" name=""/>
          <p:cNvSpPr/>
          <p:nvPr/>
        </p:nvSpPr>
        <p:spPr>
          <a:xfrm>
            <a:off x="2971800" y="5715000"/>
            <a:ext cx="4191120" cy="380880"/>
          </a:xfrm>
          <a:custGeom>
            <a:avLst/>
            <a:gdLst/>
            <a:ahLst/>
            <a:rect l="l" t="t" r="r" b="b"/>
            <a:pathLst>
              <a:path w="2640" h="240">
                <a:moveTo>
                  <a:pt x="2640" y="0"/>
                </a:moveTo>
                <a:cubicBezTo>
                  <a:pt x="2116" y="120"/>
                  <a:pt x="1592" y="240"/>
                  <a:pt x="1152" y="240"/>
                </a:cubicBezTo>
                <a:cubicBezTo>
                  <a:pt x="712" y="240"/>
                  <a:pt x="356" y="120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437-FD09-4531-92F3-89E5AD6DACF5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7" name=""/>
          <p:cNvGrpSpPr/>
          <p:nvPr/>
        </p:nvGrpSpPr>
        <p:grpSpPr>
          <a:xfrm>
            <a:off x="990720" y="2176560"/>
            <a:ext cx="7162560" cy="1785960"/>
            <a:chOff x="990720" y="2176560"/>
            <a:chExt cx="7162560" cy="1785960"/>
          </a:xfrm>
        </p:grpSpPr>
        <p:sp>
          <p:nvSpPr>
            <p:cNvPr id="2958" name=""/>
            <p:cNvSpPr/>
            <p:nvPr/>
          </p:nvSpPr>
          <p:spPr>
            <a:xfrm>
              <a:off x="990720" y="3124080"/>
              <a:ext cx="7162560" cy="838440"/>
            </a:xfrm>
            <a:prstGeom prst="rect">
              <a:avLst/>
            </a:prstGeom>
            <a:solidFill>
              <a:srgbClr val="ffcc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419720" y="274320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3117960" y="2176560"/>
              <a:ext cx="2971800" cy="544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Integrated Relatio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961" name=""/>
          <p:cNvSpPr/>
          <p:nvPr/>
        </p:nvSpPr>
        <p:spPr>
          <a:xfrm>
            <a:off x="914400" y="5181480"/>
            <a:ext cx="1981080" cy="9907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ata Sourc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3657600" y="5181480"/>
            <a:ext cx="1981080" cy="9907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ata Sourc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6248520" y="5181480"/>
            <a:ext cx="1981080" cy="9907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ata Sourc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76320" y="76320"/>
            <a:ext cx="5181480" cy="11430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Information Integration from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Heterogeneous Sourc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965" name=""/>
          <p:cNvGrpSpPr/>
          <p:nvPr/>
        </p:nvGrpSpPr>
        <p:grpSpPr>
          <a:xfrm>
            <a:off x="1174680" y="3263760"/>
            <a:ext cx="6705720" cy="1994040"/>
            <a:chOff x="1174680" y="3263760"/>
            <a:chExt cx="6705720" cy="1994040"/>
          </a:xfrm>
        </p:grpSpPr>
        <p:grpSp>
          <p:nvGrpSpPr>
            <p:cNvPr id="2966" name=""/>
            <p:cNvGrpSpPr/>
            <p:nvPr/>
          </p:nvGrpSpPr>
          <p:grpSpPr>
            <a:xfrm>
              <a:off x="1174680" y="3276720"/>
              <a:ext cx="1371600" cy="1981080"/>
              <a:chOff x="1174680" y="3276720"/>
              <a:chExt cx="1371600" cy="1981080"/>
            </a:xfrm>
          </p:grpSpPr>
          <p:sp>
            <p:nvSpPr>
              <p:cNvPr id="2967" name=""/>
              <p:cNvSpPr/>
              <p:nvPr/>
            </p:nvSpPr>
            <p:spPr>
              <a:xfrm>
                <a:off x="1219320" y="4343400"/>
                <a:ext cx="1295280" cy="53352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Quer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1676520" y="48769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1676520" y="39625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1174680" y="3276720"/>
                <a:ext cx="1371600" cy="533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Relation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2971" name=""/>
            <p:cNvGrpSpPr/>
            <p:nvPr/>
          </p:nvGrpSpPr>
          <p:grpSpPr>
            <a:xfrm>
              <a:off x="3917880" y="3263760"/>
              <a:ext cx="1371600" cy="1994040"/>
              <a:chOff x="3917880" y="3263760"/>
              <a:chExt cx="1371600" cy="1994040"/>
            </a:xfrm>
          </p:grpSpPr>
          <p:sp>
            <p:nvSpPr>
              <p:cNvPr id="2972" name=""/>
              <p:cNvSpPr/>
              <p:nvPr/>
            </p:nvSpPr>
            <p:spPr>
              <a:xfrm>
                <a:off x="3962520" y="4343400"/>
                <a:ext cx="1295280" cy="53352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Quer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4419720" y="48769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4419720" y="39625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917880" y="3263760"/>
                <a:ext cx="1371600" cy="5335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Relation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2976" name=""/>
            <p:cNvGrpSpPr/>
            <p:nvPr/>
          </p:nvGrpSpPr>
          <p:grpSpPr>
            <a:xfrm>
              <a:off x="6508800" y="3276720"/>
              <a:ext cx="1371600" cy="1981080"/>
              <a:chOff x="6508800" y="3276720"/>
              <a:chExt cx="1371600" cy="1981080"/>
            </a:xfrm>
          </p:grpSpPr>
          <p:sp>
            <p:nvSpPr>
              <p:cNvPr id="2977" name=""/>
              <p:cNvSpPr/>
              <p:nvPr/>
            </p:nvSpPr>
            <p:spPr>
              <a:xfrm>
                <a:off x="6553080" y="4343400"/>
                <a:ext cx="1295640" cy="53352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Quer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010280" y="4876920"/>
                <a:ext cx="38124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010280" y="3962520"/>
                <a:ext cx="38124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6508800" y="3276720"/>
                <a:ext cx="1371600" cy="533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Relation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2C0-A1A6-49B6-A067-D4555CB70A8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1" name=""/>
          <p:cNvGrpSpPr/>
          <p:nvPr/>
        </p:nvGrpSpPr>
        <p:grpSpPr>
          <a:xfrm>
            <a:off x="990720" y="2176560"/>
            <a:ext cx="7162560" cy="1785960"/>
            <a:chOff x="990720" y="2176560"/>
            <a:chExt cx="7162560" cy="1785960"/>
          </a:xfrm>
        </p:grpSpPr>
        <p:sp>
          <p:nvSpPr>
            <p:cNvPr id="2982" name=""/>
            <p:cNvSpPr/>
            <p:nvPr/>
          </p:nvSpPr>
          <p:spPr>
            <a:xfrm>
              <a:off x="990720" y="3124080"/>
              <a:ext cx="7162560" cy="838440"/>
            </a:xfrm>
            <a:prstGeom prst="rect">
              <a:avLst/>
            </a:prstGeom>
            <a:solidFill>
              <a:srgbClr val="ffcc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419720" y="274320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3117960" y="2176560"/>
              <a:ext cx="2971800" cy="544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Integrated Relatio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985" name=""/>
          <p:cNvSpPr/>
          <p:nvPr/>
        </p:nvSpPr>
        <p:spPr>
          <a:xfrm>
            <a:off x="914400" y="5181480"/>
            <a:ext cx="1981080" cy="9907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ata Sourc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3657600" y="5181480"/>
            <a:ext cx="1981080" cy="9907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ata Sourc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6248520" y="5181480"/>
            <a:ext cx="1981080" cy="9907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ata Sourc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988" name=""/>
          <p:cNvGrpSpPr/>
          <p:nvPr/>
        </p:nvGrpSpPr>
        <p:grpSpPr>
          <a:xfrm>
            <a:off x="1174680" y="3263760"/>
            <a:ext cx="6705720" cy="1994040"/>
            <a:chOff x="1174680" y="3263760"/>
            <a:chExt cx="6705720" cy="1994040"/>
          </a:xfrm>
        </p:grpSpPr>
        <p:grpSp>
          <p:nvGrpSpPr>
            <p:cNvPr id="2989" name=""/>
            <p:cNvGrpSpPr/>
            <p:nvPr/>
          </p:nvGrpSpPr>
          <p:grpSpPr>
            <a:xfrm>
              <a:off x="1174680" y="3276720"/>
              <a:ext cx="1371600" cy="1981080"/>
              <a:chOff x="1174680" y="3276720"/>
              <a:chExt cx="1371600" cy="1981080"/>
            </a:xfrm>
          </p:grpSpPr>
          <p:sp>
            <p:nvSpPr>
              <p:cNvPr id="2990" name=""/>
              <p:cNvSpPr/>
              <p:nvPr/>
            </p:nvSpPr>
            <p:spPr>
              <a:xfrm>
                <a:off x="1219320" y="4343400"/>
                <a:ext cx="1295280" cy="53352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Quer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676520" y="48769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1676520" y="39625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1174680" y="3276720"/>
                <a:ext cx="1371600" cy="533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Relation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2994" name=""/>
            <p:cNvGrpSpPr/>
            <p:nvPr/>
          </p:nvGrpSpPr>
          <p:grpSpPr>
            <a:xfrm>
              <a:off x="3917880" y="3263760"/>
              <a:ext cx="1371600" cy="1994040"/>
              <a:chOff x="3917880" y="3263760"/>
              <a:chExt cx="1371600" cy="1994040"/>
            </a:xfrm>
          </p:grpSpPr>
          <p:sp>
            <p:nvSpPr>
              <p:cNvPr id="2995" name=""/>
              <p:cNvSpPr/>
              <p:nvPr/>
            </p:nvSpPr>
            <p:spPr>
              <a:xfrm>
                <a:off x="3962520" y="4343400"/>
                <a:ext cx="1295280" cy="53352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Quer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4419720" y="48769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4419720" y="39625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3917880" y="3263760"/>
                <a:ext cx="1371600" cy="5335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Relation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2999" name=""/>
            <p:cNvGrpSpPr/>
            <p:nvPr/>
          </p:nvGrpSpPr>
          <p:grpSpPr>
            <a:xfrm>
              <a:off x="6508800" y="3276720"/>
              <a:ext cx="1371600" cy="1981080"/>
              <a:chOff x="6508800" y="3276720"/>
              <a:chExt cx="1371600" cy="1981080"/>
            </a:xfrm>
          </p:grpSpPr>
          <p:sp>
            <p:nvSpPr>
              <p:cNvPr id="3000" name=""/>
              <p:cNvSpPr/>
              <p:nvPr/>
            </p:nvSpPr>
            <p:spPr>
              <a:xfrm>
                <a:off x="6553080" y="4343400"/>
                <a:ext cx="1295640" cy="53352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Quer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010280" y="4876920"/>
                <a:ext cx="38124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7010280" y="3962520"/>
                <a:ext cx="38124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508800" y="3276720"/>
                <a:ext cx="1371600" cy="533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Relation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4" name=""/>
          <p:cNvSpPr/>
          <p:nvPr/>
        </p:nvSpPr>
        <p:spPr>
          <a:xfrm>
            <a:off x="457200" y="304920"/>
            <a:ext cx="8001000" cy="167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We use queries that combine flexible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nd weak semantics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The queries are insensitive to changes in the dat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Easy to formulate the quer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030-EF0E-4110-9056-F16364578FB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5" name=""/>
          <p:cNvGrpSpPr/>
          <p:nvPr/>
        </p:nvGrpSpPr>
        <p:grpSpPr>
          <a:xfrm>
            <a:off x="990720" y="2176560"/>
            <a:ext cx="7162560" cy="1785960"/>
            <a:chOff x="990720" y="2176560"/>
            <a:chExt cx="7162560" cy="1785960"/>
          </a:xfrm>
        </p:grpSpPr>
        <p:sp>
          <p:nvSpPr>
            <p:cNvPr id="3006" name=""/>
            <p:cNvSpPr/>
            <p:nvPr/>
          </p:nvSpPr>
          <p:spPr>
            <a:xfrm>
              <a:off x="990720" y="3124080"/>
              <a:ext cx="7162560" cy="838440"/>
            </a:xfrm>
            <a:prstGeom prst="rect">
              <a:avLst/>
            </a:prstGeom>
            <a:solidFill>
              <a:srgbClr val="ffcc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419720" y="274320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3117960" y="2176560"/>
              <a:ext cx="2971800" cy="544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Integrated Relatio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009" name=""/>
          <p:cNvSpPr/>
          <p:nvPr/>
        </p:nvSpPr>
        <p:spPr>
          <a:xfrm>
            <a:off x="914400" y="5181480"/>
            <a:ext cx="1981080" cy="9907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ata Sourc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3657600" y="5181480"/>
            <a:ext cx="1981080" cy="9907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ata Sourc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6248520" y="5181480"/>
            <a:ext cx="1981080" cy="99072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ata Sourc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012" name=""/>
          <p:cNvGrpSpPr/>
          <p:nvPr/>
        </p:nvGrpSpPr>
        <p:grpSpPr>
          <a:xfrm>
            <a:off x="1174680" y="3263760"/>
            <a:ext cx="6705720" cy="1994040"/>
            <a:chOff x="1174680" y="3263760"/>
            <a:chExt cx="6705720" cy="1994040"/>
          </a:xfrm>
        </p:grpSpPr>
        <p:grpSp>
          <p:nvGrpSpPr>
            <p:cNvPr id="3013" name=""/>
            <p:cNvGrpSpPr/>
            <p:nvPr/>
          </p:nvGrpSpPr>
          <p:grpSpPr>
            <a:xfrm>
              <a:off x="1174680" y="3276720"/>
              <a:ext cx="1371600" cy="1981080"/>
              <a:chOff x="1174680" y="3276720"/>
              <a:chExt cx="1371600" cy="1981080"/>
            </a:xfrm>
          </p:grpSpPr>
          <p:sp>
            <p:nvSpPr>
              <p:cNvPr id="3014" name=""/>
              <p:cNvSpPr/>
              <p:nvPr/>
            </p:nvSpPr>
            <p:spPr>
              <a:xfrm>
                <a:off x="1219320" y="4343400"/>
                <a:ext cx="1295280" cy="53352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Quer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1676520" y="48769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1676520" y="39625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1174680" y="3276720"/>
                <a:ext cx="1371600" cy="533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Relation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3018" name=""/>
            <p:cNvGrpSpPr/>
            <p:nvPr/>
          </p:nvGrpSpPr>
          <p:grpSpPr>
            <a:xfrm>
              <a:off x="3917880" y="3263760"/>
              <a:ext cx="1371600" cy="1994040"/>
              <a:chOff x="3917880" y="3263760"/>
              <a:chExt cx="1371600" cy="1994040"/>
            </a:xfrm>
          </p:grpSpPr>
          <p:sp>
            <p:nvSpPr>
              <p:cNvPr id="3019" name=""/>
              <p:cNvSpPr/>
              <p:nvPr/>
            </p:nvSpPr>
            <p:spPr>
              <a:xfrm>
                <a:off x="3962520" y="4343400"/>
                <a:ext cx="1295280" cy="53352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Quer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419720" y="48769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419720" y="3962520"/>
                <a:ext cx="38088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917880" y="3263760"/>
                <a:ext cx="1371600" cy="5335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Relation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3023" name=""/>
            <p:cNvGrpSpPr/>
            <p:nvPr/>
          </p:nvGrpSpPr>
          <p:grpSpPr>
            <a:xfrm>
              <a:off x="6508800" y="3276720"/>
              <a:ext cx="1371600" cy="1981080"/>
              <a:chOff x="6508800" y="3276720"/>
              <a:chExt cx="1371600" cy="1981080"/>
            </a:xfrm>
          </p:grpSpPr>
          <p:sp>
            <p:nvSpPr>
              <p:cNvPr id="3024" name=""/>
              <p:cNvSpPr/>
              <p:nvPr/>
            </p:nvSpPr>
            <p:spPr>
              <a:xfrm>
                <a:off x="6553080" y="4343400"/>
                <a:ext cx="1295640" cy="53352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Quer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010280" y="4876920"/>
                <a:ext cx="38124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010280" y="3962520"/>
                <a:ext cx="381240" cy="38088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6508800" y="3276720"/>
                <a:ext cx="1371600" cy="533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Relation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8" name=""/>
          <p:cNvSpPr/>
          <p:nvPr/>
        </p:nvSpPr>
        <p:spPr>
          <a:xfrm>
            <a:off x="609480" y="380880"/>
            <a:ext cx="8001000" cy="1371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integration of the relations is done wit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a full disjunction of the computed rela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88E7-12F0-4D2A-95D1-55F6446D484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lexible and semiflexible queries facilitate easy and intuitive querying of semistructured databas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Querying the database even when the user is oblivious to the structure of the databa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Queries are insensitive to variations in the structure of the databa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1A1-467C-4C0B-AA50-BD8FCA4F8A8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clusion (continued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Queries in AND semantics, OR semantics or weak semantics facilitate easy and intuitive querying of incomplete databas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Querying the database even when the user is oblivious to missing data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Queries return maximal answers rather than complete answer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5D5-B4E1-4B91-BD98-B55A2B4E0D3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clusion (continued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two paradigms of flexible queries and queries with maximal answers can be combin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combination of the paradigms can facilitate integration of information from heterogeneous sourc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8BF-FE68-462D-B8D0-8A28FEFB1E6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495680" y="1143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909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911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70640" y="2286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895120" y="137160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343040" y="1447920"/>
            <a:ext cx="22860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00600" y="1371600"/>
            <a:ext cx="167652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81280" y="685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05720" y="2590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00600" y="1447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52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382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33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03960" y="3429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530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13640" y="3124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981080" y="2514600"/>
            <a:ext cx="6098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590560" y="2590920"/>
            <a:ext cx="15228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3809520" y="2514600"/>
            <a:ext cx="38124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2590920"/>
            <a:ext cx="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622920" y="2590920"/>
            <a:ext cx="828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99240" y="2514600"/>
            <a:ext cx="9144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632560" y="2514600"/>
            <a:ext cx="83808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1992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.V. Serie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828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ilm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244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1932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52680" y="3824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8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13372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3848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576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553080" y="44197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850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09880" y="36576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05720" y="36576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7536960" y="3429000"/>
            <a:ext cx="228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1828800" y="36576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63840" y="373392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Ky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cLachl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11360" y="449568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Natal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ort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97080" y="457200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45000" y="3672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22196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n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35880" y="365760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02240" y="47242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Tw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eak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42240" y="3429000"/>
            <a:ext cx="5335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2994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84224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773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8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2590920"/>
            <a:ext cx="2286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9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38080" y="3321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066680" y="2438280"/>
            <a:ext cx="1524240" cy="882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920" y="3778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4235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914400" y="362592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880" y="4616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16240" y="3595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é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1828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76920" y="23623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24280" y="1447920"/>
            <a:ext cx="3049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00600" y="4495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952880" y="2666880"/>
            <a:ext cx="76320" cy="1828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97480" y="4800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gnoli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98400" y="1320840"/>
            <a:ext cx="3429000" cy="609480"/>
            <a:chOff x="698400" y="1320840"/>
            <a:chExt cx="3429000" cy="609480"/>
          </a:xfrm>
        </p:grpSpPr>
        <p:sp>
          <p:nvSpPr>
            <p:cNvPr id="457" name=""/>
            <p:cNvSpPr/>
            <p:nvPr/>
          </p:nvSpPr>
          <p:spPr>
            <a:xfrm>
              <a:off x="698400" y="1320840"/>
              <a:ext cx="213372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A </a:t>
              </a: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movie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 labe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32120" y="1701720"/>
              <a:ext cx="533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365280" y="1549080"/>
              <a:ext cx="762120" cy="30456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686480" y="1486080"/>
            <a:ext cx="3657240" cy="685800"/>
            <a:chOff x="4686480" y="1486080"/>
            <a:chExt cx="3657240" cy="685800"/>
          </a:xfrm>
        </p:grpSpPr>
        <p:sp>
          <p:nvSpPr>
            <p:cNvPr id="461" name=""/>
            <p:cNvSpPr/>
            <p:nvPr/>
          </p:nvSpPr>
          <p:spPr>
            <a:xfrm>
              <a:off x="6295320" y="1486080"/>
              <a:ext cx="2048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A </a:t>
              </a: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film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 labe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344200" y="1866960"/>
              <a:ext cx="950760" cy="152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86480" y="1866960"/>
              <a:ext cx="658080" cy="30492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981080" y="5638680"/>
            <a:ext cx="4648320" cy="685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Ontology Varia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23880" y="5410080"/>
            <a:ext cx="586764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Dealing with ontology variations i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beyond the scope of this talk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BB9-53A2-4280-8467-A43AB89642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clusion (continued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ull disjunctions can be computed using queries in weak semanti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ull disjunctions can be generalized so that relations are joined using constraints that are not merely equality constrain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C1D-9A1C-426E-B9A7-DF6431FD505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"/>
          <p:cNvSpPr/>
          <p:nvPr/>
        </p:nvSpPr>
        <p:spPr>
          <a:xfrm>
            <a:off x="2590920" y="1981080"/>
            <a:ext cx="36576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Thank You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2590920" y="3429000"/>
            <a:ext cx="36576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Questions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916-A6DE-43A5-9F15-DBD22835F71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rregular Dat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ata is incomplet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issing values of attributes in object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ata has structural varia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lationships between objects are represented differently in different parts of the databa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ata has ontology varia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ifferent labels are used to describe objects of the same typ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D6F-1A0B-4942-B532-6646A7397C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533520" y="1447920"/>
            <a:ext cx="807696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Irregular data does not conform to a strict schema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3657600"/>
            <a:ext cx="5105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Queries over irregular data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should not be rigid patter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67080" y="27432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81080" y="5334120"/>
            <a:ext cx="518184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The schema cannot guide a us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in formulating a query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8F99-593A-470F-87B1-A0741BFF78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04920" y="3809880"/>
            <a:ext cx="4190760" cy="167652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The description of the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schema is large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(e.g., a DTD of XML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3809880"/>
            <a:ext cx="4191120" cy="1676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It is difficult to use the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schema when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formulating queri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04920" y="304920"/>
            <a:ext cx="4190760" cy="167616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Data is contribut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by many user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in a variety of desig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0" y="304920"/>
            <a:ext cx="4191120" cy="16761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The query should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deal with differ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structures of data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920" y="2057400"/>
            <a:ext cx="4190760" cy="167652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The structure of th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database is chang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frequentl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2057400"/>
            <a:ext cx="4191120" cy="1676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Queries should be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rewritten frequentl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920" y="5715000"/>
            <a:ext cx="853416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In Which Cases is it Difficult to Formulate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Queries over Semistructured Data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A44-14C6-49E7-81E1-150D233BE5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an Regular Expressions Help in Querying Irregular Data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 many cases, regular expressions can be used to query irregular data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Yet, regular expressions are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ot efficient –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t is difficult to evaluate regular express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ot intuitive –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t is difficult for a naïve user to formulate regular expression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06D-DBE3-419A-BBBE-949455452A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ore on Using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Regular Expressions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en querying irregular data, the size of the regular expression could be exponential in the number of labels in the databas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types of objects, there are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n!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possible hierarchi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an object with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attributes, there are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003399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ubsets of missing attribut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A4B-FAE5-42F9-8495-90F170B234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838080" y="380880"/>
            <a:ext cx="2743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8080" y="13716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Why is it difficult to query semistructured data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38080" y="2362320"/>
            <a:ext cx="769644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Queries with incomplete answers (QwIA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8080" y="3352680"/>
            <a:ext cx="769644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Flexible queries (FQ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43434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Oblivious querying = QwIA + FQ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38080" y="541008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Using QwIA and FQ for information integratio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A7D-535C-4106-A0C1-BAE5E9283A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Queries with Incomplete Answe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have developed queries that deal with incomplete data in a novel way and return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 incomplete answer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queries return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maximal answer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rather than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complete answer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fferent query semantics admit different levels of incompletenes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D6F-389B-4AFE-AC4E-4A1A96926D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1143000" y="1828800"/>
            <a:ext cx="4647960" cy="3429000"/>
            <a:chOff x="1143000" y="1828800"/>
            <a:chExt cx="4647960" cy="3429000"/>
          </a:xfrm>
        </p:grpSpPr>
        <p:sp>
          <p:nvSpPr>
            <p:cNvPr id="492" name=""/>
            <p:cNvSpPr/>
            <p:nvPr/>
          </p:nvSpPr>
          <p:spPr>
            <a:xfrm>
              <a:off x="1143000" y="1828800"/>
              <a:ext cx="4647960" cy="3429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43000" y="4674240"/>
              <a:ext cx="4647960" cy="583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Queries with Incomplete Answers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1371600" y="1066680"/>
            <a:ext cx="41148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ies with complete answe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1981080"/>
            <a:ext cx="41148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ies with AND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71600" y="2895480"/>
            <a:ext cx="41148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ies with Weak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71600" y="3809880"/>
            <a:ext cx="41148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ies with OR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43480" y="1143000"/>
            <a:ext cx="0" cy="335268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75240" y="1066680"/>
            <a:ext cx="25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creas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level of incompletenes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B9E-9810-40F8-87CA-25EC75AE67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Joint Work With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Queries with Incomplete Answer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Werner Nutt, Shuky Sagiv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Flexible Queri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Shuky Sagiv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SQL4X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Sara Cohen, Shuky Sagiv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Computing Full Disjunc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Shuky Sagiv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E2A3-9E75-44C1-B75F-0904E2A3A2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Queries and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queries are labeled rooted directed graph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Query nodes are variabl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tchings are assignments of database objects to the query variables according to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constraints specified in the query, and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semantics of the quer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0E9-5028-4C20-8D15-5EC596D261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3124080" y="4572000"/>
            <a:ext cx="297180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447920" y="2286000"/>
            <a:ext cx="6324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2120" y="13716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oot Constraint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tisfied if the query root is mapped to the db roo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dge Constraint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tisfied if a query edge with label </a:t>
            </a: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s mapped to a database edge with label </a:t>
            </a: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onstraints On Complete Matchings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251460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257800" y="2514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2666880"/>
            <a:ext cx="1676520" cy="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96960" y="248436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Query Roo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7960" y="25146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Database Roo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7242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81280" y="57150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10080" y="47242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10080" y="5715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733920" y="50292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50292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3526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14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86200" y="4876920"/>
            <a:ext cx="1523880" cy="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86200" y="5867280"/>
            <a:ext cx="1523880" cy="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223-2C91-4100-BE81-76F9915DC3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077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34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162920" y="37339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580920" y="2133720"/>
            <a:ext cx="1143000" cy="990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352680" y="220824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05720" y="1447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848720" y="2286000"/>
            <a:ext cx="3808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6960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2362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43800" y="243828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5840" y="48006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4 May 194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0" y="3809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8280" y="4572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2666520" y="3352680"/>
            <a:ext cx="685800" cy="12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00100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4380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0" y="3124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7315200" y="3200400"/>
            <a:ext cx="3808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4920" y="457200"/>
            <a:ext cx="2438280" cy="9144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 Comple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Match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505320" y="1143000"/>
            <a:ext cx="914400" cy="990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429000" y="2133720"/>
            <a:ext cx="763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086600" y="1828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267080" y="838080"/>
            <a:ext cx="3200040" cy="380880"/>
            <a:chOff x="4267080" y="838080"/>
            <a:chExt cx="3200040" cy="380880"/>
          </a:xfrm>
        </p:grpSpPr>
        <p:sp>
          <p:nvSpPr>
            <p:cNvPr id="607" name=""/>
            <p:cNvSpPr/>
            <p:nvPr/>
          </p:nvSpPr>
          <p:spPr>
            <a:xfrm flipH="1" flipV="1">
              <a:off x="4647960" y="990360"/>
              <a:ext cx="28191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67080" y="838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724280" y="1981080"/>
            <a:ext cx="3353040" cy="546120"/>
            <a:chOff x="4724280" y="1981080"/>
            <a:chExt cx="3353040" cy="546120"/>
          </a:xfrm>
        </p:grpSpPr>
        <p:sp>
          <p:nvSpPr>
            <p:cNvPr id="610" name=""/>
            <p:cNvSpPr/>
            <p:nvPr/>
          </p:nvSpPr>
          <p:spPr>
            <a:xfrm>
              <a:off x="4724280" y="1981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29200" y="2133720"/>
              <a:ext cx="3048120" cy="393480"/>
            </a:xfrm>
            <a:custGeom>
              <a:avLst/>
              <a:gdLst/>
              <a:ahLst/>
              <a:rect l="l" t="t" r="r" b="b"/>
              <a:pathLst>
                <a:path w="1920" h="248">
                  <a:moveTo>
                    <a:pt x="1920" y="0"/>
                  </a:moveTo>
                  <a:cubicBezTo>
                    <a:pt x="1624" y="116"/>
                    <a:pt x="1328" y="232"/>
                    <a:pt x="1008" y="240"/>
                  </a:cubicBezTo>
                  <a:cubicBezTo>
                    <a:pt x="688" y="248"/>
                    <a:pt x="344" y="148"/>
                    <a:pt x="0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276720" y="3048120"/>
            <a:ext cx="4343040" cy="304560"/>
            <a:chOff x="3276720" y="3048120"/>
            <a:chExt cx="4343040" cy="304560"/>
          </a:xfrm>
        </p:grpSpPr>
        <p:sp>
          <p:nvSpPr>
            <p:cNvPr id="613" name=""/>
            <p:cNvSpPr/>
            <p:nvPr/>
          </p:nvSpPr>
          <p:spPr>
            <a:xfrm flipH="1">
              <a:off x="3580920" y="3048120"/>
              <a:ext cx="403884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276720" y="30481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7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76720" y="3251160"/>
            <a:ext cx="4724280" cy="1003320"/>
            <a:chOff x="3276720" y="3251160"/>
            <a:chExt cx="4724280" cy="1003320"/>
          </a:xfrm>
        </p:grpSpPr>
        <p:sp>
          <p:nvSpPr>
            <p:cNvPr id="616" name=""/>
            <p:cNvSpPr/>
            <p:nvPr/>
          </p:nvSpPr>
          <p:spPr>
            <a:xfrm>
              <a:off x="3505320" y="3251160"/>
              <a:ext cx="4495680" cy="698760"/>
            </a:xfrm>
            <a:custGeom>
              <a:avLst/>
              <a:gdLst/>
              <a:ahLst/>
              <a:rect l="l" t="t" r="r" b="b"/>
              <a:pathLst>
                <a:path w="2832" h="440">
                  <a:moveTo>
                    <a:pt x="2832" y="392"/>
                  </a:moveTo>
                  <a:cubicBezTo>
                    <a:pt x="2228" y="196"/>
                    <a:pt x="1624" y="0"/>
                    <a:pt x="1152" y="8"/>
                  </a:cubicBezTo>
                  <a:cubicBezTo>
                    <a:pt x="680" y="16"/>
                    <a:pt x="184" y="368"/>
                    <a:pt x="0" y="44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276720" y="39499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2362320" y="1739880"/>
            <a:ext cx="4572000" cy="546120"/>
            <a:chOff x="2362320" y="1739880"/>
            <a:chExt cx="4572000" cy="546120"/>
          </a:xfrm>
        </p:grpSpPr>
        <p:sp>
          <p:nvSpPr>
            <p:cNvPr id="619" name=""/>
            <p:cNvSpPr/>
            <p:nvPr/>
          </p:nvSpPr>
          <p:spPr>
            <a:xfrm>
              <a:off x="2362320" y="198108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66880" y="1739880"/>
              <a:ext cx="4267440" cy="393840"/>
            </a:xfrm>
            <a:custGeom>
              <a:avLst/>
              <a:gdLst/>
              <a:ahLst/>
              <a:rect l="l" t="t" r="r" b="b"/>
              <a:pathLst>
                <a:path w="2688" h="248">
                  <a:moveTo>
                    <a:pt x="2688" y="248"/>
                  </a:moveTo>
                  <a:cubicBezTo>
                    <a:pt x="2240" y="132"/>
                    <a:pt x="1792" y="16"/>
                    <a:pt x="1344" y="8"/>
                  </a:cubicBezTo>
                  <a:cubicBezTo>
                    <a:pt x="896" y="0"/>
                    <a:pt x="448" y="100"/>
                    <a:pt x="0" y="2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86600" y="2286000"/>
            <a:ext cx="1143000" cy="609480"/>
            <a:chOff x="7086600" y="2286000"/>
            <a:chExt cx="1143000" cy="609480"/>
          </a:xfrm>
        </p:grpSpPr>
        <p:sp>
          <p:nvSpPr>
            <p:cNvPr id="624" name=""/>
            <p:cNvSpPr/>
            <p:nvPr/>
          </p:nvSpPr>
          <p:spPr>
            <a:xfrm>
              <a:off x="7086600" y="2286000"/>
              <a:ext cx="60948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48720" y="2286000"/>
              <a:ext cx="38088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438280" y="3886200"/>
            <a:ext cx="4724640" cy="990720"/>
            <a:chOff x="2438280" y="3886200"/>
            <a:chExt cx="4724640" cy="990720"/>
          </a:xfrm>
        </p:grpSpPr>
        <p:sp>
          <p:nvSpPr>
            <p:cNvPr id="629" name=""/>
            <p:cNvSpPr/>
            <p:nvPr/>
          </p:nvSpPr>
          <p:spPr>
            <a:xfrm>
              <a:off x="2438280" y="45720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743200" y="3886200"/>
              <a:ext cx="4419720" cy="838080"/>
            </a:xfrm>
            <a:custGeom>
              <a:avLst/>
              <a:gdLst/>
              <a:ahLst/>
              <a:rect l="l" t="t" r="r" b="b"/>
              <a:pathLst>
                <a:path w="2784" h="528">
                  <a:moveTo>
                    <a:pt x="2784" y="0"/>
                  </a:moveTo>
                  <a:cubicBezTo>
                    <a:pt x="2296" y="124"/>
                    <a:pt x="1808" y="248"/>
                    <a:pt x="1344" y="336"/>
                  </a:cubicBezTo>
                  <a:cubicBezTo>
                    <a:pt x="880" y="424"/>
                    <a:pt x="440" y="476"/>
                    <a:pt x="0" y="5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 flipH="1">
            <a:off x="7315200" y="3200400"/>
            <a:ext cx="3808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990720" y="5334120"/>
            <a:ext cx="36576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ll the nodes are mapped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o non-null valu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24280" y="5334120"/>
            <a:ext cx="335304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he root constraint and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ll the edge constraint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re satisfie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4038480" y="609480"/>
            <a:ext cx="3962520" cy="990720"/>
            <a:chOff x="4038480" y="609480"/>
            <a:chExt cx="3962520" cy="990720"/>
          </a:xfrm>
        </p:grpSpPr>
        <p:sp>
          <p:nvSpPr>
            <p:cNvPr id="635" name=""/>
            <p:cNvSpPr/>
            <p:nvPr/>
          </p:nvSpPr>
          <p:spPr>
            <a:xfrm>
              <a:off x="7238880" y="838080"/>
              <a:ext cx="762120" cy="7621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38480" y="609480"/>
              <a:ext cx="762120" cy="7621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4800240" y="990360"/>
              <a:ext cx="2438280" cy="15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2158920" y="1612800"/>
            <a:ext cx="6083280" cy="2095560"/>
            <a:chOff x="2158920" y="1612800"/>
            <a:chExt cx="6083280" cy="2095560"/>
          </a:xfrm>
        </p:grpSpPr>
        <p:sp>
          <p:nvSpPr>
            <p:cNvPr id="639" name=""/>
            <p:cNvSpPr/>
            <p:nvPr/>
          </p:nvSpPr>
          <p:spPr>
            <a:xfrm>
              <a:off x="6680160" y="1714680"/>
              <a:ext cx="1562040" cy="1803240"/>
            </a:xfrm>
            <a:custGeom>
              <a:avLst/>
              <a:gdLst/>
              <a:ahLst/>
              <a:rect l="l" t="t" r="r" b="b"/>
              <a:pathLst>
                <a:path w="984" h="1136">
                  <a:moveTo>
                    <a:pt x="64" y="120"/>
                  </a:moveTo>
                  <a:cubicBezTo>
                    <a:pt x="8" y="184"/>
                    <a:pt x="0" y="328"/>
                    <a:pt x="64" y="456"/>
                  </a:cubicBezTo>
                  <a:cubicBezTo>
                    <a:pt x="128" y="584"/>
                    <a:pt x="304" y="784"/>
                    <a:pt x="448" y="888"/>
                  </a:cubicBezTo>
                  <a:cubicBezTo>
                    <a:pt x="592" y="992"/>
                    <a:pt x="872" y="1136"/>
                    <a:pt x="928" y="1080"/>
                  </a:cubicBezTo>
                  <a:cubicBezTo>
                    <a:pt x="984" y="1024"/>
                    <a:pt x="872" y="720"/>
                    <a:pt x="784" y="552"/>
                  </a:cubicBezTo>
                  <a:cubicBezTo>
                    <a:pt x="696" y="384"/>
                    <a:pt x="520" y="144"/>
                    <a:pt x="400" y="72"/>
                  </a:cubicBezTo>
                  <a:cubicBezTo>
                    <a:pt x="280" y="0"/>
                    <a:pt x="120" y="56"/>
                    <a:pt x="64" y="120"/>
                  </a:cubicBez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58920" y="1612800"/>
              <a:ext cx="1752840" cy="2095560"/>
            </a:xfrm>
            <a:custGeom>
              <a:avLst/>
              <a:gdLst/>
              <a:ahLst/>
              <a:rect l="l" t="t" r="r" b="b"/>
              <a:pathLst>
                <a:path w="1104" h="1320">
                  <a:moveTo>
                    <a:pt x="1040" y="1096"/>
                  </a:moveTo>
                  <a:cubicBezTo>
                    <a:pt x="1064" y="1016"/>
                    <a:pt x="1104" y="928"/>
                    <a:pt x="992" y="760"/>
                  </a:cubicBezTo>
                  <a:cubicBezTo>
                    <a:pt x="880" y="592"/>
                    <a:pt x="528" y="176"/>
                    <a:pt x="368" y="88"/>
                  </a:cubicBezTo>
                  <a:cubicBezTo>
                    <a:pt x="208" y="0"/>
                    <a:pt x="64" y="144"/>
                    <a:pt x="32" y="232"/>
                  </a:cubicBezTo>
                  <a:cubicBezTo>
                    <a:pt x="0" y="320"/>
                    <a:pt x="40" y="448"/>
                    <a:pt x="176" y="616"/>
                  </a:cubicBezTo>
                  <a:cubicBezTo>
                    <a:pt x="312" y="784"/>
                    <a:pt x="704" y="1160"/>
                    <a:pt x="848" y="1240"/>
                  </a:cubicBezTo>
                  <a:cubicBezTo>
                    <a:pt x="992" y="1320"/>
                    <a:pt x="1016" y="1176"/>
                    <a:pt x="1040" y="1096"/>
                  </a:cubicBez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C23-1409-456B-82BB-34FB676F67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77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934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162920" y="37339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3580920" y="2133720"/>
            <a:ext cx="1143000" cy="990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52680" y="220824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705720" y="1447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7848720" y="2286000"/>
            <a:ext cx="3808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960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629400" y="2362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43800" y="243828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905840" y="48006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4 May 194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0" y="3809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438280" y="4572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666520" y="3352680"/>
            <a:ext cx="685800" cy="12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00100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54380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0" y="3124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7315200" y="3200400"/>
            <a:ext cx="3808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04920" y="5410080"/>
            <a:ext cx="48006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Consider the case where Node 35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is removed from the databas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910520" y="3346560"/>
            <a:ext cx="1441800" cy="1815840"/>
            <a:chOff x="1910520" y="3346560"/>
            <a:chExt cx="1441800" cy="1815840"/>
          </a:xfrm>
        </p:grpSpPr>
        <p:sp>
          <p:nvSpPr>
            <p:cNvPr id="719" name=""/>
            <p:cNvSpPr/>
            <p:nvPr/>
          </p:nvSpPr>
          <p:spPr>
            <a:xfrm>
              <a:off x="1910520" y="4794120"/>
              <a:ext cx="1401480" cy="368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14 May 194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85640" y="3803760"/>
              <a:ext cx="914040" cy="64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Date of birth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38280" y="4565520"/>
              <a:ext cx="304200" cy="30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2666880" y="3346560"/>
              <a:ext cx="685440" cy="1204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257800" y="5410080"/>
            <a:ext cx="3276720" cy="9144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No Comple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Matching Exists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3505320" y="1143000"/>
            <a:ext cx="914400" cy="990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3429000" y="2133720"/>
            <a:ext cx="763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086600" y="1828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209680" y="4419720"/>
            <a:ext cx="7621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09680" y="4419720"/>
            <a:ext cx="762120" cy="609480"/>
          </a:xfrm>
          <a:prstGeom prst="ellipse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7238880" y="4114440"/>
            <a:ext cx="7632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574-D9CD-4128-8761-5926B991E6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077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934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162920" y="37339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3580920" y="2133720"/>
            <a:ext cx="1143000" cy="990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352680" y="220824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705720" y="1447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7848720" y="2286000"/>
            <a:ext cx="3808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6960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629400" y="2362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543800" y="243828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00100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54380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858000" y="3124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7315200" y="3200400"/>
            <a:ext cx="3808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828800" y="5105520"/>
            <a:ext cx="5943600" cy="10666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Not Every Partial Assignmen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is an Incomplete Match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505320" y="1143000"/>
            <a:ext cx="914400" cy="990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429000" y="2133720"/>
            <a:ext cx="763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086600" y="1828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4267080" y="838080"/>
            <a:ext cx="3200040" cy="380880"/>
            <a:chOff x="4267080" y="838080"/>
            <a:chExt cx="3200040" cy="380880"/>
          </a:xfrm>
        </p:grpSpPr>
        <p:sp>
          <p:nvSpPr>
            <p:cNvPr id="817" name=""/>
            <p:cNvSpPr/>
            <p:nvPr/>
          </p:nvSpPr>
          <p:spPr>
            <a:xfrm flipH="1" flipV="1">
              <a:off x="4647960" y="990360"/>
              <a:ext cx="28191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267080" y="838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1047600" y="4943520"/>
            <a:ext cx="75438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his is not a matching, since the sequence of label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from the database root to Node 31 is different from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ny sequence of labels that starts at the query roo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nd ends in variable v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162920" y="3733920"/>
            <a:ext cx="30456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315200" y="403848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934320" y="4267080"/>
            <a:ext cx="76176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924680" y="3048120"/>
            <a:ext cx="22860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153280" y="2971800"/>
            <a:ext cx="76212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077320" y="1981080"/>
            <a:ext cx="30456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8381880" y="190476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305920" y="1600200"/>
            <a:ext cx="76176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934320" y="1981080"/>
            <a:ext cx="30456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6781680" y="1981080"/>
            <a:ext cx="15264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19920" y="1828800"/>
            <a:ext cx="76176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1676520" y="3886200"/>
            <a:ext cx="63244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747-D23A-49A0-A05B-A7F25FB145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he Reachability Constraint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n Partial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query node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hat is mapped to a database object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atisfies th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reachability constrai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there is a path from the query root to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such that all edge constraints along this path are satisfi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6172200" y="4038480"/>
            <a:ext cx="2514600" cy="2568600"/>
            <a:chOff x="6172200" y="4038480"/>
            <a:chExt cx="2514600" cy="2568600"/>
          </a:xfrm>
        </p:grpSpPr>
        <p:sp>
          <p:nvSpPr>
            <p:cNvPr id="837" name=""/>
            <p:cNvSpPr/>
            <p:nvPr/>
          </p:nvSpPr>
          <p:spPr>
            <a:xfrm>
              <a:off x="6172200" y="4092480"/>
              <a:ext cx="220968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543800" y="4038480"/>
              <a:ext cx="1143000" cy="380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3124080" y="4397400"/>
            <a:ext cx="2514600" cy="2232000"/>
            <a:chOff x="3124080" y="4397400"/>
            <a:chExt cx="2514600" cy="2232000"/>
          </a:xfrm>
        </p:grpSpPr>
        <p:sp>
          <p:nvSpPr>
            <p:cNvPr id="840" name=""/>
            <p:cNvSpPr/>
            <p:nvPr/>
          </p:nvSpPr>
          <p:spPr>
            <a:xfrm>
              <a:off x="3428640" y="4397400"/>
              <a:ext cx="2210040" cy="2209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705200" y="499104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705200" y="563868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57480" y="5295960"/>
              <a:ext cx="0" cy="342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924000" y="499104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24000" y="56386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076640" y="5295960"/>
              <a:ext cx="0" cy="342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038480" y="464832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267080" y="449568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323960" y="61722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4628520" y="594360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95360" y="594360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4114440" y="4724280"/>
              <a:ext cx="15264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571640" y="472428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038480" y="525780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571640" y="4572000"/>
              <a:ext cx="38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114440" y="5791320"/>
              <a:ext cx="38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00240" y="5257800"/>
              <a:ext cx="38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647960" y="586728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124080" y="6248520"/>
              <a:ext cx="990360" cy="380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Quer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3919680" y="4267080"/>
            <a:ext cx="3471840" cy="2209680"/>
            <a:chOff x="3919680" y="4267080"/>
            <a:chExt cx="3471840" cy="2209680"/>
          </a:xfrm>
        </p:grpSpPr>
        <p:sp>
          <p:nvSpPr>
            <p:cNvPr id="861" name=""/>
            <p:cNvSpPr/>
            <p:nvPr/>
          </p:nvSpPr>
          <p:spPr>
            <a:xfrm>
              <a:off x="3919680" y="4991040"/>
              <a:ext cx="304920" cy="3045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919680" y="5638680"/>
              <a:ext cx="304920" cy="3045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071960" y="5295600"/>
              <a:ext cx="0" cy="3430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262760" y="4495680"/>
              <a:ext cx="304560" cy="3045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319640" y="617184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091040" y="594324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4110120" y="4724280"/>
              <a:ext cx="15264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034160" y="525744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10120" y="5790960"/>
              <a:ext cx="38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316400" y="6171840"/>
              <a:ext cx="304920" cy="3049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934320" y="4267080"/>
              <a:ext cx="30492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86600" y="6171840"/>
              <a:ext cx="304920" cy="3049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5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591600" y="4762440"/>
              <a:ext cx="304560" cy="304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591600" y="5410080"/>
              <a:ext cx="304560" cy="304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743880" y="5067000"/>
              <a:ext cx="1440" cy="3430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15160" y="4509720"/>
              <a:ext cx="38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934320" y="4267080"/>
              <a:ext cx="304920" cy="304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62960" y="5714640"/>
              <a:ext cx="323640" cy="4572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6781680" y="4495680"/>
              <a:ext cx="15228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705720" y="502884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782040" y="556236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4267440" y="4876200"/>
              <a:ext cx="2286000" cy="22860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4224600" y="5562000"/>
              <a:ext cx="2404800" cy="22860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4648320" y="4419000"/>
              <a:ext cx="2286000" cy="22860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4648320" y="6149880"/>
            <a:ext cx="2743200" cy="304560"/>
            <a:chOff x="4648320" y="6149880"/>
            <a:chExt cx="2743200" cy="304560"/>
          </a:xfrm>
        </p:grpSpPr>
        <p:sp>
          <p:nvSpPr>
            <p:cNvPr id="886" name=""/>
            <p:cNvSpPr/>
            <p:nvPr/>
          </p:nvSpPr>
          <p:spPr>
            <a:xfrm>
              <a:off x="4648320" y="6302160"/>
              <a:ext cx="24382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086600" y="6149880"/>
              <a:ext cx="304920" cy="304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5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4267080" y="4260960"/>
            <a:ext cx="3581280" cy="2235240"/>
            <a:chOff x="4267080" y="4260960"/>
            <a:chExt cx="3581280" cy="2235240"/>
          </a:xfrm>
        </p:grpSpPr>
        <p:sp>
          <p:nvSpPr>
            <p:cNvPr id="889" name=""/>
            <p:cNvSpPr/>
            <p:nvPr/>
          </p:nvSpPr>
          <p:spPr>
            <a:xfrm>
              <a:off x="4343040" y="6191640"/>
              <a:ext cx="304920" cy="3045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5028840" y="5556240"/>
              <a:ext cx="2362320" cy="22860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705200" y="4984920"/>
              <a:ext cx="304560" cy="3049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05200" y="5632560"/>
              <a:ext cx="304560" cy="3049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57480" y="5289840"/>
              <a:ext cx="0" cy="342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267080" y="4489560"/>
              <a:ext cx="304560" cy="3049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4628520" y="593748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71640" y="471816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571640" y="4565880"/>
              <a:ext cx="38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800240" y="5251680"/>
              <a:ext cx="38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47960" y="586116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72080" y="4756320"/>
              <a:ext cx="304920" cy="3049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72080" y="5403960"/>
              <a:ext cx="304920" cy="3049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524360" y="5061240"/>
              <a:ext cx="0" cy="342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33960" y="4260960"/>
              <a:ext cx="304920" cy="3049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7314840" y="5708880"/>
              <a:ext cx="209520" cy="4572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238880" y="448956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38880" y="433728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467480" y="502308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391160" y="570888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5028840" y="4946760"/>
              <a:ext cx="2362320" cy="15264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4571640" y="4413240"/>
              <a:ext cx="2362320" cy="22860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086240" y="6166080"/>
              <a:ext cx="304920" cy="3049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5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74A-CFE9-4D70-A864-B00CD30D62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"/>
          <p:cNvGrpSpPr/>
          <p:nvPr/>
        </p:nvGrpSpPr>
        <p:grpSpPr>
          <a:xfrm>
            <a:off x="1143000" y="4038480"/>
            <a:ext cx="7238880" cy="2743200"/>
            <a:chOff x="1143000" y="4038480"/>
            <a:chExt cx="7238880" cy="2743200"/>
          </a:xfrm>
        </p:grpSpPr>
        <p:grpSp>
          <p:nvGrpSpPr>
            <p:cNvPr id="913" name=""/>
            <p:cNvGrpSpPr/>
            <p:nvPr/>
          </p:nvGrpSpPr>
          <p:grpSpPr>
            <a:xfrm>
              <a:off x="3657600" y="4952880"/>
              <a:ext cx="2286000" cy="1828800"/>
              <a:chOff x="3657600" y="4952880"/>
              <a:chExt cx="2286000" cy="1828800"/>
            </a:xfrm>
          </p:grpSpPr>
          <p:sp>
            <p:nvSpPr>
              <p:cNvPr id="914" name=""/>
              <p:cNvSpPr/>
              <p:nvPr/>
            </p:nvSpPr>
            <p:spPr>
              <a:xfrm>
                <a:off x="3657600" y="4952880"/>
                <a:ext cx="1981080" cy="1828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181480" y="5410080"/>
                <a:ext cx="304920" cy="3049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886200" y="5410080"/>
                <a:ext cx="304920" cy="3049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648320" y="6324480"/>
                <a:ext cx="304560" cy="3049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z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114800" y="5715000"/>
                <a:ext cx="609480" cy="6094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4876920" y="5715000"/>
                <a:ext cx="380880" cy="6094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657600" y="5791320"/>
                <a:ext cx="114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Director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800600" y="5715000"/>
                <a:ext cx="114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Actor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724280" y="5334120"/>
                <a:ext cx="76320" cy="9903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572000" y="5029200"/>
                <a:ext cx="304920" cy="3049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114800" y="5486400"/>
                <a:ext cx="114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Times New Roman"/>
                  </a:rPr>
                  <a:t>Producer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1143000" y="4038480"/>
              <a:ext cx="7238880" cy="9144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nd”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partial matching is an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AND matching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root constraint is satisfi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reachability constraint is satisfied by every query node that is mapped to a database nod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f a query node is mapped to a database node, all the incoming edge constraints are satisfi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4114800" y="5334120"/>
            <a:ext cx="1143000" cy="990360"/>
            <a:chOff x="4114800" y="5334120"/>
            <a:chExt cx="1143000" cy="990360"/>
          </a:xfrm>
        </p:grpSpPr>
        <p:sp>
          <p:nvSpPr>
            <p:cNvPr id="929" name=""/>
            <p:cNvSpPr/>
            <p:nvPr/>
          </p:nvSpPr>
          <p:spPr>
            <a:xfrm>
              <a:off x="4114800" y="5714640"/>
              <a:ext cx="60984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724640" y="5334120"/>
              <a:ext cx="7596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4876920" y="5714640"/>
              <a:ext cx="38088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1143000" y="2590920"/>
            <a:ext cx="7238880" cy="1447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952880" y="64771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80A-4962-4A59-9AF9-BB9334A92D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905120" y="5486400"/>
            <a:ext cx="4647960" cy="685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n AND Match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077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62920" y="37339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580920" y="2133720"/>
            <a:ext cx="1143000" cy="990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352680" y="220824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05720" y="1447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7848720" y="2286000"/>
            <a:ext cx="3808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6960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629400" y="2362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543800" y="243828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00100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54380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858000" y="3124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7315200" y="3200400"/>
            <a:ext cx="3808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4267080" y="838080"/>
            <a:ext cx="3200040" cy="380880"/>
            <a:chOff x="4267080" y="838080"/>
            <a:chExt cx="3200040" cy="380880"/>
          </a:xfrm>
        </p:grpSpPr>
        <p:sp>
          <p:nvSpPr>
            <p:cNvPr id="1011" name=""/>
            <p:cNvSpPr/>
            <p:nvPr/>
          </p:nvSpPr>
          <p:spPr>
            <a:xfrm flipH="1" flipV="1">
              <a:off x="4647960" y="990360"/>
              <a:ext cx="28191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267080" y="838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4724280" y="1981080"/>
            <a:ext cx="3353040" cy="546120"/>
            <a:chOff x="4724280" y="1981080"/>
            <a:chExt cx="3353040" cy="546120"/>
          </a:xfrm>
        </p:grpSpPr>
        <p:sp>
          <p:nvSpPr>
            <p:cNvPr id="1015" name=""/>
            <p:cNvSpPr/>
            <p:nvPr/>
          </p:nvSpPr>
          <p:spPr>
            <a:xfrm>
              <a:off x="4724280" y="1981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029200" y="2133720"/>
              <a:ext cx="3048120" cy="393480"/>
            </a:xfrm>
            <a:custGeom>
              <a:avLst/>
              <a:gdLst/>
              <a:ahLst/>
              <a:rect l="l" t="t" r="r" b="b"/>
              <a:pathLst>
                <a:path w="1920" h="248">
                  <a:moveTo>
                    <a:pt x="1920" y="0"/>
                  </a:moveTo>
                  <a:cubicBezTo>
                    <a:pt x="1624" y="116"/>
                    <a:pt x="1328" y="232"/>
                    <a:pt x="1008" y="240"/>
                  </a:cubicBezTo>
                  <a:cubicBezTo>
                    <a:pt x="688" y="248"/>
                    <a:pt x="344" y="148"/>
                    <a:pt x="0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3276720" y="3048120"/>
            <a:ext cx="4343040" cy="304560"/>
            <a:chOff x="3276720" y="3048120"/>
            <a:chExt cx="4343040" cy="304560"/>
          </a:xfrm>
        </p:grpSpPr>
        <p:sp>
          <p:nvSpPr>
            <p:cNvPr id="1019" name=""/>
            <p:cNvSpPr/>
            <p:nvPr/>
          </p:nvSpPr>
          <p:spPr>
            <a:xfrm flipH="1">
              <a:off x="3580920" y="3048120"/>
              <a:ext cx="403884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276720" y="30481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7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086600" y="2286000"/>
            <a:ext cx="1143000" cy="609480"/>
            <a:chOff x="7086600" y="2286000"/>
            <a:chExt cx="1143000" cy="609480"/>
          </a:xfrm>
        </p:grpSpPr>
        <p:sp>
          <p:nvSpPr>
            <p:cNvPr id="1022" name=""/>
            <p:cNvSpPr/>
            <p:nvPr/>
          </p:nvSpPr>
          <p:spPr>
            <a:xfrm>
              <a:off x="7086600" y="2286000"/>
              <a:ext cx="60948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7848720" y="2286000"/>
              <a:ext cx="38088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276720" y="3251160"/>
            <a:ext cx="4724280" cy="1003320"/>
            <a:chOff x="3276720" y="3251160"/>
            <a:chExt cx="4724280" cy="1003320"/>
          </a:xfrm>
        </p:grpSpPr>
        <p:sp>
          <p:nvSpPr>
            <p:cNvPr id="1025" name=""/>
            <p:cNvSpPr/>
            <p:nvPr/>
          </p:nvSpPr>
          <p:spPr>
            <a:xfrm>
              <a:off x="3505320" y="3251160"/>
              <a:ext cx="4495680" cy="698760"/>
            </a:xfrm>
            <a:custGeom>
              <a:avLst/>
              <a:gdLst/>
              <a:ahLst/>
              <a:rect l="l" t="t" r="r" b="b"/>
              <a:pathLst>
                <a:path w="2832" h="440">
                  <a:moveTo>
                    <a:pt x="2832" y="392"/>
                  </a:moveTo>
                  <a:cubicBezTo>
                    <a:pt x="2228" y="196"/>
                    <a:pt x="1624" y="0"/>
                    <a:pt x="1152" y="8"/>
                  </a:cubicBezTo>
                  <a:cubicBezTo>
                    <a:pt x="680" y="16"/>
                    <a:pt x="184" y="368"/>
                    <a:pt x="0" y="44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276720" y="39499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505320" y="1143000"/>
            <a:ext cx="914400" cy="990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3429000" y="2133720"/>
            <a:ext cx="763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2362320" y="1739880"/>
            <a:ext cx="4572000" cy="546120"/>
            <a:chOff x="2362320" y="1739880"/>
            <a:chExt cx="4572000" cy="546120"/>
          </a:xfrm>
        </p:grpSpPr>
        <p:sp>
          <p:nvSpPr>
            <p:cNvPr id="1032" name=""/>
            <p:cNvSpPr/>
            <p:nvPr/>
          </p:nvSpPr>
          <p:spPr>
            <a:xfrm>
              <a:off x="2362320" y="198108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666880" y="1739880"/>
              <a:ext cx="4267440" cy="393840"/>
            </a:xfrm>
            <a:custGeom>
              <a:avLst/>
              <a:gdLst/>
              <a:ahLst/>
              <a:rect l="l" t="t" r="r" b="b"/>
              <a:pathLst>
                <a:path w="2688" h="248">
                  <a:moveTo>
                    <a:pt x="2688" y="248"/>
                  </a:moveTo>
                  <a:cubicBezTo>
                    <a:pt x="2240" y="132"/>
                    <a:pt x="1792" y="16"/>
                    <a:pt x="1344" y="8"/>
                  </a:cubicBezTo>
                  <a:cubicBezTo>
                    <a:pt x="896" y="0"/>
                    <a:pt x="448" y="100"/>
                    <a:pt x="0" y="2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086600" y="1828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6934320" y="3733920"/>
            <a:ext cx="761760" cy="838080"/>
            <a:chOff x="6934320" y="3733920"/>
            <a:chExt cx="761760" cy="838080"/>
          </a:xfrm>
        </p:grpSpPr>
        <p:sp>
          <p:nvSpPr>
            <p:cNvPr id="1038" name=""/>
            <p:cNvSpPr/>
            <p:nvPr/>
          </p:nvSpPr>
          <p:spPr>
            <a:xfrm>
              <a:off x="7162920" y="373392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315200" y="403848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934320" y="4267080"/>
              <a:ext cx="76176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 flipH="1" flipV="1">
            <a:off x="7772400" y="3276720"/>
            <a:ext cx="76320" cy="2209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7460-BDC1-4A3A-B141-4CC44E142E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 flipH="1">
            <a:off x="3580920" y="2133720"/>
            <a:ext cx="1143000" cy="990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352680" y="220824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3352680" y="2133720"/>
            <a:ext cx="1371600" cy="990360"/>
            <a:chOff x="3352680" y="2133720"/>
            <a:chExt cx="1371600" cy="990360"/>
          </a:xfrm>
        </p:grpSpPr>
        <p:sp>
          <p:nvSpPr>
            <p:cNvPr id="1045" name=""/>
            <p:cNvSpPr/>
            <p:nvPr/>
          </p:nvSpPr>
          <p:spPr>
            <a:xfrm flipH="1">
              <a:off x="3580920" y="2133720"/>
              <a:ext cx="1143000" cy="9903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352680" y="2208240"/>
              <a:ext cx="1371600" cy="464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Uncredited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Actor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8077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934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162920" y="37339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705720" y="1447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7848720" y="2286000"/>
            <a:ext cx="3808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6960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629400" y="2362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543800" y="243828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00100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54380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858000" y="3124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7315200" y="3200400"/>
            <a:ext cx="3808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28600" y="5257800"/>
            <a:ext cx="47242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Suppose that we remove th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edges that are labeled wit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Uncredited Acto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3505320" y="1143000"/>
            <a:ext cx="914400" cy="990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429000" y="2133720"/>
            <a:ext cx="763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086600" y="1828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5334120" y="3352320"/>
            <a:ext cx="3657240" cy="2895840"/>
            <a:chOff x="5334120" y="3352320"/>
            <a:chExt cx="3657240" cy="2895840"/>
          </a:xfrm>
        </p:grpSpPr>
        <p:sp>
          <p:nvSpPr>
            <p:cNvPr id="1127" name=""/>
            <p:cNvSpPr/>
            <p:nvPr/>
          </p:nvSpPr>
          <p:spPr>
            <a:xfrm>
              <a:off x="5334120" y="5309280"/>
              <a:ext cx="3657240" cy="9388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ffcc66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In an AND matching,</a:t>
              </a:r>
              <a:endParaRPr b="0" lang="en-US" sz="28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Node 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z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must be null!</a:t>
              </a:r>
              <a:endParaRPr b="0" lang="en-US" sz="2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7447320" y="3352320"/>
              <a:ext cx="324720" cy="195660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129" name=""/>
          <p:cNvSpPr/>
          <p:nvPr/>
        </p:nvSpPr>
        <p:spPr>
          <a:xfrm flipH="1" flipV="1">
            <a:off x="3886200" y="2895480"/>
            <a:ext cx="76320" cy="236232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4FF5-62B3-41AF-8A32-D091487C4C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762120" y="13716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dge Constraint: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s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Weakly Satisfied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f it is eith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tisfied (as defined earlier), o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ne (or more) of its nodes is mapped to a null valu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eak Satisfaction of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dge Constraint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0" y="3809880"/>
            <a:ext cx="2362320" cy="2514600"/>
            <a:chOff x="0" y="3809880"/>
            <a:chExt cx="2362320" cy="2514600"/>
          </a:xfrm>
        </p:grpSpPr>
        <p:sp>
          <p:nvSpPr>
            <p:cNvPr id="1133" name=""/>
            <p:cNvSpPr/>
            <p:nvPr/>
          </p:nvSpPr>
          <p:spPr>
            <a:xfrm>
              <a:off x="0" y="3809880"/>
              <a:ext cx="236232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52280" y="43434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52280" y="5334120"/>
              <a:ext cx="30492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752480" y="434340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752480" y="5334120"/>
              <a:ext cx="3049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0492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90512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6320" y="48006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2388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7200" y="4495680"/>
              <a:ext cx="12952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7200" y="5486400"/>
              <a:ext cx="12952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2286000" y="3809880"/>
            <a:ext cx="2438280" cy="2514600"/>
            <a:chOff x="2286000" y="3809880"/>
            <a:chExt cx="2438280" cy="2514600"/>
          </a:xfrm>
        </p:grpSpPr>
        <p:sp>
          <p:nvSpPr>
            <p:cNvPr id="1145" name=""/>
            <p:cNvSpPr/>
            <p:nvPr/>
          </p:nvSpPr>
          <p:spPr>
            <a:xfrm>
              <a:off x="2362320" y="3809880"/>
              <a:ext cx="236196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514600" y="43434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14600" y="5334120"/>
              <a:ext cx="30492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191120" y="4343400"/>
              <a:ext cx="30456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191120" y="5334120"/>
              <a:ext cx="3045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6688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28600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962520" y="4800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819520" y="4495680"/>
              <a:ext cx="137160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819520" y="5486400"/>
              <a:ext cx="533160" cy="38088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34340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429000" y="5867280"/>
              <a:ext cx="762120" cy="30492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4724280" y="3809880"/>
            <a:ext cx="2362320" cy="2514600"/>
            <a:chOff x="4724280" y="3809880"/>
            <a:chExt cx="2362320" cy="2514600"/>
          </a:xfrm>
        </p:grpSpPr>
        <p:sp>
          <p:nvSpPr>
            <p:cNvPr id="1158" name=""/>
            <p:cNvSpPr/>
            <p:nvPr/>
          </p:nvSpPr>
          <p:spPr>
            <a:xfrm>
              <a:off x="4724280" y="3809880"/>
              <a:ext cx="236232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029200" y="43434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29200" y="5334120"/>
              <a:ext cx="30492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705720" y="4343400"/>
              <a:ext cx="30456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705720" y="5334120"/>
              <a:ext cx="3045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18148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80060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477120" y="4800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5334120" y="4191120"/>
              <a:ext cx="457200" cy="30456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334120" y="5486400"/>
              <a:ext cx="137160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5800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91320" y="3962520"/>
              <a:ext cx="761760" cy="30456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7086600" y="3809880"/>
            <a:ext cx="2057400" cy="2514600"/>
            <a:chOff x="7086600" y="3809880"/>
            <a:chExt cx="2057400" cy="2514600"/>
          </a:xfrm>
        </p:grpSpPr>
        <p:sp>
          <p:nvSpPr>
            <p:cNvPr id="1171" name=""/>
            <p:cNvSpPr/>
            <p:nvPr/>
          </p:nvSpPr>
          <p:spPr>
            <a:xfrm>
              <a:off x="7086600" y="3809880"/>
              <a:ext cx="205740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543800" y="43434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43800" y="5334120"/>
              <a:ext cx="30492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69608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31520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7848720" y="4191120"/>
              <a:ext cx="457200" cy="30456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305920" y="3962520"/>
              <a:ext cx="761760" cy="30456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848720" y="5562720"/>
              <a:ext cx="380880" cy="30456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305920" y="5867280"/>
              <a:ext cx="761760" cy="30492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18D-7A91-47C5-B67F-28D38A065B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80880"/>
            <a:ext cx="2743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3716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Why is it difficult to query semistructured data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362320"/>
            <a:ext cx="769644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Queries with incomplete answers (QwIA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352680"/>
            <a:ext cx="769644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Flexible queries (FQ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3434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Oblivious querying = QwIA + FQ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41008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Using QwIA and FQ for information integratio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76A-D196-46F2-B9BB-44B98FE26B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eak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A partial matching is a </a:t>
            </a: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weak matching </a:t>
            </a: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oot constraint is satisfi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eachability constraint is satisfied by every query node that is mapped to a database n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very edge constraint is weakly satisfi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066680" y="3200400"/>
            <a:ext cx="7315200" cy="2057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066680" y="5257800"/>
            <a:ext cx="731520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D2A-CE71-4579-A93E-BF2184177D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143000" y="5486400"/>
            <a:ext cx="4648320" cy="685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 Weak Match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077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934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162920" y="37339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1447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7848720" y="2286000"/>
            <a:ext cx="3808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6960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629400" y="2362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543800" y="243828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800100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54380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858000" y="3124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7315200" y="3200400"/>
            <a:ext cx="3808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4267080" y="838080"/>
            <a:ext cx="3200040" cy="380880"/>
            <a:chOff x="4267080" y="838080"/>
            <a:chExt cx="3200040" cy="380880"/>
          </a:xfrm>
        </p:grpSpPr>
        <p:sp>
          <p:nvSpPr>
            <p:cNvPr id="1259" name=""/>
            <p:cNvSpPr/>
            <p:nvPr/>
          </p:nvSpPr>
          <p:spPr>
            <a:xfrm flipH="1" flipV="1">
              <a:off x="4647960" y="990360"/>
              <a:ext cx="28191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267080" y="838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261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3276720" y="3048120"/>
            <a:ext cx="4343040" cy="304560"/>
            <a:chOff x="3276720" y="3048120"/>
            <a:chExt cx="4343040" cy="304560"/>
          </a:xfrm>
        </p:grpSpPr>
        <p:sp>
          <p:nvSpPr>
            <p:cNvPr id="1263" name=""/>
            <p:cNvSpPr/>
            <p:nvPr/>
          </p:nvSpPr>
          <p:spPr>
            <a:xfrm flipH="1">
              <a:off x="3580920" y="3048120"/>
              <a:ext cx="403884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276720" y="30481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7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3276720" y="3251160"/>
            <a:ext cx="4724280" cy="1003320"/>
            <a:chOff x="3276720" y="3251160"/>
            <a:chExt cx="4724280" cy="1003320"/>
          </a:xfrm>
        </p:grpSpPr>
        <p:sp>
          <p:nvSpPr>
            <p:cNvPr id="1267" name=""/>
            <p:cNvSpPr/>
            <p:nvPr/>
          </p:nvSpPr>
          <p:spPr>
            <a:xfrm>
              <a:off x="3505320" y="3251160"/>
              <a:ext cx="4495680" cy="698760"/>
            </a:xfrm>
            <a:custGeom>
              <a:avLst/>
              <a:gdLst/>
              <a:ahLst/>
              <a:rect l="l" t="t" r="r" b="b"/>
              <a:pathLst>
                <a:path w="2832" h="440">
                  <a:moveTo>
                    <a:pt x="2832" y="392"/>
                  </a:moveTo>
                  <a:cubicBezTo>
                    <a:pt x="2228" y="196"/>
                    <a:pt x="1624" y="0"/>
                    <a:pt x="1152" y="8"/>
                  </a:cubicBezTo>
                  <a:cubicBezTo>
                    <a:pt x="680" y="16"/>
                    <a:pt x="184" y="368"/>
                    <a:pt x="0" y="44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276720" y="39499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269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3505320" y="1143000"/>
            <a:ext cx="914400" cy="990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3429000" y="2133720"/>
            <a:ext cx="763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73" name=""/>
          <p:cNvGrpSpPr/>
          <p:nvPr/>
        </p:nvGrpSpPr>
        <p:grpSpPr>
          <a:xfrm>
            <a:off x="2362320" y="1739880"/>
            <a:ext cx="4572000" cy="546120"/>
            <a:chOff x="2362320" y="1739880"/>
            <a:chExt cx="4572000" cy="546120"/>
          </a:xfrm>
        </p:grpSpPr>
        <p:sp>
          <p:nvSpPr>
            <p:cNvPr id="1274" name=""/>
            <p:cNvSpPr/>
            <p:nvPr/>
          </p:nvSpPr>
          <p:spPr>
            <a:xfrm>
              <a:off x="2362320" y="198108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666880" y="1739880"/>
              <a:ext cx="4267440" cy="393840"/>
            </a:xfrm>
            <a:custGeom>
              <a:avLst/>
              <a:gdLst/>
              <a:ahLst/>
              <a:rect l="l" t="t" r="r" b="b"/>
              <a:pathLst>
                <a:path w="2688" h="248">
                  <a:moveTo>
                    <a:pt x="2688" y="248"/>
                  </a:moveTo>
                  <a:cubicBezTo>
                    <a:pt x="2240" y="132"/>
                    <a:pt x="1792" y="16"/>
                    <a:pt x="1344" y="8"/>
                  </a:cubicBezTo>
                  <a:cubicBezTo>
                    <a:pt x="896" y="0"/>
                    <a:pt x="448" y="100"/>
                    <a:pt x="0" y="2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276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086600" y="1828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6934320" y="3733920"/>
            <a:ext cx="761760" cy="838080"/>
            <a:chOff x="6934320" y="3733920"/>
            <a:chExt cx="761760" cy="838080"/>
          </a:xfrm>
        </p:grpSpPr>
        <p:sp>
          <p:nvSpPr>
            <p:cNvPr id="1280" name=""/>
            <p:cNvSpPr/>
            <p:nvPr/>
          </p:nvSpPr>
          <p:spPr>
            <a:xfrm>
              <a:off x="7162920" y="373392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15200" y="403848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934320" y="4267080"/>
              <a:ext cx="76176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8077320" y="1981080"/>
            <a:ext cx="914400" cy="1219320"/>
            <a:chOff x="8077320" y="1981080"/>
            <a:chExt cx="914400" cy="1219320"/>
          </a:xfrm>
        </p:grpSpPr>
        <p:sp>
          <p:nvSpPr>
            <p:cNvPr id="1284" name=""/>
            <p:cNvSpPr/>
            <p:nvPr/>
          </p:nvSpPr>
          <p:spPr>
            <a:xfrm>
              <a:off x="8077320" y="1981080"/>
              <a:ext cx="30456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305920" y="2286000"/>
              <a:ext cx="30456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229600" y="2895480"/>
              <a:ext cx="76212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6705720" y="1981080"/>
            <a:ext cx="2285640" cy="4267440"/>
            <a:chOff x="6705720" y="1981080"/>
            <a:chExt cx="2285640" cy="4267440"/>
          </a:xfrm>
        </p:grpSpPr>
        <p:sp>
          <p:nvSpPr>
            <p:cNvPr id="1288" name=""/>
            <p:cNvSpPr/>
            <p:nvPr/>
          </p:nvSpPr>
          <p:spPr>
            <a:xfrm>
              <a:off x="6705720" y="5334120"/>
              <a:ext cx="2285640" cy="914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Edges that ar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weakly satisfied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 flipV="1">
              <a:off x="8093520" y="1981080"/>
              <a:ext cx="489600" cy="3353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flipV="1">
              <a:off x="8011440" y="2895480"/>
              <a:ext cx="326520" cy="2438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 flipV="1">
              <a:off x="7522200" y="3505320"/>
              <a:ext cx="244800" cy="1828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319-8A17-44BE-BA0C-C841A6E10A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2" name=""/>
          <p:cNvGrpSpPr/>
          <p:nvPr/>
        </p:nvGrpSpPr>
        <p:grpSpPr>
          <a:xfrm>
            <a:off x="0" y="3809880"/>
            <a:ext cx="2362320" cy="2514600"/>
            <a:chOff x="0" y="3809880"/>
            <a:chExt cx="2362320" cy="2514600"/>
          </a:xfrm>
        </p:grpSpPr>
        <p:sp>
          <p:nvSpPr>
            <p:cNvPr id="1293" name=""/>
            <p:cNvSpPr/>
            <p:nvPr/>
          </p:nvSpPr>
          <p:spPr>
            <a:xfrm>
              <a:off x="0" y="3809880"/>
              <a:ext cx="236232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52280" y="43434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52280" y="5334120"/>
              <a:ext cx="30492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752480" y="434340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752480" y="5334120"/>
              <a:ext cx="3049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0492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90512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320" y="48006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52388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57200" y="4495680"/>
              <a:ext cx="12952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57200" y="5486400"/>
              <a:ext cx="12952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2286000" y="3809880"/>
            <a:ext cx="2438280" cy="2514600"/>
            <a:chOff x="2286000" y="3809880"/>
            <a:chExt cx="2438280" cy="2514600"/>
          </a:xfrm>
        </p:grpSpPr>
        <p:sp>
          <p:nvSpPr>
            <p:cNvPr id="1305" name=""/>
            <p:cNvSpPr/>
            <p:nvPr/>
          </p:nvSpPr>
          <p:spPr>
            <a:xfrm>
              <a:off x="2362320" y="3809880"/>
              <a:ext cx="236196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514600" y="43434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514600" y="5334120"/>
              <a:ext cx="30492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191120" y="4343400"/>
              <a:ext cx="30456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191120" y="5334120"/>
              <a:ext cx="3045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66688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28600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962520" y="4800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819520" y="4495680"/>
              <a:ext cx="137160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819520" y="5486400"/>
              <a:ext cx="533160" cy="38088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34340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429000" y="5867280"/>
              <a:ext cx="762120" cy="30492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4724280" y="3809880"/>
            <a:ext cx="2057400" cy="2514600"/>
            <a:chOff x="4724280" y="3809880"/>
            <a:chExt cx="2057400" cy="2514600"/>
          </a:xfrm>
        </p:grpSpPr>
        <p:sp>
          <p:nvSpPr>
            <p:cNvPr id="1318" name=""/>
            <p:cNvSpPr/>
            <p:nvPr/>
          </p:nvSpPr>
          <p:spPr>
            <a:xfrm>
              <a:off x="4724280" y="3809880"/>
              <a:ext cx="205740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181480" y="43434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181480" y="5334120"/>
              <a:ext cx="30492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33376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95288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5486400" y="4191120"/>
              <a:ext cx="457200" cy="30456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943600" y="3962520"/>
              <a:ext cx="761760" cy="30456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486400" y="5562720"/>
              <a:ext cx="380880" cy="30456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943600" y="5867280"/>
              <a:ext cx="761760" cy="30492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6781680" y="3809880"/>
            <a:ext cx="2362320" cy="2514600"/>
            <a:chOff x="6781680" y="3809880"/>
            <a:chExt cx="2362320" cy="2514600"/>
          </a:xfrm>
        </p:grpSpPr>
        <p:sp>
          <p:nvSpPr>
            <p:cNvPr id="1328" name=""/>
            <p:cNvSpPr/>
            <p:nvPr/>
          </p:nvSpPr>
          <p:spPr>
            <a:xfrm>
              <a:off x="6781680" y="3809880"/>
              <a:ext cx="236232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086600" y="43434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086600" y="5334120"/>
              <a:ext cx="30492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763120" y="4343400"/>
              <a:ext cx="30456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8763120" y="5334120"/>
              <a:ext cx="3045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23888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85800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534520" y="4800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7391520" y="4191120"/>
              <a:ext cx="457200" cy="30456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391520" y="5486400"/>
              <a:ext cx="137160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91540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848720" y="3962520"/>
              <a:ext cx="761760" cy="30456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340" name=""/>
          <p:cNvSpPr/>
          <p:nvPr/>
        </p:nvSpPr>
        <p:spPr>
          <a:xfrm>
            <a:off x="457200" y="990720"/>
            <a:ext cx="830592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In a weak matching, all four options are permitt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457200" y="2133720"/>
            <a:ext cx="8686800" cy="4190760"/>
            <a:chOff x="457200" y="2133720"/>
            <a:chExt cx="8686800" cy="4190760"/>
          </a:xfrm>
        </p:grpSpPr>
        <p:sp>
          <p:nvSpPr>
            <p:cNvPr id="1342" name=""/>
            <p:cNvSpPr/>
            <p:nvPr/>
          </p:nvSpPr>
          <p:spPr>
            <a:xfrm>
              <a:off x="457200" y="2133720"/>
              <a:ext cx="8305920" cy="10666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  <a:ea typeface="Arial"/>
                </a:rPr>
                <a:t>In an AND matching, only the first three options </a:t>
              </a:r>
              <a:endParaRPr b="0" lang="en-US" sz="28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  <a:ea typeface="Arial"/>
                </a:rPr>
                <a:t>are permitted</a:t>
              </a:r>
              <a:endParaRPr b="0" lang="en-US" sz="2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781680" y="3809880"/>
              <a:ext cx="2362320" cy="251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6781680" y="3809880"/>
              <a:ext cx="2362320" cy="251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8922-1A0A-4B60-B9BE-863D8BED3B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"/>
          <p:cNvSpPr/>
          <p:nvPr/>
        </p:nvSpPr>
        <p:spPr>
          <a:xfrm flipH="1">
            <a:off x="3429000" y="2133720"/>
            <a:ext cx="763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>
            <a:off x="3505320" y="1143000"/>
            <a:ext cx="914400" cy="990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3352680" y="1143000"/>
            <a:ext cx="1143000" cy="1905120"/>
            <a:chOff x="3352680" y="1143000"/>
            <a:chExt cx="1143000" cy="1905120"/>
          </a:xfrm>
        </p:grpSpPr>
        <p:sp>
          <p:nvSpPr>
            <p:cNvPr id="1349" name=""/>
            <p:cNvSpPr/>
            <p:nvPr/>
          </p:nvSpPr>
          <p:spPr>
            <a:xfrm flipH="1">
              <a:off x="3504960" y="1143000"/>
              <a:ext cx="914400" cy="990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3428640" y="2133720"/>
              <a:ext cx="76320" cy="914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352680" y="1600200"/>
              <a:ext cx="1143000" cy="368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Producer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8077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934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162920" y="37339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705720" y="1447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7848720" y="2286000"/>
            <a:ext cx="3808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6960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629400" y="2362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543800" y="243828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00100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54380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858000" y="3124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7315200" y="3200400"/>
            <a:ext cx="3808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28600" y="5257800"/>
            <a:ext cx="50292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Consider the case where edge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labeled with Producer are remove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086600" y="1828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5334120" y="3352680"/>
            <a:ext cx="3580920" cy="2819520"/>
            <a:chOff x="5334120" y="3352680"/>
            <a:chExt cx="3580920" cy="2819520"/>
          </a:xfrm>
        </p:grpSpPr>
        <p:sp>
          <p:nvSpPr>
            <p:cNvPr id="1429" name=""/>
            <p:cNvSpPr/>
            <p:nvPr/>
          </p:nvSpPr>
          <p:spPr>
            <a:xfrm>
              <a:off x="5334120" y="5257800"/>
              <a:ext cx="3580920" cy="91440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ffcc66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In a weak matching,</a:t>
              </a:r>
              <a:endParaRPr b="0" lang="en-US" sz="28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Node 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z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must be null!</a:t>
              </a:r>
              <a:endParaRPr b="0" lang="en-US" sz="2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V="1">
              <a:off x="7403400" y="3352680"/>
              <a:ext cx="317880" cy="190512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431" name=""/>
          <p:cNvSpPr/>
          <p:nvPr/>
        </p:nvSpPr>
        <p:spPr>
          <a:xfrm flipH="1" flipV="1">
            <a:off x="3886200" y="2133720"/>
            <a:ext cx="76320" cy="312408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45F-4BD1-43EE-B7F7-89B8AD13A4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R”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A partial matching is an </a:t>
            </a: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OR matching</a:t>
            </a: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 if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oot constraint is satisfi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eachability constraint is satisfied by every query node that is mapped to a database n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066680" y="3276720"/>
            <a:ext cx="731520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D9A-7DF7-448B-841C-8C56BF92AC1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905120" y="5486400"/>
            <a:ext cx="4647960" cy="685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n OR Match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8077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934320" y="19810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162920" y="37339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705720" y="1447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696080" y="1371600"/>
            <a:ext cx="5335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7848720" y="2286000"/>
            <a:ext cx="38088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6960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629400" y="2362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543800" y="243828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ncredited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800100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54380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858000" y="3124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7315200" y="3200400"/>
            <a:ext cx="3808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4267080" y="838080"/>
            <a:ext cx="3200040" cy="380880"/>
            <a:chOff x="4267080" y="838080"/>
            <a:chExt cx="3200040" cy="380880"/>
          </a:xfrm>
        </p:grpSpPr>
        <p:sp>
          <p:nvSpPr>
            <p:cNvPr id="1510" name=""/>
            <p:cNvSpPr/>
            <p:nvPr/>
          </p:nvSpPr>
          <p:spPr>
            <a:xfrm flipH="1" flipV="1">
              <a:off x="4647960" y="990360"/>
              <a:ext cx="281916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267080" y="838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512" name=""/>
          <p:cNvSpPr/>
          <p:nvPr/>
        </p:nvSpPr>
        <p:spPr>
          <a:xfrm flipH="1">
            <a:off x="7086600" y="1371600"/>
            <a:ext cx="4572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3276720" y="3048120"/>
            <a:ext cx="4343040" cy="304560"/>
            <a:chOff x="3276720" y="3048120"/>
            <a:chExt cx="4343040" cy="304560"/>
          </a:xfrm>
        </p:grpSpPr>
        <p:sp>
          <p:nvSpPr>
            <p:cNvPr id="1514" name=""/>
            <p:cNvSpPr/>
            <p:nvPr/>
          </p:nvSpPr>
          <p:spPr>
            <a:xfrm flipH="1">
              <a:off x="3580920" y="3048120"/>
              <a:ext cx="403884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276720" y="30481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7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7086600" y="2286000"/>
            <a:ext cx="60948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3276720" y="3251160"/>
            <a:ext cx="4724280" cy="1003320"/>
            <a:chOff x="3276720" y="3251160"/>
            <a:chExt cx="4724280" cy="1003320"/>
          </a:xfrm>
        </p:grpSpPr>
        <p:sp>
          <p:nvSpPr>
            <p:cNvPr id="1518" name=""/>
            <p:cNvSpPr/>
            <p:nvPr/>
          </p:nvSpPr>
          <p:spPr>
            <a:xfrm>
              <a:off x="3505320" y="3251160"/>
              <a:ext cx="4495680" cy="698760"/>
            </a:xfrm>
            <a:custGeom>
              <a:avLst/>
              <a:gdLst/>
              <a:ahLst/>
              <a:rect l="l" t="t" r="r" b="b"/>
              <a:pathLst>
                <a:path w="2832" h="440">
                  <a:moveTo>
                    <a:pt x="2832" y="392"/>
                  </a:moveTo>
                  <a:cubicBezTo>
                    <a:pt x="2228" y="196"/>
                    <a:pt x="1624" y="0"/>
                    <a:pt x="1152" y="8"/>
                  </a:cubicBezTo>
                  <a:cubicBezTo>
                    <a:pt x="680" y="16"/>
                    <a:pt x="184" y="368"/>
                    <a:pt x="0" y="44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276720" y="39499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7848720" y="3186000"/>
            <a:ext cx="304560" cy="5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2362320" y="1739880"/>
            <a:ext cx="4572000" cy="546120"/>
            <a:chOff x="2362320" y="1739880"/>
            <a:chExt cx="4572000" cy="546120"/>
          </a:xfrm>
        </p:grpSpPr>
        <p:sp>
          <p:nvSpPr>
            <p:cNvPr id="1522" name=""/>
            <p:cNvSpPr/>
            <p:nvPr/>
          </p:nvSpPr>
          <p:spPr>
            <a:xfrm>
              <a:off x="2362320" y="198108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66880" y="1739880"/>
              <a:ext cx="4267440" cy="393840"/>
            </a:xfrm>
            <a:custGeom>
              <a:avLst/>
              <a:gdLst/>
              <a:ahLst/>
              <a:rect l="l" t="t" r="r" b="b"/>
              <a:pathLst>
                <a:path w="2688" h="248">
                  <a:moveTo>
                    <a:pt x="2688" y="248"/>
                  </a:moveTo>
                  <a:cubicBezTo>
                    <a:pt x="2240" y="132"/>
                    <a:pt x="1792" y="16"/>
                    <a:pt x="1344" y="8"/>
                  </a:cubicBezTo>
                  <a:cubicBezTo>
                    <a:pt x="896" y="0"/>
                    <a:pt x="448" y="100"/>
                    <a:pt x="0" y="2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524" name=""/>
          <p:cNvSpPr/>
          <p:nvPr/>
        </p:nvSpPr>
        <p:spPr>
          <a:xfrm>
            <a:off x="7620120" y="1371600"/>
            <a:ext cx="152280" cy="1523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086600" y="1828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6934320" y="3733920"/>
            <a:ext cx="761760" cy="838080"/>
            <a:chOff x="6934320" y="3733920"/>
            <a:chExt cx="761760" cy="838080"/>
          </a:xfrm>
        </p:grpSpPr>
        <p:sp>
          <p:nvSpPr>
            <p:cNvPr id="1527" name=""/>
            <p:cNvSpPr/>
            <p:nvPr/>
          </p:nvSpPr>
          <p:spPr>
            <a:xfrm>
              <a:off x="7162920" y="373392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315200" y="403848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934320" y="4267080"/>
              <a:ext cx="76176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8077320" y="1981080"/>
            <a:ext cx="914400" cy="1219320"/>
            <a:chOff x="8077320" y="1981080"/>
            <a:chExt cx="914400" cy="1219320"/>
          </a:xfrm>
        </p:grpSpPr>
        <p:sp>
          <p:nvSpPr>
            <p:cNvPr id="1531" name=""/>
            <p:cNvSpPr/>
            <p:nvPr/>
          </p:nvSpPr>
          <p:spPr>
            <a:xfrm>
              <a:off x="8077320" y="1981080"/>
              <a:ext cx="30456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305920" y="2286000"/>
              <a:ext cx="30456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229600" y="2895480"/>
              <a:ext cx="76212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6858000" y="1371600"/>
            <a:ext cx="2285280" cy="4952880"/>
            <a:chOff x="6858000" y="1371600"/>
            <a:chExt cx="2285280" cy="4952880"/>
          </a:xfrm>
        </p:grpSpPr>
        <p:sp>
          <p:nvSpPr>
            <p:cNvPr id="1535" name=""/>
            <p:cNvSpPr/>
            <p:nvPr/>
          </p:nvSpPr>
          <p:spPr>
            <a:xfrm>
              <a:off x="7619760" y="1371600"/>
              <a:ext cx="168840" cy="152388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1536" name=""/>
            <p:cNvGrpSpPr/>
            <p:nvPr/>
          </p:nvGrpSpPr>
          <p:grpSpPr>
            <a:xfrm>
              <a:off x="6858000" y="2285640"/>
              <a:ext cx="2285280" cy="4038840"/>
              <a:chOff x="6858000" y="2285640"/>
              <a:chExt cx="2285280" cy="4038840"/>
            </a:xfrm>
          </p:grpSpPr>
          <p:sp>
            <p:nvSpPr>
              <p:cNvPr id="1537" name=""/>
              <p:cNvSpPr/>
              <p:nvPr/>
            </p:nvSpPr>
            <p:spPr>
              <a:xfrm>
                <a:off x="6858000" y="5105520"/>
                <a:ext cx="2285280" cy="121896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An edge which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is not weakly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satisfied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V="1">
                <a:off x="8635680" y="3504960"/>
                <a:ext cx="0" cy="160020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H="1" flipV="1">
                <a:off x="7788600" y="2285640"/>
                <a:ext cx="846360" cy="121932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CA6-DF59-4072-BA6E-20C5F5A66F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creasing Level of Incompletenes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complete matching is an AND match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 AND matching is a weak match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weak matching is an OR match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BD8F-1FF3-4CB4-A600-963D5027DA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/>
          <p:nvPr/>
        </p:nvSpPr>
        <p:spPr>
          <a:xfrm>
            <a:off x="1066680" y="3429000"/>
            <a:ext cx="2514600" cy="45720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=(1, 5, 2, null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219320" y="3886200"/>
            <a:ext cx="2514600" cy="45720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=(1, null, 2, null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aximal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tuple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subsumes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tuple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f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the result of replacing some null values in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by non-null values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matching is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maximal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f no other matching subsumes i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query result consists of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maximal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matchings only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038480" y="3352680"/>
            <a:ext cx="449604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Matchings are represented a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uples of oid’s and null valu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871C-A206-462F-B6C8-2771237B22F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On the Complexity of Computing Queries with Incomplete Answer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size of the result can be exponential in the size of the input (database and query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ote that the same is true when joining relations – the size of the result can be exponential in the size of the input (database and query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stead of using data complexity (where the runtime depends only on the size of the database), we use input-output complexit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6CF-4854-4BEA-9EEF-3B0CBFA0D56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put-Output Complexit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523880" y="2286000"/>
            <a:ext cx="5562720" cy="3200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 input-output complexity, the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ime complexity is a function of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size of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query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size of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atabase,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nd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size of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esult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700A-D7B8-40E7-BBCB-5C05516E199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380880"/>
            <a:ext cx="2743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769644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Why is it difficult to query semistructured data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362320"/>
            <a:ext cx="769644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Queries with incomplete answers (QwIA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3352680"/>
            <a:ext cx="769644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Flexible queries (FQ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43434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Oblivious querying = QwIA + FQ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541008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Using QwIA and FQ for information integratio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2B1C-5960-4867-87CB-2B03994E52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he Motivation for Using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/O Complexit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easuring the time complexity with respect to the size of the input does not separate between the following two cases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n algorithm that does an exponential amount of work simply because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the size of the output is exponential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in the size of the inpu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n algorithm that does an exponential amount of work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ven when the query result is smal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ither the algorithm is naïve (e.g., it unnecessarily computes subsumed matchings) or the problem is har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587-FF18-4D75-9FFE-70165072619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I/O Complexity of Query Evaluatio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(lower bounds are for non-emptines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54" name=""/>
          <p:cNvGraphicFramePr/>
          <p:nvPr/>
        </p:nvGraphicFramePr>
        <p:xfrm>
          <a:off x="685800" y="1752480"/>
          <a:ext cx="7772400" cy="43974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 / Semantic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ath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re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AG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yclic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eak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pSp>
        <p:nvGrpSpPr>
          <p:cNvPr id="1555" name=""/>
          <p:cNvGrpSpPr/>
          <p:nvPr/>
        </p:nvGrpSpPr>
        <p:grpSpPr>
          <a:xfrm>
            <a:off x="4038480" y="4572000"/>
            <a:ext cx="4724640" cy="2133720"/>
            <a:chOff x="4038480" y="4572000"/>
            <a:chExt cx="4724640" cy="2133720"/>
          </a:xfrm>
        </p:grpSpPr>
        <p:sp>
          <p:nvSpPr>
            <p:cNvPr id="1556" name=""/>
            <p:cNvSpPr/>
            <p:nvPr/>
          </p:nvSpPr>
          <p:spPr>
            <a:xfrm>
              <a:off x="4038480" y="6095880"/>
              <a:ext cx="4724640" cy="6098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Recent Results (PODS’03)</a:t>
              </a:r>
              <a:endParaRPr b="0" lang="en-US" sz="2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985080" y="4572000"/>
              <a:ext cx="1371600" cy="53352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010280" y="5448240"/>
              <a:ext cx="1371600" cy="53352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F70-58CE-4865-B141-5022D0FC624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er Constraint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straints that filter the results (i.e., the maximal matchings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re are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eak filter constraints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(the constraint is satisfied if a variable in the constraint is null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trong filter constraints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(all variables must be non-null for satisfaction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Existence constraint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!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s true if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s not nul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D05-003D-4F0F-8109-EED1E0D0B5F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I/O Complexity of Query Evaluatio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with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Existence Constraints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(lower bounds are for non-emptines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62" name=""/>
          <p:cNvGraphicFramePr/>
          <p:nvPr/>
        </p:nvGraphicFramePr>
        <p:xfrm>
          <a:off x="685800" y="1752480"/>
          <a:ext cx="7772400" cy="43974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 / Semantic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ath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re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AG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yclic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eak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356-54F9-424C-9B3D-92A43B65CF0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I/O Complexity of Query Evaluatio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with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Weak Equality/Inequality Constraints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(lower bounds are for non-emptines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64" name=""/>
          <p:cNvGraphicFramePr/>
          <p:nvPr/>
        </p:nvGraphicFramePr>
        <p:xfrm>
          <a:off x="685800" y="1752480"/>
          <a:ext cx="7772400" cy="43974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 / Semantic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ath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re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AG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yclic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trong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eak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961-E825-4C7C-981F-EAD424AB2AA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Query Containmen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Query containments for queries with incomplete answers is defined differently from query containment for queries with complete answer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f for all database D,    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every matching of Q</a:t>
            </a:r>
            <a:r>
              <a:rPr b="0" lang="en-US" sz="2800" spc="-1" strike="noStrike" baseline="-25000">
                <a:solidFill>
                  <a:srgbClr val="3399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w.r.t. to 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ubsumed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by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a matchings of Q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w.r.t. to 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Query containment (query equivalence) is useful for the development of optimization techniqu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85800" y="3200400"/>
            <a:ext cx="7772400" cy="19051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352-6B69-46CF-8118-F980A27F554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ontainment in AND Semantics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omomorphism between the query graphs is necessary and sufficient for containm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1143000" y="2362320"/>
            <a:ext cx="2514600" cy="2743200"/>
            <a:chOff x="1143000" y="2362320"/>
            <a:chExt cx="2514600" cy="2743200"/>
          </a:xfrm>
        </p:grpSpPr>
        <p:sp>
          <p:nvSpPr>
            <p:cNvPr id="1571" name=""/>
            <p:cNvSpPr/>
            <p:nvPr/>
          </p:nvSpPr>
          <p:spPr>
            <a:xfrm>
              <a:off x="1143000" y="2362320"/>
              <a:ext cx="251460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210040" y="259092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524240" y="388620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210040" y="335304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895840" y="388620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362320" y="2895840"/>
              <a:ext cx="0" cy="4572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057400" y="289584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676520" y="419112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514600" y="3505320"/>
              <a:ext cx="381240" cy="4572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1828440" y="3505320"/>
              <a:ext cx="381240" cy="4572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895840" y="457200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048120" y="419112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752840" y="335304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514600" y="33210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524240" y="457200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371600" y="419112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971800" y="419112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143000" y="2362320"/>
              <a:ext cx="4572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4343400" y="2362320"/>
            <a:ext cx="2438280" cy="2743200"/>
            <a:chOff x="4343400" y="2362320"/>
            <a:chExt cx="2438280" cy="2743200"/>
          </a:xfrm>
        </p:grpSpPr>
        <p:sp>
          <p:nvSpPr>
            <p:cNvPr id="1590" name=""/>
            <p:cNvSpPr/>
            <p:nvPr/>
          </p:nvSpPr>
          <p:spPr>
            <a:xfrm>
              <a:off x="4343400" y="2362320"/>
              <a:ext cx="2438280" cy="2743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410080" y="2590920"/>
              <a:ext cx="30420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10080" y="3886200"/>
              <a:ext cx="30420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410080" y="3353040"/>
              <a:ext cx="30420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562360" y="2895840"/>
              <a:ext cx="0" cy="4572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257440" y="289584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4876200" y="4114800"/>
              <a:ext cx="533160" cy="4572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562360" y="3657600"/>
              <a:ext cx="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095880" y="4572000"/>
              <a:ext cx="30420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714640" y="4114800"/>
              <a:ext cx="533160" cy="4572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181480" y="3581640"/>
              <a:ext cx="380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724280" y="4572000"/>
              <a:ext cx="30420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876560" y="4038840"/>
              <a:ext cx="380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867280" y="4114800"/>
              <a:ext cx="380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324480" y="2362320"/>
              <a:ext cx="45684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605" name=""/>
          <p:cNvSpPr/>
          <p:nvPr/>
        </p:nvSpPr>
        <p:spPr>
          <a:xfrm>
            <a:off x="1828800" y="3733920"/>
            <a:ext cx="3581280" cy="304560"/>
          </a:xfrm>
          <a:custGeom>
            <a:avLst/>
            <a:gdLst/>
            <a:ahLst/>
            <a:rect l="l" t="t" r="r" b="b"/>
            <a:pathLst>
              <a:path w="2256" h="192">
                <a:moveTo>
                  <a:pt x="0" y="192"/>
                </a:moveTo>
                <a:cubicBezTo>
                  <a:pt x="196" y="96"/>
                  <a:pt x="392" y="0"/>
                  <a:pt x="768" y="0"/>
                </a:cubicBezTo>
                <a:cubicBezTo>
                  <a:pt x="1144" y="0"/>
                  <a:pt x="1700" y="96"/>
                  <a:pt x="2256" y="19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200400" y="3949560"/>
            <a:ext cx="2209680" cy="165240"/>
          </a:xfrm>
          <a:custGeom>
            <a:avLst/>
            <a:gdLst/>
            <a:ahLst/>
            <a:rect l="l" t="t" r="r" b="b"/>
            <a:pathLst>
              <a:path w="1392" h="104">
                <a:moveTo>
                  <a:pt x="0" y="56"/>
                </a:moveTo>
                <a:cubicBezTo>
                  <a:pt x="148" y="28"/>
                  <a:pt x="296" y="0"/>
                  <a:pt x="528" y="8"/>
                </a:cubicBezTo>
                <a:cubicBezTo>
                  <a:pt x="760" y="16"/>
                  <a:pt x="1076" y="60"/>
                  <a:pt x="1392" y="10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514600" y="2514600"/>
            <a:ext cx="2895480" cy="228600"/>
          </a:xfrm>
          <a:custGeom>
            <a:avLst/>
            <a:gdLst/>
            <a:ahLst/>
            <a:rect l="l" t="t" r="r" b="b"/>
            <a:pathLst>
              <a:path w="1824" h="144">
                <a:moveTo>
                  <a:pt x="0" y="144"/>
                </a:moveTo>
                <a:cubicBezTo>
                  <a:pt x="304" y="72"/>
                  <a:pt x="608" y="0"/>
                  <a:pt x="912" y="0"/>
                </a:cubicBezTo>
                <a:cubicBezTo>
                  <a:pt x="1216" y="0"/>
                  <a:pt x="1520" y="72"/>
                  <a:pt x="1824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514600" y="3276720"/>
            <a:ext cx="2895480" cy="228600"/>
          </a:xfrm>
          <a:custGeom>
            <a:avLst/>
            <a:gdLst/>
            <a:ahLst/>
            <a:rect l="l" t="t" r="r" b="b"/>
            <a:pathLst>
              <a:path w="1824" h="144">
                <a:moveTo>
                  <a:pt x="0" y="144"/>
                </a:moveTo>
                <a:cubicBezTo>
                  <a:pt x="304" y="72"/>
                  <a:pt x="608" y="0"/>
                  <a:pt x="912" y="0"/>
                </a:cubicBezTo>
                <a:cubicBezTo>
                  <a:pt x="1216" y="0"/>
                  <a:pt x="1520" y="72"/>
                  <a:pt x="1824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828800" y="4343400"/>
            <a:ext cx="2895480" cy="380880"/>
          </a:xfrm>
          <a:custGeom>
            <a:avLst/>
            <a:gdLst/>
            <a:ahLst/>
            <a:rect l="l" t="t" r="r" b="b"/>
            <a:pathLst>
              <a:path w="1824" h="240">
                <a:moveTo>
                  <a:pt x="0" y="240"/>
                </a:moveTo>
                <a:cubicBezTo>
                  <a:pt x="304" y="120"/>
                  <a:pt x="608" y="0"/>
                  <a:pt x="912" y="0"/>
                </a:cubicBezTo>
                <a:cubicBezTo>
                  <a:pt x="1216" y="0"/>
                  <a:pt x="1520" y="120"/>
                  <a:pt x="1824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200400" y="4724280"/>
            <a:ext cx="2895480" cy="381240"/>
          </a:xfrm>
          <a:custGeom>
            <a:avLst/>
            <a:gdLst/>
            <a:ahLst/>
            <a:rect l="l" t="t" r="r" b="b"/>
            <a:pathLst>
              <a:path w="1824" h="240">
                <a:moveTo>
                  <a:pt x="0" y="0"/>
                </a:moveTo>
                <a:cubicBezTo>
                  <a:pt x="376" y="120"/>
                  <a:pt x="752" y="240"/>
                  <a:pt x="1056" y="240"/>
                </a:cubicBezTo>
                <a:cubicBezTo>
                  <a:pt x="1360" y="240"/>
                  <a:pt x="1592" y="120"/>
                  <a:pt x="1824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934320" y="4572000"/>
            <a:ext cx="19810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momorphism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5181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eciding whether one query is contained in another is NP-Complet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934320" y="3962520"/>
            <a:ext cx="198108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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880-861F-4F4E-A4FF-7EE87D48B5A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tainment in OR Semantic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following is a necessary and sufficient condition for query containment in OR semantic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every spanning tree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of the contained query, there a spanning tree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of the containing query, such that there is a homomorphism from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to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s in Π</a:t>
            </a:r>
            <a:r>
              <a:rPr b="0" lang="en-US" sz="2000" spc="-1" strike="noStrike" baseline="50000">
                <a:solidFill>
                  <a:srgbClr val="003399"/>
                </a:solidFill>
                <a:latin typeface="Times New Roman"/>
              </a:rPr>
              <a:t>P</a:t>
            </a:r>
            <a:r>
              <a:rPr b="0" lang="en-US" sz="2000" spc="-1" strike="noStrike" baseline="-30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P-Complete if the containee is a tre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olynomial if the container is a tre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E67-B567-4782-B7EF-80E19F89E21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tainment in Weak Semantic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milar to containment in OR Semantics, with the following differenc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stead of checking homomorphism between spanning trees, we check homomorphism between graph fragmen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graph fragment is a restriction of the query to a subset of the variables that includes the query root such that every node in the fragment is reachable from the roo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B75-EB9E-4B87-9D41-33EC7CDD198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838080" y="380880"/>
            <a:ext cx="2743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838080" y="13716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Why is it difficult to query semistructured data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838080" y="2362320"/>
            <a:ext cx="769644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Queries with incomplete answers (QwIA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838080" y="3352680"/>
            <a:ext cx="76964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Flexible queries (FQ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838080" y="43434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Oblivious querying = QwIA + FQ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838080" y="541008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Using QwIA and FQ for information integratio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3E5B-1DA8-43A0-B760-5136F021631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he Semistructured Data Model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ata is described as a rooted labeled directed grap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Nodes represent objec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dges represent relationships between objec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tomic values are attached to atomic nod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ED6-0077-4DD3-B549-5B2C689D39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lexible Queri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o deal with structural variations in the data, we have developed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flexible queri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688-AFCC-4B1C-87EC-AD7EF06554A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"/>
          <p:cNvGrpSpPr/>
          <p:nvPr/>
        </p:nvGrpSpPr>
        <p:grpSpPr>
          <a:xfrm>
            <a:off x="1143000" y="1828800"/>
            <a:ext cx="4648320" cy="2590920"/>
            <a:chOff x="1143000" y="1828800"/>
            <a:chExt cx="4648320" cy="2590920"/>
          </a:xfrm>
        </p:grpSpPr>
        <p:sp>
          <p:nvSpPr>
            <p:cNvPr id="1627" name=""/>
            <p:cNvSpPr/>
            <p:nvPr/>
          </p:nvSpPr>
          <p:spPr>
            <a:xfrm>
              <a:off x="1143000" y="1828800"/>
              <a:ext cx="464832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143000" y="3835440"/>
              <a:ext cx="4648320" cy="584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Flexible Queries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629" name=""/>
          <p:cNvSpPr/>
          <p:nvPr/>
        </p:nvSpPr>
        <p:spPr>
          <a:xfrm>
            <a:off x="1371600" y="1066680"/>
            <a:ext cx="41148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igid Quer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371600" y="1981080"/>
            <a:ext cx="41148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miflexible Querie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371600" y="2895480"/>
            <a:ext cx="41148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lexible Quer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477120" y="1066680"/>
            <a:ext cx="0" cy="274320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705720" y="914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creasing level of flexibilit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602A-AD46-496D-967A-A44FBCB8975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304920" y="1828800"/>
            <a:ext cx="2590560" cy="4648320"/>
          </a:xfrm>
          <a:prstGeom prst="rect">
            <a:avLst/>
          </a:prstGeom>
          <a:solidFill>
            <a:srgbClr val="ffff99"/>
          </a:solidFill>
          <a:ln w="9360">
            <a:solidFill>
              <a:srgbClr val="1c1c1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124080" y="1828800"/>
            <a:ext cx="579132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 query that finds all pairs of actor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that acted in the same movi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124080" y="3352680"/>
            <a:ext cx="5791320" cy="1524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However, if in the database, actor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re descendents of movies,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the query has to be reformulated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124080" y="5105520"/>
            <a:ext cx="579132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Instead, we propose new way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of matching queries to databases</a:t>
            </a:r>
            <a:r>
              <a:rPr b="1" lang="en-US" sz="2800" spc="-1" strike="noStrike">
                <a:solidFill>
                  <a:srgbClr val="66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371600" y="28195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98108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83808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523880" y="46483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990720" y="3124080"/>
            <a:ext cx="4572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094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90720" y="4038480"/>
            <a:ext cx="60948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600200" y="3124080"/>
            <a:ext cx="5335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1752120" y="4038480"/>
            <a:ext cx="38124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60020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33520" y="4114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523880" y="4114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88880" y="2406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57B7-3887-4C6B-A88A-31ABC22E413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"/>
          <p:cNvSpPr/>
          <p:nvPr/>
        </p:nvSpPr>
        <p:spPr>
          <a:xfrm>
            <a:off x="1219320" y="1295280"/>
            <a:ext cx="670536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Rigid matchings an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complete matching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are the sam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Returning rigid matchings is the usual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semantics for queri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(e.g., XQuery, Lorel, XML-QL, etc.)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 (Hebrew)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1F4-D307-4FE6-BCDB-035A901EEF3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"/>
          <p:cNvSpPr/>
          <p:nvPr/>
        </p:nvSpPr>
        <p:spPr>
          <a:xfrm>
            <a:off x="2895480" y="4572000"/>
            <a:ext cx="2971800" cy="160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447920" y="2286000"/>
            <a:ext cx="6324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62120" y="13716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oot Constraint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tisfied if the query root is mapped to the db roo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dge Constraint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tisfied if a query edge with label </a:t>
            </a: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s mapped to a database edge with label </a:t>
            </a: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onstraints On Rigid Matchings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276720" y="251460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257800" y="2514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581280" y="2666880"/>
            <a:ext cx="1676520" cy="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1596960" y="248436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Query Roo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637960" y="25146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Database Roo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352680" y="47242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352680" y="57150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181480" y="47242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181480" y="5715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505320" y="50292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334120" y="50292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1240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952880" y="518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657600" y="4876920"/>
            <a:ext cx="1523880" cy="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657600" y="5867280"/>
            <a:ext cx="1523880" cy="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FBBB-E909-47B9-8693-883EBC4247B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/>
          <p:nvPr/>
        </p:nvSpPr>
        <p:spPr>
          <a:xfrm>
            <a:off x="4343400" y="1143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438280" y="2286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038480" y="2286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40396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H="1">
            <a:off x="2742840" y="137160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4190760" y="1447920"/>
            <a:ext cx="22860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648320" y="1371600"/>
            <a:ext cx="83808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429000" y="685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2971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638680" y="2590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419720" y="1676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6002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2860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505320" y="33526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114800" y="33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572000" y="4495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4864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546960" y="3124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1828440" y="2514600"/>
            <a:ext cx="60948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2438280" y="2590920"/>
            <a:ext cx="15264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H="1">
            <a:off x="3657600" y="251460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267080" y="2590920"/>
            <a:ext cx="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556240" y="2590920"/>
            <a:ext cx="8244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632560" y="2514600"/>
            <a:ext cx="9144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 flipH="1">
            <a:off x="4724280" y="2514600"/>
            <a:ext cx="679680" cy="1981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105520" y="2895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.V. Serie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295280" y="2895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2004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2578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0666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200400" y="3824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57200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1344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98108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8862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447920" y="4267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505320" y="4267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486400" y="4191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318360" y="43434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657600" y="36576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638680" y="3657600"/>
            <a:ext cx="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6470280" y="3429000"/>
            <a:ext cx="228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H="1">
            <a:off x="1676160" y="3657600"/>
            <a:ext cx="7596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344840" y="480060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Ky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cLachl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259080" y="449568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Natal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ort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1144800" y="457200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592360" y="3672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09804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n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983600" y="365760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335200" y="44956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Tw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eak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775560" y="3429000"/>
            <a:ext cx="31104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934320" y="43434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6294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6705720" y="4648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8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7432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666880" y="2590920"/>
            <a:ext cx="2286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514600" y="29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62120" y="3321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H="1">
            <a:off x="990360" y="2438280"/>
            <a:ext cx="144756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21932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28600" y="3778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09480" y="4235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838080" y="362592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04920" y="46162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963960" y="3595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é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429000" y="1828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696080" y="11430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696080" y="20574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696080" y="28954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848720" y="14479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7086600" y="1479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7848720" y="2362320"/>
            <a:ext cx="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934320" y="2362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685800" y="1143000"/>
            <a:ext cx="7010280" cy="5334120"/>
            <a:chOff x="685800" y="1143000"/>
            <a:chExt cx="7010280" cy="5334120"/>
          </a:xfrm>
        </p:grpSpPr>
        <p:grpSp>
          <p:nvGrpSpPr>
            <p:cNvPr id="1746" name=""/>
            <p:cNvGrpSpPr/>
            <p:nvPr/>
          </p:nvGrpSpPr>
          <p:grpSpPr>
            <a:xfrm>
              <a:off x="4343400" y="1143000"/>
              <a:ext cx="3352680" cy="2286000"/>
              <a:chOff x="4343400" y="1143000"/>
              <a:chExt cx="3352680" cy="2286000"/>
            </a:xfrm>
          </p:grpSpPr>
          <p:grpSp>
            <p:nvGrpSpPr>
              <p:cNvPr id="1747" name=""/>
              <p:cNvGrpSpPr/>
              <p:nvPr/>
            </p:nvGrpSpPr>
            <p:grpSpPr>
              <a:xfrm>
                <a:off x="4343400" y="1143000"/>
                <a:ext cx="3352320" cy="304920"/>
                <a:chOff x="4343400" y="1143000"/>
                <a:chExt cx="3352320" cy="304920"/>
              </a:xfrm>
            </p:grpSpPr>
            <p:sp>
              <p:nvSpPr>
                <p:cNvPr id="1748" name=""/>
                <p:cNvSpPr/>
                <p:nvPr/>
              </p:nvSpPr>
              <p:spPr>
                <a:xfrm flipH="1">
                  <a:off x="4723920" y="1295280"/>
                  <a:ext cx="29718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4343400" y="1143000"/>
                  <a:ext cx="304920" cy="304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0" name=""/>
              <p:cNvGrpSpPr/>
              <p:nvPr/>
            </p:nvGrpSpPr>
            <p:grpSpPr>
              <a:xfrm>
                <a:off x="5410080" y="2209680"/>
                <a:ext cx="2285640" cy="381240"/>
                <a:chOff x="5410080" y="2209680"/>
                <a:chExt cx="2285640" cy="381240"/>
              </a:xfrm>
            </p:grpSpPr>
            <p:sp>
              <p:nvSpPr>
                <p:cNvPr id="1751" name=""/>
                <p:cNvSpPr/>
                <p:nvPr/>
              </p:nvSpPr>
              <p:spPr>
                <a:xfrm flipH="1">
                  <a:off x="5714640" y="2209680"/>
                  <a:ext cx="1981080" cy="228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5410080" y="2286000"/>
                  <a:ext cx="304920" cy="304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4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3" name=""/>
              <p:cNvGrpSpPr/>
              <p:nvPr/>
            </p:nvGrpSpPr>
            <p:grpSpPr>
              <a:xfrm>
                <a:off x="6553080" y="3048120"/>
                <a:ext cx="1143000" cy="380880"/>
                <a:chOff x="6553080" y="3048120"/>
                <a:chExt cx="1143000" cy="380880"/>
              </a:xfrm>
            </p:grpSpPr>
            <p:sp>
              <p:nvSpPr>
                <p:cNvPr id="1754" name=""/>
                <p:cNvSpPr/>
                <p:nvPr/>
              </p:nvSpPr>
              <p:spPr>
                <a:xfrm flipH="1">
                  <a:off x="6858000" y="3048120"/>
                  <a:ext cx="838080" cy="152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6553080" y="3124080"/>
                  <a:ext cx="304920" cy="304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29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56" name=""/>
            <p:cNvSpPr/>
            <p:nvPr/>
          </p:nvSpPr>
          <p:spPr>
            <a:xfrm>
              <a:off x="685800" y="5715000"/>
              <a:ext cx="2895480" cy="762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A Rigid Matching</a:t>
              </a:r>
              <a:endParaRPr b="0" lang="en-US" sz="2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757" name=""/>
          <p:cNvGrpSpPr/>
          <p:nvPr/>
        </p:nvGrpSpPr>
        <p:grpSpPr>
          <a:xfrm>
            <a:off x="3505320" y="1143000"/>
            <a:ext cx="4800600" cy="5334120"/>
            <a:chOff x="3505320" y="1143000"/>
            <a:chExt cx="4800600" cy="5334120"/>
          </a:xfrm>
        </p:grpSpPr>
        <p:grpSp>
          <p:nvGrpSpPr>
            <p:cNvPr id="1758" name=""/>
            <p:cNvGrpSpPr/>
            <p:nvPr/>
          </p:nvGrpSpPr>
          <p:grpSpPr>
            <a:xfrm>
              <a:off x="3505320" y="1143000"/>
              <a:ext cx="4190400" cy="2514600"/>
              <a:chOff x="3505320" y="1143000"/>
              <a:chExt cx="4190400" cy="2514600"/>
            </a:xfrm>
          </p:grpSpPr>
          <p:grpSp>
            <p:nvGrpSpPr>
              <p:cNvPr id="1759" name=""/>
              <p:cNvGrpSpPr/>
              <p:nvPr/>
            </p:nvGrpSpPr>
            <p:grpSpPr>
              <a:xfrm>
                <a:off x="4343400" y="1143000"/>
                <a:ext cx="3352320" cy="304920"/>
                <a:chOff x="4343400" y="1143000"/>
                <a:chExt cx="3352320" cy="304920"/>
              </a:xfrm>
            </p:grpSpPr>
            <p:sp>
              <p:nvSpPr>
                <p:cNvPr id="1760" name=""/>
                <p:cNvSpPr/>
                <p:nvPr/>
              </p:nvSpPr>
              <p:spPr>
                <a:xfrm flipH="1">
                  <a:off x="4723920" y="1295280"/>
                  <a:ext cx="29718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4343400" y="1143000"/>
                  <a:ext cx="304920" cy="304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2" name=""/>
              <p:cNvGrpSpPr/>
              <p:nvPr/>
            </p:nvGrpSpPr>
            <p:grpSpPr>
              <a:xfrm>
                <a:off x="3505320" y="2209680"/>
                <a:ext cx="4190400" cy="1447920"/>
                <a:chOff x="3505320" y="2209680"/>
                <a:chExt cx="4190400" cy="1447920"/>
              </a:xfrm>
            </p:grpSpPr>
            <p:sp>
              <p:nvSpPr>
                <p:cNvPr id="1763" name=""/>
                <p:cNvSpPr/>
                <p:nvPr/>
              </p:nvSpPr>
              <p:spPr>
                <a:xfrm flipH="1">
                  <a:off x="3809520" y="2209680"/>
                  <a:ext cx="3886200" cy="1295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3505320" y="3352680"/>
                  <a:ext cx="304560" cy="304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25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5" name=""/>
              <p:cNvGrpSpPr/>
              <p:nvPr/>
            </p:nvGrpSpPr>
            <p:grpSpPr>
              <a:xfrm>
                <a:off x="4038480" y="2286000"/>
                <a:ext cx="3657240" cy="762120"/>
                <a:chOff x="4038480" y="2286000"/>
                <a:chExt cx="3657240" cy="762120"/>
              </a:xfrm>
            </p:grpSpPr>
            <p:sp>
              <p:nvSpPr>
                <p:cNvPr id="1766" name=""/>
                <p:cNvSpPr/>
                <p:nvPr/>
              </p:nvSpPr>
              <p:spPr>
                <a:xfrm>
                  <a:off x="4038480" y="2286000"/>
                  <a:ext cx="304920" cy="304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2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 flipH="1" flipV="1">
                  <a:off x="4343040" y="2438280"/>
                  <a:ext cx="3352680" cy="609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8" name=""/>
            <p:cNvSpPr/>
            <p:nvPr/>
          </p:nvSpPr>
          <p:spPr>
            <a:xfrm>
              <a:off x="3809880" y="5715000"/>
              <a:ext cx="4496040" cy="762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This is not a Rigid Matching</a:t>
              </a:r>
              <a:endParaRPr b="0" lang="en-US" sz="2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3AF-BCF9-4264-9F71-EDFDC17BA4C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 Semiflexible Matching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495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query root is mapped to the db roo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5943600" y="3123720"/>
            <a:ext cx="1752480" cy="76212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772" name=""/>
          <p:cNvGrpSpPr/>
          <p:nvPr/>
        </p:nvGrpSpPr>
        <p:grpSpPr>
          <a:xfrm>
            <a:off x="5410080" y="3048120"/>
            <a:ext cx="2400480" cy="2666880"/>
            <a:chOff x="5410080" y="3048120"/>
            <a:chExt cx="2400480" cy="2666880"/>
          </a:xfrm>
        </p:grpSpPr>
        <p:sp>
          <p:nvSpPr>
            <p:cNvPr id="1773" name=""/>
            <p:cNvSpPr/>
            <p:nvPr/>
          </p:nvSpPr>
          <p:spPr>
            <a:xfrm>
              <a:off x="5943600" y="4876920"/>
              <a:ext cx="15238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1774" name=""/>
            <p:cNvGrpSpPr/>
            <p:nvPr/>
          </p:nvGrpSpPr>
          <p:grpSpPr>
            <a:xfrm>
              <a:off x="5410080" y="3048120"/>
              <a:ext cx="2400480" cy="2666880"/>
              <a:chOff x="5410080" y="3048120"/>
              <a:chExt cx="2400480" cy="2666880"/>
            </a:xfrm>
          </p:grpSpPr>
          <p:grpSp>
            <p:nvGrpSpPr>
              <p:cNvPr id="1775" name=""/>
              <p:cNvGrpSpPr/>
              <p:nvPr/>
            </p:nvGrpSpPr>
            <p:grpSpPr>
              <a:xfrm>
                <a:off x="5410080" y="3733920"/>
                <a:ext cx="533520" cy="1295280"/>
                <a:chOff x="5410080" y="3733920"/>
                <a:chExt cx="533520" cy="1295280"/>
              </a:xfrm>
            </p:grpSpPr>
            <p:sp>
              <p:nvSpPr>
                <p:cNvPr id="1776" name=""/>
                <p:cNvSpPr/>
                <p:nvPr/>
              </p:nvSpPr>
              <p:spPr>
                <a:xfrm>
                  <a:off x="5638680" y="4724280"/>
                  <a:ext cx="304920" cy="3049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y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5791320" y="4038480"/>
                  <a:ext cx="0" cy="68580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5410080" y="419112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3399"/>
                      </a:solidFill>
                      <a:latin typeface="Times New Roman"/>
                    </a:rPr>
                    <a:t>l</a:t>
                  </a:r>
                  <a:endParaRPr b="0" lang="en-US" sz="18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5638680" y="3733920"/>
                  <a:ext cx="304920" cy="30456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7238880" y="3048120"/>
                <a:ext cx="571680" cy="2666880"/>
                <a:chOff x="7238880" y="3048120"/>
                <a:chExt cx="571680" cy="266688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7467480" y="4724280"/>
                  <a:ext cx="304920" cy="304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7620120" y="4038480"/>
                  <a:ext cx="0" cy="68580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7238880" y="419112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3399"/>
                      </a:solidFill>
                      <a:latin typeface="Times New Roman"/>
                    </a:rPr>
                    <a:t>l</a:t>
                  </a:r>
                  <a:endParaRPr b="0" lang="en-US" sz="18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7467480" y="3733920"/>
                  <a:ext cx="304920" cy="30456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7543800" y="3048120"/>
                  <a:ext cx="266760" cy="685800"/>
                </a:xfrm>
                <a:custGeom>
                  <a:avLst/>
                  <a:gdLst/>
                  <a:ahLst/>
                  <a:rect l="l" t="t" r="r" b="b"/>
                  <a:pathLst>
                    <a:path w="168" h="432">
                      <a:moveTo>
                        <a:pt x="64" y="0"/>
                      </a:moveTo>
                      <a:cubicBezTo>
                        <a:pt x="116" y="48"/>
                        <a:pt x="168" y="96"/>
                        <a:pt x="160" y="144"/>
                      </a:cubicBezTo>
                      <a:cubicBezTo>
                        <a:pt x="152" y="192"/>
                        <a:pt x="32" y="240"/>
                        <a:pt x="16" y="288"/>
                      </a:cubicBezTo>
                      <a:cubicBezTo>
                        <a:pt x="0" y="336"/>
                        <a:pt x="32" y="384"/>
                        <a:pt x="64" y="432"/>
                      </a:cubicBezTo>
                    </a:path>
                  </a:pathLst>
                </a:custGeom>
                <a:noFill/>
                <a:ln w="38160">
                  <a:solidFill>
                    <a:srgbClr val="00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7543800" y="5029200"/>
                  <a:ext cx="266760" cy="685800"/>
                </a:xfrm>
                <a:custGeom>
                  <a:avLst/>
                  <a:gdLst/>
                  <a:ahLst/>
                  <a:rect l="l" t="t" r="r" b="b"/>
                  <a:pathLst>
                    <a:path w="168" h="432">
                      <a:moveTo>
                        <a:pt x="64" y="0"/>
                      </a:moveTo>
                      <a:cubicBezTo>
                        <a:pt x="116" y="48"/>
                        <a:pt x="168" y="96"/>
                        <a:pt x="160" y="144"/>
                      </a:cubicBezTo>
                      <a:cubicBezTo>
                        <a:pt x="152" y="192"/>
                        <a:pt x="32" y="240"/>
                        <a:pt x="16" y="288"/>
                      </a:cubicBezTo>
                      <a:cubicBezTo>
                        <a:pt x="0" y="336"/>
                        <a:pt x="32" y="384"/>
                        <a:pt x="64" y="432"/>
                      </a:cubicBezTo>
                    </a:path>
                  </a:pathLst>
                </a:custGeom>
                <a:noFill/>
                <a:ln w="38160">
                  <a:solidFill>
                    <a:srgbClr val="00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87" name=""/>
          <p:cNvSpPr/>
          <p:nvPr/>
        </p:nvSpPr>
        <p:spPr>
          <a:xfrm>
            <a:off x="5943600" y="3886200"/>
            <a:ext cx="1600200" cy="160020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943600" y="3886200"/>
            <a:ext cx="1523880" cy="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5943600" y="3886200"/>
            <a:ext cx="1523880" cy="990360"/>
            <a:chOff x="5943600" y="3886200"/>
            <a:chExt cx="1523880" cy="990360"/>
          </a:xfrm>
        </p:grpSpPr>
        <p:sp>
          <p:nvSpPr>
            <p:cNvPr id="1790" name=""/>
            <p:cNvSpPr/>
            <p:nvPr/>
          </p:nvSpPr>
          <p:spPr>
            <a:xfrm>
              <a:off x="5943600" y="3886200"/>
              <a:ext cx="1523880" cy="990360"/>
            </a:xfrm>
            <a:prstGeom prst="line">
              <a:avLst/>
            </a:prstGeom>
            <a:ln w="38160">
              <a:solidFill>
                <a:srgbClr val="00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400800" y="3886200"/>
              <a:ext cx="762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3399"/>
                  </a:solidFill>
                  <a:latin typeface="Times New Roman"/>
                  <a:ea typeface="Times New Roman"/>
                </a:rPr>
                <a:t>×</a:t>
              </a:r>
              <a:endParaRPr b="0" lang="en-US" sz="5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5029560" y="1523880"/>
            <a:ext cx="2992320" cy="1067040"/>
            <a:chOff x="5029560" y="1523880"/>
            <a:chExt cx="2992320" cy="1067040"/>
          </a:xfrm>
        </p:grpSpPr>
        <p:sp>
          <p:nvSpPr>
            <p:cNvPr id="1793" name=""/>
            <p:cNvSpPr/>
            <p:nvPr/>
          </p:nvSpPr>
          <p:spPr>
            <a:xfrm>
              <a:off x="5334120" y="228600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543800" y="228600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638680" y="2438280"/>
              <a:ext cx="190512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029560" y="1523880"/>
              <a:ext cx="87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Quer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315200" y="1600200"/>
              <a:ext cx="70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DB 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798" name=""/>
          <p:cNvSpPr/>
          <p:nvPr/>
        </p:nvSpPr>
        <p:spPr>
          <a:xfrm>
            <a:off x="304920" y="2362320"/>
            <a:ext cx="4190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query node with an incoming label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mapped to a db node with an incoming label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04920" y="4114800"/>
            <a:ext cx="4343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image of every query path is embedded in some database pat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04920" y="5410080"/>
            <a:ext cx="4495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CC is mapped to SC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BA43-D90D-4C77-9623-B2A54BF1BB5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 Semiflexible Matching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495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query root is mapped to the db root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04920" y="2362320"/>
            <a:ext cx="4190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query node with an incoming label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mapped to a db node with an incoming label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04920" y="4114800"/>
            <a:ext cx="4343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image of every query path is embedded in some database pat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04920" y="5410080"/>
            <a:ext cx="4495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CC is mapped to SC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85800" y="4191120"/>
            <a:ext cx="3962520" cy="1752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5410080" y="3048120"/>
            <a:ext cx="2400480" cy="2666880"/>
            <a:chOff x="5410080" y="3048120"/>
            <a:chExt cx="2400480" cy="2666880"/>
          </a:xfrm>
        </p:grpSpPr>
        <p:sp>
          <p:nvSpPr>
            <p:cNvPr id="1808" name=""/>
            <p:cNvSpPr/>
            <p:nvPr/>
          </p:nvSpPr>
          <p:spPr>
            <a:xfrm>
              <a:off x="5943600" y="4876920"/>
              <a:ext cx="15238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1809" name=""/>
            <p:cNvGrpSpPr/>
            <p:nvPr/>
          </p:nvGrpSpPr>
          <p:grpSpPr>
            <a:xfrm>
              <a:off x="5410080" y="3048120"/>
              <a:ext cx="2400480" cy="2666880"/>
              <a:chOff x="5410080" y="3048120"/>
              <a:chExt cx="2400480" cy="2666880"/>
            </a:xfrm>
          </p:grpSpPr>
          <p:grpSp>
            <p:nvGrpSpPr>
              <p:cNvPr id="1810" name=""/>
              <p:cNvGrpSpPr/>
              <p:nvPr/>
            </p:nvGrpSpPr>
            <p:grpSpPr>
              <a:xfrm>
                <a:off x="5410080" y="3733920"/>
                <a:ext cx="533520" cy="1295280"/>
                <a:chOff x="5410080" y="3733920"/>
                <a:chExt cx="533520" cy="1295280"/>
              </a:xfrm>
            </p:grpSpPr>
            <p:sp>
              <p:nvSpPr>
                <p:cNvPr id="1811" name=""/>
                <p:cNvSpPr/>
                <p:nvPr/>
              </p:nvSpPr>
              <p:spPr>
                <a:xfrm>
                  <a:off x="5638680" y="4724280"/>
                  <a:ext cx="304920" cy="30492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y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5791320" y="4038480"/>
                  <a:ext cx="0" cy="68580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5410080" y="419112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3399"/>
                      </a:solidFill>
                      <a:latin typeface="Times New Roman"/>
                    </a:rPr>
                    <a:t>l</a:t>
                  </a:r>
                  <a:endParaRPr b="0" lang="en-US" sz="18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5638680" y="3733920"/>
                  <a:ext cx="304920" cy="304560"/>
                </a:xfrm>
                <a:prstGeom prst="ellipse">
                  <a:avLst/>
                </a:prstGeom>
                <a:solidFill>
                  <a:srgbClr val="ffcc66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x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5" name=""/>
              <p:cNvGrpSpPr/>
              <p:nvPr/>
            </p:nvGrpSpPr>
            <p:grpSpPr>
              <a:xfrm>
                <a:off x="7238880" y="3048120"/>
                <a:ext cx="571680" cy="2666880"/>
                <a:chOff x="7238880" y="3048120"/>
                <a:chExt cx="571680" cy="2666880"/>
              </a:xfrm>
            </p:grpSpPr>
            <p:sp>
              <p:nvSpPr>
                <p:cNvPr id="1816" name=""/>
                <p:cNvSpPr/>
                <p:nvPr/>
              </p:nvSpPr>
              <p:spPr>
                <a:xfrm>
                  <a:off x="7467480" y="4724280"/>
                  <a:ext cx="304920" cy="30492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7620120" y="4038480"/>
                  <a:ext cx="0" cy="68580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7238880" y="4191120"/>
                  <a:ext cx="53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3399"/>
                      </a:solidFill>
                      <a:latin typeface="Times New Roman"/>
                    </a:rPr>
                    <a:t>l</a:t>
                  </a:r>
                  <a:endParaRPr b="0" lang="en-US" sz="18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7467480" y="3733920"/>
                  <a:ext cx="304920" cy="30456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7543800" y="3048120"/>
                  <a:ext cx="266760" cy="685800"/>
                </a:xfrm>
                <a:custGeom>
                  <a:avLst/>
                  <a:gdLst/>
                  <a:ahLst/>
                  <a:rect l="l" t="t" r="r" b="b"/>
                  <a:pathLst>
                    <a:path w="168" h="432">
                      <a:moveTo>
                        <a:pt x="64" y="0"/>
                      </a:moveTo>
                      <a:cubicBezTo>
                        <a:pt x="116" y="48"/>
                        <a:pt x="168" y="96"/>
                        <a:pt x="160" y="144"/>
                      </a:cubicBezTo>
                      <a:cubicBezTo>
                        <a:pt x="152" y="192"/>
                        <a:pt x="32" y="240"/>
                        <a:pt x="16" y="288"/>
                      </a:cubicBezTo>
                      <a:cubicBezTo>
                        <a:pt x="0" y="336"/>
                        <a:pt x="32" y="384"/>
                        <a:pt x="64" y="432"/>
                      </a:cubicBezTo>
                    </a:path>
                  </a:pathLst>
                </a:custGeom>
                <a:noFill/>
                <a:ln w="38160">
                  <a:solidFill>
                    <a:srgbClr val="00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7543800" y="5029200"/>
                  <a:ext cx="266760" cy="685800"/>
                </a:xfrm>
                <a:custGeom>
                  <a:avLst/>
                  <a:gdLst/>
                  <a:ahLst/>
                  <a:rect l="l" t="t" r="r" b="b"/>
                  <a:pathLst>
                    <a:path w="168" h="432">
                      <a:moveTo>
                        <a:pt x="64" y="0"/>
                      </a:moveTo>
                      <a:cubicBezTo>
                        <a:pt x="116" y="48"/>
                        <a:pt x="168" y="96"/>
                        <a:pt x="160" y="144"/>
                      </a:cubicBezTo>
                      <a:cubicBezTo>
                        <a:pt x="152" y="192"/>
                        <a:pt x="32" y="240"/>
                        <a:pt x="16" y="288"/>
                      </a:cubicBezTo>
                      <a:cubicBezTo>
                        <a:pt x="0" y="336"/>
                        <a:pt x="32" y="384"/>
                        <a:pt x="64" y="432"/>
                      </a:cubicBezTo>
                    </a:path>
                  </a:pathLst>
                </a:custGeom>
                <a:noFill/>
                <a:ln w="38160">
                  <a:solidFill>
                    <a:srgbClr val="003399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22" name=""/>
          <p:cNvGrpSpPr/>
          <p:nvPr/>
        </p:nvGrpSpPr>
        <p:grpSpPr>
          <a:xfrm>
            <a:off x="5029560" y="1523880"/>
            <a:ext cx="2992320" cy="1067040"/>
            <a:chOff x="5029560" y="1523880"/>
            <a:chExt cx="2992320" cy="1067040"/>
          </a:xfrm>
        </p:grpSpPr>
        <p:sp>
          <p:nvSpPr>
            <p:cNvPr id="1823" name=""/>
            <p:cNvSpPr/>
            <p:nvPr/>
          </p:nvSpPr>
          <p:spPr>
            <a:xfrm>
              <a:off x="5334120" y="228600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543800" y="228600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638680" y="2438280"/>
              <a:ext cx="190512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029560" y="1523880"/>
              <a:ext cx="87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Quer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315200" y="1600200"/>
              <a:ext cx="70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DB 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/>
          <p:nvPr/>
        </p:nvSpPr>
        <p:spPr>
          <a:xfrm>
            <a:off x="685800" y="1371600"/>
            <a:ext cx="5334120" cy="2666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The last two condi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cannot be verified locally,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i.e., by considering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one query edge at a tim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51E-B2A3-44BF-907F-044E0DEA7C3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/>
          <p:nvPr/>
        </p:nvSpPr>
        <p:spPr>
          <a:xfrm>
            <a:off x="4343400" y="1143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2438280" y="2286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038480" y="2286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40396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flipH="1">
            <a:off x="2742840" y="137160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H="1">
            <a:off x="4190760" y="1447920"/>
            <a:ext cx="22860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648320" y="1371600"/>
            <a:ext cx="83808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3429000" y="685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971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638680" y="2590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19720" y="1676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6002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2860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505320" y="33526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114800" y="33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572000" y="4495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4864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546960" y="3124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1828440" y="2514600"/>
            <a:ext cx="60948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H="1">
            <a:off x="2438280" y="2590920"/>
            <a:ext cx="15264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3657600" y="251460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267080" y="2590920"/>
            <a:ext cx="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556240" y="2590920"/>
            <a:ext cx="8244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632560" y="2514600"/>
            <a:ext cx="9144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4724280" y="2514600"/>
            <a:ext cx="679680" cy="1981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105520" y="2895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.V. Serie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1295280" y="2895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2004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2578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10666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200400" y="3824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57200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01344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98108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8862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447920" y="4267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505320" y="4267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486400" y="4191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6318360" y="43434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657600" y="36576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638680" y="3657600"/>
            <a:ext cx="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6470280" y="3429000"/>
            <a:ext cx="228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H="1">
            <a:off x="1676160" y="3657600"/>
            <a:ext cx="7596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344840" y="480060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Ky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cLachl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259080" y="449568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Natal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ort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144800" y="457200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592360" y="3672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09804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n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983600" y="365760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335200" y="44956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Tw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eak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775560" y="3429000"/>
            <a:ext cx="31104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934320" y="43434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6294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705720" y="4648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8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27432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666880" y="2590920"/>
            <a:ext cx="2286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2514600" y="29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62120" y="3321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>
            <a:off x="990360" y="2438280"/>
            <a:ext cx="144756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21932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28600" y="3778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09480" y="4235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H="1">
            <a:off x="838080" y="362592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04920" y="46162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963960" y="3595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é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429000" y="1828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696080" y="11430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696080" y="20574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696080" y="28954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848720" y="14479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086600" y="1479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848720" y="2362320"/>
            <a:ext cx="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6934320" y="2362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3505320" y="1143000"/>
            <a:ext cx="4190400" cy="2514600"/>
            <a:chOff x="3505320" y="1143000"/>
            <a:chExt cx="4190400" cy="2514600"/>
          </a:xfrm>
        </p:grpSpPr>
        <p:grpSp>
          <p:nvGrpSpPr>
            <p:cNvPr id="1903" name=""/>
            <p:cNvGrpSpPr/>
            <p:nvPr/>
          </p:nvGrpSpPr>
          <p:grpSpPr>
            <a:xfrm>
              <a:off x="4343400" y="1143000"/>
              <a:ext cx="3352320" cy="304920"/>
              <a:chOff x="4343400" y="1143000"/>
              <a:chExt cx="3352320" cy="304920"/>
            </a:xfrm>
          </p:grpSpPr>
          <p:sp>
            <p:nvSpPr>
              <p:cNvPr id="1904" name=""/>
              <p:cNvSpPr/>
              <p:nvPr/>
            </p:nvSpPr>
            <p:spPr>
              <a:xfrm flipH="1">
                <a:off x="4723920" y="1295280"/>
                <a:ext cx="2971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343400" y="114300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906" name=""/>
            <p:cNvGrpSpPr/>
            <p:nvPr/>
          </p:nvGrpSpPr>
          <p:grpSpPr>
            <a:xfrm>
              <a:off x="3505320" y="2209680"/>
              <a:ext cx="4190400" cy="1447920"/>
              <a:chOff x="3505320" y="2209680"/>
              <a:chExt cx="4190400" cy="1447920"/>
            </a:xfrm>
          </p:grpSpPr>
          <p:sp>
            <p:nvSpPr>
              <p:cNvPr id="1907" name=""/>
              <p:cNvSpPr/>
              <p:nvPr/>
            </p:nvSpPr>
            <p:spPr>
              <a:xfrm flipH="1">
                <a:off x="3809520" y="2209680"/>
                <a:ext cx="3886200" cy="129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505320" y="3352680"/>
                <a:ext cx="30456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25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909" name=""/>
            <p:cNvGrpSpPr/>
            <p:nvPr/>
          </p:nvGrpSpPr>
          <p:grpSpPr>
            <a:xfrm>
              <a:off x="4038480" y="2286000"/>
              <a:ext cx="3657240" cy="762120"/>
              <a:chOff x="4038480" y="2286000"/>
              <a:chExt cx="3657240" cy="762120"/>
            </a:xfrm>
          </p:grpSpPr>
          <p:sp>
            <p:nvSpPr>
              <p:cNvPr id="1910" name=""/>
              <p:cNvSpPr/>
              <p:nvPr/>
            </p:nvSpPr>
            <p:spPr>
              <a:xfrm>
                <a:off x="4038480" y="228600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 flipV="1">
                <a:off x="4343040" y="2438280"/>
                <a:ext cx="335268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2" name=""/>
          <p:cNvSpPr/>
          <p:nvPr/>
        </p:nvSpPr>
        <p:spPr>
          <a:xfrm>
            <a:off x="304920" y="5715000"/>
            <a:ext cx="5181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Semiflexible Matching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913" name=""/>
          <p:cNvGrpSpPr/>
          <p:nvPr/>
        </p:nvGrpSpPr>
        <p:grpSpPr>
          <a:xfrm>
            <a:off x="4343400" y="1143000"/>
            <a:ext cx="3352680" cy="2286000"/>
            <a:chOff x="4343400" y="1143000"/>
            <a:chExt cx="3352680" cy="2286000"/>
          </a:xfrm>
        </p:grpSpPr>
        <p:grpSp>
          <p:nvGrpSpPr>
            <p:cNvPr id="1914" name=""/>
            <p:cNvGrpSpPr/>
            <p:nvPr/>
          </p:nvGrpSpPr>
          <p:grpSpPr>
            <a:xfrm>
              <a:off x="4343400" y="1143000"/>
              <a:ext cx="3352320" cy="304920"/>
              <a:chOff x="4343400" y="1143000"/>
              <a:chExt cx="3352320" cy="304920"/>
            </a:xfrm>
          </p:grpSpPr>
          <p:sp>
            <p:nvSpPr>
              <p:cNvPr id="1915" name=""/>
              <p:cNvSpPr/>
              <p:nvPr/>
            </p:nvSpPr>
            <p:spPr>
              <a:xfrm flipH="1">
                <a:off x="4723920" y="1295280"/>
                <a:ext cx="2971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4343400" y="114300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5410080" y="2209680"/>
              <a:ext cx="2285640" cy="381240"/>
              <a:chOff x="5410080" y="2209680"/>
              <a:chExt cx="2285640" cy="381240"/>
            </a:xfrm>
          </p:grpSpPr>
          <p:sp>
            <p:nvSpPr>
              <p:cNvPr id="1918" name=""/>
              <p:cNvSpPr/>
              <p:nvPr/>
            </p:nvSpPr>
            <p:spPr>
              <a:xfrm flipH="1">
                <a:off x="5714640" y="2209680"/>
                <a:ext cx="198108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410080" y="228600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6553080" y="3048120"/>
              <a:ext cx="1143000" cy="380880"/>
              <a:chOff x="6553080" y="3048120"/>
              <a:chExt cx="1143000" cy="380880"/>
            </a:xfrm>
          </p:grpSpPr>
          <p:sp>
            <p:nvSpPr>
              <p:cNvPr id="1921" name=""/>
              <p:cNvSpPr/>
              <p:nvPr/>
            </p:nvSpPr>
            <p:spPr>
              <a:xfrm flipH="1">
                <a:off x="6858000" y="3048120"/>
                <a:ext cx="83808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6553080" y="312408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29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3" name=""/>
          <p:cNvSpPr/>
          <p:nvPr/>
        </p:nvSpPr>
        <p:spPr>
          <a:xfrm>
            <a:off x="5715000" y="5486400"/>
            <a:ext cx="312408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We get all th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actor-movie pair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924" name=""/>
          <p:cNvGrpSpPr/>
          <p:nvPr/>
        </p:nvGrpSpPr>
        <p:grpSpPr>
          <a:xfrm>
            <a:off x="1600200" y="1143000"/>
            <a:ext cx="6095880" cy="2514600"/>
            <a:chOff x="1600200" y="1143000"/>
            <a:chExt cx="6095880" cy="2514600"/>
          </a:xfrm>
        </p:grpSpPr>
        <p:grpSp>
          <p:nvGrpSpPr>
            <p:cNvPr id="1925" name=""/>
            <p:cNvGrpSpPr/>
            <p:nvPr/>
          </p:nvGrpSpPr>
          <p:grpSpPr>
            <a:xfrm>
              <a:off x="4343400" y="1143000"/>
              <a:ext cx="3352320" cy="304920"/>
              <a:chOff x="4343400" y="1143000"/>
              <a:chExt cx="3352320" cy="304920"/>
            </a:xfrm>
          </p:grpSpPr>
          <p:sp>
            <p:nvSpPr>
              <p:cNvPr id="1926" name=""/>
              <p:cNvSpPr/>
              <p:nvPr/>
            </p:nvSpPr>
            <p:spPr>
              <a:xfrm flipH="1">
                <a:off x="4723920" y="1295280"/>
                <a:ext cx="2971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343400" y="114300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928" name=""/>
            <p:cNvGrpSpPr/>
            <p:nvPr/>
          </p:nvGrpSpPr>
          <p:grpSpPr>
            <a:xfrm>
              <a:off x="1600200" y="2209680"/>
              <a:ext cx="6095880" cy="1447920"/>
              <a:chOff x="1600200" y="2209680"/>
              <a:chExt cx="6095880" cy="1447920"/>
            </a:xfrm>
          </p:grpSpPr>
          <p:sp>
            <p:nvSpPr>
              <p:cNvPr id="1929" name=""/>
              <p:cNvSpPr/>
              <p:nvPr/>
            </p:nvSpPr>
            <p:spPr>
              <a:xfrm flipH="1">
                <a:off x="1905120" y="2209680"/>
                <a:ext cx="5790960" cy="129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600200" y="335268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22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2438280" y="2286000"/>
              <a:ext cx="5257800" cy="762120"/>
              <a:chOff x="2438280" y="2286000"/>
              <a:chExt cx="5257800" cy="762120"/>
            </a:xfrm>
          </p:grpSpPr>
          <p:sp>
            <p:nvSpPr>
              <p:cNvPr id="1932" name=""/>
              <p:cNvSpPr/>
              <p:nvPr/>
            </p:nvSpPr>
            <p:spPr>
              <a:xfrm>
                <a:off x="2438280" y="228600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H="1" flipV="1">
                <a:off x="2743200" y="2438280"/>
                <a:ext cx="495288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4" name=""/>
          <p:cNvGrpSpPr/>
          <p:nvPr/>
        </p:nvGrpSpPr>
        <p:grpSpPr>
          <a:xfrm>
            <a:off x="762120" y="1143000"/>
            <a:ext cx="6933960" cy="2486160"/>
            <a:chOff x="762120" y="1143000"/>
            <a:chExt cx="6933960" cy="2486160"/>
          </a:xfrm>
        </p:grpSpPr>
        <p:grpSp>
          <p:nvGrpSpPr>
            <p:cNvPr id="1935" name=""/>
            <p:cNvGrpSpPr/>
            <p:nvPr/>
          </p:nvGrpSpPr>
          <p:grpSpPr>
            <a:xfrm>
              <a:off x="2438280" y="2286000"/>
              <a:ext cx="5257800" cy="762120"/>
              <a:chOff x="2438280" y="2286000"/>
              <a:chExt cx="5257800" cy="762120"/>
            </a:xfrm>
          </p:grpSpPr>
          <p:sp>
            <p:nvSpPr>
              <p:cNvPr id="1936" name=""/>
              <p:cNvSpPr/>
              <p:nvPr/>
            </p:nvSpPr>
            <p:spPr>
              <a:xfrm>
                <a:off x="2438280" y="228600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H="1" flipV="1">
                <a:off x="2743200" y="2438280"/>
                <a:ext cx="495288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938" name=""/>
            <p:cNvGrpSpPr/>
            <p:nvPr/>
          </p:nvGrpSpPr>
          <p:grpSpPr>
            <a:xfrm>
              <a:off x="4343400" y="1143000"/>
              <a:ext cx="3352320" cy="304920"/>
              <a:chOff x="4343400" y="1143000"/>
              <a:chExt cx="3352320" cy="304920"/>
            </a:xfrm>
          </p:grpSpPr>
          <p:sp>
            <p:nvSpPr>
              <p:cNvPr id="1939" name=""/>
              <p:cNvSpPr/>
              <p:nvPr/>
            </p:nvSpPr>
            <p:spPr>
              <a:xfrm flipH="1">
                <a:off x="4723920" y="1295280"/>
                <a:ext cx="2971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343400" y="114300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941" name=""/>
            <p:cNvGrpSpPr/>
            <p:nvPr/>
          </p:nvGrpSpPr>
          <p:grpSpPr>
            <a:xfrm>
              <a:off x="762120" y="2209680"/>
              <a:ext cx="6933600" cy="1419480"/>
              <a:chOff x="762120" y="2209680"/>
              <a:chExt cx="6933600" cy="1419480"/>
            </a:xfrm>
          </p:grpSpPr>
          <p:sp>
            <p:nvSpPr>
              <p:cNvPr id="1942" name=""/>
              <p:cNvSpPr/>
              <p:nvPr/>
            </p:nvSpPr>
            <p:spPr>
              <a:xfrm flipH="1">
                <a:off x="1066320" y="2209680"/>
                <a:ext cx="6629400" cy="1266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62120" y="3324240"/>
                <a:ext cx="30456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2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69B-A2E8-4ACA-B110-0CAA6C798AA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"/>
          <p:cNvSpPr/>
          <p:nvPr/>
        </p:nvSpPr>
        <p:spPr>
          <a:xfrm>
            <a:off x="5334120" y="380880"/>
            <a:ext cx="2286000" cy="297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752480" y="380880"/>
            <a:ext cx="2286000" cy="297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743200" y="958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2743200" y="18730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743200" y="27115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895480" y="12636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133720" y="2209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895480" y="2178000"/>
            <a:ext cx="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1905120" y="1371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400800" y="9907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400800" y="19051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400800" y="27432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553080" y="12952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791320" y="1327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553080" y="2209680"/>
            <a:ext cx="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638680" y="2209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1752480" y="3505320"/>
            <a:ext cx="586764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Under semiflexible semantics,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se two queries are equivalen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752480" y="4724280"/>
            <a:ext cx="586764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user does not have to kno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if movies are above or below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actors in the databa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620-6E48-4871-B9CF-460FD8368F9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495680" y="1143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0640" y="2286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95120" y="137160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343040" y="1447920"/>
            <a:ext cx="22860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1371600"/>
            <a:ext cx="167652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685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2590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1676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33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03960" y="3429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13640" y="3124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981080" y="2514600"/>
            <a:ext cx="6098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90560" y="2590920"/>
            <a:ext cx="15228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809520" y="2514600"/>
            <a:ext cx="38124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2590920"/>
            <a:ext cx="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2920" y="2590920"/>
            <a:ext cx="828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99240" y="2514600"/>
            <a:ext cx="9144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632560" y="2514600"/>
            <a:ext cx="83808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.V. Serie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1828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ilm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3824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44197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850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36576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36576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536960" y="3429000"/>
            <a:ext cx="228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828800" y="36576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63840" y="373392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Ky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cLachl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11360" y="449568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Natal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ort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457200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5000" y="3672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2196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n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5880" y="365760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2240" y="47242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Tw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eak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5638680"/>
            <a:ext cx="4419720" cy="76212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 Movie Database Examp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2240" y="3429000"/>
            <a:ext cx="5335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994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224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8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2590920"/>
            <a:ext cx="2286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29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3321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066680" y="2438280"/>
            <a:ext cx="1524240" cy="882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778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235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914400" y="362592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616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6240" y="3595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é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1828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23623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447920"/>
            <a:ext cx="3049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4495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952880" y="2666880"/>
            <a:ext cx="76320" cy="1828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7480" y="4800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gnoli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360" y="1752480"/>
            <a:ext cx="3733920" cy="4140360"/>
          </a:xfrm>
          <a:custGeom>
            <a:avLst/>
            <a:gdLst/>
            <a:ahLst/>
            <a:rect l="l" t="t" r="r" b="b"/>
            <a:pathLst>
              <a:path w="2352" h="2608">
                <a:moveTo>
                  <a:pt x="1832" y="0"/>
                </a:moveTo>
                <a:cubicBezTo>
                  <a:pt x="1224" y="24"/>
                  <a:pt x="616" y="48"/>
                  <a:pt x="344" y="432"/>
                </a:cubicBezTo>
                <a:cubicBezTo>
                  <a:pt x="72" y="816"/>
                  <a:pt x="0" y="2000"/>
                  <a:pt x="200" y="2304"/>
                </a:cubicBezTo>
                <a:cubicBezTo>
                  <a:pt x="400" y="2608"/>
                  <a:pt x="1224" y="2408"/>
                  <a:pt x="1544" y="2256"/>
                </a:cubicBezTo>
                <a:cubicBezTo>
                  <a:pt x="1864" y="2104"/>
                  <a:pt x="2024" y="1656"/>
                  <a:pt x="2120" y="1392"/>
                </a:cubicBezTo>
                <a:cubicBezTo>
                  <a:pt x="2216" y="1128"/>
                  <a:pt x="2088" y="864"/>
                  <a:pt x="2120" y="672"/>
                </a:cubicBezTo>
                <a:cubicBezTo>
                  <a:pt x="2152" y="480"/>
                  <a:pt x="2352" y="352"/>
                  <a:pt x="2312" y="240"/>
                </a:cubicBezTo>
                <a:cubicBezTo>
                  <a:pt x="2272" y="128"/>
                  <a:pt x="2076" y="64"/>
                  <a:pt x="1880" y="0"/>
                </a:cubicBezTo>
                <a:cubicBezTo>
                  <a:pt x="1880" y="0"/>
                  <a:pt x="1832" y="0"/>
                  <a:pt x="1832" y="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62240" y="1714680"/>
            <a:ext cx="1701720" cy="3720960"/>
          </a:xfrm>
          <a:custGeom>
            <a:avLst/>
            <a:gdLst/>
            <a:ahLst/>
            <a:rect l="l" t="t" r="r" b="b"/>
            <a:pathLst>
              <a:path w="1072" h="2344">
                <a:moveTo>
                  <a:pt x="792" y="72"/>
                </a:moveTo>
                <a:cubicBezTo>
                  <a:pt x="712" y="128"/>
                  <a:pt x="600" y="192"/>
                  <a:pt x="504" y="360"/>
                </a:cubicBezTo>
                <a:cubicBezTo>
                  <a:pt x="408" y="528"/>
                  <a:pt x="280" y="784"/>
                  <a:pt x="216" y="1080"/>
                </a:cubicBezTo>
                <a:cubicBezTo>
                  <a:pt x="152" y="1376"/>
                  <a:pt x="0" y="1936"/>
                  <a:pt x="120" y="2136"/>
                </a:cubicBezTo>
                <a:cubicBezTo>
                  <a:pt x="240" y="2336"/>
                  <a:pt x="832" y="2344"/>
                  <a:pt x="936" y="2280"/>
                </a:cubicBezTo>
                <a:cubicBezTo>
                  <a:pt x="1040" y="2216"/>
                  <a:pt x="728" y="1920"/>
                  <a:pt x="744" y="1752"/>
                </a:cubicBezTo>
                <a:cubicBezTo>
                  <a:pt x="760" y="1584"/>
                  <a:pt x="992" y="1456"/>
                  <a:pt x="1032" y="1272"/>
                </a:cubicBezTo>
                <a:cubicBezTo>
                  <a:pt x="1072" y="1088"/>
                  <a:pt x="1000" y="824"/>
                  <a:pt x="984" y="648"/>
                </a:cubicBezTo>
                <a:cubicBezTo>
                  <a:pt x="968" y="472"/>
                  <a:pt x="936" y="320"/>
                  <a:pt x="936" y="216"/>
                </a:cubicBezTo>
                <a:cubicBezTo>
                  <a:pt x="936" y="112"/>
                  <a:pt x="1008" y="48"/>
                  <a:pt x="984" y="24"/>
                </a:cubicBezTo>
                <a:cubicBezTo>
                  <a:pt x="960" y="0"/>
                  <a:pt x="872" y="16"/>
                  <a:pt x="792" y="72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54480" y="1562040"/>
            <a:ext cx="1612800" cy="3886200"/>
          </a:xfrm>
          <a:custGeom>
            <a:avLst/>
            <a:gdLst/>
            <a:ahLst/>
            <a:rect l="l" t="t" r="r" b="b"/>
            <a:pathLst>
              <a:path w="1016" h="2448">
                <a:moveTo>
                  <a:pt x="392" y="120"/>
                </a:moveTo>
                <a:cubicBezTo>
                  <a:pt x="360" y="240"/>
                  <a:pt x="344" y="400"/>
                  <a:pt x="296" y="744"/>
                </a:cubicBezTo>
                <a:cubicBezTo>
                  <a:pt x="248" y="1088"/>
                  <a:pt x="0" y="1920"/>
                  <a:pt x="104" y="2184"/>
                </a:cubicBezTo>
                <a:cubicBezTo>
                  <a:pt x="208" y="2448"/>
                  <a:pt x="824" y="2376"/>
                  <a:pt x="920" y="2328"/>
                </a:cubicBezTo>
                <a:cubicBezTo>
                  <a:pt x="1016" y="2280"/>
                  <a:pt x="744" y="2024"/>
                  <a:pt x="680" y="1896"/>
                </a:cubicBezTo>
                <a:cubicBezTo>
                  <a:pt x="616" y="1768"/>
                  <a:pt x="536" y="1704"/>
                  <a:pt x="536" y="1560"/>
                </a:cubicBezTo>
                <a:cubicBezTo>
                  <a:pt x="536" y="1416"/>
                  <a:pt x="664" y="1200"/>
                  <a:pt x="680" y="1032"/>
                </a:cubicBezTo>
                <a:cubicBezTo>
                  <a:pt x="696" y="864"/>
                  <a:pt x="648" y="696"/>
                  <a:pt x="632" y="552"/>
                </a:cubicBezTo>
                <a:cubicBezTo>
                  <a:pt x="616" y="408"/>
                  <a:pt x="608" y="256"/>
                  <a:pt x="584" y="168"/>
                </a:cubicBezTo>
                <a:cubicBezTo>
                  <a:pt x="560" y="80"/>
                  <a:pt x="520" y="32"/>
                  <a:pt x="488" y="24"/>
                </a:cubicBezTo>
                <a:cubicBezTo>
                  <a:pt x="456" y="16"/>
                  <a:pt x="424" y="0"/>
                  <a:pt x="392" y="12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67360" y="1841400"/>
            <a:ext cx="4228920" cy="4152960"/>
          </a:xfrm>
          <a:custGeom>
            <a:avLst/>
            <a:gdLst/>
            <a:ahLst/>
            <a:rect l="l" t="t" r="r" b="b"/>
            <a:pathLst>
              <a:path w="2664" h="2616">
                <a:moveTo>
                  <a:pt x="600" y="136"/>
                </a:moveTo>
                <a:cubicBezTo>
                  <a:pt x="464" y="216"/>
                  <a:pt x="312" y="360"/>
                  <a:pt x="216" y="568"/>
                </a:cubicBezTo>
                <a:cubicBezTo>
                  <a:pt x="120" y="776"/>
                  <a:pt x="0" y="1168"/>
                  <a:pt x="24" y="1384"/>
                </a:cubicBezTo>
                <a:cubicBezTo>
                  <a:pt x="48" y="1600"/>
                  <a:pt x="232" y="1712"/>
                  <a:pt x="360" y="1864"/>
                </a:cubicBezTo>
                <a:cubicBezTo>
                  <a:pt x="488" y="2016"/>
                  <a:pt x="440" y="2216"/>
                  <a:pt x="792" y="2296"/>
                </a:cubicBezTo>
                <a:cubicBezTo>
                  <a:pt x="1144" y="2376"/>
                  <a:pt x="2280" y="2616"/>
                  <a:pt x="2472" y="2344"/>
                </a:cubicBezTo>
                <a:cubicBezTo>
                  <a:pt x="2664" y="2072"/>
                  <a:pt x="2184" y="1040"/>
                  <a:pt x="1944" y="664"/>
                </a:cubicBezTo>
                <a:cubicBezTo>
                  <a:pt x="1704" y="288"/>
                  <a:pt x="1256" y="176"/>
                  <a:pt x="1032" y="88"/>
                </a:cubicBezTo>
                <a:cubicBezTo>
                  <a:pt x="808" y="0"/>
                  <a:pt x="736" y="56"/>
                  <a:pt x="600" y="136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704-6221-4FA8-8DBA-5C47E143A8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"/>
          <p:cNvSpPr/>
          <p:nvPr/>
        </p:nvSpPr>
        <p:spPr>
          <a:xfrm>
            <a:off x="4267080" y="9907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362320" y="21337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962520" y="21337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327640" y="21337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H="1">
            <a:off x="2666520" y="1219320"/>
            <a:ext cx="1600200" cy="990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>
            <a:off x="4114440" y="1295280"/>
            <a:ext cx="2286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572000" y="1219320"/>
            <a:ext cx="83808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352680" y="533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2895480" y="1371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562720" y="2438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3434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523880" y="3200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209680" y="3200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29000" y="3200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038480" y="321480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49568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410080" y="3200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647064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 flipH="1">
            <a:off x="1752480" y="2362320"/>
            <a:ext cx="6098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 flipH="1">
            <a:off x="2361960" y="243828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 flipH="1">
            <a:off x="3580920" y="2362320"/>
            <a:ext cx="38124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191120" y="243828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5479920" y="2438280"/>
            <a:ext cx="82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5556240" y="2362320"/>
            <a:ext cx="9144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H="1">
            <a:off x="4647960" y="2362320"/>
            <a:ext cx="679320" cy="1981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029200" y="2743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.V. Serie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219320" y="2743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124080" y="2590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5181480" y="35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9907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124080" y="3672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49568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9371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9051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0988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371600" y="4114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429000" y="4114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10080" y="4038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242040" y="4191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581280" y="3505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562720" y="3505320"/>
            <a:ext cx="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H="1">
            <a:off x="6393960" y="3276720"/>
            <a:ext cx="228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H="1">
            <a:off x="1600200" y="350532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268520" y="464832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Ky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cLachl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182760" y="434340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Natal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ort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068480" y="441972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2516400" y="351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022080" y="4510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n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907280" y="35053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259240" y="434340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Tw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eak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699240" y="3276720"/>
            <a:ext cx="31104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858000" y="4191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553080" y="35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62940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8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666880" y="3200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590920" y="243828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438280" y="27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85800" y="31687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flipH="1">
            <a:off x="914400" y="2286000"/>
            <a:ext cx="144792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1143000" y="2286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228600" y="3778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33520" y="4083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 flipH="1">
            <a:off x="761760" y="3473280"/>
            <a:ext cx="7596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28600" y="4464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887640" y="3443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é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3352680" y="1676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620120" y="9907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6934320" y="182880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8305920" y="21337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 flipH="1">
            <a:off x="7162560" y="1295280"/>
            <a:ext cx="6094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010280" y="13273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848720" y="1295280"/>
            <a:ext cx="53316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934320" y="2286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04920" y="5638680"/>
            <a:ext cx="45720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Another Example of a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Semiflexible Match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5562720" y="5334120"/>
            <a:ext cx="342900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We get pairs of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actors that acted i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same movi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543800" y="28954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162920" y="2133720"/>
            <a:ext cx="4572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7848360" y="2438280"/>
            <a:ext cx="5331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620120" y="2514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772400" y="15238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042" name=""/>
          <p:cNvGrpSpPr/>
          <p:nvPr/>
        </p:nvGrpSpPr>
        <p:grpSpPr>
          <a:xfrm>
            <a:off x="685800" y="990720"/>
            <a:ext cx="6933960" cy="2482560"/>
            <a:chOff x="685800" y="990720"/>
            <a:chExt cx="6933960" cy="2482560"/>
          </a:xfrm>
        </p:grpSpPr>
        <p:grpSp>
          <p:nvGrpSpPr>
            <p:cNvPr id="2043" name=""/>
            <p:cNvGrpSpPr/>
            <p:nvPr/>
          </p:nvGrpSpPr>
          <p:grpSpPr>
            <a:xfrm>
              <a:off x="4267080" y="990720"/>
              <a:ext cx="3352680" cy="304560"/>
              <a:chOff x="4267080" y="990720"/>
              <a:chExt cx="3352680" cy="304560"/>
            </a:xfrm>
          </p:grpSpPr>
          <p:sp>
            <p:nvSpPr>
              <p:cNvPr id="2044" name=""/>
              <p:cNvSpPr/>
              <p:nvPr/>
            </p:nvSpPr>
            <p:spPr>
              <a:xfrm flipH="1">
                <a:off x="4571640" y="114300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267080" y="990720"/>
                <a:ext cx="304920" cy="304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685800" y="1981080"/>
              <a:ext cx="6248520" cy="1492200"/>
              <a:chOff x="685800" y="1981080"/>
              <a:chExt cx="6248520" cy="1492200"/>
            </a:xfrm>
          </p:grpSpPr>
          <p:sp>
            <p:nvSpPr>
              <p:cNvPr id="2047" name=""/>
              <p:cNvSpPr/>
              <p:nvPr/>
            </p:nvSpPr>
            <p:spPr>
              <a:xfrm flipH="1">
                <a:off x="990720" y="1981080"/>
                <a:ext cx="5943600" cy="129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85800" y="3168720"/>
                <a:ext cx="304920" cy="304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2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2049" name=""/>
            <p:cNvGrpSpPr/>
            <p:nvPr/>
          </p:nvGrpSpPr>
          <p:grpSpPr>
            <a:xfrm>
              <a:off x="2362320" y="2133720"/>
              <a:ext cx="5181120" cy="914040"/>
              <a:chOff x="2362320" y="2133720"/>
              <a:chExt cx="5181120" cy="914040"/>
            </a:xfrm>
          </p:grpSpPr>
          <p:sp>
            <p:nvSpPr>
              <p:cNvPr id="2050" name=""/>
              <p:cNvSpPr/>
              <p:nvPr/>
            </p:nvSpPr>
            <p:spPr>
              <a:xfrm flipH="1" flipV="1">
                <a:off x="2666520" y="2285640"/>
                <a:ext cx="4876920" cy="762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362320" y="2133720"/>
                <a:ext cx="304560" cy="304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2" name=""/>
          <p:cNvGrpSpPr/>
          <p:nvPr/>
        </p:nvGrpSpPr>
        <p:grpSpPr>
          <a:xfrm>
            <a:off x="1523880" y="990720"/>
            <a:ext cx="6782040" cy="2514600"/>
            <a:chOff x="1523880" y="990720"/>
            <a:chExt cx="6782040" cy="2514600"/>
          </a:xfrm>
        </p:grpSpPr>
        <p:grpSp>
          <p:nvGrpSpPr>
            <p:cNvPr id="2053" name=""/>
            <p:cNvGrpSpPr/>
            <p:nvPr/>
          </p:nvGrpSpPr>
          <p:grpSpPr>
            <a:xfrm>
              <a:off x="1523880" y="2286000"/>
              <a:ext cx="6782040" cy="1219320"/>
              <a:chOff x="1523880" y="2286000"/>
              <a:chExt cx="6782040" cy="1219320"/>
            </a:xfrm>
          </p:grpSpPr>
          <p:sp>
            <p:nvSpPr>
              <p:cNvPr id="2054" name=""/>
              <p:cNvSpPr/>
              <p:nvPr/>
            </p:nvSpPr>
            <p:spPr>
              <a:xfrm flipH="1">
                <a:off x="1828800" y="2286000"/>
                <a:ext cx="6477120" cy="106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523880" y="3200400"/>
                <a:ext cx="304920" cy="304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22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2056" name=""/>
            <p:cNvGrpSpPr/>
            <p:nvPr/>
          </p:nvGrpSpPr>
          <p:grpSpPr>
            <a:xfrm>
              <a:off x="4267080" y="990720"/>
              <a:ext cx="3352680" cy="304560"/>
              <a:chOff x="4267080" y="990720"/>
              <a:chExt cx="3352680" cy="304560"/>
            </a:xfrm>
          </p:grpSpPr>
          <p:sp>
            <p:nvSpPr>
              <p:cNvPr id="2057" name=""/>
              <p:cNvSpPr/>
              <p:nvPr/>
            </p:nvSpPr>
            <p:spPr>
              <a:xfrm flipH="1">
                <a:off x="4571640" y="114300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4267080" y="990720"/>
                <a:ext cx="304920" cy="304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2059" name=""/>
            <p:cNvGrpSpPr/>
            <p:nvPr/>
          </p:nvGrpSpPr>
          <p:grpSpPr>
            <a:xfrm>
              <a:off x="2362320" y="2133720"/>
              <a:ext cx="5181120" cy="914040"/>
              <a:chOff x="2362320" y="2133720"/>
              <a:chExt cx="5181120" cy="914040"/>
            </a:xfrm>
          </p:grpSpPr>
          <p:sp>
            <p:nvSpPr>
              <p:cNvPr id="2060" name=""/>
              <p:cNvSpPr/>
              <p:nvPr/>
            </p:nvSpPr>
            <p:spPr>
              <a:xfrm flipH="1" flipV="1">
                <a:off x="2666520" y="2285640"/>
                <a:ext cx="4876920" cy="762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362320" y="2133720"/>
                <a:ext cx="304560" cy="304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2" name=""/>
          <p:cNvGrpSpPr/>
          <p:nvPr/>
        </p:nvGrpSpPr>
        <p:grpSpPr>
          <a:xfrm>
            <a:off x="685800" y="990720"/>
            <a:ext cx="3886200" cy="2469960"/>
            <a:chOff x="685800" y="990720"/>
            <a:chExt cx="3886200" cy="2469960"/>
          </a:xfrm>
        </p:grpSpPr>
        <p:sp>
          <p:nvSpPr>
            <p:cNvPr id="2063" name=""/>
            <p:cNvSpPr/>
            <p:nvPr/>
          </p:nvSpPr>
          <p:spPr>
            <a:xfrm>
              <a:off x="4267080" y="990720"/>
              <a:ext cx="30492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362320" y="213372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85800" y="3156120"/>
              <a:ext cx="30492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066" name=""/>
          <p:cNvSpPr/>
          <p:nvPr/>
        </p:nvSpPr>
        <p:spPr>
          <a:xfrm>
            <a:off x="1523880" y="32004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685800" y="990720"/>
            <a:ext cx="7620120" cy="2514600"/>
            <a:chOff x="685800" y="990720"/>
            <a:chExt cx="7620120" cy="2514600"/>
          </a:xfrm>
        </p:grpSpPr>
        <p:grpSp>
          <p:nvGrpSpPr>
            <p:cNvPr id="2068" name=""/>
            <p:cNvGrpSpPr/>
            <p:nvPr/>
          </p:nvGrpSpPr>
          <p:grpSpPr>
            <a:xfrm>
              <a:off x="1523880" y="990720"/>
              <a:ext cx="6782040" cy="2514600"/>
              <a:chOff x="1523880" y="990720"/>
              <a:chExt cx="6782040" cy="2514600"/>
            </a:xfrm>
          </p:grpSpPr>
          <p:grpSp>
            <p:nvGrpSpPr>
              <p:cNvPr id="2069" name=""/>
              <p:cNvGrpSpPr/>
              <p:nvPr/>
            </p:nvGrpSpPr>
            <p:grpSpPr>
              <a:xfrm>
                <a:off x="1523880" y="2286000"/>
                <a:ext cx="6782040" cy="1219320"/>
                <a:chOff x="1523880" y="2286000"/>
                <a:chExt cx="6782040" cy="1219320"/>
              </a:xfrm>
            </p:grpSpPr>
            <p:sp>
              <p:nvSpPr>
                <p:cNvPr id="2070" name=""/>
                <p:cNvSpPr/>
                <p:nvPr/>
              </p:nvSpPr>
              <p:spPr>
                <a:xfrm flipH="1">
                  <a:off x="1828800" y="2286000"/>
                  <a:ext cx="6477120" cy="1066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1523880" y="3200400"/>
                  <a:ext cx="304920" cy="304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22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2" name=""/>
              <p:cNvGrpSpPr/>
              <p:nvPr/>
            </p:nvGrpSpPr>
            <p:grpSpPr>
              <a:xfrm>
                <a:off x="4267080" y="990720"/>
                <a:ext cx="3352680" cy="304560"/>
                <a:chOff x="4267080" y="990720"/>
                <a:chExt cx="3352680" cy="304560"/>
              </a:xfrm>
            </p:grpSpPr>
            <p:sp>
              <p:nvSpPr>
                <p:cNvPr id="2073" name=""/>
                <p:cNvSpPr/>
                <p:nvPr/>
              </p:nvSpPr>
              <p:spPr>
                <a:xfrm flipH="1">
                  <a:off x="4571640" y="114300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4267080" y="990720"/>
                  <a:ext cx="304920" cy="3045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5" name=""/>
              <p:cNvGrpSpPr/>
              <p:nvPr/>
            </p:nvGrpSpPr>
            <p:grpSpPr>
              <a:xfrm>
                <a:off x="2362320" y="2133720"/>
                <a:ext cx="5181120" cy="914040"/>
                <a:chOff x="2362320" y="2133720"/>
                <a:chExt cx="5181120" cy="914040"/>
              </a:xfrm>
            </p:grpSpPr>
            <p:sp>
              <p:nvSpPr>
                <p:cNvPr id="2076" name=""/>
                <p:cNvSpPr/>
                <p:nvPr/>
              </p:nvSpPr>
              <p:spPr>
                <a:xfrm flipH="1" flipV="1">
                  <a:off x="2666520" y="2285640"/>
                  <a:ext cx="4876920" cy="762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2362320" y="2133720"/>
                  <a:ext cx="304560" cy="3045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8" name=""/>
            <p:cNvGrpSpPr/>
            <p:nvPr/>
          </p:nvGrpSpPr>
          <p:grpSpPr>
            <a:xfrm>
              <a:off x="685800" y="990720"/>
              <a:ext cx="6933960" cy="2482560"/>
              <a:chOff x="685800" y="990720"/>
              <a:chExt cx="6933960" cy="2482560"/>
            </a:xfrm>
          </p:grpSpPr>
          <p:grpSp>
            <p:nvGrpSpPr>
              <p:cNvPr id="2079" name=""/>
              <p:cNvGrpSpPr/>
              <p:nvPr/>
            </p:nvGrpSpPr>
            <p:grpSpPr>
              <a:xfrm>
                <a:off x="4267080" y="990720"/>
                <a:ext cx="3352680" cy="304560"/>
                <a:chOff x="4267080" y="990720"/>
                <a:chExt cx="3352680" cy="304560"/>
              </a:xfrm>
            </p:grpSpPr>
            <p:sp>
              <p:nvSpPr>
                <p:cNvPr id="2080" name=""/>
                <p:cNvSpPr/>
                <p:nvPr/>
              </p:nvSpPr>
              <p:spPr>
                <a:xfrm flipH="1">
                  <a:off x="4571640" y="114300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267080" y="990720"/>
                  <a:ext cx="304920" cy="3045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2" name=""/>
              <p:cNvGrpSpPr/>
              <p:nvPr/>
            </p:nvGrpSpPr>
            <p:grpSpPr>
              <a:xfrm>
                <a:off x="685800" y="1981080"/>
                <a:ext cx="6248520" cy="1492200"/>
                <a:chOff x="685800" y="1981080"/>
                <a:chExt cx="6248520" cy="1492200"/>
              </a:xfrm>
            </p:grpSpPr>
            <p:sp>
              <p:nvSpPr>
                <p:cNvPr id="2083" name=""/>
                <p:cNvSpPr/>
                <p:nvPr/>
              </p:nvSpPr>
              <p:spPr>
                <a:xfrm flipH="1">
                  <a:off x="990720" y="1981080"/>
                  <a:ext cx="5943600" cy="12956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685800" y="3168720"/>
                  <a:ext cx="304920" cy="3045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2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5" name=""/>
              <p:cNvGrpSpPr/>
              <p:nvPr/>
            </p:nvGrpSpPr>
            <p:grpSpPr>
              <a:xfrm>
                <a:off x="2362320" y="2133720"/>
                <a:ext cx="5181120" cy="914040"/>
                <a:chOff x="2362320" y="2133720"/>
                <a:chExt cx="5181120" cy="914040"/>
              </a:xfrm>
            </p:grpSpPr>
            <p:sp>
              <p:nvSpPr>
                <p:cNvPr id="2086" name=""/>
                <p:cNvSpPr/>
                <p:nvPr/>
              </p:nvSpPr>
              <p:spPr>
                <a:xfrm flipH="1" flipV="1">
                  <a:off x="2666520" y="2285640"/>
                  <a:ext cx="4876920" cy="762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2362320" y="2133720"/>
                  <a:ext cx="304560" cy="3045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88" name=""/>
          <p:cNvSpPr/>
          <p:nvPr/>
        </p:nvSpPr>
        <p:spPr>
          <a:xfrm>
            <a:off x="304920" y="5334120"/>
            <a:ext cx="8686800" cy="137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Impossible to get this pair by means of a rigid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matching, since the query is a dag and the db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is a tre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034-386C-4D6B-9404-1D22FC5A706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 Flexible Matching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query root is  mapped to the db roo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091" name=""/>
          <p:cNvGrpSpPr/>
          <p:nvPr/>
        </p:nvGrpSpPr>
        <p:grpSpPr>
          <a:xfrm>
            <a:off x="5029560" y="1447920"/>
            <a:ext cx="2992320" cy="1066680"/>
            <a:chOff x="5029560" y="1447920"/>
            <a:chExt cx="2992320" cy="1066680"/>
          </a:xfrm>
        </p:grpSpPr>
        <p:sp>
          <p:nvSpPr>
            <p:cNvPr id="2092" name=""/>
            <p:cNvSpPr/>
            <p:nvPr/>
          </p:nvSpPr>
          <p:spPr>
            <a:xfrm>
              <a:off x="5334120" y="220968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543800" y="220968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638680" y="2362320"/>
              <a:ext cx="190512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029560" y="1447920"/>
              <a:ext cx="87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Quer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315200" y="1523880"/>
              <a:ext cx="70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DB 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Root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097" name=""/>
          <p:cNvSpPr/>
          <p:nvPr/>
        </p:nvSpPr>
        <p:spPr>
          <a:xfrm flipV="1">
            <a:off x="5943600" y="3123720"/>
            <a:ext cx="1752480" cy="76212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5638680" y="37339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7467480" y="3048120"/>
            <a:ext cx="343080" cy="2666880"/>
            <a:chOff x="7467480" y="3048120"/>
            <a:chExt cx="343080" cy="2666880"/>
          </a:xfrm>
        </p:grpSpPr>
        <p:sp>
          <p:nvSpPr>
            <p:cNvPr id="2100" name=""/>
            <p:cNvSpPr/>
            <p:nvPr/>
          </p:nvSpPr>
          <p:spPr>
            <a:xfrm>
              <a:off x="7467480" y="3733920"/>
              <a:ext cx="3049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543800" y="3048120"/>
              <a:ext cx="266760" cy="685800"/>
            </a:xfrm>
            <a:custGeom>
              <a:avLst/>
              <a:gdLst/>
              <a:ahLst/>
              <a:rect l="l" t="t" r="r" b="b"/>
              <a:pathLst>
                <a:path w="168" h="432">
                  <a:moveTo>
                    <a:pt x="64" y="0"/>
                  </a:moveTo>
                  <a:cubicBezTo>
                    <a:pt x="116" y="48"/>
                    <a:pt x="168" y="96"/>
                    <a:pt x="160" y="144"/>
                  </a:cubicBezTo>
                  <a:cubicBezTo>
                    <a:pt x="152" y="192"/>
                    <a:pt x="32" y="240"/>
                    <a:pt x="16" y="288"/>
                  </a:cubicBezTo>
                  <a:cubicBezTo>
                    <a:pt x="0" y="336"/>
                    <a:pt x="32" y="384"/>
                    <a:pt x="64" y="432"/>
                  </a:cubicBezTo>
                </a:path>
              </a:pathLst>
            </a:custGeom>
            <a:noFill/>
            <a:ln w="38160">
              <a:solidFill>
                <a:srgbClr val="00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543800" y="5029200"/>
              <a:ext cx="266760" cy="685800"/>
            </a:xfrm>
            <a:custGeom>
              <a:avLst/>
              <a:gdLst/>
              <a:ahLst/>
              <a:rect l="l" t="t" r="r" b="b"/>
              <a:pathLst>
                <a:path w="168" h="432">
                  <a:moveTo>
                    <a:pt x="64" y="0"/>
                  </a:moveTo>
                  <a:cubicBezTo>
                    <a:pt x="116" y="48"/>
                    <a:pt x="168" y="96"/>
                    <a:pt x="160" y="144"/>
                  </a:cubicBezTo>
                  <a:cubicBezTo>
                    <a:pt x="152" y="192"/>
                    <a:pt x="32" y="240"/>
                    <a:pt x="16" y="288"/>
                  </a:cubicBezTo>
                  <a:cubicBezTo>
                    <a:pt x="0" y="336"/>
                    <a:pt x="32" y="384"/>
                    <a:pt x="64" y="432"/>
                  </a:cubicBezTo>
                </a:path>
              </a:pathLst>
            </a:custGeom>
            <a:noFill/>
            <a:ln w="38160">
              <a:solidFill>
                <a:srgbClr val="00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103" name=""/>
          <p:cNvSpPr/>
          <p:nvPr/>
        </p:nvSpPr>
        <p:spPr>
          <a:xfrm>
            <a:off x="5943600" y="3886200"/>
            <a:ext cx="1600200" cy="160020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5410080" y="4038480"/>
            <a:ext cx="2362320" cy="990720"/>
            <a:chOff x="5410080" y="4038480"/>
            <a:chExt cx="2362320" cy="990720"/>
          </a:xfrm>
        </p:grpSpPr>
        <p:sp>
          <p:nvSpPr>
            <p:cNvPr id="2105" name=""/>
            <p:cNvSpPr/>
            <p:nvPr/>
          </p:nvSpPr>
          <p:spPr>
            <a:xfrm>
              <a:off x="5638680" y="47242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467480" y="472428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791320" y="403848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620120" y="403848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410080" y="41911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238880" y="41911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943600" y="4876920"/>
              <a:ext cx="15238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112" name=""/>
          <p:cNvSpPr/>
          <p:nvPr/>
        </p:nvSpPr>
        <p:spPr>
          <a:xfrm>
            <a:off x="5943600" y="3886200"/>
            <a:ext cx="1523880" cy="0"/>
          </a:xfrm>
          <a:prstGeom prst="line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533520" y="2514600"/>
            <a:ext cx="4419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query node with an incoming label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mapped to a db node with an incoming label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533520" y="4114800"/>
            <a:ext cx="4419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n edge is mapped to two nodes on one pat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533520" y="4952880"/>
            <a:ext cx="4419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ice that a path in the query is not necessarily mapped to a path in the db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556-49ED-4D47-9402-070729DE437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n Example of a Flexible Quer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95680" y="17524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118" name=""/>
          <p:cNvGrpSpPr/>
          <p:nvPr/>
        </p:nvGrpSpPr>
        <p:grpSpPr>
          <a:xfrm>
            <a:off x="1752480" y="2057400"/>
            <a:ext cx="3657600" cy="838080"/>
            <a:chOff x="1752480" y="2057400"/>
            <a:chExt cx="3657600" cy="838080"/>
          </a:xfrm>
        </p:grpSpPr>
        <p:sp>
          <p:nvSpPr>
            <p:cNvPr id="2119" name=""/>
            <p:cNvSpPr/>
            <p:nvPr/>
          </p:nvSpPr>
          <p:spPr>
            <a:xfrm>
              <a:off x="4648320" y="25909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648320" y="2057400"/>
              <a:ext cx="152280" cy="5335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267080" y="213372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Director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752480" y="2438280"/>
              <a:ext cx="198144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A director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733920" y="2666880"/>
              <a:ext cx="761760" cy="76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124" name=""/>
          <p:cNvGrpSpPr/>
          <p:nvPr/>
        </p:nvGrpSpPr>
        <p:grpSpPr>
          <a:xfrm>
            <a:off x="4800600" y="2362320"/>
            <a:ext cx="2971800" cy="1143000"/>
            <a:chOff x="4800600" y="2362320"/>
            <a:chExt cx="2971800" cy="1143000"/>
          </a:xfrm>
        </p:grpSpPr>
        <p:sp>
          <p:nvSpPr>
            <p:cNvPr id="2125" name=""/>
            <p:cNvSpPr/>
            <p:nvPr/>
          </p:nvSpPr>
          <p:spPr>
            <a:xfrm>
              <a:off x="5181480" y="32004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952880" y="2819520"/>
              <a:ext cx="30492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800600" y="281952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486400" y="2362320"/>
              <a:ext cx="22860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he director nam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5562720" y="2819520"/>
              <a:ext cx="304560" cy="380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130" name=""/>
          <p:cNvGrpSpPr/>
          <p:nvPr/>
        </p:nvGrpSpPr>
        <p:grpSpPr>
          <a:xfrm>
            <a:off x="914400" y="2895480"/>
            <a:ext cx="4191120" cy="990720"/>
            <a:chOff x="914400" y="2895480"/>
            <a:chExt cx="4191120" cy="990720"/>
          </a:xfrm>
        </p:grpSpPr>
        <p:sp>
          <p:nvSpPr>
            <p:cNvPr id="2131" name=""/>
            <p:cNvSpPr/>
            <p:nvPr/>
          </p:nvSpPr>
          <p:spPr>
            <a:xfrm>
              <a:off x="4648320" y="3581280"/>
              <a:ext cx="30456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267080" y="304812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Movie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800600" y="289548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914400" y="3429000"/>
              <a:ext cx="30481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A movie of the director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962520" y="3657600"/>
              <a:ext cx="609480" cy="76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136" name=""/>
          <p:cNvGrpSpPr/>
          <p:nvPr/>
        </p:nvGrpSpPr>
        <p:grpSpPr>
          <a:xfrm>
            <a:off x="4648320" y="3871800"/>
            <a:ext cx="3962160" cy="776520"/>
            <a:chOff x="4648320" y="3871800"/>
            <a:chExt cx="3962160" cy="776520"/>
          </a:xfrm>
        </p:grpSpPr>
        <p:sp>
          <p:nvSpPr>
            <p:cNvPr id="2137" name=""/>
            <p:cNvSpPr/>
            <p:nvPr/>
          </p:nvSpPr>
          <p:spPr>
            <a:xfrm>
              <a:off x="5257800" y="4267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648320" y="39625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Title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876920" y="3871800"/>
              <a:ext cx="380880" cy="471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867280" y="4191120"/>
              <a:ext cx="274320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he title of the movi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5638320" y="441972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142" name=""/>
          <p:cNvGrpSpPr/>
          <p:nvPr/>
        </p:nvGrpSpPr>
        <p:grpSpPr>
          <a:xfrm>
            <a:off x="914400" y="3886200"/>
            <a:ext cx="4267080" cy="1143000"/>
            <a:chOff x="914400" y="3886200"/>
            <a:chExt cx="4267080" cy="1143000"/>
          </a:xfrm>
        </p:grpSpPr>
        <p:sp>
          <p:nvSpPr>
            <p:cNvPr id="2143" name=""/>
            <p:cNvSpPr/>
            <p:nvPr/>
          </p:nvSpPr>
          <p:spPr>
            <a:xfrm>
              <a:off x="4648320" y="4648320"/>
              <a:ext cx="304560" cy="304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800600" y="3886200"/>
              <a:ext cx="0" cy="7621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343400" y="411480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Actor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914400" y="4572000"/>
              <a:ext cx="30481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An actor in the movi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962520" y="4800600"/>
              <a:ext cx="5331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914400" y="4876920"/>
            <a:ext cx="4876920" cy="990360"/>
            <a:chOff x="914400" y="4876920"/>
            <a:chExt cx="4876920" cy="990360"/>
          </a:xfrm>
        </p:grpSpPr>
        <p:sp>
          <p:nvSpPr>
            <p:cNvPr id="2149" name=""/>
            <p:cNvSpPr/>
            <p:nvPr/>
          </p:nvSpPr>
          <p:spPr>
            <a:xfrm>
              <a:off x="4876920" y="4876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Name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952880" y="4876920"/>
              <a:ext cx="30492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181480" y="52578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914400" y="5410080"/>
              <a:ext cx="3048120" cy="457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he name of the actor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V="1">
              <a:off x="3962520" y="5486040"/>
              <a:ext cx="1066680" cy="152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2FE-7957-4829-A29C-93809337F9D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8153280" y="25146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7620120" y="19051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7620120" y="39625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7620120" y="1371600"/>
            <a:ext cx="1522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7238880" y="23623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7772400" y="220968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7924680" y="2133720"/>
            <a:ext cx="30492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7772400" y="21337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723888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905840" y="48006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4 May 194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2286000" y="3809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2438280" y="4572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 flipH="1">
            <a:off x="2666520" y="3352680"/>
            <a:ext cx="685800" cy="12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8229600" y="35812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762012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848720" y="3186000"/>
            <a:ext cx="380880" cy="4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7848720" y="4191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772400" y="32004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 flipH="1">
            <a:off x="3733560" y="1143000"/>
            <a:ext cx="685800" cy="1143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 flipH="1">
            <a:off x="3428640" y="2286000"/>
            <a:ext cx="30492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315200" y="34290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7924680" y="4191120"/>
            <a:ext cx="30492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8153280" y="45720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235" name=""/>
          <p:cNvGrpSpPr/>
          <p:nvPr/>
        </p:nvGrpSpPr>
        <p:grpSpPr>
          <a:xfrm>
            <a:off x="4267080" y="838080"/>
            <a:ext cx="3200040" cy="380880"/>
            <a:chOff x="4267080" y="838080"/>
            <a:chExt cx="3200040" cy="380880"/>
          </a:xfrm>
        </p:grpSpPr>
        <p:sp>
          <p:nvSpPr>
            <p:cNvPr id="2236" name=""/>
            <p:cNvSpPr/>
            <p:nvPr/>
          </p:nvSpPr>
          <p:spPr>
            <a:xfrm flipH="1" flipV="1">
              <a:off x="4571640" y="990360"/>
              <a:ext cx="28954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267080" y="8380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38" name=""/>
          <p:cNvGrpSpPr/>
          <p:nvPr/>
        </p:nvGrpSpPr>
        <p:grpSpPr>
          <a:xfrm>
            <a:off x="5638680" y="2057400"/>
            <a:ext cx="1981080" cy="1219320"/>
            <a:chOff x="5638680" y="2057400"/>
            <a:chExt cx="1981080" cy="1219320"/>
          </a:xfrm>
        </p:grpSpPr>
        <p:sp>
          <p:nvSpPr>
            <p:cNvPr id="2239" name=""/>
            <p:cNvSpPr/>
            <p:nvPr/>
          </p:nvSpPr>
          <p:spPr>
            <a:xfrm flipH="1">
              <a:off x="5943240" y="2057400"/>
              <a:ext cx="167652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638680" y="297180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9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41" name=""/>
          <p:cNvGrpSpPr/>
          <p:nvPr/>
        </p:nvGrpSpPr>
        <p:grpSpPr>
          <a:xfrm>
            <a:off x="4724280" y="1981080"/>
            <a:ext cx="2895480" cy="1067040"/>
            <a:chOff x="4724280" y="1981080"/>
            <a:chExt cx="2895480" cy="1067040"/>
          </a:xfrm>
        </p:grpSpPr>
        <p:sp>
          <p:nvSpPr>
            <p:cNvPr id="2242" name=""/>
            <p:cNvSpPr/>
            <p:nvPr/>
          </p:nvSpPr>
          <p:spPr>
            <a:xfrm flipH="1" flipV="1">
              <a:off x="5028840" y="2133720"/>
              <a:ext cx="25909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724280" y="19810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44" name=""/>
          <p:cNvGrpSpPr/>
          <p:nvPr/>
        </p:nvGrpSpPr>
        <p:grpSpPr>
          <a:xfrm>
            <a:off x="5638680" y="2527200"/>
            <a:ext cx="2514600" cy="1652760"/>
            <a:chOff x="5638680" y="2527200"/>
            <a:chExt cx="2514600" cy="1652760"/>
          </a:xfrm>
        </p:grpSpPr>
        <p:sp>
          <p:nvSpPr>
            <p:cNvPr id="2245" name=""/>
            <p:cNvSpPr/>
            <p:nvPr/>
          </p:nvSpPr>
          <p:spPr>
            <a:xfrm>
              <a:off x="5638680" y="387504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34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943600" y="2527200"/>
              <a:ext cx="2209680" cy="1650960"/>
            </a:xfrm>
            <a:custGeom>
              <a:avLst/>
              <a:gdLst/>
              <a:ahLst/>
              <a:rect l="l" t="t" r="r" b="b"/>
              <a:pathLst>
                <a:path w="1392" h="1040">
                  <a:moveTo>
                    <a:pt x="1392" y="88"/>
                  </a:moveTo>
                  <a:cubicBezTo>
                    <a:pt x="1276" y="44"/>
                    <a:pt x="1160" y="0"/>
                    <a:pt x="1008" y="136"/>
                  </a:cubicBezTo>
                  <a:cubicBezTo>
                    <a:pt x="856" y="272"/>
                    <a:pt x="648" y="768"/>
                    <a:pt x="480" y="904"/>
                  </a:cubicBezTo>
                  <a:cubicBezTo>
                    <a:pt x="312" y="1040"/>
                    <a:pt x="156" y="996"/>
                    <a:pt x="0" y="95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47" name=""/>
          <p:cNvGrpSpPr/>
          <p:nvPr/>
        </p:nvGrpSpPr>
        <p:grpSpPr>
          <a:xfrm>
            <a:off x="4800600" y="3068640"/>
            <a:ext cx="3429000" cy="766800"/>
            <a:chOff x="4800600" y="3068640"/>
            <a:chExt cx="3429000" cy="766800"/>
          </a:xfrm>
        </p:grpSpPr>
        <p:sp>
          <p:nvSpPr>
            <p:cNvPr id="2248" name=""/>
            <p:cNvSpPr/>
            <p:nvPr/>
          </p:nvSpPr>
          <p:spPr>
            <a:xfrm>
              <a:off x="5105520" y="3276720"/>
              <a:ext cx="3124080" cy="558720"/>
            </a:xfrm>
            <a:custGeom>
              <a:avLst/>
              <a:gdLst/>
              <a:ahLst/>
              <a:rect l="l" t="t" r="r" b="b"/>
              <a:pathLst>
                <a:path w="1968" h="352">
                  <a:moveTo>
                    <a:pt x="1968" y="336"/>
                  </a:moveTo>
                  <a:cubicBezTo>
                    <a:pt x="1772" y="344"/>
                    <a:pt x="1576" y="352"/>
                    <a:pt x="1296" y="336"/>
                  </a:cubicBezTo>
                  <a:cubicBezTo>
                    <a:pt x="1016" y="320"/>
                    <a:pt x="472" y="288"/>
                    <a:pt x="288" y="240"/>
                  </a:cubicBezTo>
                  <a:cubicBezTo>
                    <a:pt x="104" y="192"/>
                    <a:pt x="240" y="88"/>
                    <a:pt x="192" y="48"/>
                  </a:cubicBezTo>
                  <a:cubicBezTo>
                    <a:pt x="144" y="8"/>
                    <a:pt x="7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800600" y="306864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50" name=""/>
          <p:cNvGrpSpPr/>
          <p:nvPr/>
        </p:nvGrpSpPr>
        <p:grpSpPr>
          <a:xfrm>
            <a:off x="4191120" y="3962520"/>
            <a:ext cx="3962160" cy="761400"/>
            <a:chOff x="4191120" y="3962520"/>
            <a:chExt cx="3962160" cy="761400"/>
          </a:xfrm>
        </p:grpSpPr>
        <p:sp>
          <p:nvSpPr>
            <p:cNvPr id="2251" name=""/>
            <p:cNvSpPr/>
            <p:nvPr/>
          </p:nvSpPr>
          <p:spPr>
            <a:xfrm flipH="1" flipV="1">
              <a:off x="4495680" y="4114440"/>
              <a:ext cx="36576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191120" y="396252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4191120" y="3048120"/>
            <a:ext cx="3429000" cy="1346040"/>
            <a:chOff x="4191120" y="3048120"/>
            <a:chExt cx="3429000" cy="1346040"/>
          </a:xfrm>
        </p:grpSpPr>
        <p:sp>
          <p:nvSpPr>
            <p:cNvPr id="2254" name=""/>
            <p:cNvSpPr/>
            <p:nvPr/>
          </p:nvSpPr>
          <p:spPr>
            <a:xfrm>
              <a:off x="4419720" y="3352680"/>
              <a:ext cx="3200400" cy="1041480"/>
            </a:xfrm>
            <a:custGeom>
              <a:avLst/>
              <a:gdLst/>
              <a:ahLst/>
              <a:rect l="l" t="t" r="r" b="b"/>
              <a:pathLst>
                <a:path w="2016" h="656">
                  <a:moveTo>
                    <a:pt x="2016" y="480"/>
                  </a:moveTo>
                  <a:cubicBezTo>
                    <a:pt x="1632" y="568"/>
                    <a:pt x="1248" y="656"/>
                    <a:pt x="912" y="576"/>
                  </a:cubicBezTo>
                  <a:cubicBezTo>
                    <a:pt x="576" y="496"/>
                    <a:pt x="288" y="248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191120" y="304812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4648320" y="1143000"/>
            <a:ext cx="3124080" cy="1905120"/>
            <a:chOff x="4648320" y="1143000"/>
            <a:chExt cx="3124080" cy="1905120"/>
          </a:xfrm>
        </p:grpSpPr>
        <p:sp>
          <p:nvSpPr>
            <p:cNvPr id="2257" name=""/>
            <p:cNvSpPr/>
            <p:nvPr/>
          </p:nvSpPr>
          <p:spPr>
            <a:xfrm>
              <a:off x="4648320" y="1143000"/>
              <a:ext cx="1371600" cy="1905120"/>
            </a:xfrm>
            <a:custGeom>
              <a:avLst/>
              <a:gdLst/>
              <a:ahLst/>
              <a:rect l="l" t="t" r="r" b="b"/>
              <a:pathLst>
                <a:path w="864" h="1200">
                  <a:moveTo>
                    <a:pt x="0" y="0"/>
                  </a:moveTo>
                  <a:cubicBezTo>
                    <a:pt x="48" y="164"/>
                    <a:pt x="96" y="328"/>
                    <a:pt x="240" y="528"/>
                  </a:cubicBezTo>
                  <a:cubicBezTo>
                    <a:pt x="384" y="728"/>
                    <a:pt x="624" y="964"/>
                    <a:pt x="864" y="120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620120" y="1371600"/>
              <a:ext cx="152280" cy="53352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59" name=""/>
          <p:cNvGrpSpPr/>
          <p:nvPr/>
        </p:nvGrpSpPr>
        <p:grpSpPr>
          <a:xfrm>
            <a:off x="5943600" y="2133720"/>
            <a:ext cx="2286000" cy="1676160"/>
            <a:chOff x="5943600" y="2133720"/>
            <a:chExt cx="2286000" cy="1676160"/>
          </a:xfrm>
        </p:grpSpPr>
        <p:sp>
          <p:nvSpPr>
            <p:cNvPr id="2260" name=""/>
            <p:cNvSpPr/>
            <p:nvPr/>
          </p:nvSpPr>
          <p:spPr>
            <a:xfrm>
              <a:off x="5943600" y="3200400"/>
              <a:ext cx="1440" cy="609480"/>
            </a:xfrm>
            <a:custGeom>
              <a:avLst/>
              <a:gdLst/>
              <a:ahLst/>
              <a:rect l="l" t="t" r="r" b="b"/>
              <a:pathLst>
                <a:path w="1" h="384">
                  <a:moveTo>
                    <a:pt x="0" y="0"/>
                  </a:moveTo>
                  <a:cubicBezTo>
                    <a:pt x="0" y="0"/>
                    <a:pt x="0" y="192"/>
                    <a:pt x="0" y="38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924680" y="2133720"/>
              <a:ext cx="304920" cy="38088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62" name=""/>
          <p:cNvGrpSpPr/>
          <p:nvPr/>
        </p:nvGrpSpPr>
        <p:grpSpPr>
          <a:xfrm>
            <a:off x="5029200" y="2209680"/>
            <a:ext cx="2743200" cy="762120"/>
            <a:chOff x="5029200" y="2209680"/>
            <a:chExt cx="2743200" cy="762120"/>
          </a:xfrm>
        </p:grpSpPr>
        <p:sp>
          <p:nvSpPr>
            <p:cNvPr id="2263" name=""/>
            <p:cNvSpPr/>
            <p:nvPr/>
          </p:nvSpPr>
          <p:spPr>
            <a:xfrm>
              <a:off x="5029200" y="2286000"/>
              <a:ext cx="609480" cy="68580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0"/>
                  </a:moveTo>
                  <a:cubicBezTo>
                    <a:pt x="64" y="84"/>
                    <a:pt x="128" y="168"/>
                    <a:pt x="192" y="240"/>
                  </a:cubicBezTo>
                  <a:cubicBezTo>
                    <a:pt x="256" y="312"/>
                    <a:pt x="320" y="372"/>
                    <a:pt x="384" y="4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772400" y="2209680"/>
              <a:ext cx="0" cy="68580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65" name=""/>
          <p:cNvGrpSpPr/>
          <p:nvPr/>
        </p:nvGrpSpPr>
        <p:grpSpPr>
          <a:xfrm>
            <a:off x="4876920" y="2362320"/>
            <a:ext cx="3352680" cy="1309680"/>
            <a:chOff x="4876920" y="2362320"/>
            <a:chExt cx="3352680" cy="1309680"/>
          </a:xfrm>
        </p:grpSpPr>
        <p:sp>
          <p:nvSpPr>
            <p:cNvPr id="2266" name=""/>
            <p:cNvSpPr/>
            <p:nvPr/>
          </p:nvSpPr>
          <p:spPr>
            <a:xfrm>
              <a:off x="4876920" y="2362320"/>
              <a:ext cx="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848720" y="3200400"/>
              <a:ext cx="380880" cy="47160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68" name=""/>
          <p:cNvGrpSpPr/>
          <p:nvPr/>
        </p:nvGrpSpPr>
        <p:grpSpPr>
          <a:xfrm>
            <a:off x="4267080" y="2133720"/>
            <a:ext cx="3505320" cy="1828800"/>
            <a:chOff x="4267080" y="2133720"/>
            <a:chExt cx="3505320" cy="1828800"/>
          </a:xfrm>
        </p:grpSpPr>
        <p:sp>
          <p:nvSpPr>
            <p:cNvPr id="2269" name=""/>
            <p:cNvSpPr/>
            <p:nvPr/>
          </p:nvSpPr>
          <p:spPr>
            <a:xfrm>
              <a:off x="4267080" y="2133720"/>
              <a:ext cx="457200" cy="838080"/>
            </a:xfrm>
            <a:custGeom>
              <a:avLst/>
              <a:gdLst/>
              <a:ahLst/>
              <a:rect l="l" t="t" r="r" b="b"/>
              <a:pathLst>
                <a:path w="288" h="528">
                  <a:moveTo>
                    <a:pt x="288" y="0"/>
                  </a:moveTo>
                  <a:cubicBezTo>
                    <a:pt x="216" y="100"/>
                    <a:pt x="144" y="200"/>
                    <a:pt x="96" y="288"/>
                  </a:cubicBezTo>
                  <a:cubicBezTo>
                    <a:pt x="48" y="376"/>
                    <a:pt x="24" y="452"/>
                    <a:pt x="0" y="52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772400" y="3200400"/>
              <a:ext cx="0" cy="76212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71" name=""/>
          <p:cNvGrpSpPr/>
          <p:nvPr/>
        </p:nvGrpSpPr>
        <p:grpSpPr>
          <a:xfrm>
            <a:off x="4267080" y="3352680"/>
            <a:ext cx="3962520" cy="1219320"/>
            <a:chOff x="4267080" y="3352680"/>
            <a:chExt cx="3962520" cy="1219320"/>
          </a:xfrm>
        </p:grpSpPr>
        <p:sp>
          <p:nvSpPr>
            <p:cNvPr id="2272" name=""/>
            <p:cNvSpPr/>
            <p:nvPr/>
          </p:nvSpPr>
          <p:spPr>
            <a:xfrm>
              <a:off x="4267080" y="33526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924680" y="4191120"/>
              <a:ext cx="304920" cy="38088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274" name=""/>
          <p:cNvSpPr/>
          <p:nvPr/>
        </p:nvSpPr>
        <p:spPr>
          <a:xfrm>
            <a:off x="533520" y="5334120"/>
            <a:ext cx="495288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A 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  <a:ea typeface="Arial"/>
              </a:rPr>
              <a:t>query edg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is mapped t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two db nodes o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one pat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33520" y="5257800"/>
            <a:ext cx="739116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This flexible matching is neither a rigi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matching nor a semiflexible matching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F572-49C7-43A2-A81F-4B0F1181089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7620120" y="19051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620120" y="1371600"/>
            <a:ext cx="1522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7238880" y="23623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7772400" y="220968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723888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1905840" y="48006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4 May 194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286000" y="3809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2438280" y="4572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flipH="1">
            <a:off x="2666520" y="3352680"/>
            <a:ext cx="685800" cy="12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 flipH="1">
            <a:off x="3733560" y="1143000"/>
            <a:ext cx="685800" cy="1143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3428640" y="2286000"/>
            <a:ext cx="30492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345" name=""/>
          <p:cNvGrpSpPr/>
          <p:nvPr/>
        </p:nvGrpSpPr>
        <p:grpSpPr>
          <a:xfrm>
            <a:off x="4267080" y="838080"/>
            <a:ext cx="3200040" cy="380880"/>
            <a:chOff x="4267080" y="838080"/>
            <a:chExt cx="3200040" cy="380880"/>
          </a:xfrm>
        </p:grpSpPr>
        <p:sp>
          <p:nvSpPr>
            <p:cNvPr id="2346" name=""/>
            <p:cNvSpPr/>
            <p:nvPr/>
          </p:nvSpPr>
          <p:spPr>
            <a:xfrm flipH="1" flipV="1">
              <a:off x="4571640" y="990360"/>
              <a:ext cx="28954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267080" y="8380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80880" y="5486400"/>
            <a:ext cx="800100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Why are semiflexible matching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preferred sometimes to flexible matchings?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3276720" y="2057400"/>
            <a:ext cx="4343040" cy="1295280"/>
            <a:chOff x="3276720" y="2057400"/>
            <a:chExt cx="4343040" cy="1295280"/>
          </a:xfrm>
        </p:grpSpPr>
        <p:sp>
          <p:nvSpPr>
            <p:cNvPr id="2350" name=""/>
            <p:cNvSpPr/>
            <p:nvPr/>
          </p:nvSpPr>
          <p:spPr>
            <a:xfrm flipH="1">
              <a:off x="3580920" y="2057400"/>
              <a:ext cx="403884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276720" y="304812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7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352" name=""/>
          <p:cNvSpPr/>
          <p:nvPr/>
        </p:nvSpPr>
        <p:spPr>
          <a:xfrm>
            <a:off x="3581280" y="1219320"/>
            <a:ext cx="914400" cy="1828800"/>
          </a:xfrm>
          <a:custGeom>
            <a:avLst/>
            <a:gdLst/>
            <a:ahLst/>
            <a:rect l="l" t="t" r="r" b="b"/>
            <a:pathLst>
              <a:path w="576" h="1152">
                <a:moveTo>
                  <a:pt x="576" y="0"/>
                </a:moveTo>
                <a:cubicBezTo>
                  <a:pt x="432" y="240"/>
                  <a:pt x="288" y="480"/>
                  <a:pt x="192" y="672"/>
                </a:cubicBezTo>
                <a:cubicBezTo>
                  <a:pt x="96" y="864"/>
                  <a:pt x="48" y="1008"/>
                  <a:pt x="0" y="115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353" name=""/>
          <p:cNvGrpSpPr/>
          <p:nvPr/>
        </p:nvGrpSpPr>
        <p:grpSpPr>
          <a:xfrm>
            <a:off x="2362320" y="1981080"/>
            <a:ext cx="5257440" cy="1066680"/>
            <a:chOff x="2362320" y="1981080"/>
            <a:chExt cx="5257440" cy="1066680"/>
          </a:xfrm>
        </p:grpSpPr>
        <p:sp>
          <p:nvSpPr>
            <p:cNvPr id="2354" name=""/>
            <p:cNvSpPr/>
            <p:nvPr/>
          </p:nvSpPr>
          <p:spPr>
            <a:xfrm flipH="1" flipV="1">
              <a:off x="2742840" y="2209320"/>
              <a:ext cx="487692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362320" y="1981080"/>
              <a:ext cx="30456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356" name=""/>
          <p:cNvSpPr/>
          <p:nvPr/>
        </p:nvSpPr>
        <p:spPr>
          <a:xfrm>
            <a:off x="2743200" y="2209680"/>
            <a:ext cx="609480" cy="7621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cubicBezTo>
                  <a:pt x="64" y="80"/>
                  <a:pt x="128" y="160"/>
                  <a:pt x="192" y="240"/>
                </a:cubicBezTo>
                <a:cubicBezTo>
                  <a:pt x="256" y="320"/>
                  <a:pt x="320" y="400"/>
                  <a:pt x="384" y="48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76320" y="5410080"/>
            <a:ext cx="891540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In this flexible matching, a producer is give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with a movie that he directed but did not produc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CBB-AFE8-43B1-A2E7-2B7679C61B5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"/>
          <p:cNvSpPr/>
          <p:nvPr/>
        </p:nvSpPr>
        <p:spPr>
          <a:xfrm>
            <a:off x="533520" y="24382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9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7620120" y="19051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7620120" y="1371600"/>
            <a:ext cx="1522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7238880" y="23623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7772400" y="220968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723888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905840" y="48006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4 May 194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286000" y="3809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2438280" y="4572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 flipH="1">
            <a:off x="2666520" y="3352680"/>
            <a:ext cx="685800" cy="12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 flipH="1">
            <a:off x="3733560" y="1143000"/>
            <a:ext cx="685800" cy="1143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 flipH="1">
            <a:off x="3428640" y="2286000"/>
            <a:ext cx="30492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4267080" y="838080"/>
            <a:ext cx="3200040" cy="380880"/>
            <a:chOff x="4267080" y="838080"/>
            <a:chExt cx="3200040" cy="380880"/>
          </a:xfrm>
        </p:grpSpPr>
        <p:sp>
          <p:nvSpPr>
            <p:cNvPr id="2429" name=""/>
            <p:cNvSpPr/>
            <p:nvPr/>
          </p:nvSpPr>
          <p:spPr>
            <a:xfrm flipH="1" flipV="1">
              <a:off x="4571640" y="990360"/>
              <a:ext cx="28954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267080" y="8380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431" name=""/>
          <p:cNvSpPr/>
          <p:nvPr/>
        </p:nvSpPr>
        <p:spPr>
          <a:xfrm flipH="1">
            <a:off x="837720" y="2057400"/>
            <a:ext cx="678204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33520" y="2438280"/>
            <a:ext cx="30456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9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433" name=""/>
          <p:cNvGrpSpPr/>
          <p:nvPr/>
        </p:nvGrpSpPr>
        <p:grpSpPr>
          <a:xfrm>
            <a:off x="2362320" y="1981080"/>
            <a:ext cx="5257440" cy="1066680"/>
            <a:chOff x="2362320" y="1981080"/>
            <a:chExt cx="5257440" cy="1066680"/>
          </a:xfrm>
        </p:grpSpPr>
        <p:sp>
          <p:nvSpPr>
            <p:cNvPr id="2434" name=""/>
            <p:cNvSpPr/>
            <p:nvPr/>
          </p:nvSpPr>
          <p:spPr>
            <a:xfrm flipH="1" flipV="1">
              <a:off x="2742840" y="2209320"/>
              <a:ext cx="487692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362320" y="1981080"/>
              <a:ext cx="30456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436" name=""/>
          <p:cNvSpPr/>
          <p:nvPr/>
        </p:nvSpPr>
        <p:spPr>
          <a:xfrm>
            <a:off x="152280" y="5029200"/>
            <a:ext cx="876312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In semiflexible semantics, the problem is solv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since the image of a query path is embedded i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a database pat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838080" y="2133720"/>
            <a:ext cx="152424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8380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D88-3275-4DF1-982A-854D632152F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ifferences Between the Semiflexible and Flexible Semantic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n a technical level, in flexible matching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y paths are not necessarily embedded in database path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CC’s are not necessarily mapped to SCC’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n a conceptual level, in the semiflexible semantics, nodes are “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emantically related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” if they are on the same path, and henc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y paths are embedded in database path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the flexible semantics, this condition is relaxed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y edges are embedded in database path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01A-7F0F-4BB7-A7B8-A72F20769F6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creasing Level of Flexibilit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rigid matching is a semiflexible match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semiflexible matching is a flexible match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72D-FD00-4A0E-B053-59E3C318B93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Verifying that Mappings are Semiflexible Matchings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s a given mapping of query nodes to database nodes a semiflexible matching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t as simple as for rigid matchings (no local test, i.e., need to consider paths rather than edges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dag query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 the number of paths may be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exponenti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Yet, verifying is in polynomial tim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a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cyclic query,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the number of paths may be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infini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Yet, verifying is in exponential tim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5E76-BBC4-4BD5-B8D4-639B61091AB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erifying that a Mapping is a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miflexible Match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446" name=""/>
          <p:cNvGraphicFramePr/>
          <p:nvPr/>
        </p:nvGraphicFramePr>
        <p:xfrm>
          <a:off x="685800" y="1752480"/>
          <a:ext cx="7772400" cy="44197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88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 / Databas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ath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ree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AG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yclic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ath Databas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 matching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ree Databas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No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matching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AG Databas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No </a:t>
                      </a:r>
                      <a:r>
                        <a:rPr b="0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matching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yclic Databas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coNP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coNP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198-ACCF-4668-BF60-D5F7A6CEFBF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380880"/>
            <a:ext cx="8458200" cy="5486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?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xml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 version=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1.0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”?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MDB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Movi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Titl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Courier New"/>
              </a:rPr>
              <a:t>Star Wars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Titl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Year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Courier New"/>
              </a:rPr>
              <a:t>1977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Year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Actor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Nam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Courier New"/>
              </a:rPr>
              <a:t>Mark Hamill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Nam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Actor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Actor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Nam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r>
              <a:rPr b="1" lang="en-US" sz="2000" spc="-1" strike="noStrike">
                <a:solidFill>
                  <a:srgbClr val="660033"/>
                </a:solidFill>
                <a:latin typeface="Courier New"/>
                <a:ea typeface="Courier New"/>
              </a:rPr>
              <a:t>Harrison Ford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Nam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Actor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Movi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  <a:ea typeface="Courier New"/>
              </a:rPr>
              <a:t>…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lt;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MDB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791320"/>
            <a:ext cx="8763120" cy="5331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XML that Encodes the Semistructured Data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F61-AFB3-487D-8A73-90DC411816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put-Output Complexity of Query Evaluation for the Semiflexible Semantic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Next slide summarizes results about the input-output complexity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Polynomial for a dag query and a tree database (or simpler cases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ather difficult to prove, even when the query is a tree, since there is no local test for verifying that mappings are semiflexible matching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xponential lower bounds for other cas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567-44C0-4E9F-8D88-CB668AF71C2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I/O Complexity for SF Semantic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(lower bounds are for non-emptines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450" name=""/>
          <p:cNvGraphicFramePr/>
          <p:nvPr/>
        </p:nvGraphicFramePr>
        <p:xfrm>
          <a:off x="685800" y="1752480"/>
          <a:ext cx="7772400" cy="438804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88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Query / Database</a:t>
                      </a:r>
                      <a:endParaRPr b="0" lang="en-US" sz="16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ath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ree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AG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yclic Quer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ath Databas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esult is empt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ree Databas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PTIME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esult is empt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AG Databas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Result is empty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yclic Databas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Complet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Hard</a:t>
                      </a: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(in </a:t>
                      </a: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000" spc="-1" strike="noStrike" baseline="30000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000" spc="-1" strike="noStrike" baseline="-25000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NP-Hard</a:t>
                      </a: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(in </a:t>
                      </a: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000" spc="-1" strike="noStrike" baseline="30000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000" spc="-1" strike="noStrike" baseline="-25000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451" name=""/>
          <p:cNvSpPr/>
          <p:nvPr/>
        </p:nvSpPr>
        <p:spPr>
          <a:xfrm>
            <a:off x="1066680" y="6172200"/>
            <a:ext cx="70106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Data Complexity is Polynomial in all Cas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1AC-FF0F-4A83-AE94-B2045A3320B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Query Evaluation for the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Flexible Semantic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database is replaced with a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relationship graph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ich is a graph, such th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nodes are the nodes of the databa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wo nodes are connected by an edge if there is a path between them in the database (the direction of the path is unimportant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query is evaluated under rigid semantics w.r.t. the relationship graph 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8DE-B53C-406B-86DF-AA821B6B276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I/O Complexity of Query Evaluation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for the Flexible Semantic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sults follow from a reduction to query evaluation under the rigid semanti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ree quer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put-Output complexity is polynomial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AG quer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esting for non-emptiness is NP-Comple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8DA-F8BC-48B4-BC5D-2F7D143EAC0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Query Containmen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for all database D,    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13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the set of matchings of Q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w.r.t. to 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13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s contained i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13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the set of matchings of Q</a:t>
            </a:r>
            <a:r>
              <a:rPr b="0" lang="en-US" sz="3200" spc="-1" strike="noStrike" baseline="-25000">
                <a:solidFill>
                  <a:srgbClr val="0066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w.r.t. to 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assume th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oth queries have the same set of variabl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028-57E6-4284-8EF4-43E827C5591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omplexity of Query Containmen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Under the semiflexible semantics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ff the identity mapping from the variables of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to the variables of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a semiflexible matching of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w.r.t.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us, containment i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coNP when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3399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is a cyclic graph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 is either a dag or a cyclic grap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polynomial time in all other cas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Under the flexible semantics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 query containment is always in polynomial tim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6B7-38E4-4A7B-86E1-E417DF41188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Database Equivalenc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D</a:t>
            </a:r>
            <a:r>
              <a:rPr b="0" lang="en-US" sz="32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re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equivale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for all queries Q,    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the set of matchings of Q w.r.t. to D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s equal t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the set of matchings of Q w.r.t. to D</a:t>
            </a:r>
            <a:r>
              <a:rPr b="0" lang="en-US" sz="32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oth databases must have the same set of objects and the same roo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F5F-B757-428D-A758-14EFE1F0DCE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Complexity of Database Equivalenc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For the semiflexible semantic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deciding equivalence of databases i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polynomial time if both databases are dag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coNP if one of the databases has cycl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For the flexible semantic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deciding equivalence of databases is polynomial in all cas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D84-025E-4BFA-BC20-89064D46D49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Database Transformat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3048120" y="1828800"/>
            <a:ext cx="30456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52388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743200" y="29718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3505320" y="2971800"/>
            <a:ext cx="30456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 flipH="1">
            <a:off x="1828440" y="2057400"/>
            <a:ext cx="121932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H="1">
            <a:off x="2895120" y="2133720"/>
            <a:ext cx="22860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276720" y="2133720"/>
            <a:ext cx="38088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666880" y="1447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MDB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1676520" y="2209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438280" y="2438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2895480" y="3200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371600" y="403848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3048120" y="4038480"/>
            <a:ext cx="30456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 flipH="1">
            <a:off x="1523880" y="3276720"/>
            <a:ext cx="15264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2895480" y="3276720"/>
            <a:ext cx="30492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 flipH="1">
            <a:off x="3276720" y="3276720"/>
            <a:ext cx="38088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3276720" y="2209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143000" y="3581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243828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484" name=""/>
          <p:cNvGrpSpPr/>
          <p:nvPr/>
        </p:nvGrpSpPr>
        <p:grpSpPr>
          <a:xfrm>
            <a:off x="1905120" y="3200400"/>
            <a:ext cx="5867280" cy="838080"/>
            <a:chOff x="1905120" y="3200400"/>
            <a:chExt cx="5867280" cy="838080"/>
          </a:xfrm>
        </p:grpSpPr>
        <p:sp>
          <p:nvSpPr>
            <p:cNvPr id="2485" name=""/>
            <p:cNvSpPr/>
            <p:nvPr/>
          </p:nvSpPr>
          <p:spPr>
            <a:xfrm>
              <a:off x="1905120" y="3200400"/>
              <a:ext cx="4114800" cy="6858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24080" y="3200400"/>
              <a:ext cx="3733920" cy="7621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886200" y="3200400"/>
              <a:ext cx="3886200" cy="8380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488" name=""/>
          <p:cNvGrpSpPr/>
          <p:nvPr/>
        </p:nvGrpSpPr>
        <p:grpSpPr>
          <a:xfrm>
            <a:off x="1752480" y="3047760"/>
            <a:ext cx="5486400" cy="1143360"/>
            <a:chOff x="1752480" y="3047760"/>
            <a:chExt cx="5486400" cy="1143360"/>
          </a:xfrm>
        </p:grpSpPr>
        <p:sp>
          <p:nvSpPr>
            <p:cNvPr id="2489" name=""/>
            <p:cNvSpPr/>
            <p:nvPr/>
          </p:nvSpPr>
          <p:spPr>
            <a:xfrm flipV="1">
              <a:off x="1752480" y="3047760"/>
              <a:ext cx="4724640" cy="11430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V="1">
              <a:off x="3429000" y="3124080"/>
              <a:ext cx="3809880" cy="106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491" name=""/>
          <p:cNvSpPr/>
          <p:nvPr/>
        </p:nvSpPr>
        <p:spPr>
          <a:xfrm>
            <a:off x="2057400" y="5486400"/>
            <a:ext cx="67816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The databases are equivalent under bot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the flexible and semiflexible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023840" y="44197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485080" y="441972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 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573120" y="31240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780200" y="312408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924720" y="3124080"/>
            <a:ext cx="8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057400" y="5486400"/>
            <a:ext cx="67816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 DAG has become a TREE!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5462280" y="1600200"/>
            <a:ext cx="3285720" cy="3233520"/>
            <a:chOff x="5462280" y="1600200"/>
            <a:chExt cx="3285720" cy="3233520"/>
          </a:xfrm>
        </p:grpSpPr>
        <p:sp>
          <p:nvSpPr>
            <p:cNvPr id="2499" name=""/>
            <p:cNvSpPr/>
            <p:nvPr/>
          </p:nvSpPr>
          <p:spPr>
            <a:xfrm>
              <a:off x="6858000" y="19810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095880" y="38098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934320" y="3886200"/>
              <a:ext cx="30456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848720" y="3886200"/>
              <a:ext cx="30456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086600" y="2286000"/>
              <a:ext cx="304920" cy="6094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400800" y="16002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Times New Roman"/>
                </a:rPr>
                <a:t>MDB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715000" y="32767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629400" y="33526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086600" y="23623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553080" y="28954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315200" y="289548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H="1">
              <a:off x="6705360" y="2286000"/>
              <a:ext cx="228600" cy="6094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6248520" y="3200400"/>
              <a:ext cx="380880" cy="6094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7086240" y="3200400"/>
              <a:ext cx="30492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543800" y="3200400"/>
              <a:ext cx="38088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543800" y="3276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019920" y="23623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462280" y="4191120"/>
              <a:ext cx="10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33"/>
                  </a:solidFill>
                  <a:latin typeface="Times New Roman"/>
                </a:rPr>
                <a:t>Dustin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33"/>
                  </a:solidFill>
                  <a:latin typeface="Times New Roman"/>
                </a:rPr>
                <a:t>Hoffman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671800" y="281952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33"/>
                  </a:solidFill>
                  <a:latin typeface="Times New Roman"/>
                </a:rPr>
                <a:t>Hook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580800" y="4191120"/>
              <a:ext cx="104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33"/>
                  </a:solidFill>
                  <a:latin typeface="Times New Roman"/>
                </a:rPr>
                <a:t>Harrison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33"/>
                  </a:solidFill>
                  <a:latin typeface="Times New Roman"/>
                </a:rPr>
                <a:t>Ford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622280" y="2895480"/>
              <a:ext cx="112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33"/>
                  </a:solidFill>
                  <a:latin typeface="Times New Roman"/>
                </a:rPr>
                <a:t>Star Wars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849080" y="4191120"/>
              <a:ext cx="84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33"/>
                  </a:solidFill>
                  <a:latin typeface="Times New Roman"/>
                </a:rPr>
                <a:t>Mark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33"/>
                  </a:solidFill>
                  <a:latin typeface="Times New Roman"/>
                </a:rPr>
                <a:t>Hamil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6999-870A-464B-B1BB-199899BA29F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ransforming a Database into a Tre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asons for transforming a database into an equivalent tree database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valuation of queries over a tree database is more efficien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a graphical user interface, it is easier to represent trees than DAGs or cyclic graph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oring the data in a serial form (e.g., XML) requires no referenc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666-42D0-4719-AD1A-9FD77E8AD24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495680" y="1143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0640" y="2286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95120" y="137160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343040" y="1447920"/>
            <a:ext cx="22860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371600"/>
            <a:ext cx="167652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685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2590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1676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33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03960" y="3429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13640" y="3124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981080" y="2514600"/>
            <a:ext cx="6098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590560" y="2590920"/>
            <a:ext cx="15228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809520" y="2514600"/>
            <a:ext cx="38124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2590920"/>
            <a:ext cx="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2920" y="2590920"/>
            <a:ext cx="828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99240" y="2514600"/>
            <a:ext cx="9144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632560" y="2514600"/>
            <a:ext cx="83808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.V. Serie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1828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ilm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3824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44197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850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6576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36576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536960" y="3429000"/>
            <a:ext cx="228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828800" y="36576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63840" y="373392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Ky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cLachl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11360" y="449568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Natal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ort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7080" y="457200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5000" y="3672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2196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n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35880" y="365760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2240" y="47242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Tw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eak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5410080"/>
            <a:ext cx="7162560" cy="1295640"/>
          </a:xfrm>
          <a:prstGeom prst="rect">
            <a:avLst/>
          </a:prstGeom>
          <a:solidFill>
            <a:srgbClr val="ccffcc"/>
          </a:solidFill>
          <a:ln w="57240">
            <a:solidFill>
              <a:srgbClr val="0066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onsider a Query that Request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Movies, Actors that Acted in the 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nd the Movies’ Year of Releas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42240" y="3429000"/>
            <a:ext cx="5335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994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4224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773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8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2590920"/>
            <a:ext cx="2286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29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3321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066680" y="2438280"/>
            <a:ext cx="1524240" cy="882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3778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4235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914400" y="362592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616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6240" y="3595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é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1828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76920" y="23623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4280" y="1447920"/>
            <a:ext cx="3049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4495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952880" y="2666880"/>
            <a:ext cx="76320" cy="1828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7480" y="4800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gnoli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52280"/>
            <a:ext cx="3124080" cy="1143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What Should be th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form of the Query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100-00AB-4500-A05C-F11E0A2582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ransformation into a Tre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re are algorithms f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esting if a database can be transformed into an equivalent tree database, an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erforming the transforma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For the semiflexible semanti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algorithms are polynomi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For the flexible semanti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algorithms are exponenti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0837-7AEF-413D-8B5A-E448735FEBA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mplementing Flexible Queri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lexible queries were implemented in SQL4X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 an SQL4X query, relations and XML documents are queried simultaneousl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query result can be either a relation or an XML docum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E00-05C6-420D-B08F-FC098E4D5FA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7" name=""/>
          <p:cNvGrpSpPr/>
          <p:nvPr/>
        </p:nvGrpSpPr>
        <p:grpSpPr>
          <a:xfrm>
            <a:off x="152280" y="3276720"/>
            <a:ext cx="7620120" cy="2743200"/>
            <a:chOff x="152280" y="3276720"/>
            <a:chExt cx="7620120" cy="2743200"/>
          </a:xfrm>
        </p:grpSpPr>
        <p:sp>
          <p:nvSpPr>
            <p:cNvPr id="2528" name=""/>
            <p:cNvSpPr/>
            <p:nvPr/>
          </p:nvSpPr>
          <p:spPr>
            <a:xfrm>
              <a:off x="152280" y="3809880"/>
              <a:ext cx="7620120" cy="2210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QUERY AS RELATIO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SELECT text(y) as director, text(v) as titl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FROM x Director of ‘MDB.xml’, y Name of x,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            </a:t>
              </a:r>
              <a:r>
                <a:rPr b="1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z Movie of x, v Title of z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52280" y="32767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An SQL4X Query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530" name=""/>
          <p:cNvSpPr/>
          <p:nvPr/>
        </p:nvSpPr>
        <p:spPr>
          <a:xfrm>
            <a:off x="4267080" y="228600"/>
            <a:ext cx="1600200" cy="32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648320" y="3808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5334120" y="182880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800600" y="12193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800600" y="2209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800600" y="685800"/>
            <a:ext cx="1522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4419720" y="16765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4952880" y="152388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5105520" y="1447920"/>
            <a:ext cx="30456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9528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4419720" y="762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800600" y="2590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5029200" y="2500200"/>
            <a:ext cx="380880" cy="4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295280" y="228600"/>
            <a:ext cx="289584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 query under th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Flexible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545" name=""/>
          <p:cNvGrpSpPr/>
          <p:nvPr/>
        </p:nvGrpSpPr>
        <p:grpSpPr>
          <a:xfrm>
            <a:off x="1187280" y="685800"/>
            <a:ext cx="3765600" cy="4648320"/>
            <a:chOff x="1187280" y="685800"/>
            <a:chExt cx="3765600" cy="4648320"/>
          </a:xfrm>
        </p:grpSpPr>
        <p:sp>
          <p:nvSpPr>
            <p:cNvPr id="2546" name=""/>
            <p:cNvSpPr/>
            <p:nvPr/>
          </p:nvSpPr>
          <p:spPr>
            <a:xfrm>
              <a:off x="4800600" y="685800"/>
              <a:ext cx="15228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187280" y="4952880"/>
              <a:ext cx="3429000" cy="381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548" name=""/>
          <p:cNvGrpSpPr/>
          <p:nvPr/>
        </p:nvGrpSpPr>
        <p:grpSpPr>
          <a:xfrm>
            <a:off x="1143000" y="1523880"/>
            <a:ext cx="3809880" cy="4267440"/>
            <a:chOff x="1143000" y="1523880"/>
            <a:chExt cx="3809880" cy="4267440"/>
          </a:xfrm>
        </p:grpSpPr>
        <p:sp>
          <p:nvSpPr>
            <p:cNvPr id="2549" name=""/>
            <p:cNvSpPr/>
            <p:nvPr/>
          </p:nvSpPr>
          <p:spPr>
            <a:xfrm>
              <a:off x="1143000" y="5410080"/>
              <a:ext cx="1905120" cy="381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4952880" y="1523880"/>
              <a:ext cx="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551" name=""/>
          <p:cNvGrpSpPr/>
          <p:nvPr/>
        </p:nvGrpSpPr>
        <p:grpSpPr>
          <a:xfrm>
            <a:off x="4648320" y="1447920"/>
            <a:ext cx="1904760" cy="3886200"/>
            <a:chOff x="4648320" y="1447920"/>
            <a:chExt cx="1904760" cy="3886200"/>
          </a:xfrm>
        </p:grpSpPr>
        <p:sp>
          <p:nvSpPr>
            <p:cNvPr id="2552" name=""/>
            <p:cNvSpPr/>
            <p:nvPr/>
          </p:nvSpPr>
          <p:spPr>
            <a:xfrm>
              <a:off x="4648320" y="4952880"/>
              <a:ext cx="1904760" cy="381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105520" y="1447920"/>
              <a:ext cx="30456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554" name=""/>
          <p:cNvGrpSpPr/>
          <p:nvPr/>
        </p:nvGrpSpPr>
        <p:grpSpPr>
          <a:xfrm>
            <a:off x="3048120" y="2514600"/>
            <a:ext cx="2361960" cy="3276720"/>
            <a:chOff x="3048120" y="2514600"/>
            <a:chExt cx="2361960" cy="3276720"/>
          </a:xfrm>
        </p:grpSpPr>
        <p:sp>
          <p:nvSpPr>
            <p:cNvPr id="2555" name=""/>
            <p:cNvSpPr/>
            <p:nvPr/>
          </p:nvSpPr>
          <p:spPr>
            <a:xfrm>
              <a:off x="3048120" y="5410080"/>
              <a:ext cx="1676160" cy="381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029200" y="2514600"/>
              <a:ext cx="380880" cy="4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557" name=""/>
          <p:cNvGrpSpPr/>
          <p:nvPr/>
        </p:nvGrpSpPr>
        <p:grpSpPr>
          <a:xfrm>
            <a:off x="1523880" y="4473720"/>
            <a:ext cx="3657600" cy="457200"/>
            <a:chOff x="1523880" y="4473720"/>
            <a:chExt cx="3657600" cy="457200"/>
          </a:xfrm>
        </p:grpSpPr>
        <p:sp>
          <p:nvSpPr>
            <p:cNvPr id="2558" name=""/>
            <p:cNvSpPr/>
            <p:nvPr/>
          </p:nvSpPr>
          <p:spPr>
            <a:xfrm>
              <a:off x="1523880" y="4473720"/>
              <a:ext cx="914400" cy="4572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191120" y="4473720"/>
              <a:ext cx="990360" cy="4572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EFD-59AC-41E0-B2B9-10C6C0D20C7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"/>
          <p:cNvSpPr/>
          <p:nvPr/>
        </p:nvSpPr>
        <p:spPr>
          <a:xfrm>
            <a:off x="152280" y="3809880"/>
            <a:ext cx="762012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QUERY AS RELA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SELECT text(y) as director, text(v) as tit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FROM x Director of ‘MDB.xml’, y Name of x,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         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z Movie of x, v Title of x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WHERE text(v) = ‘Star Wars’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152280" y="3276720"/>
            <a:ext cx="289584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n SQL4X Quer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267080" y="228600"/>
            <a:ext cx="1600200" cy="32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648320" y="3808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5334120" y="182880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800600" y="1219320"/>
            <a:ext cx="30492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4800600" y="2209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4800600" y="685800"/>
            <a:ext cx="1522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4419720" y="16765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4952880" y="152388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5105520" y="1447920"/>
            <a:ext cx="30456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49528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4419720" y="762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800600" y="2590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5029200" y="2500200"/>
            <a:ext cx="380880" cy="4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295280" y="228600"/>
            <a:ext cx="289584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 query under th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Flexible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6400800" y="2819520"/>
            <a:ext cx="2514600" cy="12189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onstraints can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e adde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 flipH="1">
            <a:off x="4495320" y="4038480"/>
            <a:ext cx="2590920" cy="1676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225-78A0-42A2-BE06-4C7D665E4F2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"/>
          <p:cNvSpPr/>
          <p:nvPr/>
        </p:nvSpPr>
        <p:spPr>
          <a:xfrm>
            <a:off x="152280" y="3733920"/>
            <a:ext cx="7620120" cy="2209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QUERY AS RELA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SELECT text(x) as director, text(v) as title, Budge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FROM x Director of ‘MDB.xml’, y Name of x,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         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z Movie of x, v Title of x, FilmBudget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WHERE text(v) = FilmBudgets.Tit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52280" y="3200400"/>
            <a:ext cx="289584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n SQL4X Quer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3200400" y="228600"/>
            <a:ext cx="1600200" cy="32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3581280" y="3808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4267080" y="18288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733920" y="12193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733920" y="22096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3733920" y="685800"/>
            <a:ext cx="1522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3352680" y="16765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3886200" y="152388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038480" y="1447920"/>
            <a:ext cx="30492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886200" y="1447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3352680" y="762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4343400" y="28954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3733920" y="2590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962520" y="2500200"/>
            <a:ext cx="380880" cy="4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228600" y="228600"/>
            <a:ext cx="2895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 query under th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Flexible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4267080" y="5943600"/>
            <a:ext cx="4800600" cy="838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Relations and XML Document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an be queried simultaneousl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 flipH="1" flipV="1">
            <a:off x="7086240" y="3276720"/>
            <a:ext cx="304920" cy="2666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5105520" y="228600"/>
            <a:ext cx="3352680" cy="297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599" name=""/>
          <p:cNvGraphicFramePr/>
          <p:nvPr/>
        </p:nvGraphicFramePr>
        <p:xfrm>
          <a:off x="5257800" y="762120"/>
          <a:ext cx="3048120" cy="1600200"/>
        </p:xfrm>
        <a:graphic>
          <a:graphicData uri="http://schemas.openxmlformats.org/drawingml/2006/table">
            <a:tbl>
              <a:tblPr/>
              <a:tblGrid>
                <a:gridCol w="1474920"/>
                <a:gridCol w="15732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99"/>
                          </a:solidFill>
                          <a:latin typeface="Arial"/>
                          <a:ea typeface="Arial"/>
                        </a:rPr>
                        <a:t>Budget</a:t>
                      </a:r>
                      <a:endParaRPr b="0" lang="en-US" sz="24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600" name=""/>
          <p:cNvSpPr/>
          <p:nvPr/>
        </p:nvSpPr>
        <p:spPr>
          <a:xfrm>
            <a:off x="5105520" y="2438280"/>
            <a:ext cx="33526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 relation with dat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bout film budget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5105520" y="228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ilmBudget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4800600" y="5029200"/>
            <a:ext cx="1981080" cy="4572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4F35-6D6A-40BD-B86F-247E5008A08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"/>
          <p:cNvSpPr/>
          <p:nvPr/>
        </p:nvSpPr>
        <p:spPr>
          <a:xfrm>
            <a:off x="838080" y="380880"/>
            <a:ext cx="2743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838080" y="13716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Why is is difficult to query semistructured data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838080" y="2362320"/>
            <a:ext cx="769644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Queries with incomplete answers (QwIA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838080" y="3352680"/>
            <a:ext cx="769644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Flexible queries (FQ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838080" y="4343400"/>
            <a:ext cx="769644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Oblivious querying = QwIA + FQ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838080" y="541008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Using QwIA and FQ for information integratio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54F-DCE8-42C5-8580-81260C8416FF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bining the Paradigm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 oblivious querying: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user does not have to know where data is incomple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user does not have to know the exact structure of the data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paradigm of flexible queries and the paradigm of queries with incomplete answers should be combin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3844-257A-4465-961F-417261B4387C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lexible Queries with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complete Answer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flexible query w.r.t. a database is actually a rigid query w.r.t. the relationship grap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valuating a query in AND-semantics (weak semantics, OR-Semantics) w.r.t. the relationship graph produces a flexible query that returns maximal answers rather than complete answer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195-3C3B-4950-81A3-1AF34A2C0F5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41911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 flipH="1">
            <a:off x="4343400" y="2209680"/>
            <a:ext cx="3808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40384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3886200" y="33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4191120" y="39625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4343400" y="3352680"/>
            <a:ext cx="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3944880" y="41911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st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ff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8153280" y="25146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7620120" y="19051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7620120" y="39625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7620120" y="1371600"/>
            <a:ext cx="1522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7238880" y="23623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7772400" y="220968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7924680" y="2133720"/>
            <a:ext cx="30492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7772400" y="21337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723888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1905840" y="48006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4 May 194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2286000" y="3809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2438280" y="4572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 flipH="1">
            <a:off x="2666520" y="3352680"/>
            <a:ext cx="685800" cy="12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8229600" y="35812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762012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7848720" y="3186000"/>
            <a:ext cx="380880" cy="4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7848720" y="4191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7772400" y="32004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 flipH="1">
            <a:off x="3733560" y="1143000"/>
            <a:ext cx="685800" cy="1143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 flipH="1">
            <a:off x="3428640" y="2286000"/>
            <a:ext cx="30492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7315200" y="34290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7924680" y="4191120"/>
            <a:ext cx="30492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8153280" y="45720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609480" y="5410080"/>
            <a:ext cx="739152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Consider the case where Node 2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and Node 33 are removed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3860640" y="2247840"/>
            <a:ext cx="1333800" cy="2895840"/>
          </a:xfrm>
          <a:custGeom>
            <a:avLst/>
            <a:gdLst/>
            <a:ahLst/>
            <a:rect l="l" t="t" r="r" b="b"/>
            <a:pathLst>
              <a:path w="840" h="1824">
                <a:moveTo>
                  <a:pt x="448" y="72"/>
                </a:moveTo>
                <a:cubicBezTo>
                  <a:pt x="376" y="40"/>
                  <a:pt x="184" y="0"/>
                  <a:pt x="112" y="216"/>
                </a:cubicBezTo>
                <a:cubicBezTo>
                  <a:pt x="40" y="432"/>
                  <a:pt x="0" y="1120"/>
                  <a:pt x="16" y="1368"/>
                </a:cubicBezTo>
                <a:cubicBezTo>
                  <a:pt x="32" y="1616"/>
                  <a:pt x="80" y="1648"/>
                  <a:pt x="208" y="1704"/>
                </a:cubicBezTo>
                <a:cubicBezTo>
                  <a:pt x="336" y="1760"/>
                  <a:pt x="728" y="1824"/>
                  <a:pt x="784" y="1704"/>
                </a:cubicBezTo>
                <a:cubicBezTo>
                  <a:pt x="840" y="1584"/>
                  <a:pt x="584" y="1200"/>
                  <a:pt x="544" y="984"/>
                </a:cubicBezTo>
                <a:cubicBezTo>
                  <a:pt x="504" y="768"/>
                  <a:pt x="560" y="560"/>
                  <a:pt x="544" y="408"/>
                </a:cubicBezTo>
                <a:cubicBezTo>
                  <a:pt x="528" y="256"/>
                  <a:pt x="520" y="104"/>
                  <a:pt x="448" y="72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693" name=""/>
          <p:cNvGrpSpPr/>
          <p:nvPr/>
        </p:nvGrpSpPr>
        <p:grpSpPr>
          <a:xfrm>
            <a:off x="3859200" y="2209680"/>
            <a:ext cx="1333440" cy="2933640"/>
            <a:chOff x="3859200" y="2209680"/>
            <a:chExt cx="1333440" cy="2933640"/>
          </a:xfrm>
        </p:grpSpPr>
        <p:sp>
          <p:nvSpPr>
            <p:cNvPr id="2694" name=""/>
            <p:cNvSpPr/>
            <p:nvPr/>
          </p:nvSpPr>
          <p:spPr>
            <a:xfrm>
              <a:off x="4189320" y="3047760"/>
              <a:ext cx="304920" cy="30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4341240" y="2209680"/>
              <a:ext cx="381240" cy="761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037040" y="2438280"/>
              <a:ext cx="990360" cy="368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Actor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884400" y="3366720"/>
              <a:ext cx="914400" cy="368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Name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189320" y="3962160"/>
              <a:ext cx="304920" cy="30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341600" y="3352680"/>
              <a:ext cx="0" cy="609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947760" y="4190760"/>
              <a:ext cx="1044720" cy="642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Dustin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Hoffman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859200" y="2247840"/>
              <a:ext cx="1333440" cy="2895480"/>
            </a:xfrm>
            <a:custGeom>
              <a:avLst/>
              <a:gdLst/>
              <a:ahLst/>
              <a:rect l="l" t="t" r="r" b="b"/>
              <a:pathLst>
                <a:path w="840" h="1824">
                  <a:moveTo>
                    <a:pt x="448" y="72"/>
                  </a:moveTo>
                  <a:cubicBezTo>
                    <a:pt x="376" y="40"/>
                    <a:pt x="184" y="0"/>
                    <a:pt x="112" y="216"/>
                  </a:cubicBezTo>
                  <a:cubicBezTo>
                    <a:pt x="40" y="432"/>
                    <a:pt x="0" y="1120"/>
                    <a:pt x="16" y="1368"/>
                  </a:cubicBezTo>
                  <a:cubicBezTo>
                    <a:pt x="32" y="1616"/>
                    <a:pt x="80" y="1648"/>
                    <a:pt x="208" y="1704"/>
                  </a:cubicBezTo>
                  <a:cubicBezTo>
                    <a:pt x="336" y="1760"/>
                    <a:pt x="728" y="1824"/>
                    <a:pt x="784" y="1704"/>
                  </a:cubicBezTo>
                  <a:cubicBezTo>
                    <a:pt x="840" y="1584"/>
                    <a:pt x="584" y="1200"/>
                    <a:pt x="544" y="984"/>
                  </a:cubicBezTo>
                  <a:cubicBezTo>
                    <a:pt x="504" y="768"/>
                    <a:pt x="560" y="560"/>
                    <a:pt x="544" y="408"/>
                  </a:cubicBezTo>
                  <a:cubicBezTo>
                    <a:pt x="528" y="256"/>
                    <a:pt x="520" y="104"/>
                    <a:pt x="448" y="72"/>
                  </a:cubicBezTo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702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7B9-17F6-4BC0-B16E-ABD1BDDBD9E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"/>
          <p:cNvSpPr/>
          <p:nvPr/>
        </p:nvSpPr>
        <p:spPr>
          <a:xfrm>
            <a:off x="4267080" y="838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2362320" y="1981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 flipH="1">
            <a:off x="2666520" y="106668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4495680" y="1143000"/>
            <a:ext cx="3812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3352680" y="380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2895480" y="1219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1523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22096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4800600" y="306216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 flipH="1">
            <a:off x="1752480" y="2209680"/>
            <a:ext cx="60984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 flipH="1">
            <a:off x="2361960" y="2286000"/>
            <a:ext cx="15228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4952880" y="22860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121932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9907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1905120" y="2438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1371600" y="39625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 flipH="1">
            <a:off x="1600200" y="3352680"/>
            <a:ext cx="7632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1068480" y="426708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2484360" y="3367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1830960" y="3276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2666880" y="30481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2590920" y="2286000"/>
            <a:ext cx="2286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2362320" y="26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762120" y="301608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 flipH="1">
            <a:off x="990720" y="2133720"/>
            <a:ext cx="1371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10666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228600" y="3473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609480" y="39304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 flipH="1">
            <a:off x="838080" y="33210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304920" y="4311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4668840" y="33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oo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4114800" y="1523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2666880" y="2209680"/>
            <a:ext cx="685800" cy="8384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259092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5335200" y="41911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eve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pielberg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5029200" y="2209680"/>
            <a:ext cx="68580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510552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4724280" y="1981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7467480" y="10666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8153280" y="25146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7620120" y="19051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7620120" y="2895480"/>
            <a:ext cx="30456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7620120" y="3962520"/>
            <a:ext cx="304560" cy="304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3124080" y="3429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3276720" y="394812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3429000" y="333864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5334120" y="3276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5638680" y="38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5791320" y="32623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5638680" y="29718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3276720" y="30481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7620120" y="1371600"/>
            <a:ext cx="15228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7238880" y="23623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7772400" y="220968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7924680" y="2133720"/>
            <a:ext cx="30492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7772400" y="21337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7238880" y="1447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Dire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1905840" y="48006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4 May 194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2286000" y="3809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Date of birth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2438280" y="4572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 flipH="1">
            <a:off x="2666520" y="3352680"/>
            <a:ext cx="685800" cy="12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8229600" y="358128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7620120" y="3276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7848720" y="3186000"/>
            <a:ext cx="380880" cy="4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7848720" y="4191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7772400" y="32004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3049560" y="419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Georg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uca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 flipH="1">
            <a:off x="3733560" y="1143000"/>
            <a:ext cx="685800" cy="1143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 flipH="1">
            <a:off x="3428640" y="2286000"/>
            <a:ext cx="30492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33526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duc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7315200" y="34290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924680" y="4191120"/>
            <a:ext cx="30492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8153280" y="4572000"/>
            <a:ext cx="304920" cy="304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779" name=""/>
          <p:cNvGrpSpPr/>
          <p:nvPr/>
        </p:nvGrpSpPr>
        <p:grpSpPr>
          <a:xfrm>
            <a:off x="4267080" y="838080"/>
            <a:ext cx="3200040" cy="380880"/>
            <a:chOff x="4267080" y="838080"/>
            <a:chExt cx="3200040" cy="380880"/>
          </a:xfrm>
        </p:grpSpPr>
        <p:sp>
          <p:nvSpPr>
            <p:cNvPr id="2780" name=""/>
            <p:cNvSpPr/>
            <p:nvPr/>
          </p:nvSpPr>
          <p:spPr>
            <a:xfrm flipH="1" flipV="1">
              <a:off x="4571640" y="990360"/>
              <a:ext cx="28954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267080" y="838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782" name=""/>
          <p:cNvGrpSpPr/>
          <p:nvPr/>
        </p:nvGrpSpPr>
        <p:grpSpPr>
          <a:xfrm>
            <a:off x="5638680" y="2057400"/>
            <a:ext cx="1981080" cy="1219320"/>
            <a:chOff x="5638680" y="2057400"/>
            <a:chExt cx="1981080" cy="1219320"/>
          </a:xfrm>
        </p:grpSpPr>
        <p:sp>
          <p:nvSpPr>
            <p:cNvPr id="2783" name=""/>
            <p:cNvSpPr/>
            <p:nvPr/>
          </p:nvSpPr>
          <p:spPr>
            <a:xfrm flipH="1">
              <a:off x="5943240" y="2057400"/>
              <a:ext cx="167652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638680" y="297180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9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785" name=""/>
          <p:cNvGrpSpPr/>
          <p:nvPr/>
        </p:nvGrpSpPr>
        <p:grpSpPr>
          <a:xfrm>
            <a:off x="4724280" y="1981080"/>
            <a:ext cx="2895480" cy="1067040"/>
            <a:chOff x="4724280" y="1981080"/>
            <a:chExt cx="2895480" cy="1067040"/>
          </a:xfrm>
        </p:grpSpPr>
        <p:sp>
          <p:nvSpPr>
            <p:cNvPr id="2786" name=""/>
            <p:cNvSpPr/>
            <p:nvPr/>
          </p:nvSpPr>
          <p:spPr>
            <a:xfrm flipH="1" flipV="1">
              <a:off x="5028840" y="2133720"/>
              <a:ext cx="25909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724280" y="198108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788" name=""/>
          <p:cNvGrpSpPr/>
          <p:nvPr/>
        </p:nvGrpSpPr>
        <p:grpSpPr>
          <a:xfrm>
            <a:off x="5638680" y="2527200"/>
            <a:ext cx="2514600" cy="1652760"/>
            <a:chOff x="5638680" y="2527200"/>
            <a:chExt cx="2514600" cy="1652760"/>
          </a:xfrm>
        </p:grpSpPr>
        <p:sp>
          <p:nvSpPr>
            <p:cNvPr id="2789" name=""/>
            <p:cNvSpPr/>
            <p:nvPr/>
          </p:nvSpPr>
          <p:spPr>
            <a:xfrm>
              <a:off x="5638680" y="387504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34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943600" y="2527200"/>
              <a:ext cx="2209680" cy="1650960"/>
            </a:xfrm>
            <a:custGeom>
              <a:avLst/>
              <a:gdLst/>
              <a:ahLst/>
              <a:rect l="l" t="t" r="r" b="b"/>
              <a:pathLst>
                <a:path w="1392" h="1040">
                  <a:moveTo>
                    <a:pt x="1392" y="88"/>
                  </a:moveTo>
                  <a:cubicBezTo>
                    <a:pt x="1276" y="44"/>
                    <a:pt x="1160" y="0"/>
                    <a:pt x="1008" y="136"/>
                  </a:cubicBezTo>
                  <a:cubicBezTo>
                    <a:pt x="856" y="272"/>
                    <a:pt x="648" y="768"/>
                    <a:pt x="480" y="904"/>
                  </a:cubicBezTo>
                  <a:cubicBezTo>
                    <a:pt x="312" y="1040"/>
                    <a:pt x="156" y="996"/>
                    <a:pt x="0" y="95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791" name=""/>
          <p:cNvGrpSpPr/>
          <p:nvPr/>
        </p:nvGrpSpPr>
        <p:grpSpPr>
          <a:xfrm>
            <a:off x="4800600" y="3068640"/>
            <a:ext cx="3429000" cy="766800"/>
            <a:chOff x="4800600" y="3068640"/>
            <a:chExt cx="3429000" cy="766800"/>
          </a:xfrm>
        </p:grpSpPr>
        <p:sp>
          <p:nvSpPr>
            <p:cNvPr id="2792" name=""/>
            <p:cNvSpPr/>
            <p:nvPr/>
          </p:nvSpPr>
          <p:spPr>
            <a:xfrm>
              <a:off x="5105520" y="3276720"/>
              <a:ext cx="3124080" cy="558720"/>
            </a:xfrm>
            <a:custGeom>
              <a:avLst/>
              <a:gdLst/>
              <a:ahLst/>
              <a:rect l="l" t="t" r="r" b="b"/>
              <a:pathLst>
                <a:path w="1968" h="352">
                  <a:moveTo>
                    <a:pt x="1968" y="336"/>
                  </a:moveTo>
                  <a:cubicBezTo>
                    <a:pt x="1772" y="344"/>
                    <a:pt x="1576" y="352"/>
                    <a:pt x="1296" y="336"/>
                  </a:cubicBezTo>
                  <a:cubicBezTo>
                    <a:pt x="1016" y="320"/>
                    <a:pt x="472" y="288"/>
                    <a:pt x="288" y="240"/>
                  </a:cubicBezTo>
                  <a:cubicBezTo>
                    <a:pt x="104" y="192"/>
                    <a:pt x="240" y="88"/>
                    <a:pt x="192" y="48"/>
                  </a:cubicBezTo>
                  <a:cubicBezTo>
                    <a:pt x="144" y="8"/>
                    <a:pt x="72" y="4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800600" y="3068640"/>
              <a:ext cx="304920" cy="3049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794" name=""/>
          <p:cNvGrpSpPr/>
          <p:nvPr/>
        </p:nvGrpSpPr>
        <p:grpSpPr>
          <a:xfrm>
            <a:off x="4648320" y="1143000"/>
            <a:ext cx="3124080" cy="1905120"/>
            <a:chOff x="4648320" y="1143000"/>
            <a:chExt cx="3124080" cy="1905120"/>
          </a:xfrm>
        </p:grpSpPr>
        <p:sp>
          <p:nvSpPr>
            <p:cNvPr id="2795" name=""/>
            <p:cNvSpPr/>
            <p:nvPr/>
          </p:nvSpPr>
          <p:spPr>
            <a:xfrm>
              <a:off x="4648320" y="1143000"/>
              <a:ext cx="1371600" cy="1905120"/>
            </a:xfrm>
            <a:custGeom>
              <a:avLst/>
              <a:gdLst/>
              <a:ahLst/>
              <a:rect l="l" t="t" r="r" b="b"/>
              <a:pathLst>
                <a:path w="864" h="1200">
                  <a:moveTo>
                    <a:pt x="0" y="0"/>
                  </a:moveTo>
                  <a:cubicBezTo>
                    <a:pt x="48" y="164"/>
                    <a:pt x="96" y="328"/>
                    <a:pt x="240" y="528"/>
                  </a:cubicBezTo>
                  <a:cubicBezTo>
                    <a:pt x="384" y="728"/>
                    <a:pt x="624" y="964"/>
                    <a:pt x="864" y="120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620120" y="1371600"/>
              <a:ext cx="152280" cy="53352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797" name=""/>
          <p:cNvGrpSpPr/>
          <p:nvPr/>
        </p:nvGrpSpPr>
        <p:grpSpPr>
          <a:xfrm>
            <a:off x="5943600" y="2133720"/>
            <a:ext cx="2286000" cy="1676160"/>
            <a:chOff x="5943600" y="2133720"/>
            <a:chExt cx="2286000" cy="1676160"/>
          </a:xfrm>
        </p:grpSpPr>
        <p:sp>
          <p:nvSpPr>
            <p:cNvPr id="2798" name=""/>
            <p:cNvSpPr/>
            <p:nvPr/>
          </p:nvSpPr>
          <p:spPr>
            <a:xfrm>
              <a:off x="5943600" y="3200400"/>
              <a:ext cx="1440" cy="609480"/>
            </a:xfrm>
            <a:custGeom>
              <a:avLst/>
              <a:gdLst/>
              <a:ahLst/>
              <a:rect l="l" t="t" r="r" b="b"/>
              <a:pathLst>
                <a:path w="1" h="384">
                  <a:moveTo>
                    <a:pt x="0" y="0"/>
                  </a:moveTo>
                  <a:cubicBezTo>
                    <a:pt x="0" y="0"/>
                    <a:pt x="0" y="192"/>
                    <a:pt x="0" y="38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924680" y="2133720"/>
              <a:ext cx="304920" cy="38088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00" name=""/>
          <p:cNvGrpSpPr/>
          <p:nvPr/>
        </p:nvGrpSpPr>
        <p:grpSpPr>
          <a:xfrm>
            <a:off x="5029200" y="2209680"/>
            <a:ext cx="2743200" cy="762120"/>
            <a:chOff x="5029200" y="2209680"/>
            <a:chExt cx="2743200" cy="762120"/>
          </a:xfrm>
        </p:grpSpPr>
        <p:sp>
          <p:nvSpPr>
            <p:cNvPr id="2801" name=""/>
            <p:cNvSpPr/>
            <p:nvPr/>
          </p:nvSpPr>
          <p:spPr>
            <a:xfrm>
              <a:off x="5029200" y="2286000"/>
              <a:ext cx="609480" cy="68580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0"/>
                  </a:moveTo>
                  <a:cubicBezTo>
                    <a:pt x="64" y="84"/>
                    <a:pt x="128" y="168"/>
                    <a:pt x="192" y="240"/>
                  </a:cubicBezTo>
                  <a:cubicBezTo>
                    <a:pt x="256" y="312"/>
                    <a:pt x="320" y="372"/>
                    <a:pt x="384" y="43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772400" y="2209680"/>
              <a:ext cx="0" cy="68580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03" name=""/>
          <p:cNvGrpSpPr/>
          <p:nvPr/>
        </p:nvGrpSpPr>
        <p:grpSpPr>
          <a:xfrm>
            <a:off x="4876920" y="2362320"/>
            <a:ext cx="3352680" cy="1309680"/>
            <a:chOff x="4876920" y="2362320"/>
            <a:chExt cx="3352680" cy="1309680"/>
          </a:xfrm>
        </p:grpSpPr>
        <p:sp>
          <p:nvSpPr>
            <p:cNvPr id="2804" name=""/>
            <p:cNvSpPr/>
            <p:nvPr/>
          </p:nvSpPr>
          <p:spPr>
            <a:xfrm>
              <a:off x="4876920" y="2362320"/>
              <a:ext cx="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848720" y="3200400"/>
              <a:ext cx="380880" cy="471600"/>
            </a:xfrm>
            <a:prstGeom prst="line">
              <a:avLst/>
            </a:prstGeom>
            <a:ln w="381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806" name=""/>
          <p:cNvSpPr/>
          <p:nvPr/>
        </p:nvSpPr>
        <p:spPr>
          <a:xfrm>
            <a:off x="457200" y="5410080"/>
            <a:ext cx="739152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A Flexible matching which is also a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incomplete (maximal) match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807" name=""/>
          <p:cNvGrpSpPr/>
          <p:nvPr/>
        </p:nvGrpSpPr>
        <p:grpSpPr>
          <a:xfrm>
            <a:off x="7010280" y="3962520"/>
            <a:ext cx="914400" cy="838080"/>
            <a:chOff x="7010280" y="3962520"/>
            <a:chExt cx="914400" cy="838080"/>
          </a:xfrm>
        </p:grpSpPr>
        <p:sp>
          <p:nvSpPr>
            <p:cNvPr id="2808" name=""/>
            <p:cNvSpPr/>
            <p:nvPr/>
          </p:nvSpPr>
          <p:spPr>
            <a:xfrm>
              <a:off x="7620120" y="396252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H="1">
              <a:off x="7543440" y="4267080"/>
              <a:ext cx="15228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7010280" y="4495680"/>
              <a:ext cx="76212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11" name=""/>
          <p:cNvGrpSpPr/>
          <p:nvPr/>
        </p:nvGrpSpPr>
        <p:grpSpPr>
          <a:xfrm>
            <a:off x="8153280" y="4572000"/>
            <a:ext cx="762120" cy="914400"/>
            <a:chOff x="8153280" y="4572000"/>
            <a:chExt cx="762120" cy="914400"/>
          </a:xfrm>
        </p:grpSpPr>
        <p:sp>
          <p:nvSpPr>
            <p:cNvPr id="2812" name=""/>
            <p:cNvSpPr/>
            <p:nvPr/>
          </p:nvSpPr>
          <p:spPr>
            <a:xfrm>
              <a:off x="8153280" y="457200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8305920" y="48769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153280" y="5181480"/>
              <a:ext cx="76212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46B5-83D4-40E3-B50C-583A18B33A7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495680" y="1143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2286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70640" y="2286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895120" y="1371600"/>
            <a:ext cx="160020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343040" y="1447920"/>
            <a:ext cx="22860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1371600"/>
            <a:ext cx="1676520" cy="990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685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 Databas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1523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2590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1676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33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03960" y="3429000"/>
            <a:ext cx="3045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13640" y="3124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981080" y="2514600"/>
            <a:ext cx="609840" cy="83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590560" y="2590920"/>
            <a:ext cx="15228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809520" y="2514600"/>
            <a:ext cx="38124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19720" y="2590920"/>
            <a:ext cx="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22920" y="2590920"/>
            <a:ext cx="828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99240" y="2514600"/>
            <a:ext cx="9144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632560" y="2514600"/>
            <a:ext cx="83808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.V. Serie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8320" y="1828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ilm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824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78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3372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3848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42670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441972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850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36576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36576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7536960" y="3429000"/>
            <a:ext cx="2286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828800" y="365760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63840" y="3733920"/>
            <a:ext cx="13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Ky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cLachl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11360" y="449568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Natal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ortma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7080" y="457200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rrison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For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5000" y="3672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7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2196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Dun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35880" y="365760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St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War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02240" y="47242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Tw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Peak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42240" y="3429000"/>
            <a:ext cx="5335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99440" y="4343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4224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198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3352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19520" y="2590920"/>
            <a:ext cx="228600" cy="7617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29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Yea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33210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066680" y="2438280"/>
            <a:ext cx="1524240" cy="8827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c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3778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42354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914400" y="3625920"/>
            <a:ext cx="7632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4616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rk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Hami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6240" y="3595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L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é</a:t>
            </a: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o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81280" y="1828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Movi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76920" y="2362320"/>
            <a:ext cx="3045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1447920"/>
            <a:ext cx="30492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048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itl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4495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952880" y="2666880"/>
            <a:ext cx="76320" cy="1828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97480" y="48006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Times New Roman"/>
              </a:rPr>
              <a:t>Magnoli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80880" y="380880"/>
            <a:ext cx="2438640" cy="2438280"/>
            <a:chOff x="380880" y="380880"/>
            <a:chExt cx="2438640" cy="2438280"/>
          </a:xfrm>
        </p:grpSpPr>
        <p:sp>
          <p:nvSpPr>
            <p:cNvPr id="289" name=""/>
            <p:cNvSpPr/>
            <p:nvPr/>
          </p:nvSpPr>
          <p:spPr>
            <a:xfrm>
              <a:off x="380880" y="380880"/>
              <a:ext cx="2057400" cy="7866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he movie has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 year attribut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23880" y="1167480"/>
              <a:ext cx="1295640" cy="165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209680" y="5638680"/>
            <a:ext cx="4343400" cy="685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Incomplete Data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495680" y="990720"/>
            <a:ext cx="4267080" cy="1752120"/>
            <a:chOff x="4495680" y="990720"/>
            <a:chExt cx="4267080" cy="1752120"/>
          </a:xfrm>
        </p:grpSpPr>
        <p:sp>
          <p:nvSpPr>
            <p:cNvPr id="293" name=""/>
            <p:cNvSpPr/>
            <p:nvPr/>
          </p:nvSpPr>
          <p:spPr>
            <a:xfrm flipH="1">
              <a:off x="4495680" y="1838520"/>
              <a:ext cx="2215440" cy="90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47320" y="990720"/>
              <a:ext cx="2215440" cy="8478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he year of the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movie is missing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B10-C649-4EB9-83E0-808100AC3A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838080" y="380880"/>
            <a:ext cx="2743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838080" y="13716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Why is is difficult to query semistructured data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838080" y="2362320"/>
            <a:ext cx="769644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Queries with incomplete answers (QwIA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838080" y="3352680"/>
            <a:ext cx="769644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Flexible queries (FQ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838080" y="4343400"/>
            <a:ext cx="769644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Oblivious querying = QwIA + FQ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838080" y="5410080"/>
            <a:ext cx="769644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Using QwIA and FQ for information integratio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64F8-FFF9-42FE-9D2A-C3F31AF406A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ull Disjunct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tuitively, the full disjunction of a given set of relations is the join of these relations that does not discard dangling tuples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angling tuples are padded with null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nly maximal tuples are retained in the full disjunction (as in the case of QwIA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FC3-F1C7-40DD-9B44-8F3CA75DE04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3" name=""/>
          <p:cNvGraphicFramePr/>
          <p:nvPr/>
        </p:nvGraphicFramePr>
        <p:xfrm>
          <a:off x="228600" y="762120"/>
          <a:ext cx="426708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  <a:gridCol w="762120"/>
                <a:gridCol w="121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8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4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824" name=""/>
          <p:cNvSpPr/>
          <p:nvPr/>
        </p:nvSpPr>
        <p:spPr>
          <a:xfrm>
            <a:off x="228600" y="22860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25" name=""/>
          <p:cNvGraphicFramePr/>
          <p:nvPr/>
        </p:nvGraphicFramePr>
        <p:xfrm>
          <a:off x="4724280" y="762120"/>
          <a:ext cx="388620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  <a:gridCol w="1676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date-of-birt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/12/1935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/3/1955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8/10/1967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826" name=""/>
          <p:cNvSpPr/>
          <p:nvPr/>
        </p:nvSpPr>
        <p:spPr>
          <a:xfrm>
            <a:off x="4724280" y="228600"/>
            <a:ext cx="12193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27" name=""/>
          <p:cNvGraphicFramePr/>
          <p:nvPr/>
        </p:nvGraphicFramePr>
        <p:xfrm>
          <a:off x="6400800" y="2514600"/>
          <a:ext cx="2209680" cy="1581120"/>
        </p:xfrm>
        <a:graphic>
          <a:graphicData uri="http://schemas.openxmlformats.org/drawingml/2006/table">
            <a:tbl>
              <a:tblPr/>
              <a:tblGrid>
                <a:gridCol w="62532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28" name=""/>
          <p:cNvSpPr/>
          <p:nvPr/>
        </p:nvSpPr>
        <p:spPr>
          <a:xfrm>
            <a:off x="4952880" y="251460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29" name=""/>
          <p:cNvGraphicFramePr/>
          <p:nvPr/>
        </p:nvGraphicFramePr>
        <p:xfrm>
          <a:off x="3276720" y="2895480"/>
          <a:ext cx="1371600" cy="79056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830" name=""/>
          <p:cNvSpPr/>
          <p:nvPr/>
        </p:nvSpPr>
        <p:spPr>
          <a:xfrm>
            <a:off x="228600" y="2895480"/>
            <a:ext cx="297180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-that-Directe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31" name=""/>
          <p:cNvGraphicFramePr/>
          <p:nvPr/>
        </p:nvGraphicFramePr>
        <p:xfrm>
          <a:off x="380880" y="4419720"/>
          <a:ext cx="8305920" cy="2190600"/>
        </p:xfrm>
        <a:graphic>
          <a:graphicData uri="http://schemas.openxmlformats.org/drawingml/2006/table">
            <a:tbl>
              <a:tblPr/>
              <a:tblGrid>
                <a:gridCol w="762120"/>
                <a:gridCol w="1447920"/>
                <a:gridCol w="685800"/>
                <a:gridCol w="1066680"/>
                <a:gridCol w="609480"/>
                <a:gridCol w="144792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8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/3/195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antasia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8/10/196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pSp>
        <p:nvGrpSpPr>
          <p:cNvPr id="2832" name=""/>
          <p:cNvGrpSpPr/>
          <p:nvPr/>
        </p:nvGrpSpPr>
        <p:grpSpPr>
          <a:xfrm>
            <a:off x="228600" y="1143000"/>
            <a:ext cx="8458200" cy="3962520"/>
            <a:chOff x="228600" y="1143000"/>
            <a:chExt cx="8458200" cy="3962520"/>
          </a:xfrm>
        </p:grpSpPr>
        <p:sp>
          <p:nvSpPr>
            <p:cNvPr id="2833" name=""/>
            <p:cNvSpPr/>
            <p:nvPr/>
          </p:nvSpPr>
          <p:spPr>
            <a:xfrm>
              <a:off x="228600" y="1143000"/>
              <a:ext cx="426708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724280" y="1143000"/>
              <a:ext cx="38862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276720" y="3276720"/>
              <a:ext cx="13716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6400800" y="2895480"/>
              <a:ext cx="220968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80880" y="4800600"/>
              <a:ext cx="830592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38" name=""/>
          <p:cNvGrpSpPr/>
          <p:nvPr/>
        </p:nvGrpSpPr>
        <p:grpSpPr>
          <a:xfrm>
            <a:off x="228600" y="1549440"/>
            <a:ext cx="8458200" cy="4317840"/>
            <a:chOff x="228600" y="1549440"/>
            <a:chExt cx="8458200" cy="4317840"/>
          </a:xfrm>
        </p:grpSpPr>
        <p:sp>
          <p:nvSpPr>
            <p:cNvPr id="2839" name=""/>
            <p:cNvSpPr/>
            <p:nvPr/>
          </p:nvSpPr>
          <p:spPr>
            <a:xfrm>
              <a:off x="228600" y="1981080"/>
              <a:ext cx="426708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724280" y="1549440"/>
              <a:ext cx="38862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400800" y="3720960"/>
              <a:ext cx="220968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80880" y="5562720"/>
              <a:ext cx="8305920" cy="304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43" name=""/>
          <p:cNvGrpSpPr/>
          <p:nvPr/>
        </p:nvGrpSpPr>
        <p:grpSpPr>
          <a:xfrm>
            <a:off x="228600" y="2362320"/>
            <a:ext cx="8458200" cy="3886200"/>
            <a:chOff x="228600" y="2362320"/>
            <a:chExt cx="8458200" cy="3886200"/>
          </a:xfrm>
        </p:grpSpPr>
        <p:sp>
          <p:nvSpPr>
            <p:cNvPr id="2844" name=""/>
            <p:cNvSpPr/>
            <p:nvPr/>
          </p:nvSpPr>
          <p:spPr>
            <a:xfrm>
              <a:off x="228600" y="2362320"/>
              <a:ext cx="426708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80880" y="5943600"/>
              <a:ext cx="830592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46" name=""/>
          <p:cNvGrpSpPr/>
          <p:nvPr/>
        </p:nvGrpSpPr>
        <p:grpSpPr>
          <a:xfrm>
            <a:off x="380880" y="1968480"/>
            <a:ext cx="8305920" cy="4648320"/>
            <a:chOff x="380880" y="1968480"/>
            <a:chExt cx="8305920" cy="4648320"/>
          </a:xfrm>
        </p:grpSpPr>
        <p:sp>
          <p:nvSpPr>
            <p:cNvPr id="2847" name=""/>
            <p:cNvSpPr/>
            <p:nvPr/>
          </p:nvSpPr>
          <p:spPr>
            <a:xfrm>
              <a:off x="4724280" y="1968480"/>
              <a:ext cx="38862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80880" y="6311880"/>
              <a:ext cx="830592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49" name=""/>
          <p:cNvGrpSpPr/>
          <p:nvPr/>
        </p:nvGrpSpPr>
        <p:grpSpPr>
          <a:xfrm>
            <a:off x="228600" y="1143000"/>
            <a:ext cx="8458200" cy="4356000"/>
            <a:chOff x="228600" y="1143000"/>
            <a:chExt cx="8458200" cy="4356000"/>
          </a:xfrm>
        </p:grpSpPr>
        <p:sp>
          <p:nvSpPr>
            <p:cNvPr id="2850" name=""/>
            <p:cNvSpPr/>
            <p:nvPr/>
          </p:nvSpPr>
          <p:spPr>
            <a:xfrm>
              <a:off x="228600" y="1549440"/>
              <a:ext cx="426708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400800" y="3301920"/>
              <a:ext cx="220968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80880" y="5194440"/>
              <a:ext cx="8305920" cy="304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724280" y="1143000"/>
              <a:ext cx="38862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854" name=""/>
          <p:cNvSpPr/>
          <p:nvPr/>
        </p:nvSpPr>
        <p:spPr>
          <a:xfrm>
            <a:off x="380880" y="3886200"/>
            <a:ext cx="586764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The Full Disjunction of the Given Rela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C40E-44FD-48B3-A8CC-181118185FE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"/>
          <p:cNvSpPr/>
          <p:nvPr/>
        </p:nvSpPr>
        <p:spPr>
          <a:xfrm>
            <a:off x="380880" y="3886200"/>
            <a:ext cx="586764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The Full Disjunction of the Given Rela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56" name=""/>
          <p:cNvGraphicFramePr/>
          <p:nvPr/>
        </p:nvGraphicFramePr>
        <p:xfrm>
          <a:off x="380880" y="4419720"/>
          <a:ext cx="8305920" cy="2190600"/>
        </p:xfrm>
        <a:graphic>
          <a:graphicData uri="http://schemas.openxmlformats.org/drawingml/2006/table">
            <a:tbl>
              <a:tblPr/>
              <a:tblGrid>
                <a:gridCol w="762120"/>
                <a:gridCol w="1447920"/>
                <a:gridCol w="685800"/>
                <a:gridCol w="1066680"/>
                <a:gridCol w="609480"/>
                <a:gridCol w="144792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8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/3/195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antasia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8/10/196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7" name=""/>
          <p:cNvGraphicFramePr/>
          <p:nvPr/>
        </p:nvGraphicFramePr>
        <p:xfrm>
          <a:off x="380880" y="2819520"/>
          <a:ext cx="8305560" cy="73008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85800"/>
                <a:gridCol w="1066680"/>
                <a:gridCol w="609840"/>
                <a:gridCol w="144756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8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858" name=""/>
          <p:cNvSpPr/>
          <p:nvPr/>
        </p:nvSpPr>
        <p:spPr>
          <a:xfrm>
            <a:off x="228600" y="6019920"/>
            <a:ext cx="868680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full disjunction does not include subsumed tupl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59" name=""/>
          <p:cNvGraphicFramePr/>
          <p:nvPr/>
        </p:nvGraphicFramePr>
        <p:xfrm>
          <a:off x="228600" y="762120"/>
          <a:ext cx="426708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  <a:gridCol w="762120"/>
                <a:gridCol w="121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8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4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860" name=""/>
          <p:cNvSpPr/>
          <p:nvPr/>
        </p:nvSpPr>
        <p:spPr>
          <a:xfrm>
            <a:off x="228600" y="22860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861" name=""/>
          <p:cNvGrpSpPr/>
          <p:nvPr/>
        </p:nvGrpSpPr>
        <p:grpSpPr>
          <a:xfrm>
            <a:off x="228600" y="1143000"/>
            <a:ext cx="5029200" cy="2438280"/>
            <a:chOff x="228600" y="1143000"/>
            <a:chExt cx="5029200" cy="2438280"/>
          </a:xfrm>
        </p:grpSpPr>
        <p:sp>
          <p:nvSpPr>
            <p:cNvPr id="2862" name=""/>
            <p:cNvSpPr/>
            <p:nvPr/>
          </p:nvSpPr>
          <p:spPr>
            <a:xfrm>
              <a:off x="228600" y="1143000"/>
              <a:ext cx="426708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80880" y="3200400"/>
              <a:ext cx="396252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394160" y="1371600"/>
              <a:ext cx="863640" cy="1981080"/>
            </a:xfrm>
            <a:custGeom>
              <a:avLst/>
              <a:gdLst/>
              <a:ahLst/>
              <a:rect l="l" t="t" r="r" b="b"/>
              <a:pathLst>
                <a:path w="544" h="1248">
                  <a:moveTo>
                    <a:pt x="96" y="0"/>
                  </a:moveTo>
                  <a:cubicBezTo>
                    <a:pt x="320" y="184"/>
                    <a:pt x="544" y="368"/>
                    <a:pt x="528" y="576"/>
                  </a:cubicBezTo>
                  <a:cubicBezTo>
                    <a:pt x="512" y="784"/>
                    <a:pt x="256" y="1016"/>
                    <a:pt x="0" y="124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380880" y="3581280"/>
            <a:ext cx="3962520" cy="1600200"/>
            <a:chOff x="380880" y="3581280"/>
            <a:chExt cx="3962520" cy="1600200"/>
          </a:xfrm>
        </p:grpSpPr>
        <p:sp>
          <p:nvSpPr>
            <p:cNvPr id="2866" name=""/>
            <p:cNvSpPr/>
            <p:nvPr/>
          </p:nvSpPr>
          <p:spPr>
            <a:xfrm>
              <a:off x="380880" y="4800600"/>
              <a:ext cx="396252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3225960" y="3581280"/>
              <a:ext cx="368280" cy="1219320"/>
            </a:xfrm>
            <a:custGeom>
              <a:avLst/>
              <a:gdLst/>
              <a:ahLst/>
              <a:rect l="l" t="t" r="r" b="b"/>
              <a:pathLst>
                <a:path w="232" h="768">
                  <a:moveTo>
                    <a:pt x="80" y="0"/>
                  </a:moveTo>
                  <a:cubicBezTo>
                    <a:pt x="156" y="92"/>
                    <a:pt x="232" y="184"/>
                    <a:pt x="224" y="288"/>
                  </a:cubicBezTo>
                  <a:cubicBezTo>
                    <a:pt x="216" y="392"/>
                    <a:pt x="64" y="544"/>
                    <a:pt x="32" y="624"/>
                  </a:cubicBezTo>
                  <a:cubicBezTo>
                    <a:pt x="0" y="704"/>
                    <a:pt x="16" y="736"/>
                    <a:pt x="32" y="768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68" name=""/>
          <p:cNvGrpSpPr/>
          <p:nvPr/>
        </p:nvGrpSpPr>
        <p:grpSpPr>
          <a:xfrm>
            <a:off x="5486400" y="1371600"/>
            <a:ext cx="3352680" cy="1371600"/>
            <a:chOff x="5486400" y="1371600"/>
            <a:chExt cx="3352680" cy="1371600"/>
          </a:xfrm>
        </p:grpSpPr>
        <p:sp>
          <p:nvSpPr>
            <p:cNvPr id="2869" name=""/>
            <p:cNvSpPr/>
            <p:nvPr/>
          </p:nvSpPr>
          <p:spPr>
            <a:xfrm>
              <a:off x="5486400" y="1371600"/>
              <a:ext cx="3352680" cy="106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This tuple will not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be in the full disjunctio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H="1">
              <a:off x="6629400" y="2438280"/>
              <a:ext cx="7632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650-C207-48E4-B814-115C0821C8E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1" name=""/>
          <p:cNvGraphicFramePr/>
          <p:nvPr/>
        </p:nvGraphicFramePr>
        <p:xfrm>
          <a:off x="228600" y="762120"/>
          <a:ext cx="426708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  <a:gridCol w="762120"/>
                <a:gridCol w="121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8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4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872" name=""/>
          <p:cNvSpPr/>
          <p:nvPr/>
        </p:nvSpPr>
        <p:spPr>
          <a:xfrm>
            <a:off x="228600" y="22860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73" name=""/>
          <p:cNvGraphicFramePr/>
          <p:nvPr/>
        </p:nvGraphicFramePr>
        <p:xfrm>
          <a:off x="4648320" y="762120"/>
          <a:ext cx="388620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  <a:gridCol w="1676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date-of-birt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/12/1935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/3/1955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8/10/1967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874" name=""/>
          <p:cNvSpPr/>
          <p:nvPr/>
        </p:nvSpPr>
        <p:spPr>
          <a:xfrm>
            <a:off x="4724280" y="228600"/>
            <a:ext cx="12193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75" name=""/>
          <p:cNvGraphicFramePr/>
          <p:nvPr/>
        </p:nvGraphicFramePr>
        <p:xfrm>
          <a:off x="6400800" y="2610000"/>
          <a:ext cx="2209680" cy="1581120"/>
        </p:xfrm>
        <a:graphic>
          <a:graphicData uri="http://schemas.openxmlformats.org/drawingml/2006/table">
            <a:tbl>
              <a:tblPr/>
              <a:tblGrid>
                <a:gridCol w="62532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76" name=""/>
          <p:cNvSpPr/>
          <p:nvPr/>
        </p:nvSpPr>
        <p:spPr>
          <a:xfrm>
            <a:off x="4876920" y="251460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77" name=""/>
          <p:cNvGraphicFramePr/>
          <p:nvPr/>
        </p:nvGraphicFramePr>
        <p:xfrm>
          <a:off x="3276720" y="2895480"/>
          <a:ext cx="1371600" cy="79056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878" name=""/>
          <p:cNvSpPr/>
          <p:nvPr/>
        </p:nvSpPr>
        <p:spPr>
          <a:xfrm>
            <a:off x="152280" y="2895480"/>
            <a:ext cx="297180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-that-Directe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79" name=""/>
          <p:cNvGraphicFramePr/>
          <p:nvPr/>
        </p:nvGraphicFramePr>
        <p:xfrm>
          <a:off x="380880" y="4419720"/>
          <a:ext cx="8305920" cy="2190600"/>
        </p:xfrm>
        <a:graphic>
          <a:graphicData uri="http://schemas.openxmlformats.org/drawingml/2006/table">
            <a:tbl>
              <a:tblPr/>
              <a:tblGrid>
                <a:gridCol w="762120"/>
                <a:gridCol w="1447920"/>
                <a:gridCol w="685800"/>
                <a:gridCol w="1066680"/>
                <a:gridCol w="609480"/>
                <a:gridCol w="144792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8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/3/195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antasia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8/10/196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2880" name=""/>
          <p:cNvSpPr/>
          <p:nvPr/>
        </p:nvSpPr>
        <p:spPr>
          <a:xfrm>
            <a:off x="380880" y="3886200"/>
            <a:ext cx="586764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The Full Disjunction of the Given Rela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152280" y="3809880"/>
            <a:ext cx="8763120" cy="2895840"/>
          </a:xfrm>
          <a:prstGeom prst="rect">
            <a:avLst/>
          </a:prstGeom>
          <a:solidFill>
            <a:srgbClr val="00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2882" name=""/>
          <p:cNvGraphicFramePr/>
          <p:nvPr/>
        </p:nvGraphicFramePr>
        <p:xfrm>
          <a:off x="380880" y="4648320"/>
          <a:ext cx="8305560" cy="73008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85800"/>
                <a:gridCol w="1066680"/>
                <a:gridCol w="609840"/>
                <a:gridCol w="144756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  <a:ea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antasia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28/10/196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2883" name=""/>
          <p:cNvSpPr/>
          <p:nvPr/>
        </p:nvSpPr>
        <p:spPr>
          <a:xfrm>
            <a:off x="380880" y="5638680"/>
            <a:ext cx="830592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The full disjunction does not include tuples that are based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on Cartesian Product rather than jo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884" name=""/>
          <p:cNvGrpSpPr/>
          <p:nvPr/>
        </p:nvGrpSpPr>
        <p:grpSpPr>
          <a:xfrm>
            <a:off x="4343400" y="1981080"/>
            <a:ext cx="4191120" cy="3429000"/>
            <a:chOff x="4343400" y="1981080"/>
            <a:chExt cx="4191120" cy="3429000"/>
          </a:xfrm>
        </p:grpSpPr>
        <p:sp>
          <p:nvSpPr>
            <p:cNvPr id="2885" name=""/>
            <p:cNvSpPr/>
            <p:nvPr/>
          </p:nvSpPr>
          <p:spPr>
            <a:xfrm flipV="1">
              <a:off x="4800600" y="2437920"/>
              <a:ext cx="380880" cy="259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343400" y="5029200"/>
              <a:ext cx="350532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648320" y="1981080"/>
              <a:ext cx="388620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888" name=""/>
          <p:cNvGrpSpPr/>
          <p:nvPr/>
        </p:nvGrpSpPr>
        <p:grpSpPr>
          <a:xfrm>
            <a:off x="228600" y="2362320"/>
            <a:ext cx="4267080" cy="3047760"/>
            <a:chOff x="228600" y="2362320"/>
            <a:chExt cx="4267080" cy="3047760"/>
          </a:xfrm>
        </p:grpSpPr>
        <p:sp>
          <p:nvSpPr>
            <p:cNvPr id="2889" name=""/>
            <p:cNvSpPr/>
            <p:nvPr/>
          </p:nvSpPr>
          <p:spPr>
            <a:xfrm>
              <a:off x="406440" y="5029200"/>
              <a:ext cx="3886200" cy="38088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228600" y="2362320"/>
              <a:ext cx="4267080" cy="38088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 flipH="1" flipV="1">
              <a:off x="3581280" y="2819520"/>
              <a:ext cx="152640" cy="22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B9E-385F-46DA-B2E7-7D32D1C62B9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 the Full Disjunction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f a Given Set of Relations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1600200" y="2286000"/>
            <a:ext cx="579132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Every tuple of the input is a par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of at least one tuple of the outpu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1600200" y="3505320"/>
            <a:ext cx="579132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uples are joined as in a natur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join, padded with null value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1600200" y="4724280"/>
            <a:ext cx="579132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result includes onl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maximal connected portions”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4F1-3A4E-49D5-B934-354CD1C9E99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otivation for Full Disjunc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ull disjunctions have been proposed by Galiando-Legaria as an alternative for outerjoins [SIGMOD’94]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ajaraman and Ullman suggested to use full disjunctions for information integration [PODS’96]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2E8-2FC5-4392-B468-BDEB52ECD48B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uting Full Disjunction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or γ-acyclic Relation Schema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ajaraman and Ullman have shown how to evaluate the full disjunction by a sequence of natural outerjoins when the relation schemas are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γ-acyclic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ence, the full disjunction can be computed  in polynomial time, under input-output complexity, when the relation schemas are γ-acyclic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67A-E150-4AE8-836A-CD626D6AE21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eak Semantics Generalize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ull Disjunc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lations can be converted into a semistructured databas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full disjunction can be expressed as the union of several queries that are evaluated under weak semanti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1066680" y="4648320"/>
            <a:ext cx="70866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e have developed an algorithm that uses thi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generalization to compute full disjunctions 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polynomial time under I/O complexity,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even when the relation schemas are cyclic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E72D-8A8D-47AD-8896-E6770836AA95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Generalizing Full Disjunc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 a full disjunction, tuples are joined according to equality constraints as in a natural join (or equi-join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can generalize full disjunctions to support constraints that are not merely equality among attribut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09A-5E1B-49A3-8D82-36FB7C08AF62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5:42:41Z</dcterms:created>
  <dc:creator>db</dc:creator>
  <dc:description/>
  <dc:language>en-US</dc:language>
  <cp:lastModifiedBy>Yehoshua Sagiv</cp:lastModifiedBy>
  <dcterms:modified xsi:type="dcterms:W3CDTF">1999-12-28T13:36:28Z</dcterms:modified>
  <cp:revision>187</cp:revision>
  <dc:subject/>
  <dc:title>Research Proposal </dc:title>
</cp:coreProperties>
</file>