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FA9-2AC9-4581-A43C-1D914D7A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FEE-B5D0-4C66-9D95-EAC98A78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EEA-762A-4BC1-B948-9380BF54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59A-3249-4911-9C9C-48E45CD3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E9E-EE0A-4EC6-9A62-294688C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975-E638-4653-AD04-EFF32BAA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08B-B2DA-4F9A-BB07-0252A97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A2-D752-4CF2-A896-CE971BC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306-EE96-4B62-8123-1E38BF2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95C-9403-43C8-AF85-5B8A9FD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A6B-190B-45BA-8C30-DC4AEA7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578-9047-4C99-A43D-80DD1EC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FF3E-4B5D-4979-BE04-988485DA4B35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6571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aron Kanz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ehoshua Sagiv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elim and Rachel Ben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hool of Engineeri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Computer Scien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Hebrew University of Jerusalem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9DA-7931-4E40-91AB-8567E967B0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cyclic Schem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iven a set of schemes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their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cheme hypergraph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nsists o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node for each attribute that appears in some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 each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(1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, a hyperedge that includes the attribut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-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cheme hypergrap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ll the hyperedges can be removed by a sequence of ear remova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-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cyclic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cheme hypergrap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Bachman diagram of the scheme hypergraph is acycli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C58-FF39-44F1-9072-F3F921DE5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004-4E70-4CF0-B83D-F620D5499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1AD-306F-44E2-BD19-13A49E806E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duct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iven a query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a databas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the product of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a graph such tha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nodes are pairs of a node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a node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edges are between nodes such that the pair of nod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the pair of nod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both are connected by edges with the same label i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i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 respectivel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root is the pair of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1C4-CDEA-4623-9A5E-BD960C7EB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91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029200"/>
            <a:ext cx="27432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product of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ery and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base is the nex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0EA-6039-483D-B8C8-F0380522B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410080"/>
            <a:ext cx="304812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re are additional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des that are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achable from the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625-1B2A-48AF-846E-D8F826259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2514600"/>
            <a:ext cx="670572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a subgraph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the product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has no repeated variab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ontains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ach node i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preserves the constraints (edges) of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ditions 1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R-matching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ditions 1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weak-matching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tching as a Subgraph of the Product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EC1-0B18-46A5-B8D2-339FFDBEA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28600" y="609480"/>
            <a:ext cx="7620120" cy="2667240"/>
            <a:chOff x="228600" y="609480"/>
            <a:chExt cx="7620120" cy="2667240"/>
          </a:xfrm>
        </p:grpSpPr>
        <p:sp>
          <p:nvSpPr>
            <p:cNvPr id="225" name=""/>
            <p:cNvSpPr/>
            <p:nvPr/>
          </p:nvSpPr>
          <p:spPr>
            <a:xfrm>
              <a:off x="3886200" y="60948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1447920"/>
              <a:ext cx="609480" cy="304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297180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2971800"/>
              <a:ext cx="60984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400" y="152388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2971800"/>
              <a:ext cx="68580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2971800"/>
              <a:ext cx="60984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160" y="838080"/>
            <a:ext cx="8610840" cy="5257800"/>
            <a:chOff x="533160" y="838080"/>
            <a:chExt cx="8610840" cy="5257800"/>
          </a:xfrm>
        </p:grpSpPr>
        <p:sp>
          <p:nvSpPr>
            <p:cNvPr id="233" name=""/>
            <p:cNvSpPr/>
            <p:nvPr/>
          </p:nvSpPr>
          <p:spPr>
            <a:xfrm flipH="1">
              <a:off x="1523520" y="914400"/>
              <a:ext cx="251460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33160" y="1752480"/>
              <a:ext cx="53316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5280" y="1752480"/>
              <a:ext cx="76212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3400" y="914400"/>
              <a:ext cx="22860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11280" y="83808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790960" y="1828800"/>
              <a:ext cx="99036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1828800"/>
              <a:ext cx="5335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3880" y="1752480"/>
              <a:ext cx="541044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33520" y="5562720"/>
            <a:ext cx="236196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5562720"/>
            <a:ext cx="281916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 is also a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-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055-BAA3-4141-94EE-994921CF6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562720"/>
            <a:ext cx="266688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oth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R-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5638680"/>
            <a:ext cx="563868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 is not a weak-matching graph since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or” edge of the query is not preserv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EE2-24D3-4D01-B889-8BAC87C69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0" y="762120"/>
            <a:ext cx="297180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tching Graph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981080"/>
            <a:ext cx="876312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OR-matching graph represents an OR-match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and each weak-matching graph represent a weak matching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657600"/>
            <a:ext cx="8763120" cy="2209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OR-matching can be represented by man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-match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aphs, but all these graphs have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me set of nodes and only differ by their ed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and the same it true for weak-matchings an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ak-matching graph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762120"/>
            <a:ext cx="18288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114300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gradFill rotWithShape="0">
            <a:gsLst>
              <a:gs pos="0">
                <a:srgbClr val="006666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1c1c1c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2C5-3817-4169-801A-F218F1295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ormal Definitions of 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D22-3D66-4D35-AD03-372EADF5C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tui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DAG queries, matching graphs are constructed by adding edges according to the query constrai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rder of the extensions is simply made by using a topological sort of the query nod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cyclic queries, a simple traversal over the query nor a simple traversal over the database will wor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tead, we use a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tratum travers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ver the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4A2-7AF2-4752-9DF1-D8E7F9EC7C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191120" y="5335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523520" y="53352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3160" y="137160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1676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37160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144792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53352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33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1752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790960" y="144792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144792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533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21932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11280" y="45720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7160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4724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286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11430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11430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2590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2590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590920"/>
            <a:ext cx="6858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2590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6095880"/>
            <a:ext cx="40384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viding the edges to str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280" y="533520"/>
            <a:ext cx="6400800" cy="3886200"/>
            <a:chOff x="152280" y="533520"/>
            <a:chExt cx="6400800" cy="3886200"/>
          </a:xfrm>
        </p:grpSpPr>
        <p:sp>
          <p:nvSpPr>
            <p:cNvPr id="328" name=""/>
            <p:cNvSpPr/>
            <p:nvPr/>
          </p:nvSpPr>
          <p:spPr>
            <a:xfrm flipH="1">
              <a:off x="1600200" y="533520"/>
              <a:ext cx="23623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91120" y="5335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720" y="533520"/>
              <a:ext cx="213336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80" y="4038480"/>
              <a:ext cx="15242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tratum 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2280" y="457200"/>
            <a:ext cx="8991720" cy="5257800"/>
            <a:chOff x="152280" y="457200"/>
            <a:chExt cx="8991720" cy="5257800"/>
          </a:xfrm>
        </p:grpSpPr>
        <p:sp>
          <p:nvSpPr>
            <p:cNvPr id="333" name=""/>
            <p:cNvSpPr/>
            <p:nvPr/>
          </p:nvSpPr>
          <p:spPr>
            <a:xfrm flipH="1">
              <a:off x="533160" y="1371600"/>
              <a:ext cx="53316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95280" y="1371600"/>
              <a:ext cx="76212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1120" y="1447920"/>
              <a:ext cx="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790960" y="1447920"/>
              <a:ext cx="99036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1447920"/>
              <a:ext cx="53352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3880" y="1371600"/>
              <a:ext cx="541044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1280" y="45720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720" y="1219320"/>
              <a:ext cx="4330440" cy="3301920"/>
            </a:xfrm>
            <a:custGeom>
              <a:avLst/>
              <a:gdLst/>
              <a:ahLst/>
              <a:rect l="l" t="t" r="r" b="b"/>
              <a:pathLst>
                <a:path w="2728" h="2080">
                  <a:moveTo>
                    <a:pt x="1816" y="56"/>
                  </a:moveTo>
                  <a:cubicBezTo>
                    <a:pt x="2032" y="28"/>
                    <a:pt x="2248" y="0"/>
                    <a:pt x="2344" y="296"/>
                  </a:cubicBezTo>
                  <a:cubicBezTo>
                    <a:pt x="2440" y="592"/>
                    <a:pt x="2728" y="1584"/>
                    <a:pt x="2392" y="1832"/>
                  </a:cubicBezTo>
                  <a:cubicBezTo>
                    <a:pt x="2056" y="2080"/>
                    <a:pt x="656" y="2008"/>
                    <a:pt x="328" y="1784"/>
                  </a:cubicBezTo>
                  <a:cubicBezTo>
                    <a:pt x="0" y="1560"/>
                    <a:pt x="472" y="776"/>
                    <a:pt x="424" y="488"/>
                  </a:cubicBezTo>
                  <a:cubicBezTo>
                    <a:pt x="376" y="200"/>
                    <a:pt x="208" y="128"/>
                    <a:pt x="40" y="56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2280" y="4572000"/>
              <a:ext cx="15242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Stratum 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52280" y="457200"/>
            <a:ext cx="9067680" cy="5257800"/>
            <a:chOff x="152280" y="457200"/>
            <a:chExt cx="9067680" cy="5257800"/>
          </a:xfrm>
        </p:grpSpPr>
        <p:grpSp>
          <p:nvGrpSpPr>
            <p:cNvPr id="343" name=""/>
            <p:cNvGrpSpPr/>
            <p:nvPr/>
          </p:nvGrpSpPr>
          <p:grpSpPr>
            <a:xfrm>
              <a:off x="609120" y="457200"/>
              <a:ext cx="8610840" cy="5257800"/>
              <a:chOff x="609120" y="457200"/>
              <a:chExt cx="8610840" cy="525780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09120" y="1371600"/>
                <a:ext cx="533160" cy="12193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71240" y="1371600"/>
                <a:ext cx="762120" cy="12193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67080" y="1447920"/>
                <a:ext cx="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866920" y="1447920"/>
                <a:ext cx="99036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240" y="1447920"/>
                <a:ext cx="53352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99840" y="1371600"/>
                <a:ext cx="5410440" cy="4343400"/>
              </a:xfrm>
              <a:custGeom>
                <a:avLst/>
                <a:gdLst/>
                <a:ahLst/>
                <a:rect l="l" t="t" r="r" b="b"/>
                <a:pathLst>
                  <a:path w="3408" h="2736">
                    <a:moveTo>
                      <a:pt x="0" y="0"/>
                    </a:moveTo>
                    <a:cubicBezTo>
                      <a:pt x="288" y="260"/>
                      <a:pt x="576" y="520"/>
                      <a:pt x="720" y="864"/>
                    </a:cubicBezTo>
                    <a:cubicBezTo>
                      <a:pt x="864" y="1208"/>
                      <a:pt x="624" y="1808"/>
                      <a:pt x="864" y="2064"/>
                    </a:cubicBezTo>
                    <a:cubicBezTo>
                      <a:pt x="1104" y="2320"/>
                      <a:pt x="1736" y="2736"/>
                      <a:pt x="2160" y="2400"/>
                    </a:cubicBezTo>
                    <a:cubicBezTo>
                      <a:pt x="2584" y="2064"/>
                      <a:pt x="2996" y="1056"/>
                      <a:pt x="3408" y="48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87240" y="457200"/>
                <a:ext cx="7632720" cy="4648320"/>
              </a:xfrm>
              <a:custGeom>
                <a:avLst/>
                <a:gdLst/>
                <a:ahLst/>
                <a:rect l="l" t="t" r="r" b="b"/>
                <a:pathLst>
                  <a:path w="4808" h="2928">
                    <a:moveTo>
                      <a:pt x="3552" y="408"/>
                    </a:moveTo>
                    <a:cubicBezTo>
                      <a:pt x="3844" y="204"/>
                      <a:pt x="4136" y="0"/>
                      <a:pt x="4272" y="360"/>
                    </a:cubicBezTo>
                    <a:cubicBezTo>
                      <a:pt x="4408" y="720"/>
                      <a:pt x="4808" y="2208"/>
                      <a:pt x="4368" y="2568"/>
                    </a:cubicBezTo>
                    <a:cubicBezTo>
                      <a:pt x="3928" y="2928"/>
                      <a:pt x="2152" y="2720"/>
                      <a:pt x="1632" y="2520"/>
                    </a:cubicBezTo>
                    <a:cubicBezTo>
                      <a:pt x="1112" y="2320"/>
                      <a:pt x="1392" y="1616"/>
                      <a:pt x="1248" y="1368"/>
                    </a:cubicBezTo>
                    <a:cubicBezTo>
                      <a:pt x="1104" y="1120"/>
                      <a:pt x="912" y="1160"/>
                      <a:pt x="768" y="1032"/>
                    </a:cubicBezTo>
                    <a:cubicBezTo>
                      <a:pt x="624" y="904"/>
                      <a:pt x="512" y="696"/>
                      <a:pt x="384" y="600"/>
                    </a:cubicBezTo>
                    <a:cubicBezTo>
                      <a:pt x="256" y="504"/>
                      <a:pt x="128" y="480"/>
                      <a:pt x="0" y="45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5680" y="1219320"/>
                <a:ext cx="4330440" cy="3301920"/>
              </a:xfrm>
              <a:custGeom>
                <a:avLst/>
                <a:gdLst/>
                <a:ahLst/>
                <a:rect l="l" t="t" r="r" b="b"/>
                <a:pathLst>
                  <a:path w="2728" h="2080">
                    <a:moveTo>
                      <a:pt x="1816" y="56"/>
                    </a:moveTo>
                    <a:cubicBezTo>
                      <a:pt x="2032" y="28"/>
                      <a:pt x="2248" y="0"/>
                      <a:pt x="2344" y="296"/>
                    </a:cubicBezTo>
                    <a:cubicBezTo>
                      <a:pt x="2440" y="592"/>
                      <a:pt x="2728" y="1584"/>
                      <a:pt x="2392" y="1832"/>
                    </a:cubicBezTo>
                    <a:cubicBezTo>
                      <a:pt x="2056" y="2080"/>
                      <a:pt x="656" y="2008"/>
                      <a:pt x="328" y="1784"/>
                    </a:cubicBezTo>
                    <a:cubicBezTo>
                      <a:pt x="0" y="1560"/>
                      <a:pt x="472" y="776"/>
                      <a:pt x="424" y="488"/>
                    </a:cubicBezTo>
                    <a:cubicBezTo>
                      <a:pt x="376" y="200"/>
                      <a:pt x="208" y="128"/>
                      <a:pt x="40" y="5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52280" y="5105520"/>
              <a:ext cx="15242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66"/>
                  </a:solidFill>
                  <a:latin typeface="Times New Roman"/>
                </a:rPr>
                <a:t>Stratum 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280" y="5638680"/>
            <a:ext cx="15242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120" y="914400"/>
            <a:ext cx="6629400" cy="685800"/>
            <a:chOff x="762120" y="914400"/>
            <a:chExt cx="6629400" cy="685800"/>
          </a:xfrm>
        </p:grpSpPr>
        <p:sp>
          <p:nvSpPr>
            <p:cNvPr id="355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733920" y="76320"/>
            <a:ext cx="914400" cy="6094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320" y="914400"/>
            <a:ext cx="7924680" cy="2133720"/>
            <a:chOff x="76320" y="914400"/>
            <a:chExt cx="7924680" cy="2133720"/>
          </a:xfrm>
        </p:grpSpPr>
        <p:sp>
          <p:nvSpPr>
            <p:cNvPr id="360" name=""/>
            <p:cNvSpPr/>
            <p:nvPr/>
          </p:nvSpPr>
          <p:spPr>
            <a:xfrm>
              <a:off x="70866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339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3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6320" y="914400"/>
            <a:ext cx="7924680" cy="2133720"/>
            <a:chOff x="76320" y="914400"/>
            <a:chExt cx="7924680" cy="2133720"/>
          </a:xfrm>
        </p:grpSpPr>
        <p:sp>
          <p:nvSpPr>
            <p:cNvPr id="369" name=""/>
            <p:cNvSpPr/>
            <p:nvPr/>
          </p:nvSpPr>
          <p:spPr>
            <a:xfrm>
              <a:off x="70866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1008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02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3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F27-7380-4D72-A7B9-5376B3D99B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tratum Traversa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tratum traversal is an ordered list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arts with the edges on stratum 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llowed by the edges of stratum 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llowed by the edges of stratum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181480"/>
            <a:ext cx="39621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order of the edges in eac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ratum is unimporta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791320"/>
            <a:ext cx="495324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re can be multiple occurrenc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f the same edge in different str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4952880"/>
            <a:ext cx="44197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only look at the first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strata,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is the size of the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5CA-EC94-4F80-9C62-98E3973C93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uting the OR-Matching Graph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set of OR-matching graphs is crea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extend each OR-matching graph in the set by adding edges according to the stratum travers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itially, the set includes a single graph that consists only the root of the product grap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each extension step, we try to add the current edge to the graphs that were produced so far, and this may cau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reation of a new graph that replaces the extended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reation of a new graph that is added to the set of graphs in addition to the existing grap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change to the set of graph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997-8691-4FF1-B361-4627740712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dding an Edg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fter each addition of an edge, subsumed matching-graphs are being removed, to avoid exponential blowu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six cases that should be handl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ases of extending a graph by an edge will be described nex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BA7-A426-4205-8532-D96E6BC5AE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419720" y="2057400"/>
            <a:ext cx="4038480" cy="838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990360" y="609480"/>
            <a:ext cx="6858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685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81080" y="609480"/>
            <a:ext cx="60984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85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7652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1660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1371600"/>
            <a:ext cx="60984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2057400"/>
            <a:ext cx="60984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457200"/>
            <a:ext cx="40384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target of the added edg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s a node with a pair tha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ludes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thou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16002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4724280"/>
            <a:ext cx="4114800" cy="83844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9320" y="1905120"/>
            <a:ext cx="12189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04920" y="3276720"/>
            <a:ext cx="8229600" cy="2057400"/>
            <a:chOff x="304920" y="3276720"/>
            <a:chExt cx="8229600" cy="2057400"/>
          </a:xfrm>
        </p:grpSpPr>
        <p:sp>
          <p:nvSpPr>
            <p:cNvPr id="403" name=""/>
            <p:cNvSpPr/>
            <p:nvPr/>
          </p:nvSpPr>
          <p:spPr>
            <a:xfrm flipH="1">
              <a:off x="990360" y="35812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8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3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880" y="3657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1080" y="35812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0920" y="3657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8800" y="46483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90720" y="4632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4343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23880" y="50292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19720" y="3505320"/>
              <a:ext cx="4114800" cy="1218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already includes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added edg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44956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95280" y="3733920"/>
              <a:ext cx="1526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057400" y="762120"/>
            <a:ext cx="343080" cy="1143000"/>
          </a:xfrm>
          <a:custGeom>
            <a:avLst/>
            <a:gdLst/>
            <a:ahLst/>
            <a:rect l="l" t="t" r="r" b="b"/>
            <a:pathLst>
              <a:path w="216" h="720">
                <a:moveTo>
                  <a:pt x="0" y="0"/>
                </a:moveTo>
                <a:cubicBezTo>
                  <a:pt x="84" y="132"/>
                  <a:pt x="168" y="264"/>
                  <a:pt x="192" y="384"/>
                </a:cubicBezTo>
                <a:cubicBezTo>
                  <a:pt x="216" y="504"/>
                  <a:pt x="180" y="612"/>
                  <a:pt x="144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D84-6BDB-4CA8-B29B-FE16927C06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403440"/>
            <a:ext cx="2793960" cy="1486080"/>
          </a:xfrm>
          <a:custGeom>
            <a:avLst/>
            <a:gdLst/>
            <a:ahLst/>
            <a:rect l="l" t="t" r="r" b="b"/>
            <a:pathLst>
              <a:path w="1760" h="936">
                <a:moveTo>
                  <a:pt x="96" y="256"/>
                </a:moveTo>
                <a:cubicBezTo>
                  <a:pt x="80" y="336"/>
                  <a:pt x="0" y="488"/>
                  <a:pt x="96" y="544"/>
                </a:cubicBezTo>
                <a:cubicBezTo>
                  <a:pt x="192" y="600"/>
                  <a:pt x="560" y="536"/>
                  <a:pt x="672" y="592"/>
                </a:cubicBezTo>
                <a:cubicBezTo>
                  <a:pt x="784" y="648"/>
                  <a:pt x="616" y="832"/>
                  <a:pt x="768" y="880"/>
                </a:cubicBezTo>
                <a:cubicBezTo>
                  <a:pt x="920" y="928"/>
                  <a:pt x="1440" y="936"/>
                  <a:pt x="1584" y="880"/>
                </a:cubicBezTo>
                <a:cubicBezTo>
                  <a:pt x="1728" y="824"/>
                  <a:pt x="1760" y="616"/>
                  <a:pt x="1632" y="544"/>
                </a:cubicBezTo>
                <a:cubicBezTo>
                  <a:pt x="1504" y="472"/>
                  <a:pt x="968" y="528"/>
                  <a:pt x="816" y="448"/>
                </a:cubicBezTo>
                <a:cubicBezTo>
                  <a:pt x="664" y="368"/>
                  <a:pt x="824" y="128"/>
                  <a:pt x="720" y="64"/>
                </a:cubicBezTo>
                <a:cubicBezTo>
                  <a:pt x="616" y="0"/>
                  <a:pt x="296" y="32"/>
                  <a:pt x="192" y="64"/>
                </a:cubicBezTo>
                <a:cubicBezTo>
                  <a:pt x="88" y="96"/>
                  <a:pt x="112" y="176"/>
                  <a:pt x="96" y="25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1600200"/>
            <a:ext cx="4114800" cy="838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80880" y="228600"/>
            <a:ext cx="8534520" cy="2133720"/>
            <a:chOff x="380880" y="228600"/>
            <a:chExt cx="8534520" cy="2133720"/>
          </a:xfrm>
        </p:grpSpPr>
        <p:sp>
          <p:nvSpPr>
            <p:cNvPr id="421" name=""/>
            <p:cNvSpPr/>
            <p:nvPr/>
          </p:nvSpPr>
          <p:spPr>
            <a:xfrm flipH="1">
              <a:off x="990360" y="6094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304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23880" y="304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0880" y="6858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1080" y="6094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304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0920" y="6858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800" y="16765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660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23880" y="13716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23880" y="2057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19720" y="533520"/>
              <a:ext cx="411480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does not include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source of the added edg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10480" y="228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3200400"/>
            <a:ext cx="8534520" cy="2133720"/>
            <a:chOff x="380880" y="3200400"/>
            <a:chExt cx="8534520" cy="2133720"/>
          </a:xfrm>
        </p:grpSpPr>
        <p:sp>
          <p:nvSpPr>
            <p:cNvPr id="435" name=""/>
            <p:cNvSpPr/>
            <p:nvPr/>
          </p:nvSpPr>
          <p:spPr>
            <a:xfrm flipH="1">
              <a:off x="990360" y="35812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08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23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880" y="3657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1080" y="35812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3372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0920" y="3657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800" y="46483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632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3880" y="4343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23880" y="50292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3505320"/>
              <a:ext cx="4114800" cy="1218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includes the sourc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of the added edge and no nod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with the variable of the targe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10480" y="3200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19320" y="1219320"/>
            <a:ext cx="12189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2590920"/>
            <a:ext cx="8534520" cy="3352680"/>
            <a:chOff x="0" y="2590920"/>
            <a:chExt cx="8534520" cy="3352680"/>
          </a:xfrm>
        </p:grpSpPr>
        <p:grpSp>
          <p:nvGrpSpPr>
            <p:cNvPr id="450" name=""/>
            <p:cNvGrpSpPr/>
            <p:nvPr/>
          </p:nvGrpSpPr>
          <p:grpSpPr>
            <a:xfrm>
              <a:off x="0" y="2590920"/>
              <a:ext cx="3352680" cy="2514600"/>
              <a:chOff x="0" y="2590920"/>
              <a:chExt cx="3352680" cy="25146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590920"/>
                <a:ext cx="3352680" cy="2514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990000" y="3581280"/>
                <a:ext cx="68580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0880" y="3276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23880" y="3276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0880" y="36576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981080" y="3581280"/>
                <a:ext cx="60948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33360" y="3276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90560" y="365760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800" y="396252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52280" y="3962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0880" y="43434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4419720" y="4724280"/>
              <a:ext cx="4114800" cy="12193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The edge is added to the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nd the new graph replaces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existing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4952880"/>
              <a:ext cx="327636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F6F-5607-46AA-A962-2C86B5FC85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>
            <a:off x="1142640" y="1143000"/>
            <a:ext cx="6858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8380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12193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1143000"/>
            <a:ext cx="60948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12193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990720"/>
            <a:ext cx="40384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graph already includes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ource and the target of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dded edge but does not includ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added edge itsel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38088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52388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152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20574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43000" y="1599840"/>
            <a:ext cx="1523880" cy="1448280"/>
            <a:chOff x="1143000" y="1599840"/>
            <a:chExt cx="1523880" cy="1448280"/>
          </a:xfrm>
        </p:grpSpPr>
        <p:sp>
          <p:nvSpPr>
            <p:cNvPr id="477" name=""/>
            <p:cNvSpPr/>
            <p:nvPr/>
          </p:nvSpPr>
          <p:spPr>
            <a:xfrm>
              <a:off x="1981080" y="221004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95280" y="2194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.k.a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76160" y="190512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76160" y="259092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71600" y="2438640"/>
              <a:ext cx="121896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218600" y="2438280"/>
              <a:ext cx="22860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560" y="1752840"/>
              <a:ext cx="12193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1143000" y="1599840"/>
              <a:ext cx="38088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066680" y="1523880"/>
            <a:ext cx="7543800" cy="2361960"/>
            <a:chOff x="1066680" y="1523880"/>
            <a:chExt cx="7543800" cy="2361960"/>
          </a:xfrm>
        </p:grpSpPr>
        <p:sp>
          <p:nvSpPr>
            <p:cNvPr id="486" name=""/>
            <p:cNvSpPr/>
            <p:nvPr/>
          </p:nvSpPr>
          <p:spPr>
            <a:xfrm>
              <a:off x="4572000" y="2590560"/>
              <a:ext cx="4038480" cy="12952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The edge is added to the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nd the new graph replaces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existing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066680" y="1523880"/>
              <a:ext cx="685800" cy="533160"/>
              <a:chOff x="1066680" y="1523880"/>
              <a:chExt cx="685800" cy="533160"/>
            </a:xfrm>
          </p:grpSpPr>
          <p:sp>
            <p:nvSpPr>
              <p:cNvPr id="488" name=""/>
              <p:cNvSpPr/>
              <p:nvPr/>
            </p:nvSpPr>
            <p:spPr>
              <a:xfrm>
                <a:off x="1066680" y="159984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.k.a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066680" y="1523880"/>
                <a:ext cx="76320" cy="533160"/>
              </a:xfrm>
              <a:custGeom>
                <a:avLst/>
                <a:gdLst/>
                <a:ahLst/>
                <a:rect l="l" t="t" r="r" b="b"/>
                <a:pathLst>
                  <a:path w="96" h="288">
                    <a:moveTo>
                      <a:pt x="0" y="0"/>
                    </a:moveTo>
                    <a:cubicBezTo>
                      <a:pt x="48" y="48"/>
                      <a:pt x="96" y="96"/>
                      <a:pt x="96" y="144"/>
                    </a:cubicBezTo>
                    <a:cubicBezTo>
                      <a:pt x="96" y="192"/>
                      <a:pt x="48" y="240"/>
                      <a:pt x="0" y="288"/>
                    </a:cubicBezTo>
                  </a:path>
                </a:pathLst>
              </a:custGeom>
              <a:noFill/>
              <a:ln w="9360">
                <a:solidFill>
                  <a:srgbClr val="00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818-9028-47CD-A604-51B677E71B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 flipH="1">
            <a:off x="1218960" y="990720"/>
            <a:ext cx="6858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685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990720"/>
            <a:ext cx="60984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623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205740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17524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57400" y="24382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914400"/>
            <a:ext cx="4038480" cy="1905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graph includes the sour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f the added edge but also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ludes a node with the sam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 as the variable in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rget of the added edg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304920"/>
            <a:ext cx="30492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1371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1447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9051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743200" y="1447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80880" y="1447560"/>
            <a:ext cx="1752840" cy="2438640"/>
            <a:chOff x="380880" y="1447560"/>
            <a:chExt cx="1752840" cy="2438640"/>
          </a:xfrm>
        </p:grpSpPr>
        <p:sp>
          <p:nvSpPr>
            <p:cNvPr id="508" name=""/>
            <p:cNvSpPr/>
            <p:nvPr/>
          </p:nvSpPr>
          <p:spPr>
            <a:xfrm flipH="1" flipV="1">
              <a:off x="1143000" y="1447560"/>
              <a:ext cx="380880" cy="1447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76520" y="2590920"/>
              <a:ext cx="3045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880" y="2895480"/>
              <a:ext cx="1752840" cy="99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Different nod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with the s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variable 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33520" y="2819520"/>
            <a:ext cx="8153280" cy="3352680"/>
            <a:chOff x="533520" y="2819520"/>
            <a:chExt cx="8153280" cy="3352680"/>
          </a:xfrm>
        </p:grpSpPr>
        <p:sp>
          <p:nvSpPr>
            <p:cNvPr id="512" name=""/>
            <p:cNvSpPr/>
            <p:nvPr/>
          </p:nvSpPr>
          <p:spPr>
            <a:xfrm>
              <a:off x="4648320" y="2819520"/>
              <a:ext cx="4038480" cy="1143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 new graph is created and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being added to the existing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graph, without replacing i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33520" y="4648320"/>
              <a:ext cx="6400800" cy="1523880"/>
              <a:chOff x="533520" y="4648320"/>
              <a:chExt cx="6400800" cy="152388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1371240" y="4952880"/>
                <a:ext cx="68580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2120" y="4648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905120" y="46483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2120" y="50292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2320" y="4952880"/>
                <a:ext cx="60948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514600" y="4648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71800" y="50292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5334120"/>
                <a:ext cx="0" cy="5331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3520" y="54100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2120" y="58672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38480" y="47084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470844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508968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638680" y="5013360"/>
                <a:ext cx="609840" cy="152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91320" y="47084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48520" y="508968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81480" y="53182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film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4647960" y="5318280"/>
                <a:ext cx="1600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3657600" y="5486400"/>
            <a:ext cx="5105520" cy="1143000"/>
            <a:chOff x="3657600" y="5486400"/>
            <a:chExt cx="5105520" cy="1143000"/>
          </a:xfrm>
        </p:grpSpPr>
        <p:sp>
          <p:nvSpPr>
            <p:cNvPr id="533" name=""/>
            <p:cNvSpPr/>
            <p:nvPr/>
          </p:nvSpPr>
          <p:spPr>
            <a:xfrm>
              <a:off x="3657600" y="5867280"/>
              <a:ext cx="510552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(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O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) is replaced by (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O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), and nodes that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re not reachable from the root are being erased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4343400" y="5486400"/>
              <a:ext cx="76320" cy="380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2B4-5DF3-4040-B622-04E8F9A49D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33520" y="304920"/>
            <a:ext cx="6172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pplying the algorithm to the movies exampl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0880" y="1447920"/>
            <a:ext cx="1447920" cy="304560"/>
            <a:chOff x="380880" y="1447920"/>
            <a:chExt cx="1447920" cy="304560"/>
          </a:xfrm>
        </p:grpSpPr>
        <p:sp>
          <p:nvSpPr>
            <p:cNvPr id="537" name=""/>
            <p:cNvSpPr/>
            <p:nvPr/>
          </p:nvSpPr>
          <p:spPr>
            <a:xfrm>
              <a:off x="1218960" y="1447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14479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80880" y="2286000"/>
            <a:ext cx="1447920" cy="1676520"/>
            <a:chOff x="380880" y="2286000"/>
            <a:chExt cx="1447920" cy="1676520"/>
          </a:xfrm>
        </p:grpSpPr>
        <p:sp>
          <p:nvSpPr>
            <p:cNvPr id="540" name=""/>
            <p:cNvSpPr/>
            <p:nvPr/>
          </p:nvSpPr>
          <p:spPr>
            <a:xfrm>
              <a:off x="1219320" y="22860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880" y="22860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80" y="326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1219320" y="2971800"/>
              <a:ext cx="609480" cy="990720"/>
              <a:chOff x="1219320" y="2971800"/>
              <a:chExt cx="609480" cy="990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524240" y="3276720"/>
                <a:ext cx="0" cy="380880"/>
              </a:xfrm>
              <a:prstGeom prst="line">
                <a:avLst/>
              </a:prstGeom>
              <a:ln w="93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19320" y="3657600"/>
                <a:ext cx="60948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219320" y="2971800"/>
                <a:ext cx="60948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514600" y="2378160"/>
            <a:ext cx="2590560" cy="990000"/>
            <a:chOff x="2514600" y="2378160"/>
            <a:chExt cx="2590560" cy="990000"/>
          </a:xfrm>
        </p:grpSpPr>
        <p:sp>
          <p:nvSpPr>
            <p:cNvPr id="548" name=""/>
            <p:cNvSpPr/>
            <p:nvPr/>
          </p:nvSpPr>
          <p:spPr>
            <a:xfrm>
              <a:off x="2514600" y="2666880"/>
              <a:ext cx="762120" cy="381240"/>
            </a:xfrm>
            <a:prstGeom prst="rightArrow">
              <a:avLst>
                <a:gd name="adj1" fmla="val 50000"/>
                <a:gd name="adj2" fmla="val 49976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6200" y="2666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495680" y="2378160"/>
              <a:ext cx="609480" cy="990000"/>
              <a:chOff x="4495680" y="2378160"/>
              <a:chExt cx="609480" cy="990000"/>
            </a:xfrm>
          </p:grpSpPr>
          <p:sp>
            <p:nvSpPr>
              <p:cNvPr id="551" name=""/>
              <p:cNvSpPr/>
              <p:nvPr/>
            </p:nvSpPr>
            <p:spPr>
              <a:xfrm>
                <a:off x="4800600" y="2682720"/>
                <a:ext cx="0" cy="3805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95680" y="306360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95680" y="237816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533520" y="6095880"/>
            <a:ext cx="12952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80880" y="4191120"/>
            <a:ext cx="1447920" cy="2133360"/>
            <a:chOff x="380880" y="4191120"/>
            <a:chExt cx="1447920" cy="2133360"/>
          </a:xfrm>
        </p:grpSpPr>
        <p:sp>
          <p:nvSpPr>
            <p:cNvPr id="556" name=""/>
            <p:cNvSpPr/>
            <p:nvPr/>
          </p:nvSpPr>
          <p:spPr>
            <a:xfrm>
              <a:off x="380880" y="41911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52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219320" y="4267080"/>
              <a:ext cx="609480" cy="990720"/>
              <a:chOff x="1219320" y="4267080"/>
              <a:chExt cx="609480" cy="990720"/>
            </a:xfrm>
          </p:grpSpPr>
          <p:sp>
            <p:nvSpPr>
              <p:cNvPr id="559" name=""/>
              <p:cNvSpPr/>
              <p:nvPr/>
            </p:nvSpPr>
            <p:spPr>
              <a:xfrm>
                <a:off x="1524240" y="45720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1932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19320" y="42670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523880" y="5715000"/>
              <a:ext cx="0" cy="3049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54100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6019920"/>
              <a:ext cx="60948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3520" y="5638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514600" y="4282920"/>
            <a:ext cx="4114800" cy="990720"/>
            <a:chOff x="2514600" y="4282920"/>
            <a:chExt cx="4114800" cy="990720"/>
          </a:xfrm>
        </p:grpSpPr>
        <p:sp>
          <p:nvSpPr>
            <p:cNvPr id="567" name=""/>
            <p:cNvSpPr/>
            <p:nvPr/>
          </p:nvSpPr>
          <p:spPr>
            <a:xfrm>
              <a:off x="2514600" y="4572000"/>
              <a:ext cx="762120" cy="380880"/>
            </a:xfrm>
            <a:prstGeom prst="rightArrow">
              <a:avLst>
                <a:gd name="adj1" fmla="val 50000"/>
                <a:gd name="adj2" fmla="val 50024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862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495680" y="4282920"/>
              <a:ext cx="609480" cy="990720"/>
              <a:chOff x="4495680" y="4282920"/>
              <a:chExt cx="609480" cy="990720"/>
            </a:xfrm>
          </p:grpSpPr>
          <p:sp>
            <p:nvSpPr>
              <p:cNvPr id="570" name=""/>
              <p:cNvSpPr/>
              <p:nvPr/>
            </p:nvSpPr>
            <p:spPr>
              <a:xfrm>
                <a:off x="4800600" y="45878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95680" y="4968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95680" y="4282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324480" y="46483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19920" y="4343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199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412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990720" y="2209680"/>
            <a:ext cx="1066680" cy="1143000"/>
            <a:chOff x="990720" y="2209680"/>
            <a:chExt cx="1066680" cy="1143000"/>
          </a:xfrm>
        </p:grpSpPr>
        <p:sp>
          <p:nvSpPr>
            <p:cNvPr id="578" name=""/>
            <p:cNvSpPr/>
            <p:nvPr/>
          </p:nvSpPr>
          <p:spPr>
            <a:xfrm>
              <a:off x="990720" y="22096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90720" y="28954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3880" y="266688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90720" y="4191120"/>
            <a:ext cx="1066680" cy="1600200"/>
            <a:chOff x="990720" y="4191120"/>
            <a:chExt cx="1066680" cy="1600200"/>
          </a:xfrm>
        </p:grpSpPr>
        <p:sp>
          <p:nvSpPr>
            <p:cNvPr id="582" name=""/>
            <p:cNvSpPr/>
            <p:nvPr/>
          </p:nvSpPr>
          <p:spPr>
            <a:xfrm>
              <a:off x="990720" y="4191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90720" y="5334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45720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520" y="5105520"/>
            <a:ext cx="609480" cy="1066680"/>
            <a:chOff x="533520" y="5105520"/>
            <a:chExt cx="609480" cy="1066680"/>
          </a:xfrm>
        </p:grpSpPr>
        <p:sp>
          <p:nvSpPr>
            <p:cNvPr id="586" name=""/>
            <p:cNvSpPr/>
            <p:nvPr/>
          </p:nvSpPr>
          <p:spPr>
            <a:xfrm>
              <a:off x="533520" y="5105520"/>
              <a:ext cx="0" cy="10666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520" y="5105520"/>
              <a:ext cx="60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3520" y="6172200"/>
              <a:ext cx="60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94C-8174-47B9-9820-2EEE2AECC1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eliminary Nota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ive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set of relation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ith scheme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respective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denote with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th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we denote b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e projection of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o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Next, we give some preliminary defini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6D9-1A88-4F63-87C7-4C18394E4A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1066680" y="152280"/>
            <a:ext cx="1066680" cy="1752840"/>
            <a:chOff x="1066680" y="152280"/>
            <a:chExt cx="1066680" cy="1752840"/>
          </a:xfrm>
        </p:grpSpPr>
        <p:sp>
          <p:nvSpPr>
            <p:cNvPr id="590" name=""/>
            <p:cNvSpPr/>
            <p:nvPr/>
          </p:nvSpPr>
          <p:spPr>
            <a:xfrm>
              <a:off x="1066680" y="1522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6680" y="14479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81080" y="533520"/>
              <a:ext cx="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320" y="244440"/>
            <a:ext cx="3352320" cy="2270160"/>
            <a:chOff x="76320" y="244440"/>
            <a:chExt cx="3352320" cy="2270160"/>
          </a:xfrm>
        </p:grpSpPr>
        <p:sp>
          <p:nvSpPr>
            <p:cNvPr id="594" name=""/>
            <p:cNvSpPr/>
            <p:nvPr/>
          </p:nvSpPr>
          <p:spPr>
            <a:xfrm>
              <a:off x="76320" y="304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5335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1295280" y="244440"/>
              <a:ext cx="609120" cy="990720"/>
              <a:chOff x="1295280" y="244440"/>
              <a:chExt cx="609120" cy="990720"/>
            </a:xfrm>
          </p:grpSpPr>
          <p:sp>
            <p:nvSpPr>
              <p:cNvPr id="597" name=""/>
              <p:cNvSpPr/>
              <p:nvPr/>
            </p:nvSpPr>
            <p:spPr>
              <a:xfrm>
                <a:off x="1599840" y="5493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9302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295280" y="2444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3124080" y="60948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19160" y="304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19160" y="914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360" y="5335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0200" y="18288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8080" y="182880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280" y="152388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5280" y="220968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066680" y="228600"/>
            <a:ext cx="2590920" cy="1676520"/>
            <a:chOff x="1066680" y="228600"/>
            <a:chExt cx="2590920" cy="1676520"/>
          </a:xfrm>
        </p:grpSpPr>
        <p:sp>
          <p:nvSpPr>
            <p:cNvPr id="609" name=""/>
            <p:cNvSpPr/>
            <p:nvPr/>
          </p:nvSpPr>
          <p:spPr>
            <a:xfrm>
              <a:off x="2590560" y="22860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057040" y="609480"/>
              <a:ext cx="609480" cy="990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14479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191120" y="380880"/>
            <a:ext cx="4647960" cy="1006560"/>
            <a:chOff x="4191120" y="380880"/>
            <a:chExt cx="4647960" cy="1006560"/>
          </a:xfrm>
        </p:grpSpPr>
        <p:sp>
          <p:nvSpPr>
            <p:cNvPr id="613" name=""/>
            <p:cNvSpPr/>
            <p:nvPr/>
          </p:nvSpPr>
          <p:spPr>
            <a:xfrm>
              <a:off x="8001000" y="6858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6858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24480" y="1066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91120" y="68580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5288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5562720" y="396720"/>
              <a:ext cx="609480" cy="990720"/>
              <a:chOff x="5562720" y="396720"/>
              <a:chExt cx="609480" cy="990720"/>
            </a:xfrm>
          </p:grpSpPr>
          <p:sp>
            <p:nvSpPr>
              <p:cNvPr id="619" name=""/>
              <p:cNvSpPr/>
              <p:nvPr/>
            </p:nvSpPr>
            <p:spPr>
              <a:xfrm>
                <a:off x="5867640" y="701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2720" y="1082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62720" y="396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7772400" y="6858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7480" y="380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67480" y="990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81680" y="609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2200" y="60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53280" y="990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01000" y="533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320" y="2743200"/>
            <a:ext cx="4495320" cy="2270160"/>
            <a:chOff x="76320" y="2743200"/>
            <a:chExt cx="4495320" cy="2270160"/>
          </a:xfrm>
        </p:grpSpPr>
        <p:sp>
          <p:nvSpPr>
            <p:cNvPr id="630" name=""/>
            <p:cNvSpPr/>
            <p:nvPr/>
          </p:nvSpPr>
          <p:spPr>
            <a:xfrm>
              <a:off x="76320" y="280368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00200" y="432756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8080" y="432756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5280" y="402264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95280" y="470844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33560" y="3048120"/>
              <a:ext cx="22824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048120"/>
              <a:ext cx="30420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342900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5800" y="30481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295280" y="2759040"/>
              <a:ext cx="609120" cy="990720"/>
              <a:chOff x="1295280" y="2759040"/>
              <a:chExt cx="609120" cy="990720"/>
            </a:xfrm>
          </p:grpSpPr>
          <p:sp>
            <p:nvSpPr>
              <p:cNvPr id="640" name=""/>
              <p:cNvSpPr/>
              <p:nvPr/>
            </p:nvSpPr>
            <p:spPr>
              <a:xfrm>
                <a:off x="1599840" y="30639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95280" y="34448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95280" y="27590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3504960" y="30481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0400" y="274320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00400" y="335268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4600" y="297180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0476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86200" y="335268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56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066680" y="3352680"/>
            <a:ext cx="1066680" cy="1067040"/>
            <a:chOff x="1066680" y="3352680"/>
            <a:chExt cx="1066680" cy="1067040"/>
          </a:xfrm>
        </p:grpSpPr>
        <p:sp>
          <p:nvSpPr>
            <p:cNvPr id="651" name=""/>
            <p:cNvSpPr/>
            <p:nvPr/>
          </p:nvSpPr>
          <p:spPr>
            <a:xfrm>
              <a:off x="1066680" y="33526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66680" y="39625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3809880"/>
              <a:ext cx="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648320" y="2666880"/>
            <a:ext cx="4419360" cy="1676520"/>
            <a:chOff x="4648320" y="2666880"/>
            <a:chExt cx="4419360" cy="1676520"/>
          </a:xfrm>
        </p:grpSpPr>
        <p:sp>
          <p:nvSpPr>
            <p:cNvPr id="655" name=""/>
            <p:cNvSpPr/>
            <p:nvPr/>
          </p:nvSpPr>
          <p:spPr>
            <a:xfrm>
              <a:off x="6095880" y="3657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10080" y="3657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91320" y="4038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29600" y="29718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24480" y="29718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53080" y="3352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8148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5791320" y="2682720"/>
              <a:ext cx="609480" cy="990720"/>
              <a:chOff x="5791320" y="2682720"/>
              <a:chExt cx="609480" cy="990720"/>
            </a:xfrm>
          </p:grpSpPr>
          <p:sp>
            <p:nvSpPr>
              <p:cNvPr id="663" name=""/>
              <p:cNvSpPr/>
              <p:nvPr/>
            </p:nvSpPr>
            <p:spPr>
              <a:xfrm>
                <a:off x="6096240" y="2987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91320" y="3368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91320" y="2682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8001000" y="29718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6080" y="2666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60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10280" y="2895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080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81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296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48320" y="312408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4F0-F952-4B29-A992-E9874EF38D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76320" y="228600"/>
            <a:ext cx="4038480" cy="2971800"/>
            <a:chOff x="76320" y="228600"/>
            <a:chExt cx="4038480" cy="2971800"/>
          </a:xfrm>
        </p:grpSpPr>
        <p:sp>
          <p:nvSpPr>
            <p:cNvPr id="675" name=""/>
            <p:cNvSpPr/>
            <p:nvPr/>
          </p:nvSpPr>
          <p:spPr>
            <a:xfrm>
              <a:off x="76320" y="44136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6680" y="25146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280" y="2438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22096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28954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43000" y="12193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" y="12193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8080" y="16002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76720" y="5335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71600" y="5335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00200" y="914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8600" y="5335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838080" y="244440"/>
              <a:ext cx="609480" cy="990720"/>
              <a:chOff x="838080" y="244440"/>
              <a:chExt cx="609480" cy="990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143000" y="5493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38080" y="93024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8080" y="24444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3048120" y="5335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43200" y="228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4320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57400" y="457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57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76720" y="380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419720" y="152280"/>
            <a:ext cx="4419360" cy="1676520"/>
            <a:chOff x="4419720" y="152280"/>
            <a:chExt cx="4419360" cy="1676520"/>
          </a:xfrm>
        </p:grpSpPr>
        <p:sp>
          <p:nvSpPr>
            <p:cNvPr id="699" name=""/>
            <p:cNvSpPr/>
            <p:nvPr/>
          </p:nvSpPr>
          <p:spPr>
            <a:xfrm>
              <a:off x="6019920" y="11430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9720" y="762120"/>
              <a:ext cx="533160" cy="380880"/>
            </a:xfrm>
            <a:prstGeom prst="rightArrow">
              <a:avLst>
                <a:gd name="adj1" fmla="val 50000"/>
                <a:gd name="adj2" fmla="val 34995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67280" y="1143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8520" y="1523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91320" y="11430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05520" y="1143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86400" y="1523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24680" y="4572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19920" y="4572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4852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457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5486400" y="168120"/>
              <a:ext cx="609480" cy="990720"/>
              <a:chOff x="5486400" y="168120"/>
              <a:chExt cx="609480" cy="990720"/>
            </a:xfrm>
          </p:grpSpPr>
          <p:sp>
            <p:nvSpPr>
              <p:cNvPr id="711" name=""/>
              <p:cNvSpPr/>
              <p:nvPr/>
            </p:nvSpPr>
            <p:spPr>
              <a:xfrm>
                <a:off x="5791320" y="4730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86400" y="853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86400" y="1681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7696080" y="4572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91520" y="1522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91520" y="762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8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95880" y="3808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53280" y="762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001000" y="304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33520" y="838080"/>
            <a:ext cx="1143000" cy="1752840"/>
            <a:chOff x="533520" y="838080"/>
            <a:chExt cx="1143000" cy="1752840"/>
          </a:xfrm>
        </p:grpSpPr>
        <p:sp>
          <p:nvSpPr>
            <p:cNvPr id="722" name=""/>
            <p:cNvSpPr/>
            <p:nvPr/>
          </p:nvSpPr>
          <p:spPr>
            <a:xfrm>
              <a:off x="533520" y="2133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9480" y="1143000"/>
              <a:ext cx="0" cy="106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80" y="83808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6320" y="3429000"/>
            <a:ext cx="4038480" cy="2590920"/>
            <a:chOff x="76320" y="3429000"/>
            <a:chExt cx="4038480" cy="2590920"/>
          </a:xfrm>
        </p:grpSpPr>
        <p:sp>
          <p:nvSpPr>
            <p:cNvPr id="726" name=""/>
            <p:cNvSpPr/>
            <p:nvPr/>
          </p:nvSpPr>
          <p:spPr>
            <a:xfrm>
              <a:off x="76320" y="34290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95280" y="45720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430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23880" y="4952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66680" y="45720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880" y="45720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21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00400" y="38862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5280" y="38862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23880" y="42670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2280" y="3886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762120" y="3597120"/>
              <a:ext cx="609480" cy="990720"/>
              <a:chOff x="762120" y="3597120"/>
              <a:chExt cx="609480" cy="990720"/>
            </a:xfrm>
          </p:grpSpPr>
          <p:sp>
            <p:nvSpPr>
              <p:cNvPr id="738" name=""/>
              <p:cNvSpPr/>
              <p:nvPr/>
            </p:nvSpPr>
            <p:spPr>
              <a:xfrm>
                <a:off x="1067040" y="39020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120" y="4282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120" y="35971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2971800" y="38862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35812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66880" y="4191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8108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71600" y="3809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29000" y="4191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7672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19520" y="53341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53341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14600" y="571500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14600" y="502920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286000" y="4114800"/>
            <a:ext cx="1219320" cy="1295280"/>
            <a:chOff x="2286000" y="4114800"/>
            <a:chExt cx="1219320" cy="1295280"/>
          </a:xfrm>
        </p:grpSpPr>
        <p:sp>
          <p:nvSpPr>
            <p:cNvPr id="753" name=""/>
            <p:cNvSpPr/>
            <p:nvPr/>
          </p:nvSpPr>
          <p:spPr>
            <a:xfrm>
              <a:off x="2286000" y="49528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819160" y="457200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38280" y="411480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343400" y="3505320"/>
            <a:ext cx="4343400" cy="1676160"/>
            <a:chOff x="4343400" y="3505320"/>
            <a:chExt cx="4343400" cy="1676160"/>
          </a:xfrm>
        </p:grpSpPr>
        <p:sp>
          <p:nvSpPr>
            <p:cNvPr id="757" name=""/>
            <p:cNvSpPr/>
            <p:nvPr/>
          </p:nvSpPr>
          <p:spPr>
            <a:xfrm>
              <a:off x="4343400" y="4038480"/>
              <a:ext cx="533520" cy="381240"/>
            </a:xfrm>
            <a:prstGeom prst="rightArrow">
              <a:avLst>
                <a:gd name="adj1" fmla="val 50000"/>
                <a:gd name="adj2" fmla="val 34986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67280" y="44956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500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95880" y="4876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38680" y="4495680"/>
              <a:ext cx="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2880" y="44956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341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72400" y="38098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67280" y="38098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5880" y="4191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2428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5334120" y="3521160"/>
              <a:ext cx="609480" cy="990000"/>
              <a:chOff x="5334120" y="3521160"/>
              <a:chExt cx="609480" cy="990000"/>
            </a:xfrm>
          </p:grpSpPr>
          <p:sp>
            <p:nvSpPr>
              <p:cNvPr id="769" name=""/>
              <p:cNvSpPr/>
              <p:nvPr/>
            </p:nvSpPr>
            <p:spPr>
              <a:xfrm>
                <a:off x="5639040" y="3825720"/>
                <a:ext cx="0" cy="3805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34120" y="420660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34120" y="352116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7543800" y="380988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8880" y="35053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238880" y="41148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53080" y="3733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360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01000" y="41148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48720" y="3657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3800" y="44197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8000" y="441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38880" y="4800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638-73F1-4895-B0B0-DD8E563051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1337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810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051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1932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002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6858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600200" y="396720"/>
            <a:ext cx="609480" cy="990720"/>
            <a:chOff x="1600200" y="396720"/>
            <a:chExt cx="609480" cy="990720"/>
          </a:xfrm>
        </p:grpSpPr>
        <p:sp>
          <p:nvSpPr>
            <p:cNvPr id="793" name=""/>
            <p:cNvSpPr/>
            <p:nvPr/>
          </p:nvSpPr>
          <p:spPr>
            <a:xfrm>
              <a:off x="1905120" y="70164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00200" y="10825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00200" y="3967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609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3200400" y="2438280"/>
            <a:ext cx="1219320" cy="990720"/>
            <a:chOff x="3200400" y="2438280"/>
            <a:chExt cx="1219320" cy="990720"/>
          </a:xfrm>
        </p:grpSpPr>
        <p:sp>
          <p:nvSpPr>
            <p:cNvPr id="808" name=""/>
            <p:cNvSpPr/>
            <p:nvPr/>
          </p:nvSpPr>
          <p:spPr>
            <a:xfrm>
              <a:off x="3200400" y="27432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884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95480" y="1295280"/>
            <a:ext cx="3657600" cy="762120"/>
            <a:chOff x="2895480" y="1295280"/>
            <a:chExt cx="3657600" cy="762120"/>
          </a:xfrm>
        </p:grpSpPr>
        <p:sp>
          <p:nvSpPr>
            <p:cNvPr id="813" name=""/>
            <p:cNvSpPr/>
            <p:nvPr/>
          </p:nvSpPr>
          <p:spPr>
            <a:xfrm>
              <a:off x="2971800" y="1295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95480" y="13716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150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3868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52280" y="228600"/>
            <a:ext cx="4419720" cy="3809880"/>
            <a:chOff x="152280" y="228600"/>
            <a:chExt cx="4419720" cy="3809880"/>
          </a:xfrm>
        </p:grpSpPr>
        <p:grpSp>
          <p:nvGrpSpPr>
            <p:cNvPr id="820" name=""/>
            <p:cNvGrpSpPr/>
            <p:nvPr/>
          </p:nvGrpSpPr>
          <p:grpSpPr>
            <a:xfrm>
              <a:off x="2666880" y="2286000"/>
              <a:ext cx="1905120" cy="1752480"/>
              <a:chOff x="2666880" y="2286000"/>
              <a:chExt cx="1905120" cy="1752480"/>
            </a:xfrm>
          </p:grpSpPr>
          <p:sp>
            <p:nvSpPr>
              <p:cNvPr id="821" name=""/>
              <p:cNvSpPr/>
              <p:nvPr/>
            </p:nvSpPr>
            <p:spPr>
              <a:xfrm>
                <a:off x="2666880" y="2286000"/>
                <a:ext cx="1905120" cy="1752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62160" y="2743200"/>
                <a:ext cx="0" cy="380880"/>
              </a:xfrm>
              <a:prstGeom prst="line">
                <a:avLst/>
              </a:prstGeom>
              <a:ln w="93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733560" y="2438280"/>
                <a:ext cx="60984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57600" y="3124080"/>
                <a:ext cx="68580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819160" y="259092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66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152280" y="2286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743200" y="457200"/>
            <a:ext cx="4267080" cy="914400"/>
            <a:chOff x="2743200" y="457200"/>
            <a:chExt cx="4267080" cy="914400"/>
          </a:xfrm>
        </p:grpSpPr>
        <p:sp>
          <p:nvSpPr>
            <p:cNvPr id="828" name=""/>
            <p:cNvSpPr/>
            <p:nvPr/>
          </p:nvSpPr>
          <p:spPr>
            <a:xfrm>
              <a:off x="274320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7180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2900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3868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6728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2448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835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95480" y="1447920"/>
              <a:ext cx="91440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839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19360" y="1447920"/>
              <a:ext cx="99036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843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419360" y="1447920"/>
              <a:ext cx="99036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847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95480" y="1447920"/>
              <a:ext cx="91440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694-EF8E-407A-842B-63CFF4D15F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1337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6232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051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21932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133720" y="6858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07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600200" y="396720"/>
            <a:ext cx="609480" cy="990720"/>
            <a:chOff x="1600200" y="396720"/>
            <a:chExt cx="609480" cy="990720"/>
          </a:xfrm>
        </p:grpSpPr>
        <p:sp>
          <p:nvSpPr>
            <p:cNvPr id="861" name=""/>
            <p:cNvSpPr/>
            <p:nvPr/>
          </p:nvSpPr>
          <p:spPr>
            <a:xfrm>
              <a:off x="1905120" y="70164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00200" y="10825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00200" y="3967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09680" y="609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8120" y="27432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038480" y="274320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33920" y="24382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33920" y="3124080"/>
            <a:ext cx="68580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895480" y="1295280"/>
            <a:ext cx="3657600" cy="762120"/>
            <a:chOff x="2895480" y="1295280"/>
            <a:chExt cx="3657600" cy="762120"/>
          </a:xfrm>
        </p:grpSpPr>
        <p:sp>
          <p:nvSpPr>
            <p:cNvPr id="880" name=""/>
            <p:cNvSpPr/>
            <p:nvPr/>
          </p:nvSpPr>
          <p:spPr>
            <a:xfrm>
              <a:off x="2971800" y="1295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95480" y="13716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4812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3868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743200" y="457200"/>
            <a:ext cx="4267080" cy="914400"/>
            <a:chOff x="2743200" y="457200"/>
            <a:chExt cx="4267080" cy="914400"/>
          </a:xfrm>
        </p:grpSpPr>
        <p:sp>
          <p:nvSpPr>
            <p:cNvPr id="887" name=""/>
            <p:cNvSpPr/>
            <p:nvPr/>
          </p:nvSpPr>
          <p:spPr>
            <a:xfrm>
              <a:off x="274320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7180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900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3868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728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448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371600" y="990720"/>
            <a:ext cx="3200400" cy="1828800"/>
            <a:chOff x="1371600" y="990720"/>
            <a:chExt cx="3200400" cy="1828800"/>
          </a:xfrm>
        </p:grpSpPr>
        <p:sp>
          <p:nvSpPr>
            <p:cNvPr id="894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716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81080" y="1447920"/>
              <a:ext cx="160020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133720" y="990720"/>
            <a:ext cx="2438280" cy="2514600"/>
            <a:chOff x="2133720" y="990720"/>
            <a:chExt cx="2438280" cy="2514600"/>
          </a:xfrm>
        </p:grpSpPr>
        <p:sp>
          <p:nvSpPr>
            <p:cNvPr id="898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43200" y="1447920"/>
              <a:ext cx="91440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62120" y="3657600"/>
            <a:ext cx="7238880" cy="2286000"/>
            <a:chOff x="762120" y="3657600"/>
            <a:chExt cx="7238880" cy="2286000"/>
          </a:xfrm>
        </p:grpSpPr>
        <p:sp>
          <p:nvSpPr>
            <p:cNvPr id="902" name=""/>
            <p:cNvSpPr/>
            <p:nvPr/>
          </p:nvSpPr>
          <p:spPr>
            <a:xfrm>
              <a:off x="1676520" y="5181480"/>
              <a:ext cx="30456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5181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0512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47920" y="5181480"/>
              <a:ext cx="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20" y="5181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4300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46483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38280" y="44956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909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90720" y="4419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599840" y="4495680"/>
              <a:ext cx="60948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14300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5120" y="4191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91320" y="46483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86400" y="4343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8640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006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4600" y="441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485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95880" y="44956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52578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05520" y="5257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400" y="5638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76720" y="5105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48120" y="5181480"/>
              <a:ext cx="30456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00400" y="5562720"/>
              <a:ext cx="68580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05720" y="5257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52578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29400" y="5638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8120" y="4267080"/>
              <a:ext cx="99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00400" y="502920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57600" y="4876920"/>
              <a:ext cx="68580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294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15200" y="49528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52480" y="5029200"/>
              <a:ext cx="838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76520" y="4708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14800" y="36576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362320" y="3581280"/>
            <a:ext cx="129528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A18-9894-4023-9209-D15FD38F5A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057400" y="2438280"/>
            <a:ext cx="2362320" cy="990720"/>
            <a:chOff x="2057400" y="2438280"/>
            <a:chExt cx="2362320" cy="990720"/>
          </a:xfrm>
        </p:grpSpPr>
        <p:sp>
          <p:nvSpPr>
            <p:cNvPr id="943" name=""/>
            <p:cNvSpPr/>
            <p:nvPr/>
          </p:nvSpPr>
          <p:spPr>
            <a:xfrm>
              <a:off x="2057400" y="2743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filmography item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848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990720" y="396720"/>
            <a:ext cx="6019560" cy="1660680"/>
            <a:chOff x="990720" y="396720"/>
            <a:chExt cx="6019560" cy="1660680"/>
          </a:xfrm>
        </p:grpSpPr>
        <p:sp>
          <p:nvSpPr>
            <p:cNvPr id="948" name=""/>
            <p:cNvSpPr/>
            <p:nvPr/>
          </p:nvSpPr>
          <p:spPr>
            <a:xfrm>
              <a:off x="2133720" y="13716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8108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62320" y="1752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051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1932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0200" y="1752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9200" y="7621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33720" y="6858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62320" y="1066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9072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1600200" y="396720"/>
              <a:ext cx="609480" cy="990720"/>
              <a:chOff x="1600200" y="396720"/>
              <a:chExt cx="609480" cy="990720"/>
            </a:xfrm>
          </p:grpSpPr>
          <p:sp>
            <p:nvSpPr>
              <p:cNvPr id="959" name=""/>
              <p:cNvSpPr/>
              <p:nvPr/>
            </p:nvSpPr>
            <p:spPr>
              <a:xfrm>
                <a:off x="1905120" y="701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600200" y="1082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600200" y="396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4800600" y="7621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95680" y="4572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95680" y="1066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09680" y="6094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57800" y="1066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05520" y="60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148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95680" y="17524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2895480" y="1295280"/>
              <a:ext cx="3657600" cy="762120"/>
              <a:chOff x="2895480" y="1295280"/>
              <a:chExt cx="3657600" cy="762120"/>
            </a:xfrm>
          </p:grpSpPr>
          <p:sp>
            <p:nvSpPr>
              <p:cNvPr id="973" name=""/>
              <p:cNvSpPr/>
              <p:nvPr/>
            </p:nvSpPr>
            <p:spPr>
              <a:xfrm>
                <a:off x="2971800" y="12952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95480" y="1371600"/>
                <a:ext cx="30492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48120" y="17524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15000" y="137160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91320" y="13716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38680" y="17524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2743200" y="457200"/>
              <a:ext cx="4267080" cy="914400"/>
              <a:chOff x="2743200" y="457200"/>
              <a:chExt cx="4267080" cy="914400"/>
            </a:xfrm>
          </p:grpSpPr>
          <p:sp>
            <p:nvSpPr>
              <p:cNvPr id="980" name=""/>
              <p:cNvSpPr/>
              <p:nvPr/>
            </p:nvSpPr>
            <p:spPr>
              <a:xfrm>
                <a:off x="2743200" y="4572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971800" y="12193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29000" y="1066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638680" y="4572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7280" y="12193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24480" y="1066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6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987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43200" y="1447920"/>
              <a:ext cx="121932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371600" y="990720"/>
            <a:ext cx="3200400" cy="2514600"/>
            <a:chOff x="1371600" y="990720"/>
            <a:chExt cx="3200400" cy="2514600"/>
          </a:xfrm>
        </p:grpSpPr>
        <p:sp>
          <p:nvSpPr>
            <p:cNvPr id="991" name=""/>
            <p:cNvSpPr/>
            <p:nvPr/>
          </p:nvSpPr>
          <p:spPr>
            <a:xfrm>
              <a:off x="13716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81080" y="1447920"/>
              <a:ext cx="167652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995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191120" y="1447920"/>
              <a:ext cx="129528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4495320" y="1371600"/>
            <a:ext cx="381600" cy="1905120"/>
            <a:chOff x="4495320" y="1371600"/>
            <a:chExt cx="381600" cy="1905120"/>
          </a:xfrm>
        </p:grpSpPr>
        <p:sp>
          <p:nvSpPr>
            <p:cNvPr id="999" name=""/>
            <p:cNvSpPr/>
            <p:nvPr/>
          </p:nvSpPr>
          <p:spPr>
            <a:xfrm>
              <a:off x="4876920" y="1371600"/>
              <a:ext cx="0" cy="19051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4495320" y="3276720"/>
              <a:ext cx="3812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152280" y="3276720"/>
            <a:ext cx="8953560" cy="3429000"/>
            <a:chOff x="152280" y="3276720"/>
            <a:chExt cx="8953560" cy="3429000"/>
          </a:xfrm>
        </p:grpSpPr>
        <p:sp>
          <p:nvSpPr>
            <p:cNvPr id="1002" name=""/>
            <p:cNvSpPr/>
            <p:nvPr/>
          </p:nvSpPr>
          <p:spPr>
            <a:xfrm>
              <a:off x="152280" y="5181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492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2280" y="4419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49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152280" y="3276720"/>
              <a:ext cx="8953560" cy="3429000"/>
              <a:chOff x="152280" y="3276720"/>
              <a:chExt cx="8953560" cy="3429000"/>
            </a:xfrm>
          </p:grpSpPr>
          <p:sp>
            <p:nvSpPr>
              <p:cNvPr id="1007" name=""/>
              <p:cNvSpPr/>
              <p:nvPr/>
            </p:nvSpPr>
            <p:spPr>
              <a:xfrm>
                <a:off x="152280" y="3809880"/>
                <a:ext cx="342900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609480" y="3276720"/>
                <a:ext cx="8496360" cy="3429000"/>
                <a:chOff x="609480" y="3276720"/>
                <a:chExt cx="8496360" cy="34290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838080" y="5181480"/>
                  <a:ext cx="609840" cy="10670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62120" y="5791320"/>
                  <a:ext cx="114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languag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371600" y="6248520"/>
                  <a:ext cx="60948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6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09480" y="51814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495680" y="4648320"/>
                  <a:ext cx="22860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600200" y="4495680"/>
                  <a:ext cx="30492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752480" y="4876920"/>
                  <a:ext cx="60984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761760" y="4495680"/>
                  <a:ext cx="60948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66680" y="4191120"/>
                  <a:ext cx="60984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267080" y="46483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62520" y="434340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62520" y="49528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3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505320" y="457200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movi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676520" y="441972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724280" y="4952880"/>
                  <a:ext cx="60984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572000" y="4495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2670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5812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titl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962520" y="56386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5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438280" y="510552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209680" y="5181480"/>
                  <a:ext cx="30492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362320" y="5562720"/>
                  <a:ext cx="68580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1814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25780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105520" y="56386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209680" y="4267080"/>
                  <a:ext cx="9907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362320" y="5029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819520" y="4876920"/>
                  <a:ext cx="68580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105520" y="4343400"/>
                  <a:ext cx="990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334120" y="5105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791320" y="49528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914400" y="4952880"/>
                  <a:ext cx="83808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38080" y="5105520"/>
                  <a:ext cx="12193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filmography 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item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24280" y="3276720"/>
                  <a:ext cx="457200" cy="4572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105520"/>
                  <a:ext cx="83808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838080" y="464832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ire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238880" y="4648320"/>
                  <a:ext cx="22860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705720" y="434340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629400" y="49528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2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467480" y="4952880"/>
                  <a:ext cx="60984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15200" y="4495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246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00100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848720" y="56386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848720" y="4343400"/>
                  <a:ext cx="990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077320" y="51055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381880" y="49528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238880" y="5029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629400" y="5257800"/>
                  <a:ext cx="114300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filmography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item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581280" y="3809880"/>
                  <a:ext cx="2971800" cy="28958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553080" y="3809880"/>
                  <a:ext cx="2552760" cy="28958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60" name=""/>
          <p:cNvGrpSpPr/>
          <p:nvPr/>
        </p:nvGrpSpPr>
        <p:grpSpPr>
          <a:xfrm>
            <a:off x="1599840" y="3048120"/>
            <a:ext cx="5715360" cy="1981080"/>
            <a:chOff x="1599840" y="3048120"/>
            <a:chExt cx="5715360" cy="1981080"/>
          </a:xfrm>
        </p:grpSpPr>
        <p:sp>
          <p:nvSpPr>
            <p:cNvPr id="1061" name=""/>
            <p:cNvSpPr/>
            <p:nvPr/>
          </p:nvSpPr>
          <p:spPr>
            <a:xfrm flipH="1">
              <a:off x="1599840" y="3200400"/>
              <a:ext cx="15238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3048120"/>
              <a:ext cx="274320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629400" y="3048120"/>
            <a:ext cx="2362320" cy="3504960"/>
            <a:chOff x="6629400" y="3048120"/>
            <a:chExt cx="2362320" cy="3504960"/>
          </a:xfrm>
        </p:grpSpPr>
        <p:sp>
          <p:nvSpPr>
            <p:cNvPr id="1064" name=""/>
            <p:cNvSpPr/>
            <p:nvPr/>
          </p:nvSpPr>
          <p:spPr>
            <a:xfrm>
              <a:off x="6705720" y="3962520"/>
              <a:ext cx="2286000" cy="25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781680" y="3886200"/>
              <a:ext cx="221004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29400" y="3048120"/>
              <a:ext cx="2286000" cy="6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ubsumed by th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ft matching grap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4B8-6CEB-4B42-B6FF-6B4C40AB81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057400" y="2438280"/>
            <a:ext cx="2362320" cy="990720"/>
            <a:chOff x="2057400" y="2438280"/>
            <a:chExt cx="2362320" cy="990720"/>
          </a:xfrm>
        </p:grpSpPr>
        <p:sp>
          <p:nvSpPr>
            <p:cNvPr id="1069" name=""/>
            <p:cNvSpPr/>
            <p:nvPr/>
          </p:nvSpPr>
          <p:spPr>
            <a:xfrm>
              <a:off x="2057400" y="2743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filmography item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3848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913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7524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38680" y="4572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867280" y="1219320"/>
            <a:ext cx="4572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24480" y="10666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3505320" y="990720"/>
            <a:ext cx="1828800" cy="2514600"/>
            <a:chOff x="3505320" y="990720"/>
            <a:chExt cx="1828800" cy="2514600"/>
          </a:xfrm>
        </p:grpSpPr>
        <p:sp>
          <p:nvSpPr>
            <p:cNvPr id="1090" name=""/>
            <p:cNvSpPr/>
            <p:nvPr/>
          </p:nvSpPr>
          <p:spPr>
            <a:xfrm>
              <a:off x="4267080" y="99072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114800" y="1447920"/>
              <a:ext cx="53352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1094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191120" y="1447920"/>
              <a:ext cx="129528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762120" y="1371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144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2120" y="609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144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1371600"/>
            <a:ext cx="60948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71600" y="1981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981080" y="24382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193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68580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685800"/>
            <a:ext cx="60948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76520" y="380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8600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048120" y="1295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195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71800" y="17524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19520" y="4572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71800" y="1219320"/>
            <a:ext cx="4572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29000" y="10666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3880" y="1143000"/>
            <a:ext cx="8384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47920" y="1295280"/>
            <a:ext cx="121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filmography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item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295280"/>
            <a:ext cx="838440" cy="0"/>
          </a:xfrm>
          <a:prstGeom prst="line">
            <a:avLst/>
          </a:prstGeom>
          <a:ln w="936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47920" y="838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371600" y="1447920"/>
            <a:ext cx="2285640" cy="1828800"/>
            <a:chOff x="1371600" y="1447920"/>
            <a:chExt cx="2285640" cy="1828800"/>
          </a:xfrm>
        </p:grpSpPr>
        <p:sp>
          <p:nvSpPr>
            <p:cNvPr id="1121" name=""/>
            <p:cNvSpPr/>
            <p:nvPr/>
          </p:nvSpPr>
          <p:spPr>
            <a:xfrm>
              <a:off x="1371600" y="1447920"/>
              <a:ext cx="0" cy="1828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371600" y="3276720"/>
              <a:ext cx="22856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1124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3200" y="1447920"/>
              <a:ext cx="121932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114480" y="3276720"/>
            <a:ext cx="8991360" cy="3429000"/>
            <a:chOff x="114480" y="3276720"/>
            <a:chExt cx="8991360" cy="3429000"/>
          </a:xfrm>
        </p:grpSpPr>
        <p:sp>
          <p:nvSpPr>
            <p:cNvPr id="1128" name=""/>
            <p:cNvSpPr/>
            <p:nvPr/>
          </p:nvSpPr>
          <p:spPr>
            <a:xfrm>
              <a:off x="4724280" y="32767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114480" y="3809880"/>
              <a:ext cx="8991360" cy="2895840"/>
              <a:chOff x="114480" y="3809880"/>
              <a:chExt cx="8991360" cy="2895840"/>
            </a:xfrm>
          </p:grpSpPr>
          <p:sp>
            <p:nvSpPr>
              <p:cNvPr id="1130" name=""/>
              <p:cNvSpPr/>
              <p:nvPr/>
            </p:nvSpPr>
            <p:spPr>
              <a:xfrm>
                <a:off x="114480" y="51814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6676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4480" y="4419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676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52280" y="3809880"/>
                <a:ext cx="342900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00280" y="5181480"/>
                <a:ext cx="609480" cy="10670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23960" y="5791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languag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333440" y="62485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6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1680" y="51814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10280" y="464832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62040" y="4495680"/>
                <a:ext cx="30492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71468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723600" y="4495680"/>
                <a:ext cx="60948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028880" y="41911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781680" y="4648320"/>
                <a:ext cx="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77120" y="43434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40080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95880" y="45720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638360" y="44197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238880" y="495288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086600" y="44956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81680" y="52578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95880" y="52578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77120" y="56386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0048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171880" y="5181480"/>
                <a:ext cx="30456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32416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96080" y="52578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772400" y="52578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0120" y="5638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1880" y="42670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324160" y="50292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781360" y="48769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20120" y="434340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848720" y="51055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305920" y="49528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76240" y="495288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00280" y="51055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76240" y="510552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0028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581280" y="3809880"/>
                <a:ext cx="259092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72200" y="3809880"/>
                <a:ext cx="293364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7009920" y="510552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705720" y="518148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81280" y="518148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19720" y="4572000"/>
                <a:ext cx="30456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7200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86200" y="42670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495680" y="4495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57800" y="51814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029200" y="5257800"/>
                <a:ext cx="30492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1480" y="5638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029200" y="43434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81480" y="510552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10080" y="49528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191120" y="5334120"/>
                <a:ext cx="106668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4191120" y="5181120"/>
                <a:ext cx="380880" cy="22860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3581280" y="3581280"/>
            <a:ext cx="2590920" cy="2971800"/>
            <a:chOff x="3581280" y="3581280"/>
            <a:chExt cx="2590920" cy="2971800"/>
          </a:xfrm>
        </p:grpSpPr>
        <p:sp>
          <p:nvSpPr>
            <p:cNvPr id="1188" name=""/>
            <p:cNvSpPr/>
            <p:nvPr/>
          </p:nvSpPr>
          <p:spPr>
            <a:xfrm>
              <a:off x="3733920" y="3962520"/>
              <a:ext cx="2286000" cy="25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809880" y="3886200"/>
              <a:ext cx="221004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81280" y="3581280"/>
              <a:ext cx="259092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ubsumed by th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ight matching grap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191120" y="2971800"/>
            <a:ext cx="2819160" cy="2209680"/>
            <a:chOff x="4191120" y="2971800"/>
            <a:chExt cx="2819160" cy="2209680"/>
          </a:xfrm>
        </p:grpSpPr>
        <p:sp>
          <p:nvSpPr>
            <p:cNvPr id="1192" name=""/>
            <p:cNvSpPr/>
            <p:nvPr/>
          </p:nvSpPr>
          <p:spPr>
            <a:xfrm>
              <a:off x="4267080" y="2971800"/>
              <a:ext cx="2743200" cy="190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91120" y="3657600"/>
              <a:ext cx="15228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95E-13ED-4873-B866-ACEED90F6B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95880" y="4572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294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762120" y="3886200"/>
            <a:ext cx="7086600" cy="2895480"/>
            <a:chOff x="762120" y="3886200"/>
            <a:chExt cx="7086600" cy="2895480"/>
          </a:xfrm>
        </p:grpSpPr>
        <p:sp>
          <p:nvSpPr>
            <p:cNvPr id="1225" name=""/>
            <p:cNvSpPr/>
            <p:nvPr/>
          </p:nvSpPr>
          <p:spPr>
            <a:xfrm>
              <a:off x="762120" y="3886200"/>
              <a:ext cx="7086600" cy="2895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838080" y="3962520"/>
              <a:ext cx="3466800" cy="2743200"/>
              <a:chOff x="838080" y="3962520"/>
              <a:chExt cx="3466800" cy="2743200"/>
            </a:xfrm>
          </p:grpSpPr>
          <p:sp>
            <p:nvSpPr>
              <p:cNvPr id="1227" name=""/>
              <p:cNvSpPr/>
              <p:nvPr/>
            </p:nvSpPr>
            <p:spPr>
              <a:xfrm>
                <a:off x="875880" y="3962520"/>
                <a:ext cx="3429000" cy="27432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476080" y="403848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8080" y="51814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9036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8080" y="4419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9036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523880" y="5181480"/>
                <a:ext cx="609480" cy="10670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47560" y="5791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languag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057040" y="62485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6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5280" y="51814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85640" y="4495680"/>
                <a:ext cx="30492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3828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447200" y="4495680"/>
                <a:ext cx="60948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52480" y="41911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361960" y="44197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2408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5480" y="5181480"/>
                <a:ext cx="30456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4776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5480" y="42670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047760" y="50292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04960" y="48769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599840" y="495288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523880" y="51055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599840" y="510552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52388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4800600" y="4800600"/>
              <a:ext cx="2971800" cy="1905120"/>
              <a:chOff x="4800600" y="4800600"/>
              <a:chExt cx="2971800" cy="1905120"/>
            </a:xfrm>
          </p:grpSpPr>
          <p:sp>
            <p:nvSpPr>
              <p:cNvPr id="1253" name=""/>
              <p:cNvSpPr/>
              <p:nvPr/>
            </p:nvSpPr>
            <p:spPr>
              <a:xfrm>
                <a:off x="4800600" y="4800600"/>
                <a:ext cx="2971800" cy="1905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715000" y="5257800"/>
                <a:ext cx="22860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86400" y="5257800"/>
                <a:ext cx="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18184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10552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800600" y="51814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943600" y="55627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9132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486400" y="58672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00600" y="58672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181840" y="62485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00800" y="58672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477120" y="58672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324840" y="62485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24840" y="49528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553440" y="57150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01064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5714640" y="571500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410440" y="57913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4800600" y="3962520"/>
              <a:ext cx="2971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OR-Matching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duct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8FA-D2F6-4D6C-B151-38113DCDDC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Maximal Weak-Matching Graph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order to compute maximal weak matching graphs, the same algorithm is being used with a slight chang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fter each addition of an edge the nodes that cause a query constraint not to be preserved are removed (along with edges that contain these nodes)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so, are deleted nodes that the previous deletion causes them not to be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8CD-A2EE-4626-B47C-AFE76A9364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09480" y="2057400"/>
            <a:ext cx="7848720" cy="4038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Algorithm Computes Weak-Queries in Polynomial Tim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orem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iven a quer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 databas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vised algorithm terminates with the se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f maximal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eak-matching graph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.r.t.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 The runtime of the algorithm i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m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of the query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database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sul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83C-4A65-423B-8575-F95CD4289E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cheme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wo distinct sche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non-emp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scheme graph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ists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node for each schem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 edge betwee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re connecte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52680" y="4572000"/>
            <a:ext cx="4952880" cy="1905120"/>
            <a:chOff x="3352680" y="4572000"/>
            <a:chExt cx="4952880" cy="1905120"/>
          </a:xfrm>
        </p:grpSpPr>
        <p:sp>
          <p:nvSpPr>
            <p:cNvPr id="51" name=""/>
            <p:cNvSpPr/>
            <p:nvPr/>
          </p:nvSpPr>
          <p:spPr>
            <a:xfrm>
              <a:off x="3352680" y="4572000"/>
              <a:ext cx="495288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04960" y="5334120"/>
              <a:ext cx="121932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5257800"/>
              <a:ext cx="121896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400" y="5943600"/>
              <a:ext cx="274320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ors-that-Direct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4724280"/>
              <a:ext cx="129564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ed-i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267080" y="4952520"/>
              <a:ext cx="609480" cy="3812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2200" y="4952880"/>
              <a:ext cx="533160" cy="3049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5715000"/>
              <a:ext cx="380880" cy="22860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248160" y="5638680"/>
              <a:ext cx="457200" cy="3049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C8A-FC96-4A7A-BDD1-A6D367DBBD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nected Relations Schem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 sche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32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32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ir scheme graph is connect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istinct relations,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 relation schemes of these relations are connect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4724280"/>
            <a:ext cx="4190400" cy="1905120"/>
            <a:chOff x="304920" y="4724280"/>
            <a:chExt cx="4190400" cy="1905120"/>
          </a:xfrm>
        </p:grpSpPr>
        <p:sp>
          <p:nvSpPr>
            <p:cNvPr id="63" name=""/>
            <p:cNvSpPr/>
            <p:nvPr/>
          </p:nvSpPr>
          <p:spPr>
            <a:xfrm>
              <a:off x="304920" y="4724280"/>
              <a:ext cx="419040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5840" y="5410080"/>
              <a:ext cx="11098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81600" y="5410080"/>
              <a:ext cx="11116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3440" y="4876920"/>
              <a:ext cx="118008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ed-in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110600" y="5105520"/>
              <a:ext cx="582840" cy="3045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73880" y="5105520"/>
              <a:ext cx="486360" cy="3045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29960" y="6172200"/>
              <a:ext cx="265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nnected Relation Schem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24280" y="4724280"/>
            <a:ext cx="4038480" cy="1905120"/>
            <a:chOff x="4724280" y="4724280"/>
            <a:chExt cx="4038480" cy="1905120"/>
          </a:xfrm>
        </p:grpSpPr>
        <p:sp>
          <p:nvSpPr>
            <p:cNvPr id="71" name=""/>
            <p:cNvSpPr/>
            <p:nvPr/>
          </p:nvSpPr>
          <p:spPr>
            <a:xfrm>
              <a:off x="4724280" y="4724280"/>
              <a:ext cx="403848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67720" y="5410080"/>
              <a:ext cx="118332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30160" y="5410080"/>
              <a:ext cx="11854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25480" y="6172200"/>
              <a:ext cx="2835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nconnected Relation Schem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9C5-4E1E-4ABF-BB2C-3F171F6CC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Join Consistent Tupl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join consist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] =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400" spc="-1" strike="noStrike" baseline="-36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s,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istinct relations,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join consist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every pair of connected tuples ar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B17-B771-427E-B4CE-74503E46A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Universal Tu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universal tupl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defined over all the attributes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consists of null and non-null valu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denote b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û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non-null portion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universal tuple is called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integrated tupl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a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connected and join consistent 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û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natural join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B50-E23C-4A46-9A75-8DC27F82A7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Universal Tu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universal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subsume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 universal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equal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n all the non-null attributes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i.e.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an be created from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replacing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me null values with non-null valu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given se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a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no tuple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other tha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that subsu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919-018E-45F7-833C-C8AB6BE1E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full disjunctio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 the set of all maximal integrated tuples that can be generated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s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E13-ED11-46F5-BA8A-9C33183E0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b</cp:lastModifiedBy>
  <dcterms:modified xsi:type="dcterms:W3CDTF">2003-06-01T19:16:16Z</dcterms:modified>
  <cp:revision>234</cp:revision>
  <dc:subject/>
  <dc:title>מצגת של PowerPoint</dc:title>
</cp:coreProperties>
</file>