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FA8-7BDC-4E34-BD11-44709A72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F1C-E867-434F-8285-4EC4280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C40-E805-4DE7-9D0D-43AC71B3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186-0972-4CAD-A0F5-5A5DB98E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168-5A98-4202-8D77-DE1A2F0A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EB8-C816-4121-BEE9-0028F602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A29-433A-40BB-85E6-CBE28DA8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DE8-D29A-4E4F-A53B-8B49A2B7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A1F-E036-41A9-BF68-7899238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F51-B16A-4403-9C91-6DD2AABF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744-9C6E-49C1-8B22-372F44C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D10-8F2E-4B6D-8296-7123882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7C24-A820-4D8C-BCDA-3947F7F22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tsc.utoronto.ca/" TargetMode="External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.wmf"/><Relationship Id="rId17" Type="http://schemas.openxmlformats.org/officeDocument/2006/relationships/image" Target="../media/image1.wmf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.wmf"/><Relationship Id="rId17" Type="http://schemas.openxmlformats.org/officeDocument/2006/relationships/image" Target="../media/image1.wmf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560" y="1740960"/>
            <a:ext cx="811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s and HTTP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eb Browsers and Servers,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ching, D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17680" y="43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some background on network-based applications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8F8-7CC2-4B14-B77A-61480E5692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1434960" y="1090440"/>
            <a:ext cx="1216080" cy="1006560"/>
            <a:chOff x="1434960" y="1090440"/>
            <a:chExt cx="1216080" cy="1006560"/>
          </a:xfrm>
        </p:grpSpPr>
        <p:grpSp>
          <p:nvGrpSpPr>
            <p:cNvPr id="730" name=""/>
            <p:cNvGrpSpPr/>
            <p:nvPr/>
          </p:nvGrpSpPr>
          <p:grpSpPr>
            <a:xfrm>
              <a:off x="1434960" y="1090440"/>
              <a:ext cx="1216080" cy="1006560"/>
              <a:chOff x="1434960" y="1090440"/>
              <a:chExt cx="1216080" cy="1006560"/>
            </a:xfrm>
          </p:grpSpPr>
          <p:pic>
            <p:nvPicPr>
              <p:cNvPr id="7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34960" y="109044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000" y="120924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3" name=""/>
            <p:cNvSpPr/>
            <p:nvPr/>
          </p:nvSpPr>
          <p:spPr>
            <a:xfrm>
              <a:off x="1508760" y="1238040"/>
              <a:ext cx="763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2735280" y="3517920"/>
            <a:ext cx="3424320" cy="2421000"/>
          </a:xfrm>
          <a:prstGeom prst="roundRect">
            <a:avLst>
              <a:gd name="adj" fmla="val 12426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44720" y="4280040"/>
            <a:ext cx="3206880" cy="1568160"/>
          </a:xfrm>
          <a:prstGeom prst="roundRect">
            <a:avLst>
              <a:gd name="adj" fmla="val 16667"/>
            </a:avLst>
          </a:pr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21040" y="5041800"/>
            <a:ext cx="3036960" cy="70956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76400" y="1996920"/>
            <a:ext cx="11160" cy="3754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6480000" y="1100160"/>
            <a:ext cx="1216080" cy="1006560"/>
            <a:chOff x="6480000" y="1100160"/>
            <a:chExt cx="1216080" cy="1006560"/>
          </a:xfrm>
        </p:grpSpPr>
        <p:grpSp>
          <p:nvGrpSpPr>
            <p:cNvPr id="739" name=""/>
            <p:cNvGrpSpPr/>
            <p:nvPr/>
          </p:nvGrpSpPr>
          <p:grpSpPr>
            <a:xfrm>
              <a:off x="6480000" y="1100160"/>
              <a:ext cx="1216080" cy="1006560"/>
              <a:chOff x="6480000" y="1100160"/>
              <a:chExt cx="1216080" cy="1006560"/>
            </a:xfrm>
          </p:grpSpPr>
          <p:pic>
            <p:nvPicPr>
              <p:cNvPr id="7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80000" y="110016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7040" y="121896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2" name=""/>
            <p:cNvSpPr/>
            <p:nvPr/>
          </p:nvSpPr>
          <p:spPr>
            <a:xfrm>
              <a:off x="6546600" y="1247760"/>
              <a:ext cx="760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 flipV="1">
            <a:off x="6983280" y="2013120"/>
            <a:ext cx="0" cy="3738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95960" y="419256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98920" y="418464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934320" y="257796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24200" y="264312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800" y="349236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81400" y="2451240"/>
            <a:ext cx="4025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57360" y="3213000"/>
            <a:ext cx="4025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70320" y="405144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10200" y="405144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35600" y="4051440"/>
            <a:ext cx="520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70320" y="48132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210200" y="48132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35600" y="4813200"/>
            <a:ext cx="520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95520" y="54990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222800" y="54990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80240" y="5499000"/>
            <a:ext cx="520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1680" y="5216400"/>
            <a:ext cx="1591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e raw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o media –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electrical/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524000" y="4487760"/>
            <a:ext cx="1452600" cy="705600"/>
            <a:chOff x="7524000" y="4487760"/>
            <a:chExt cx="1452600" cy="705600"/>
          </a:xfrm>
        </p:grpSpPr>
        <p:sp>
          <p:nvSpPr>
            <p:cNvPr id="762" name=""/>
            <p:cNvSpPr/>
            <p:nvPr/>
          </p:nvSpPr>
          <p:spPr>
            <a:xfrm>
              <a:off x="7525080" y="4487760"/>
              <a:ext cx="1310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ing,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524000" y="4678200"/>
              <a:ext cx="1452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very, me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525080" y="3693960"/>
            <a:ext cx="1422000" cy="683280"/>
            <a:chOff x="7525080" y="3693960"/>
            <a:chExt cx="1422000" cy="683280"/>
          </a:xfrm>
        </p:grpSpPr>
        <p:sp>
          <p:nvSpPr>
            <p:cNvPr id="765" name=""/>
            <p:cNvSpPr/>
            <p:nvPr/>
          </p:nvSpPr>
          <p:spPr>
            <a:xfrm>
              <a:off x="7527240" y="369396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26520" y="38847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-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25080" y="4075200"/>
              <a:ext cx="142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gestion-cn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163440" y="2197080"/>
            <a:ext cx="1212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, FTP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net,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59760" y="3835440"/>
            <a:ext cx="35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5000" y="307332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333440" y="228744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33440" y="304956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33440" y="381168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20840" y="457344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33440" y="525924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343560" y="229860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43560" y="306072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343560" y="382284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096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343560" y="527040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51720" y="3021120"/>
            <a:ext cx="1536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able, 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us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7828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99088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54440" y="4584600"/>
            <a:ext cx="120672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6740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600" y="4510080"/>
            <a:ext cx="138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, PPP, 802.11, F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9760" y="5305320"/>
            <a:ext cx="124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NET,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75480" y="427356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86640" y="2111400"/>
            <a:ext cx="153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service across abstrac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27240" y="50148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3040" y="174780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31280" y="174132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rotocol Sta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60800" y="2879640"/>
            <a:ext cx="33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ered byt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47880" y="2117880"/>
            <a:ext cx="34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/write from/to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7560" y="5751360"/>
            <a:ext cx="167004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64280" y="5753160"/>
            <a:ext cx="174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3657600" y="3746520"/>
            <a:ext cx="0" cy="2030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245200" y="3746520"/>
            <a:ext cx="0" cy="20318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657600" y="3732120"/>
            <a:ext cx="1612800" cy="14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9088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6740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57E-D2C4-4566-8011-CBE09A637B5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686680" y="412920"/>
            <a:ext cx="38138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075440" y="15667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417840" y="4309920"/>
            <a:ext cx="1206720" cy="44460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637160" y="3395520"/>
            <a:ext cx="1206360" cy="4446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56120" y="3395520"/>
            <a:ext cx="1206720" cy="444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75440" y="33955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637160" y="4309920"/>
            <a:ext cx="1206360" cy="4446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56120" y="4309920"/>
            <a:ext cx="1206720" cy="444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75440" y="43099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0800" y="1546200"/>
            <a:ext cx="473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(e.g. HTTP Web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8640" y="2460600"/>
            <a:ext cx="3790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(e.g. TCP, U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8280" y="3375000"/>
            <a:ext cx="247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(e.g. 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9000" y="4289400"/>
            <a:ext cx="277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(e.g. Ether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440560" y="20239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068960" y="20239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850000" y="2938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8440560" y="2938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8440560" y="3852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630680" y="3852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53240" y="2481120"/>
            <a:ext cx="1206360" cy="444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72200" y="2481120"/>
            <a:ext cx="1359000" cy="44460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76560" y="5208480"/>
            <a:ext cx="2028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SO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87640" y="5226120"/>
            <a:ext cx="1319040" cy="455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NET 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5760" y="5229360"/>
            <a:ext cx="1206720" cy="44424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45080" y="5229360"/>
            <a:ext cx="1206360" cy="4442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864400" y="5229360"/>
            <a:ext cx="1206360" cy="44424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 se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083360" y="5229360"/>
            <a:ext cx="1359000" cy="4442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16400" y="47721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8448840" y="4794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DEB-29CC-4D33-8FE1-AEC43BF052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546120" y="123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 layering an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4960" y="1162080"/>
            <a:ext cx="7772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layer takes data from above 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s header information to create new data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ses new data unit to layer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137320" y="3584520"/>
            <a:ext cx="1776600" cy="2022840"/>
            <a:chOff x="2137320" y="3584520"/>
            <a:chExt cx="1776600" cy="2022840"/>
          </a:xfrm>
        </p:grpSpPr>
        <p:grpSp>
          <p:nvGrpSpPr>
            <p:cNvPr id="836" name=""/>
            <p:cNvGrpSpPr/>
            <p:nvPr/>
          </p:nvGrpSpPr>
          <p:grpSpPr>
            <a:xfrm>
              <a:off x="2181240" y="3584520"/>
              <a:ext cx="1732680" cy="2009520"/>
              <a:chOff x="2181240" y="3584520"/>
              <a:chExt cx="1732680" cy="2009520"/>
            </a:xfrm>
          </p:grpSpPr>
          <p:sp>
            <p:nvSpPr>
              <p:cNvPr id="837" name=""/>
              <p:cNvSpPr/>
              <p:nvPr/>
            </p:nvSpPr>
            <p:spPr>
              <a:xfrm>
                <a:off x="2255400" y="358452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93480" y="366768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2187360" y="409644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212200" y="44802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2212200" y="48258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2181240" y="52038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2137320" y="368460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4134600" y="3587760"/>
            <a:ext cx="1776600" cy="2022840"/>
            <a:chOff x="4134600" y="3587760"/>
            <a:chExt cx="1776600" cy="2022840"/>
          </a:xfrm>
        </p:grpSpPr>
        <p:grpSp>
          <p:nvGrpSpPr>
            <p:cNvPr id="845" name=""/>
            <p:cNvGrpSpPr/>
            <p:nvPr/>
          </p:nvGrpSpPr>
          <p:grpSpPr>
            <a:xfrm>
              <a:off x="4178520" y="3587760"/>
              <a:ext cx="1732680" cy="2009520"/>
              <a:chOff x="4178520" y="3587760"/>
              <a:chExt cx="1732680" cy="2009520"/>
            </a:xfrm>
          </p:grpSpPr>
          <p:sp>
            <p:nvSpPr>
              <p:cNvPr id="846" name=""/>
              <p:cNvSpPr/>
              <p:nvPr/>
            </p:nvSpPr>
            <p:spPr>
              <a:xfrm>
                <a:off x="4252680" y="358776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190760" y="367092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4184640" y="40996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4209480" y="44834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4209480" y="482904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4178520" y="520704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4134600" y="368784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334240" y="3084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168440" y="3141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042920" y="3152880"/>
            <a:ext cx="584856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04800" y="3719520"/>
            <a:ext cx="600120" cy="31428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202520" y="3695760"/>
            <a:ext cx="600120" cy="31428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68000" y="36464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75560" y="40464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703640" y="4456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22000" y="483228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58720" y="4100400"/>
            <a:ext cx="1563840" cy="1096920"/>
            <a:chOff x="558720" y="4100400"/>
            <a:chExt cx="1563840" cy="1096920"/>
          </a:xfrm>
        </p:grpSpPr>
        <p:sp>
          <p:nvSpPr>
            <p:cNvPr id="863" name=""/>
            <p:cNvSpPr/>
            <p:nvPr/>
          </p:nvSpPr>
          <p:spPr>
            <a:xfrm>
              <a:off x="1504800" y="412920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22440" y="451332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22440" y="4894200"/>
              <a:ext cx="600120" cy="30312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1116000" y="4100400"/>
              <a:ext cx="487440" cy="407160"/>
              <a:chOff x="1116000" y="4100400"/>
              <a:chExt cx="487440" cy="407160"/>
            </a:xfrm>
          </p:grpSpPr>
          <p:sp>
            <p:nvSpPr>
              <p:cNvPr id="867" name=""/>
              <p:cNvSpPr/>
              <p:nvPr/>
            </p:nvSpPr>
            <p:spPr>
              <a:xfrm>
                <a:off x="1192320" y="4129200"/>
                <a:ext cx="3301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116000" y="410040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306440" y="417024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1114560" y="4484520"/>
              <a:ext cx="486720" cy="407160"/>
              <a:chOff x="1114560" y="4484520"/>
              <a:chExt cx="486720" cy="407160"/>
            </a:xfrm>
          </p:grpSpPr>
          <p:sp>
            <p:nvSpPr>
              <p:cNvPr id="871" name=""/>
              <p:cNvSpPr/>
              <p:nvPr/>
            </p:nvSpPr>
            <p:spPr>
              <a:xfrm>
                <a:off x="1190520" y="451332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114560" y="448452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04640" y="4554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787320" y="4484520"/>
              <a:ext cx="487440" cy="407160"/>
              <a:chOff x="787320" y="4484520"/>
              <a:chExt cx="487440" cy="407160"/>
            </a:xfrm>
          </p:grpSpPr>
          <p:sp>
            <p:nvSpPr>
              <p:cNvPr id="875" name=""/>
              <p:cNvSpPr/>
              <p:nvPr/>
            </p:nvSpPr>
            <p:spPr>
              <a:xfrm>
                <a:off x="863640" y="451332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7320" y="448452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77760" y="455436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1192320" y="413244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89080" y="4518000"/>
              <a:ext cx="326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65080" y="4516560"/>
              <a:ext cx="327240" cy="304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97000" y="489276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61840" y="4890960"/>
              <a:ext cx="327240" cy="30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8720" y="4888080"/>
              <a:ext cx="306360" cy="3045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10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519200" y="5257800"/>
            <a:ext cx="600120" cy="30312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193760" y="5256360"/>
            <a:ext cx="3272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8960" y="5265720"/>
            <a:ext cx="3268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5480" y="5262480"/>
            <a:ext cx="3063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52360" y="5259240"/>
            <a:ext cx="30636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38880" y="5265720"/>
            <a:ext cx="600120" cy="303120"/>
          </a:xfrm>
          <a:prstGeom prst="rect">
            <a:avLst/>
          </a:prstGeom>
          <a:solidFill>
            <a:srgbClr val="99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913440" y="5264280"/>
            <a:ext cx="3272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578640" y="5262480"/>
            <a:ext cx="3268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75520" y="5259240"/>
            <a:ext cx="306360" cy="3049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972040" y="5256360"/>
            <a:ext cx="30636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261120" y="4075200"/>
            <a:ext cx="1563840" cy="1096920"/>
            <a:chOff x="6261120" y="4075200"/>
            <a:chExt cx="1563840" cy="1096920"/>
          </a:xfrm>
        </p:grpSpPr>
        <p:sp>
          <p:nvSpPr>
            <p:cNvPr id="895" name=""/>
            <p:cNvSpPr/>
            <p:nvPr/>
          </p:nvSpPr>
          <p:spPr>
            <a:xfrm>
              <a:off x="7207200" y="410400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24840" y="4488120"/>
              <a:ext cx="600120" cy="31428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24840" y="4869000"/>
              <a:ext cx="600120" cy="303120"/>
            </a:xfrm>
            <a:prstGeom prst="rect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6818400" y="4075200"/>
              <a:ext cx="487440" cy="407160"/>
              <a:chOff x="6818400" y="4075200"/>
              <a:chExt cx="487440" cy="407160"/>
            </a:xfrm>
          </p:grpSpPr>
          <p:sp>
            <p:nvSpPr>
              <p:cNvPr id="899" name=""/>
              <p:cNvSpPr/>
              <p:nvPr/>
            </p:nvSpPr>
            <p:spPr>
              <a:xfrm>
                <a:off x="6894720" y="4104000"/>
                <a:ext cx="3301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18400" y="407520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08840" y="414504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6816960" y="4459320"/>
              <a:ext cx="486720" cy="407160"/>
              <a:chOff x="6816960" y="4459320"/>
              <a:chExt cx="486720" cy="40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6892920" y="448812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816960" y="445932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07040" y="4529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6489720" y="4459320"/>
              <a:ext cx="487440" cy="407160"/>
              <a:chOff x="6489720" y="4459320"/>
              <a:chExt cx="487440" cy="407160"/>
            </a:xfrm>
          </p:grpSpPr>
          <p:sp>
            <p:nvSpPr>
              <p:cNvPr id="907" name=""/>
              <p:cNvSpPr/>
              <p:nvPr/>
            </p:nvSpPr>
            <p:spPr>
              <a:xfrm>
                <a:off x="6566040" y="448812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489720" y="445932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680160" y="452916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6894720" y="410724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91480" y="4492800"/>
              <a:ext cx="32688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567480" y="4491360"/>
              <a:ext cx="327240" cy="3045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99400" y="4867560"/>
              <a:ext cx="32688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64240" y="4865760"/>
              <a:ext cx="327240" cy="304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61120" y="4862880"/>
              <a:ext cx="306360" cy="304560"/>
            </a:xfrm>
            <a:prstGeom prst="rect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10000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7720920" y="521820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ECD-FA4C-416C-97E1-438E76B4FC6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-2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15800" y="90324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erText Transfer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 Tim Berners-Lee at CE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ists, not Computer Scient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 results from physics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 1989-199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ized and much expanded by the IET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des on top of TCP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provides: reliable, bi-directional, in-order byte stre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transfer objects between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confuse with other WWW concep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is not page layout language (that is HTM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is not object naming scheme (that is UR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179-0F8C-443A-8D14-4567C64FA2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Web: some jarg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440" y="1438200"/>
            <a:ext cx="38098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p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sists of “object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d by a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Web pages consist of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 HTML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r more referenced objects such as im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L has two components: </a:t>
            </a: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host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cc66"/>
                </a:solidFill>
                <a:latin typeface="Comic Sans MS"/>
              </a:rPr>
              <a:t>path 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.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48120" y="1419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agent for Web is called a brows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Internet Explo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scape Communic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for Web is called Web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ache (public domai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Internet Informatio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"/>
          <p:cNvSpPr/>
          <p:nvPr/>
        </p:nvSpPr>
        <p:spPr>
          <a:xfrm>
            <a:off x="867240" y="5489640"/>
            <a:ext cx="74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Courier New"/>
              </a:rPr>
              <a:t>www.toronto.edu</a:t>
            </a:r>
            <a:r>
              <a:rPr b="1" lang="en-US" sz="2800" spc="-1" strike="noStrike">
                <a:solidFill>
                  <a:srgbClr val="00cc66"/>
                </a:solidFill>
                <a:latin typeface="Courier New"/>
              </a:rPr>
              <a:t>/depts/cs/pratt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735-237B-41C8-BDAE-5A8E14DA23FC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8276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Web: HTTP protoco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28560" y="1631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’s application layer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owser that requests, receives, “displays” Web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eb server sends objects in response to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1.0: RFC 19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1.1: RFC 206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"/>
          <p:cNvSpPr/>
          <p:nvPr/>
        </p:nvSpPr>
        <p:spPr>
          <a:xfrm>
            <a:off x="4665960" y="2422440"/>
            <a:ext cx="12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09680" y="3759120"/>
            <a:ext cx="13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76920" y="2166840"/>
            <a:ext cx="2052720" cy="92880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39400" y="5173560"/>
            <a:ext cx="13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n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1422000">
            <a:off x="6117840" y="229392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411200">
            <a:off x="5914440" y="274140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972560" y="2968560"/>
          <a:ext cx="60156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2560" y="2968560"/>
                    <a:ext cx="6015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4" name=""/>
          <p:cNvGrpSpPr/>
          <p:nvPr/>
        </p:nvGrpSpPr>
        <p:grpSpPr>
          <a:xfrm>
            <a:off x="4875120" y="1803240"/>
            <a:ext cx="842760" cy="603000"/>
            <a:chOff x="4875120" y="1803240"/>
            <a:chExt cx="842760" cy="603000"/>
          </a:xfrm>
        </p:grpSpPr>
        <p:grpSp>
          <p:nvGrpSpPr>
            <p:cNvPr id="935" name=""/>
            <p:cNvGrpSpPr/>
            <p:nvPr/>
          </p:nvGrpSpPr>
          <p:grpSpPr>
            <a:xfrm>
              <a:off x="4875120" y="2252520"/>
              <a:ext cx="842760" cy="153720"/>
              <a:chOff x="4875120" y="2252520"/>
              <a:chExt cx="842760" cy="153720"/>
            </a:xfrm>
          </p:grpSpPr>
          <p:sp>
            <p:nvSpPr>
              <p:cNvPr id="936" name=""/>
              <p:cNvSpPr/>
              <p:nvPr/>
            </p:nvSpPr>
            <p:spPr>
              <a:xfrm>
                <a:off x="4875120" y="2252520"/>
                <a:ext cx="84276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922640" y="2284200"/>
                <a:ext cx="56052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499000" y="228420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019840" y="1803240"/>
              <a:ext cx="541080" cy="447480"/>
              <a:chOff x="5019840" y="1803240"/>
              <a:chExt cx="541080" cy="447480"/>
            </a:xfrm>
          </p:grpSpPr>
          <p:sp>
            <p:nvSpPr>
              <p:cNvPr id="940" name=""/>
              <p:cNvSpPr/>
              <p:nvPr/>
            </p:nvSpPr>
            <p:spPr>
              <a:xfrm>
                <a:off x="5019840" y="1803240"/>
                <a:ext cx="54108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54400" y="1841400"/>
                <a:ext cx="46944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472000" y="1841400"/>
                <a:ext cx="5040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489280" y="1861920"/>
                <a:ext cx="140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492520" y="2033280"/>
                <a:ext cx="612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492520" y="2104920"/>
                <a:ext cx="612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492520" y="2174760"/>
                <a:ext cx="612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067360" y="1828800"/>
              <a:ext cx="43956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4959360" y="4556160"/>
            <a:ext cx="842760" cy="603000"/>
            <a:chOff x="4959360" y="4556160"/>
            <a:chExt cx="842760" cy="603000"/>
          </a:xfrm>
        </p:grpSpPr>
        <p:grpSp>
          <p:nvGrpSpPr>
            <p:cNvPr id="949" name=""/>
            <p:cNvGrpSpPr/>
            <p:nvPr/>
          </p:nvGrpSpPr>
          <p:grpSpPr>
            <a:xfrm>
              <a:off x="4959360" y="5005440"/>
              <a:ext cx="842760" cy="153720"/>
              <a:chOff x="4959360" y="5005440"/>
              <a:chExt cx="842760" cy="153720"/>
            </a:xfrm>
          </p:grpSpPr>
          <p:sp>
            <p:nvSpPr>
              <p:cNvPr id="950" name=""/>
              <p:cNvSpPr/>
              <p:nvPr/>
            </p:nvSpPr>
            <p:spPr>
              <a:xfrm>
                <a:off x="4959360" y="5005440"/>
                <a:ext cx="84276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06880" y="5037120"/>
                <a:ext cx="56052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83240" y="503712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5104080" y="4556160"/>
              <a:ext cx="541080" cy="447480"/>
              <a:chOff x="5104080" y="4556160"/>
              <a:chExt cx="541080" cy="447480"/>
            </a:xfrm>
          </p:grpSpPr>
          <p:sp>
            <p:nvSpPr>
              <p:cNvPr id="954" name=""/>
              <p:cNvSpPr/>
              <p:nvPr/>
            </p:nvSpPr>
            <p:spPr>
              <a:xfrm>
                <a:off x="5104080" y="4556160"/>
                <a:ext cx="54108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138640" y="4594320"/>
                <a:ext cx="46944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556240" y="4594320"/>
                <a:ext cx="5040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73520" y="4614840"/>
                <a:ext cx="140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576760" y="4786200"/>
                <a:ext cx="612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576760" y="4857840"/>
                <a:ext cx="612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576760" y="4927680"/>
                <a:ext cx="612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5151600" y="4581720"/>
              <a:ext cx="43956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5896080" y="3495240"/>
            <a:ext cx="1920600" cy="104148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857560" y="3638520"/>
            <a:ext cx="1955880" cy="11239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9906800">
            <a:off x="6068160" y="37699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9861800">
            <a:off x="6166800" y="421416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D85-6654-49D7-9BAF-C0E8EA7B45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protocol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7310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TTP rides on top of  TCP transport serv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initiates TCP connection (creates socket) to server, port 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accepts TCP connection from cl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 messages (application-layer protocol messages) exchanged between browser (http client) and Web server (http serv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CP connection clo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854-20AB-4044-B791-0BCE774D51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protocol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269720"/>
            <a:ext cx="787392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ttp is “stateles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maintains no information about past client requ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679320" y="2863800"/>
            <a:ext cx="780588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tocols that maintain “state” are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t history (state) must be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erver/client crashes, their views of “state” may be inconsistent, must be reconc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31A-119E-4D7A-86CA-09A987B5FB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in opera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7800" y="105732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user enters URL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www.toronto.edu/cs/index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7320" y="1900080"/>
            <a:ext cx="380988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 client initiates TCP connection to http server (process)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oronto.edu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rt 80 is default for http ser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546120" y="377352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client sends http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containing URL) into TCP connection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906800" y="2395440"/>
            <a:ext cx="381024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server at ho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oronto.edu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ing for TCP connection at port 80.  “accepts” connection, notifying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960800" y="416412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server receives request message, form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ining requested object (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/index.htm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 sends message into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029120" y="43578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030200" y="517032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000680" y="3352680"/>
            <a:ext cx="109512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853160" y="1495440"/>
            <a:ext cx="360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(containing text and references to 10 jpeg im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3920" y="5816520"/>
            <a:ext cx="666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980-B22A-444E-949C-F85920D08244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in operation (cont.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10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 client receives response message containing html file, displays html.  Parsing html file, finds 10 referenced jpeg 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714240" y="352440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105520" y="1752480"/>
            <a:ext cx="380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server closes TCP conn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4920" y="3162240"/>
            <a:ext cx="342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42880" y="1162080"/>
            <a:ext cx="0" cy="2571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9840" y="2104920"/>
            <a:ext cx="8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AF4-7CC4-47BC-9E11-7ED28EB4A1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3762360"/>
            <a:ext cx="216216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73760" y="3629160"/>
            <a:ext cx="1250280" cy="610200"/>
            <a:chOff x="1373760" y="3629160"/>
            <a:chExt cx="1250280" cy="610200"/>
          </a:xfrm>
        </p:grpSpPr>
        <p:sp>
          <p:nvSpPr>
            <p:cNvPr id="45" name=""/>
            <p:cNvSpPr/>
            <p:nvPr/>
          </p:nvSpPr>
          <p:spPr>
            <a:xfrm>
              <a:off x="1765440" y="3658320"/>
              <a:ext cx="456120" cy="23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3760" y="3629160"/>
              <a:ext cx="125028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how mu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s thi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’s a protoc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371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protoco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network 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943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4840" y="2720880"/>
            <a:ext cx="191448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78120" y="2611440"/>
            <a:ext cx="448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952560" y="316224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9400" y="3122640"/>
            <a:ext cx="6811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42840" y="4324320"/>
            <a:ext cx="2143440" cy="3715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93800" y="4361040"/>
            <a:ext cx="601560" cy="325440"/>
            <a:chOff x="1693800" y="4361040"/>
            <a:chExt cx="601560" cy="325440"/>
          </a:xfrm>
        </p:grpSpPr>
        <p:sp>
          <p:nvSpPr>
            <p:cNvPr id="56" name=""/>
            <p:cNvSpPr/>
            <p:nvPr/>
          </p:nvSpPr>
          <p:spPr>
            <a:xfrm>
              <a:off x="1742040" y="4390920"/>
              <a:ext cx="55332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93800" y="4361040"/>
              <a:ext cx="439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$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149440" y="265572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43520" y="4648320"/>
            <a:ext cx="2343240" cy="428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2981160"/>
            <a:ext cx="1762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896000" y="347652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130360" y="3408480"/>
            <a:ext cx="2026440" cy="703800"/>
            <a:chOff x="5130360" y="3408480"/>
            <a:chExt cx="2026440" cy="703800"/>
          </a:xfrm>
        </p:grpSpPr>
        <p:sp>
          <p:nvSpPr>
            <p:cNvPr id="63" name=""/>
            <p:cNvSpPr/>
            <p:nvPr/>
          </p:nvSpPr>
          <p:spPr>
            <a:xfrm>
              <a:off x="5248440" y="34765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30360" y="34084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943520" y="4086360"/>
            <a:ext cx="240012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67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www.toronto.edu/index.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576400" y="4680000"/>
            <a:ext cx="962640" cy="459720"/>
            <a:chOff x="5576400" y="4680000"/>
            <a:chExt cx="962640" cy="459720"/>
          </a:xfrm>
        </p:grpSpPr>
        <p:sp>
          <p:nvSpPr>
            <p:cNvPr id="70" name=""/>
            <p:cNvSpPr/>
            <p:nvPr/>
          </p:nvSpPr>
          <p:spPr>
            <a:xfrm>
              <a:off x="5695560" y="475776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6400" y="468000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179960" y="1962000"/>
            <a:ext cx="0" cy="3857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674520" y="5094360"/>
            <a:ext cx="826920" cy="459720"/>
            <a:chOff x="3674520" y="5094360"/>
            <a:chExt cx="826920" cy="459720"/>
          </a:xfrm>
        </p:grpSpPr>
        <p:sp>
          <p:nvSpPr>
            <p:cNvPr id="74" name=""/>
            <p:cNvSpPr/>
            <p:nvPr/>
          </p:nvSpPr>
          <p:spPr>
            <a:xfrm>
              <a:off x="3752640" y="51912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4520" y="50943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971640" y="4857840"/>
            <a:ext cx="216216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63120" y="4789440"/>
            <a:ext cx="945720" cy="610200"/>
            <a:chOff x="1563120" y="4789440"/>
            <a:chExt cx="945720" cy="610200"/>
          </a:xfrm>
        </p:grpSpPr>
        <p:sp>
          <p:nvSpPr>
            <p:cNvPr id="78" name=""/>
            <p:cNvSpPr/>
            <p:nvPr/>
          </p:nvSpPr>
          <p:spPr>
            <a:xfrm>
              <a:off x="1647720" y="481932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63120" y="4789440"/>
              <a:ext cx="945720" cy="6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’ll g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you $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68960" y="2401920"/>
            <a:ext cx="923760" cy="824040"/>
            <a:chOff x="4368960" y="2401920"/>
            <a:chExt cx="923760" cy="824040"/>
          </a:xfrm>
        </p:grpSpPr>
        <p:grpSp>
          <p:nvGrpSpPr>
            <p:cNvPr id="81" name=""/>
            <p:cNvGrpSpPr/>
            <p:nvPr/>
          </p:nvGrpSpPr>
          <p:grpSpPr>
            <a:xfrm>
              <a:off x="4368960" y="2401920"/>
              <a:ext cx="923760" cy="824040"/>
              <a:chOff x="4368960" y="2401920"/>
              <a:chExt cx="923760" cy="82404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68960" y="2401920"/>
                <a:ext cx="923760" cy="82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4080" y="2499120"/>
                <a:ext cx="390600" cy="35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"/>
            <p:cNvSpPr/>
            <p:nvPr/>
          </p:nvSpPr>
          <p:spPr>
            <a:xfrm>
              <a:off x="4392720" y="2522520"/>
              <a:ext cx="180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7139160" y="2935440"/>
          <a:ext cx="53496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39160" y="2935440"/>
                    <a:ext cx="5349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bd06790_" descr=""/>
          <p:cNvPicPr/>
          <p:nvPr/>
        </p:nvPicPr>
        <p:blipFill>
          <a:blip r:embed="rId5"/>
          <a:srcRect l="0" t="0" r="38101" b="0"/>
          <a:stretch/>
        </p:blipFill>
        <p:spPr>
          <a:xfrm>
            <a:off x="452520" y="2325600"/>
            <a:ext cx="62856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bd06784_" descr=""/>
          <p:cNvPicPr/>
          <p:nvPr/>
        </p:nvPicPr>
        <p:blipFill>
          <a:blip r:embed="rId6"/>
          <a:srcRect l="18745" t="0" r="0" b="0"/>
          <a:stretch/>
        </p:blipFill>
        <p:spPr>
          <a:xfrm>
            <a:off x="3078000" y="2598840"/>
            <a:ext cx="71928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B62-D125-4C35-A046-86C341F993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action between Web client (browser) and Web server occurs in two pha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quest ph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wser requests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Web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sends 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ed page or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hase consists of two par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ead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request line, response status, header field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83808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654440" y="3452760"/>
            <a:ext cx="1395360" cy="1155600"/>
            <a:chOff x="4654440" y="3452760"/>
            <a:chExt cx="1395360" cy="1155600"/>
          </a:xfrm>
        </p:grpSpPr>
        <p:pic>
          <p:nvPicPr>
            <p:cNvPr id="997" name="" descr=""/>
            <p:cNvPicPr/>
            <p:nvPr/>
          </p:nvPicPr>
          <p:blipFill>
            <a:blip r:embed="rId1"/>
            <a:stretch/>
          </p:blipFill>
          <p:spPr>
            <a:xfrm>
              <a:off x="4654440" y="3452760"/>
              <a:ext cx="13953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2"/>
            <a:stretch/>
          </p:blipFill>
          <p:spPr>
            <a:xfrm>
              <a:off x="4949280" y="3589200"/>
              <a:ext cx="589680" cy="49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9" name=""/>
          <p:cNvGrpSpPr/>
          <p:nvPr/>
        </p:nvGrpSpPr>
        <p:grpSpPr>
          <a:xfrm>
            <a:off x="4648320" y="2057400"/>
            <a:ext cx="1395360" cy="1155600"/>
            <a:chOff x="4648320" y="2057400"/>
            <a:chExt cx="1395360" cy="1155600"/>
          </a:xfrm>
        </p:grpSpPr>
        <p:pic>
          <p:nvPicPr>
            <p:cNvPr id="1000" name="" descr=""/>
            <p:cNvPicPr/>
            <p:nvPr/>
          </p:nvPicPr>
          <p:blipFill>
            <a:blip r:embed="rId3"/>
            <a:stretch/>
          </p:blipFill>
          <p:spPr>
            <a:xfrm>
              <a:off x="4648320" y="2057400"/>
              <a:ext cx="139536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4"/>
            <a:stretch/>
          </p:blipFill>
          <p:spPr>
            <a:xfrm>
              <a:off x="4943160" y="2193840"/>
              <a:ext cx="589680" cy="49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"/>
          <p:cNvGrpSpPr/>
          <p:nvPr/>
        </p:nvGrpSpPr>
        <p:grpSpPr>
          <a:xfrm>
            <a:off x="5745240" y="2255760"/>
            <a:ext cx="1395000" cy="364680"/>
            <a:chOff x="5745240" y="2255760"/>
            <a:chExt cx="1395000" cy="364680"/>
          </a:xfrm>
        </p:grpSpPr>
        <p:sp>
          <p:nvSpPr>
            <p:cNvPr id="1003" name=""/>
            <p:cNvSpPr/>
            <p:nvPr/>
          </p:nvSpPr>
          <p:spPr>
            <a:xfrm>
              <a:off x="5939640" y="2255760"/>
              <a:ext cx="107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45240" y="2620440"/>
              <a:ext cx="13950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5751360" y="3741840"/>
            <a:ext cx="1466640" cy="348840"/>
            <a:chOff x="5751360" y="3741840"/>
            <a:chExt cx="1466640" cy="348840"/>
          </a:xfrm>
        </p:grpSpPr>
        <p:sp>
          <p:nvSpPr>
            <p:cNvPr id="1006" name=""/>
            <p:cNvSpPr/>
            <p:nvPr/>
          </p:nvSpPr>
          <p:spPr>
            <a:xfrm>
              <a:off x="5929560" y="374184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5751360" y="4090680"/>
              <a:ext cx="13953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8" name="" descr=""/>
          <p:cNvPicPr/>
          <p:nvPr/>
        </p:nvPicPr>
        <p:blipFill>
          <a:blip r:embed="rId5"/>
          <a:stretch/>
        </p:blipFill>
        <p:spPr>
          <a:xfrm>
            <a:off x="7218360" y="2081160"/>
            <a:ext cx="934920" cy="11160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6"/>
          <a:stretch/>
        </p:blipFill>
        <p:spPr>
          <a:xfrm>
            <a:off x="7218360" y="3502080"/>
            <a:ext cx="93492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616-3060-4F78-AC49-8214596711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TTP request message: general format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3562200" y="1576440"/>
            <a:ext cx="180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67320" y="1576440"/>
            <a:ext cx="144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6280" y="1576440"/>
            <a:ext cx="1981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16280" y="1577880"/>
            <a:ext cx="772920" cy="45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62200" y="1576440"/>
            <a:ext cx="331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94120" y="1576440"/>
            <a:ext cx="21337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27840" y="157644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08720" y="1577880"/>
            <a:ext cx="3808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9520" y="213192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78080" y="2131920"/>
            <a:ext cx="15552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333600" y="2131920"/>
            <a:ext cx="161928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60800" y="2130480"/>
            <a:ext cx="46224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423040" y="2130480"/>
            <a:ext cx="4633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758640" y="157644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468520" y="1576440"/>
            <a:ext cx="331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6280" y="294948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74840" y="2949480"/>
            <a:ext cx="15588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30720" y="2949480"/>
            <a:ext cx="161928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946760" y="294804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08640" y="294804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76280" y="338292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938160" y="338292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76280" y="3817800"/>
            <a:ext cx="6426000" cy="2230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ty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39000" y="218592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19880" y="2354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96720" y="2228760"/>
            <a:ext cx="7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E2A-7655-4BF1-BB2E-A14CA38456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message format: reques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ttp request mess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all HTTP messages are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II (text forma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" y="2622600"/>
            <a:ext cx="62766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somedir/page.html HTTP/1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-agent: Mozilla/4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: text/html, image/gif,image/jpe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tra carriage return, line fe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953400" y="1487520"/>
            <a:ext cx="1928520" cy="1332000"/>
          </a:xfrm>
          <a:prstGeom prst="wedgeRoundRectCallout">
            <a:avLst>
              <a:gd name="adj1" fmla="val -126129"/>
              <a:gd name="adj2" fmla="val 4582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 comm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728120" y="3100320"/>
            <a:ext cx="934920" cy="689040"/>
          </a:xfrm>
          <a:prstGeom prst="wedgeRoundRectCallout">
            <a:avLst>
              <a:gd name="adj1" fmla="val -140662"/>
              <a:gd name="adj2" fmla="val -2763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6673680" y="2984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91320" y="4059360"/>
            <a:ext cx="2152800" cy="1409400"/>
          </a:xfrm>
          <a:prstGeom prst="wedgeRoundRectCallout">
            <a:avLst>
              <a:gd name="adj1" fmla="val -158703"/>
              <a:gd name="adj2" fmla="val -23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dicates 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8B6-5BF4-4B12-AE6C-7C96A7C90F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Request Pha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 – return content of specified docu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 – return headers only of GET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T – execute specified doc with enclos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L (only domain por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host-identifier/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/www.toronto.edu/headlines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HTTP/1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4395960" y="2109960"/>
            <a:ext cx="144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00720" y="2109960"/>
            <a:ext cx="144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09680" y="2109960"/>
            <a:ext cx="1981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49680" y="2111400"/>
            <a:ext cx="772920" cy="45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95960" y="2109960"/>
            <a:ext cx="331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727520" y="2109960"/>
            <a:ext cx="21337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861240" y="210996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42120" y="2111400"/>
            <a:ext cx="3808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01920" y="2109960"/>
            <a:ext cx="331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52E-EE63-42A0-B2B1-D2364E2F4B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1523880" y="1906560"/>
            <a:ext cx="2405160" cy="598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940200" y="1908000"/>
            <a:ext cx="1479600" cy="600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Request Phase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65280" y="1312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er fiel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: text/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: image/j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-language: en; en-gr; 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-modified-since: 17 May 20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-Length: 25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3817800" y="1909800"/>
            <a:ext cx="11592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B48-5535-4F66-B103-3ED97CEEA7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Response Phas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 consists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us lin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-digit status code (success, error, redirection,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ef text explanation of status code (e.g. O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Header fiel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page attributes (content type, content length, expiration, last modified, server type, 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information (if redirection, other loc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nk line (delimiter between header and bod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bod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BF6-75EE-4E02-981D-CE7105D3FD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TTP response message: general format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3573360" y="1587600"/>
            <a:ext cx="180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700520" y="1587600"/>
            <a:ext cx="180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6280" y="1576440"/>
            <a:ext cx="1698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522520" y="1577880"/>
            <a:ext cx="1517760" cy="45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040280" y="1576440"/>
            <a:ext cx="331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76880" y="1576440"/>
            <a:ext cx="17841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us ph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149880" y="157644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531120" y="1577880"/>
            <a:ext cx="38088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79520" y="213192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78080" y="2131920"/>
            <a:ext cx="15552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333600" y="2131920"/>
            <a:ext cx="1619280" cy="435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60800" y="2130480"/>
            <a:ext cx="46224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423040" y="2130480"/>
            <a:ext cx="46332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900840" y="157644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179800" y="1576440"/>
            <a:ext cx="331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6280" y="2949480"/>
            <a:ext cx="2698560" cy="435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fiel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174840" y="2949480"/>
            <a:ext cx="155880" cy="4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330720" y="2949480"/>
            <a:ext cx="1619280" cy="435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el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46760" y="294804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08640" y="294804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76280" y="3382920"/>
            <a:ext cx="4618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38160" y="3382920"/>
            <a:ext cx="463680" cy="4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6280" y="3817800"/>
            <a:ext cx="6426000" cy="2230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ons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39000" y="218592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19880" y="2354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720" y="2228760"/>
            <a:ext cx="7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64F-48C2-4B26-BCD5-C6D03D62E76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ponse status cod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digit response c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XX – informa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XX – suc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X – redir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XX – client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XX – server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ponse code text ph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372-B598-49BA-BA9B-C079645253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sponse status cod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33160" y="175896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succeeded, requested object later in this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ed object moved, new location specified later in this message (Location: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message not understood by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ed document not found on this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523800" y="825480"/>
            <a:ext cx="8163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first line in server-&gt;client respons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-150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commonly occurring sample c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DD8-E08F-43B0-B434-A8E336C805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message format: respons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760680" y="1987560"/>
            <a:ext cx="5819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200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: Thu, 25 Aug 2001 12:00:15 G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-Modified: Mon, 22 Aug 2001 …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423200" y="3225960"/>
            <a:ext cx="934920" cy="688680"/>
          </a:xfrm>
          <a:prstGeom prst="wedgeRoundRectCallout">
            <a:avLst>
              <a:gd name="adj1" fmla="val -146773"/>
              <a:gd name="adj2" fmla="val -6520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5218200" y="4216320"/>
            <a:ext cx="185760" cy="846360"/>
          </a:xfrm>
          <a:custGeom>
            <a:avLst/>
            <a:gdLst>
              <a:gd name="textAreaLeft" fmla="*/ 119160 w 185760"/>
              <a:gd name="textAreaRight" fmla="*/ 186480 w 185760"/>
              <a:gd name="textAreaTop" fmla="*/ 21960 h 846360"/>
              <a:gd name="textAreaBottom" fmla="*/ 824400 h 84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96080" y="1487520"/>
            <a:ext cx="2085840" cy="1332000"/>
          </a:xfrm>
          <a:prstGeom prst="wedgeRoundRectCallout">
            <a:avLst>
              <a:gd name="adj1" fmla="val -213013"/>
              <a:gd name="adj2" fmla="val -161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l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353280" y="4465800"/>
            <a:ext cx="1531800" cy="1060200"/>
          </a:xfrm>
          <a:prstGeom prst="wedgeRoundRectCallout">
            <a:avLst>
              <a:gd name="adj1" fmla="val -105439"/>
              <a:gd name="adj2" fmla="val -3398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6308640" y="2394000"/>
            <a:ext cx="185760" cy="1490760"/>
          </a:xfrm>
          <a:custGeom>
            <a:avLst/>
            <a:gdLst>
              <a:gd name="textAreaLeft" fmla="*/ 119160 w 185760"/>
              <a:gd name="textAreaRight" fmla="*/ 186480 w 185760"/>
              <a:gd name="textAreaTop" fmla="*/ 38880 h 1490760"/>
              <a:gd name="textAreaBottom" fmla="*/ 14518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AD0-6BE4-4200-95E7-ABB35C613B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’s a protoc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6360" y="1247760"/>
            <a:ext cx="3932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Human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 you … you’re welc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lo … hi … my name is … pleased to meet you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ce hagg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msgs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actions taken when msgs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be context or culture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9240" y="1271520"/>
            <a:ext cx="4478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Network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device, rather than human,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communication activity in Internet is governed by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9625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4560" y="4243320"/>
            <a:ext cx="4457520" cy="19227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tocols define format &amp; order of messages sent and received among network entities, and actions taken on message transmission, rece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B05-61FC-4F57-8E5D-2B0F3647335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89000" y="22824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ry out HTTP (client side) for yourself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Telnet to your favorite Web server, e.g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755640" y="2552760"/>
            <a:ext cx="84675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 TCP connection to port 80 (default http server port) at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utsc.utoronto.c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 Anything typed is sent to port 80 at www.utsc.utoronto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562400" y="202104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elnet www.utsc.utoronto.ca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Type in a GET HTTP requ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07920" y="4079880"/>
            <a:ext cx="56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ET /~rosselet/cscc09/index.html HTTP/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92000" y="465120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 this at the prompt (followed by two carriage return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send this minimal GET request to the HTT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1800" y="5429160"/>
            <a:ext cx="833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Look at response message sent by http serv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5400000">
            <a:off x="3932640" y="-928080"/>
            <a:ext cx="358920" cy="687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179280 h 6875640"/>
              <a:gd name="textAreaBottom" fmla="*/ 6696360 h 687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51"/>
                </a:lnTo>
                <a:cubicBezTo>
                  <a:pt x="10800" y="9951"/>
                  <a:pt x="5400" y="10851"/>
                  <a:pt x="0" y="10851"/>
                </a:cubicBezTo>
                <a:cubicBezTo>
                  <a:pt x="5400" y="10851"/>
                  <a:pt x="10800" y="11751"/>
                  <a:pt x="10800" y="126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3793680" y="1326960"/>
            <a:ext cx="390600" cy="6537240"/>
          </a:xfrm>
          <a:custGeom>
            <a:avLst/>
            <a:gdLst>
              <a:gd name="textAreaLeft" fmla="*/ 249480 w 390600"/>
              <a:gd name="textAreaRight" fmla="*/ 390960 w 390600"/>
              <a:gd name="textAreaTop" fmla="*/ 170280 h 6537240"/>
              <a:gd name="textAreaBottom" fmla="*/ 6366960 h 653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EF6-9192-4E09-85B8-533B3E86BF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other fea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can send information to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s,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-modified-since request hea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tells server it has data and asks server whether it has fresher version or client is up to d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EE4-3B25-4BB9-87C5-27A6C27F26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ser-server interaction: conditional GET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388620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’t send object if client has up-to-date copy (cach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: 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: 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514760" y="17733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127040" y="10954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71880" y="10666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533480" y="276372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677360" y="1808280"/>
            <a:ext cx="124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38600" y="383076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81360" y="4125960"/>
            <a:ext cx="3305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600080" y="51166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743960" y="4467240"/>
            <a:ext cx="12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386240" y="2016000"/>
            <a:ext cx="1996920" cy="789120"/>
          </a:xfrm>
          <a:prstGeom prst="wedgeRoundRectCallout">
            <a:avLst>
              <a:gd name="adj1" fmla="val 88472"/>
              <a:gd name="adj2" fmla="val -41750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3854160" y="1569960"/>
            <a:ext cx="718560" cy="4143240"/>
            <a:chOff x="3854160" y="1569960"/>
            <a:chExt cx="718560" cy="4143240"/>
          </a:xfrm>
        </p:grpSpPr>
        <p:sp>
          <p:nvSpPr>
            <p:cNvPr id="1126" name=""/>
            <p:cNvSpPr/>
            <p:nvPr/>
          </p:nvSpPr>
          <p:spPr>
            <a:xfrm>
              <a:off x="4198680" y="1569960"/>
              <a:ext cx="0" cy="414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3854160" y="2706480"/>
              <a:ext cx="718560" cy="398880"/>
              <a:chOff x="3854160" y="2706480"/>
              <a:chExt cx="718560" cy="398880"/>
            </a:xfrm>
          </p:grpSpPr>
          <p:sp>
            <p:nvSpPr>
              <p:cNvPr id="1128" name=""/>
              <p:cNvSpPr/>
              <p:nvPr/>
            </p:nvSpPr>
            <p:spPr>
              <a:xfrm>
                <a:off x="3943440" y="2803320"/>
                <a:ext cx="571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54160" y="27064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"/>
          <p:cNvSpPr/>
          <p:nvPr/>
        </p:nvSpPr>
        <p:spPr>
          <a:xfrm>
            <a:off x="6659640" y="2984400"/>
            <a:ext cx="2122560" cy="790560"/>
          </a:xfrm>
          <a:prstGeom prst="wedgeRoundRectCallout">
            <a:avLst>
              <a:gd name="adj1" fmla="val -112152"/>
              <a:gd name="adj2" fmla="val -40560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04 Not Mod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83000" y="4332240"/>
            <a:ext cx="2008440" cy="790560"/>
          </a:xfrm>
          <a:prstGeom prst="wedgeRoundRectCallout">
            <a:avLst>
              <a:gd name="adj1" fmla="val 96245"/>
              <a:gd name="adj2" fmla="val -39157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70800" y="5318280"/>
            <a:ext cx="1996920" cy="834840"/>
          </a:xfrm>
          <a:prstGeom prst="wedgeRoundRectCallout">
            <a:avLst>
              <a:gd name="adj1" fmla="val -113833"/>
              <a:gd name="adj2" fmla="val -42013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352-9E49-4745-9ED9-160FE1B549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 authentica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 authenti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challenged, client sends user id and password in clear to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ecure enough (snooping is easy) but useful for simple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7C1-A4B5-4E0D-85E5-58D731A530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ser-server interaction: authentication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01600" y="1219320"/>
            <a:ext cx="471816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entication 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 access to server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l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ient must present authorization in each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ization: typically name, pass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horiz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ader line in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 authorization presented, server refuses access, s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WW authenticate: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line in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4800600" y="199080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727160" y="128592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265520" y="1262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4828680" y="243828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809960" y="3581280"/>
            <a:ext cx="3305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4800240" y="40672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781520" y="50673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809960" y="5562720"/>
            <a:ext cx="3305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467560" y="2019240"/>
            <a:ext cx="0" cy="414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8122680" y="4883040"/>
            <a:ext cx="718560" cy="398880"/>
            <a:chOff x="8122680" y="4883040"/>
            <a:chExt cx="718560" cy="398880"/>
          </a:xfrm>
        </p:grpSpPr>
        <p:sp>
          <p:nvSpPr>
            <p:cNvPr id="1147" name=""/>
            <p:cNvSpPr/>
            <p:nvPr/>
          </p:nvSpPr>
          <p:spPr>
            <a:xfrm>
              <a:off x="8211960" y="4979880"/>
              <a:ext cx="5716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122680" y="48830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20680" y="5694480"/>
            <a:ext cx="56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rowser caches name &amp; password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at user does not have to repeatedly ente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49800" y="1874880"/>
            <a:ext cx="1511280" cy="598320"/>
          </a:xfrm>
          <a:prstGeom prst="wedgeRoundRectCallout">
            <a:avLst>
              <a:gd name="adj1" fmla="val 91805"/>
              <a:gd name="adj2" fmla="val 17374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29400" y="2568600"/>
            <a:ext cx="2697120" cy="598320"/>
          </a:xfrm>
          <a:prstGeom prst="wedgeRoundRectCallout">
            <a:avLst>
              <a:gd name="adj1" fmla="val -67541"/>
              <a:gd name="adj2" fmla="val -16314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1: authorization 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08600" y="3397320"/>
            <a:ext cx="2697120" cy="598320"/>
          </a:xfrm>
          <a:prstGeom prst="wedgeRoundRectCallout">
            <a:avLst>
              <a:gd name="adj1" fmla="val 59712"/>
              <a:gd name="adj2" fmla="val 40449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orization: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413320" y="4227480"/>
            <a:ext cx="2979720" cy="339840"/>
          </a:xfrm>
          <a:prstGeom prst="wedgeRoundRectCallout">
            <a:avLst>
              <a:gd name="adj1" fmla="val 30662"/>
              <a:gd name="adj2" fmla="val -86916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03640" y="4802040"/>
            <a:ext cx="2697480" cy="598680"/>
          </a:xfrm>
          <a:prstGeom prst="wedgeRoundRectCallout">
            <a:avLst>
              <a:gd name="adj1" fmla="val 53592"/>
              <a:gd name="adj2" fmla="val 50000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orization: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238720" y="5735520"/>
            <a:ext cx="2979720" cy="339840"/>
          </a:xfrm>
          <a:prstGeom prst="wedgeRoundRectCallout">
            <a:avLst>
              <a:gd name="adj1" fmla="val 40092"/>
              <a:gd name="adj2" fmla="val -97194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1AC-E029-4F5D-8D3E-A41DC0292D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oki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HTTP is statel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does not maintain status information across client requ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way to correlate multiple request from same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 stor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oki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client s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amount of information (typically server-generated user i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t by client with each requ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dated by server with respon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363-EDBD-4BB2-BB76-77169AD9C4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User-server interaction: cookies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77640" y="898560"/>
            <a:ext cx="382716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sends “cookie” to client in response ms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-cookie: 167845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presents cookie in later requ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okie: 167845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matches presented-cookie with server-stored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ing user preferences, previous cho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4765680" y="1892160"/>
            <a:ext cx="2806560" cy="46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227120" y="137952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333920" y="1407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723920" y="2664000"/>
            <a:ext cx="285444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762440" y="3597120"/>
            <a:ext cx="281952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4752720" y="4437000"/>
            <a:ext cx="281916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16080" y="3689280"/>
            <a:ext cx="106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ok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246560" y="2077920"/>
            <a:ext cx="1511280" cy="598680"/>
          </a:xfrm>
          <a:prstGeom prst="wedgeRoundRectCallout">
            <a:avLst>
              <a:gd name="adj1" fmla="val 120902"/>
              <a:gd name="adj2" fmla="val -25861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24600" y="2919240"/>
            <a:ext cx="2697120" cy="598680"/>
          </a:xfrm>
          <a:prstGeom prst="wedgeRoundRectCallout">
            <a:avLst>
              <a:gd name="adj1" fmla="val -73898"/>
              <a:gd name="adj2" fmla="val -57958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-cookie: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433760" y="3870360"/>
            <a:ext cx="2349720" cy="565200"/>
          </a:xfrm>
          <a:prstGeom prst="wedgeRoundRectCallout">
            <a:avLst>
              <a:gd name="adj1" fmla="val 61958"/>
              <a:gd name="adj2" fmla="val -44101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okie: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853320" y="4809960"/>
            <a:ext cx="1442880" cy="609840"/>
          </a:xfrm>
          <a:prstGeom prst="wedgeRoundRectCallout">
            <a:avLst>
              <a:gd name="adj1" fmla="val -127337"/>
              <a:gd name="adj2" fmla="val -79689"/>
              <a:gd name="adj3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 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3854160" y="1803240"/>
            <a:ext cx="718560" cy="4143240"/>
            <a:chOff x="3854160" y="1803240"/>
            <a:chExt cx="718560" cy="4143240"/>
          </a:xfrm>
        </p:grpSpPr>
        <p:sp>
          <p:nvSpPr>
            <p:cNvPr id="1172" name=""/>
            <p:cNvSpPr/>
            <p:nvPr/>
          </p:nvSpPr>
          <p:spPr>
            <a:xfrm>
              <a:off x="4198680" y="1803240"/>
              <a:ext cx="0" cy="4143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854160" y="2939760"/>
              <a:ext cx="718560" cy="398880"/>
              <a:chOff x="3854160" y="2939760"/>
              <a:chExt cx="718560" cy="398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3943440" y="3036600"/>
                <a:ext cx="5716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54160" y="293976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F2F-C500-4D4A-83A4-B123B468AE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TTP 1.0: Proble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request opens new conne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ing up is slow (why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s several packets (why?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B08-0C09-48ED-8D04-46BE461F83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304920" y="1600200"/>
            <a:ext cx="84582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eb Page with Single Imag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91116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6553080" y="16002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34340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55308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43400" y="205740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4343400" y="228600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4340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43400" y="2590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4343400" y="28954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4343400" y="3124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343400" y="35053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343400" y="365760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343400" y="38862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4343400" y="38862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4343400" y="43434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343400" y="4724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343400" y="4876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4343400" y="51055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3434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19920" y="19051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343400" y="21337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19920" y="4038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343400" y="44197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Y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19920" y="24382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343400" y="28195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019920" y="34290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19920" y="46483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53341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019920" y="2895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343400" y="25909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343400" y="48769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43400" y="57150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343400" y="36576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4343400" y="32767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343400" y="39625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590920" y="19051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320004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0920" y="2286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20004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90920" y="32004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320004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0920" y="4572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320004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90920" y="55627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320004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29400" y="28195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629400" y="2819520"/>
            <a:ext cx="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95880" y="31240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629400" y="51055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29400" y="5105520"/>
            <a:ext cx="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0880" y="21337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Client opens TCP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80880" y="2666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ends HTTP request for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0880" y="3581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arses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opens TCP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880" y="4876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ends HTTP request for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880" y="5867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Image begins to ar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7080" y="3429000"/>
            <a:ext cx="0" cy="4572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Cloud"/>
          <p:cNvSpPr/>
          <p:nvPr/>
        </p:nvSpPr>
        <p:spPr>
          <a:xfrm>
            <a:off x="4630680" y="1382760"/>
            <a:ext cx="1719360" cy="6364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FC0-86A1-48CF-A5F3-DAB6B708B1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ore Problem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 transfers are hard on TC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ck in “slow start” phase of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 recovery is poor when windows are sm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extra conn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s server state/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also forced to keep TIME_WAIT connection s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must server keep thes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B0C-4559-489E-9259-37028BC2A7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pplications and application-layer protoco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7400" y="1208160"/>
            <a:ext cx="41907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communicating, distributed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in network hosts in “user spac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hange messages to implement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email, file transfer, the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-lay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“piece” of an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messages exchanged by apps and actions ta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services provided by lower lay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130720" y="3594240"/>
            <a:ext cx="3054600" cy="2224080"/>
          </a:xfrm>
          <a:custGeom>
            <a:avLst/>
            <a:gdLst/>
            <a:ahLst/>
            <a:rect l="l" t="t" r="r" b="b"/>
            <a:pathLst>
              <a:path w="1924" h="1401">
                <a:moveTo>
                  <a:pt x="12" y="549"/>
                </a:moveTo>
                <a:cubicBezTo>
                  <a:pt x="0" y="411"/>
                  <a:pt x="3" y="130"/>
                  <a:pt x="80" y="65"/>
                </a:cubicBezTo>
                <a:cubicBezTo>
                  <a:pt x="157" y="0"/>
                  <a:pt x="375" y="133"/>
                  <a:pt x="474" y="158"/>
                </a:cubicBezTo>
                <a:cubicBezTo>
                  <a:pt x="573" y="183"/>
                  <a:pt x="577" y="188"/>
                  <a:pt x="673" y="215"/>
                </a:cubicBezTo>
                <a:cubicBezTo>
                  <a:pt x="769" y="242"/>
                  <a:pt x="935" y="310"/>
                  <a:pt x="1050" y="321"/>
                </a:cubicBezTo>
                <a:cubicBezTo>
                  <a:pt x="1165" y="332"/>
                  <a:pt x="1237" y="266"/>
                  <a:pt x="1363" y="279"/>
                </a:cubicBezTo>
                <a:cubicBezTo>
                  <a:pt x="1489" y="292"/>
                  <a:pt x="1722" y="270"/>
                  <a:pt x="1804" y="400"/>
                </a:cubicBezTo>
                <a:cubicBezTo>
                  <a:pt x="1886" y="530"/>
                  <a:pt x="1924" y="903"/>
                  <a:pt x="1853" y="1061"/>
                </a:cubicBezTo>
                <a:cubicBezTo>
                  <a:pt x="1782" y="1219"/>
                  <a:pt x="1518" y="1293"/>
                  <a:pt x="1376" y="1347"/>
                </a:cubicBezTo>
                <a:cubicBezTo>
                  <a:pt x="1234" y="1401"/>
                  <a:pt x="1113" y="1399"/>
                  <a:pt x="1001" y="1387"/>
                </a:cubicBezTo>
                <a:cubicBezTo>
                  <a:pt x="889" y="1375"/>
                  <a:pt x="806" y="1330"/>
                  <a:pt x="702" y="1276"/>
                </a:cubicBezTo>
                <a:cubicBezTo>
                  <a:pt x="598" y="1222"/>
                  <a:pt x="467" y="1123"/>
                  <a:pt x="375" y="1060"/>
                </a:cubicBezTo>
                <a:cubicBezTo>
                  <a:pt x="283" y="997"/>
                  <a:pt x="209" y="983"/>
                  <a:pt x="149" y="898"/>
                </a:cubicBezTo>
                <a:cubicBezTo>
                  <a:pt x="89" y="813"/>
                  <a:pt x="10" y="690"/>
                  <a:pt x="12" y="54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0160" y="2327400"/>
            <a:ext cx="1730520" cy="1474560"/>
          </a:xfrm>
          <a:custGeom>
            <a:avLst/>
            <a:gdLst/>
            <a:ahLst/>
            <a:rect l="l" t="t" r="r" b="b"/>
            <a:pathLst>
              <a:path w="1090" h="929">
                <a:moveTo>
                  <a:pt x="238" y="9"/>
                </a:moveTo>
                <a:cubicBezTo>
                  <a:pt x="139" y="18"/>
                  <a:pt x="50" y="64"/>
                  <a:pt x="25" y="123"/>
                </a:cubicBezTo>
                <a:cubicBezTo>
                  <a:pt x="0" y="182"/>
                  <a:pt x="71" y="290"/>
                  <a:pt x="89" y="365"/>
                </a:cubicBezTo>
                <a:cubicBezTo>
                  <a:pt x="107" y="440"/>
                  <a:pt x="119" y="487"/>
                  <a:pt x="131" y="571"/>
                </a:cubicBezTo>
                <a:cubicBezTo>
                  <a:pt x="143" y="655"/>
                  <a:pt x="93" y="811"/>
                  <a:pt x="160" y="870"/>
                </a:cubicBezTo>
                <a:cubicBezTo>
                  <a:pt x="227" y="929"/>
                  <a:pt x="421" y="921"/>
                  <a:pt x="531" y="924"/>
                </a:cubicBezTo>
                <a:cubicBezTo>
                  <a:pt x="641" y="927"/>
                  <a:pt x="738" y="908"/>
                  <a:pt x="821" y="891"/>
                </a:cubicBezTo>
                <a:cubicBezTo>
                  <a:pt x="904" y="874"/>
                  <a:pt x="984" y="911"/>
                  <a:pt x="1027" y="821"/>
                </a:cubicBezTo>
                <a:cubicBezTo>
                  <a:pt x="1070" y="731"/>
                  <a:pt x="1090" y="458"/>
                  <a:pt x="1079" y="349"/>
                </a:cubicBezTo>
                <a:cubicBezTo>
                  <a:pt x="1068" y="240"/>
                  <a:pt x="1039" y="212"/>
                  <a:pt x="963" y="166"/>
                </a:cubicBezTo>
                <a:cubicBezTo>
                  <a:pt x="887" y="120"/>
                  <a:pt x="742" y="98"/>
                  <a:pt x="621" y="72"/>
                </a:cubicBezTo>
                <a:cubicBezTo>
                  <a:pt x="500" y="46"/>
                  <a:pt x="337" y="0"/>
                  <a:pt x="238" y="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6480" y="2136600"/>
            <a:ext cx="1881000" cy="1587600"/>
          </a:xfrm>
          <a:custGeom>
            <a:avLst/>
            <a:gdLst/>
            <a:ahLst/>
            <a:rect l="l" t="t" r="r" b="b"/>
            <a:pathLst>
              <a:path w="1185" h="1000">
                <a:moveTo>
                  <a:pt x="512" y="33"/>
                </a:moveTo>
                <a:cubicBezTo>
                  <a:pt x="413" y="1"/>
                  <a:pt x="185" y="0"/>
                  <a:pt x="101" y="48"/>
                </a:cubicBezTo>
                <a:cubicBezTo>
                  <a:pt x="17" y="96"/>
                  <a:pt x="16" y="229"/>
                  <a:pt x="8" y="321"/>
                </a:cubicBezTo>
                <a:cubicBezTo>
                  <a:pt x="0" y="413"/>
                  <a:pt x="34" y="529"/>
                  <a:pt x="54" y="603"/>
                </a:cubicBezTo>
                <a:cubicBezTo>
                  <a:pt x="74" y="677"/>
                  <a:pt x="70" y="726"/>
                  <a:pt x="129" y="762"/>
                </a:cubicBezTo>
                <a:cubicBezTo>
                  <a:pt x="188" y="798"/>
                  <a:pt x="309" y="787"/>
                  <a:pt x="406" y="819"/>
                </a:cubicBezTo>
                <a:cubicBezTo>
                  <a:pt x="503" y="851"/>
                  <a:pt x="594" y="937"/>
                  <a:pt x="712" y="954"/>
                </a:cubicBezTo>
                <a:cubicBezTo>
                  <a:pt x="830" y="971"/>
                  <a:pt x="1039" y="1000"/>
                  <a:pt x="1112" y="921"/>
                </a:cubicBezTo>
                <a:cubicBezTo>
                  <a:pt x="1185" y="842"/>
                  <a:pt x="1153" y="583"/>
                  <a:pt x="1149" y="477"/>
                </a:cubicBezTo>
                <a:cubicBezTo>
                  <a:pt x="1144" y="371"/>
                  <a:pt x="1157" y="336"/>
                  <a:pt x="1086" y="285"/>
                </a:cubicBezTo>
                <a:cubicBezTo>
                  <a:pt x="1015" y="234"/>
                  <a:pt x="822" y="214"/>
                  <a:pt x="726" y="172"/>
                </a:cubicBezTo>
                <a:cubicBezTo>
                  <a:pt x="630" y="130"/>
                  <a:pt x="557" y="62"/>
                  <a:pt x="512" y="33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89560" y="2513160"/>
            <a:ext cx="13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307332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46760" y="30700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42120" y="30686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2533680"/>
            <a:ext cx="2887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56240" y="281916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083280" y="29052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51640" y="4008600"/>
            <a:ext cx="72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51640" y="4608000"/>
            <a:ext cx="72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8240" y="400680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369120" y="471780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743440" y="4707000"/>
            <a:ext cx="0" cy="12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45240" y="47131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24360" y="4250880"/>
            <a:ext cx="235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4120" y="4361040"/>
            <a:ext cx="44136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097400" y="4359240"/>
            <a:ext cx="415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80400" y="48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586640" y="433188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94560" y="500868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1320" y="45324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337440" y="2584440"/>
            <a:ext cx="45864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532640" y="2870280"/>
            <a:ext cx="48888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21440" y="2681280"/>
            <a:ext cx="40644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7440" y="2639880"/>
            <a:ext cx="208080" cy="83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5040" y="3684600"/>
            <a:ext cx="122400" cy="469800"/>
          </a:xfrm>
          <a:custGeom>
            <a:avLst/>
            <a:gdLst/>
            <a:ahLst/>
            <a:rect l="l" t="t" r="r" b="b"/>
            <a:pathLst>
              <a:path w="77" h="296">
                <a:moveTo>
                  <a:pt x="0" y="0"/>
                </a:moveTo>
                <a:lnTo>
                  <a:pt x="77" y="2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631280" y="2873520"/>
            <a:ext cx="20952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267320" y="1851120"/>
            <a:ext cx="803160" cy="63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8007480" y="1936800"/>
            <a:ext cx="30312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18320" y="2692440"/>
            <a:ext cx="501480" cy="232920"/>
            <a:chOff x="5818320" y="2692440"/>
            <a:chExt cx="501480" cy="232920"/>
          </a:xfrm>
        </p:grpSpPr>
        <p:sp>
          <p:nvSpPr>
            <p:cNvPr id="128" name=""/>
            <p:cNvSpPr/>
            <p:nvPr/>
          </p:nvSpPr>
          <p:spPr>
            <a:xfrm>
              <a:off x="5822280" y="279648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22280" y="27853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19800" y="27853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22280" y="278532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18320" y="269244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937840" y="2725200"/>
              <a:ext cx="246240" cy="88200"/>
              <a:chOff x="5937840" y="2725200"/>
              <a:chExt cx="246240" cy="882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5937840" y="2725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06680" y="2813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18840" y="2727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937840" y="2724480"/>
              <a:ext cx="246240" cy="88200"/>
              <a:chOff x="5937840" y="2724480"/>
              <a:chExt cx="246240" cy="88200"/>
            </a:xfrm>
          </p:grpSpPr>
          <p:sp>
            <p:nvSpPr>
              <p:cNvPr id="138" name=""/>
              <p:cNvSpPr/>
              <p:nvPr/>
            </p:nvSpPr>
            <p:spPr>
              <a:xfrm>
                <a:off x="5937840" y="281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06680" y="2724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6018840" y="2724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6770520" y="2452680"/>
            <a:ext cx="501840" cy="232920"/>
            <a:chOff x="6770520" y="2452680"/>
            <a:chExt cx="501840" cy="232920"/>
          </a:xfrm>
        </p:grpSpPr>
        <p:sp>
          <p:nvSpPr>
            <p:cNvPr id="142" name=""/>
            <p:cNvSpPr/>
            <p:nvPr/>
          </p:nvSpPr>
          <p:spPr>
            <a:xfrm>
              <a:off x="6774480" y="255672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74480" y="254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72360" y="254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74480" y="254556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70520" y="245268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890040" y="2485440"/>
              <a:ext cx="246240" cy="88200"/>
              <a:chOff x="6890040" y="2485440"/>
              <a:chExt cx="246240" cy="8820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6890040" y="248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8880" y="2573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71040" y="248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890040" y="2484720"/>
              <a:ext cx="246240" cy="88200"/>
              <a:chOff x="6890040" y="2484720"/>
              <a:chExt cx="246240" cy="88200"/>
            </a:xfrm>
          </p:grpSpPr>
          <p:sp>
            <p:nvSpPr>
              <p:cNvPr id="152" name=""/>
              <p:cNvSpPr/>
              <p:nvPr/>
            </p:nvSpPr>
            <p:spPr>
              <a:xfrm>
                <a:off x="6890040" y="2571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58880" y="248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971040" y="2484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7758000" y="2660760"/>
            <a:ext cx="500040" cy="232920"/>
            <a:chOff x="7758000" y="2660760"/>
            <a:chExt cx="500040" cy="232920"/>
          </a:xfrm>
        </p:grpSpPr>
        <p:sp>
          <p:nvSpPr>
            <p:cNvPr id="156" name=""/>
            <p:cNvSpPr/>
            <p:nvPr/>
          </p:nvSpPr>
          <p:spPr>
            <a:xfrm>
              <a:off x="7761960" y="2764800"/>
              <a:ext cx="4957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61960" y="2753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58040" y="2753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61960" y="2753640"/>
              <a:ext cx="4914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58000" y="2660760"/>
              <a:ext cx="4953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877160" y="2693520"/>
              <a:ext cx="245520" cy="88200"/>
              <a:chOff x="7877160" y="2693520"/>
              <a:chExt cx="245520" cy="882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7877160" y="2693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45640" y="2781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57800" y="2695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877160" y="2692800"/>
              <a:ext cx="245520" cy="88200"/>
              <a:chOff x="7877160" y="2692800"/>
              <a:chExt cx="245520" cy="88200"/>
            </a:xfrm>
          </p:grpSpPr>
          <p:sp>
            <p:nvSpPr>
              <p:cNvPr id="166" name=""/>
              <p:cNvSpPr/>
              <p:nvPr/>
            </p:nvSpPr>
            <p:spPr>
              <a:xfrm>
                <a:off x="7877160" y="2779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45640" y="2692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957800" y="2692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7061040" y="3457440"/>
            <a:ext cx="501840" cy="233280"/>
            <a:chOff x="7061040" y="3457440"/>
            <a:chExt cx="501840" cy="233280"/>
          </a:xfrm>
        </p:grpSpPr>
        <p:sp>
          <p:nvSpPr>
            <p:cNvPr id="170" name=""/>
            <p:cNvSpPr/>
            <p:nvPr/>
          </p:nvSpPr>
          <p:spPr>
            <a:xfrm>
              <a:off x="7065000" y="356148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65000" y="35506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62880" y="35506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65000" y="355068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61040" y="345744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180560" y="3490200"/>
              <a:ext cx="246240" cy="88560"/>
              <a:chOff x="7180560" y="3490200"/>
              <a:chExt cx="246240" cy="8856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7180560" y="3490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49400" y="3578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61560" y="34923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180560" y="3489120"/>
              <a:ext cx="246240" cy="88560"/>
              <a:chOff x="7180560" y="3489120"/>
              <a:chExt cx="246240" cy="88560"/>
            </a:xfrm>
          </p:grpSpPr>
          <p:sp>
            <p:nvSpPr>
              <p:cNvPr id="180" name=""/>
              <p:cNvSpPr/>
              <p:nvPr/>
            </p:nvSpPr>
            <p:spPr>
              <a:xfrm>
                <a:off x="7180560" y="3575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49400" y="348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7261560" y="3489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230960" y="4141800"/>
            <a:ext cx="501840" cy="234720"/>
            <a:chOff x="7230960" y="4141800"/>
            <a:chExt cx="501840" cy="234720"/>
          </a:xfrm>
        </p:grpSpPr>
        <p:sp>
          <p:nvSpPr>
            <p:cNvPr id="184" name=""/>
            <p:cNvSpPr/>
            <p:nvPr/>
          </p:nvSpPr>
          <p:spPr>
            <a:xfrm>
              <a:off x="7234920" y="4246560"/>
              <a:ext cx="497520" cy="1299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4920" y="4235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32800" y="4235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4920" y="4235400"/>
              <a:ext cx="493200" cy="79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30960" y="4141800"/>
              <a:ext cx="497160" cy="1515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350480" y="4174920"/>
              <a:ext cx="246240" cy="88920"/>
              <a:chOff x="7350480" y="4174920"/>
              <a:chExt cx="246240" cy="88920"/>
            </a:xfrm>
          </p:grpSpPr>
          <p:sp>
            <p:nvSpPr>
              <p:cNvPr id="190" name=""/>
              <p:cNvSpPr/>
              <p:nvPr/>
            </p:nvSpPr>
            <p:spPr>
              <a:xfrm flipV="1">
                <a:off x="7350480" y="4174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19320" y="4263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31480" y="4177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350480" y="4173840"/>
              <a:ext cx="246240" cy="88920"/>
              <a:chOff x="7350480" y="4173840"/>
              <a:chExt cx="246240" cy="88920"/>
            </a:xfrm>
          </p:grpSpPr>
          <p:sp>
            <p:nvSpPr>
              <p:cNvPr id="194" name=""/>
              <p:cNvSpPr/>
              <p:nvPr/>
            </p:nvSpPr>
            <p:spPr>
              <a:xfrm>
                <a:off x="7350480" y="4260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519320" y="4173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431480" y="41738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 flipH="1" flipV="1">
            <a:off x="6186600" y="4344840"/>
            <a:ext cx="936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37240" y="4792680"/>
          <a:ext cx="3301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7240" y="4792680"/>
                    <a:ext cx="33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162840" y="4797360"/>
          <a:ext cx="33012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2840" y="4797360"/>
                    <a:ext cx="33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5299200" y="3774960"/>
            <a:ext cx="380880" cy="286920"/>
            <a:chOff x="5299200" y="3774960"/>
            <a:chExt cx="380880" cy="286920"/>
          </a:xfrm>
        </p:grpSpPr>
        <p:grpSp>
          <p:nvGrpSpPr>
            <p:cNvPr id="203" name=""/>
            <p:cNvGrpSpPr/>
            <p:nvPr/>
          </p:nvGrpSpPr>
          <p:grpSpPr>
            <a:xfrm>
              <a:off x="5299200" y="3988800"/>
              <a:ext cx="380880" cy="73080"/>
              <a:chOff x="5299200" y="3988800"/>
              <a:chExt cx="380880" cy="73080"/>
            </a:xfrm>
          </p:grpSpPr>
          <p:sp>
            <p:nvSpPr>
              <p:cNvPr id="204" name=""/>
              <p:cNvSpPr/>
              <p:nvPr/>
            </p:nvSpPr>
            <p:spPr>
              <a:xfrm>
                <a:off x="5299200" y="3988800"/>
                <a:ext cx="38088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20440" y="400356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81080" y="400356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364360" y="3774960"/>
              <a:ext cx="244440" cy="213120"/>
              <a:chOff x="5364360" y="3774960"/>
              <a:chExt cx="244440" cy="213120"/>
            </a:xfrm>
          </p:grpSpPr>
          <p:sp>
            <p:nvSpPr>
              <p:cNvPr id="208" name=""/>
              <p:cNvSpPr/>
              <p:nvPr/>
            </p:nvSpPr>
            <p:spPr>
              <a:xfrm>
                <a:off x="5364360" y="377496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79840" y="379296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68480" y="379296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76400" y="380268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77840" y="388440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77840" y="391860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77840" y="395172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385960" y="3786840"/>
              <a:ext cx="19836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05320" y="4378320"/>
            <a:ext cx="381240" cy="286920"/>
            <a:chOff x="5305320" y="4378320"/>
            <a:chExt cx="381240" cy="286920"/>
          </a:xfrm>
        </p:grpSpPr>
        <p:grpSp>
          <p:nvGrpSpPr>
            <p:cNvPr id="217" name=""/>
            <p:cNvGrpSpPr/>
            <p:nvPr/>
          </p:nvGrpSpPr>
          <p:grpSpPr>
            <a:xfrm>
              <a:off x="5305320" y="4592160"/>
              <a:ext cx="381240" cy="73080"/>
              <a:chOff x="5305320" y="4592160"/>
              <a:chExt cx="381240" cy="73080"/>
            </a:xfrm>
          </p:grpSpPr>
          <p:sp>
            <p:nvSpPr>
              <p:cNvPr id="218" name=""/>
              <p:cNvSpPr/>
              <p:nvPr/>
            </p:nvSpPr>
            <p:spPr>
              <a:xfrm>
                <a:off x="5305320" y="4592160"/>
                <a:ext cx="38124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26560" y="460692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87560" y="460692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370480" y="4378320"/>
              <a:ext cx="244440" cy="213120"/>
              <a:chOff x="5370480" y="4378320"/>
              <a:chExt cx="244440" cy="213120"/>
            </a:xfrm>
          </p:grpSpPr>
          <p:sp>
            <p:nvSpPr>
              <p:cNvPr id="222" name=""/>
              <p:cNvSpPr/>
              <p:nvPr/>
            </p:nvSpPr>
            <p:spPr>
              <a:xfrm>
                <a:off x="5370480" y="437832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85960" y="439632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574600" y="439632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82520" y="440604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83960" y="448776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583960" y="452196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83960" y="455508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5392080" y="4390200"/>
              <a:ext cx="19872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943600" y="4127400"/>
            <a:ext cx="501480" cy="233280"/>
            <a:chOff x="5943600" y="4127400"/>
            <a:chExt cx="501480" cy="233280"/>
          </a:xfrm>
        </p:grpSpPr>
        <p:sp>
          <p:nvSpPr>
            <p:cNvPr id="231" name=""/>
            <p:cNvSpPr/>
            <p:nvPr/>
          </p:nvSpPr>
          <p:spPr>
            <a:xfrm>
              <a:off x="5947560" y="4231440"/>
              <a:ext cx="49716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7560" y="4220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45080" y="4220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7560" y="422064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4127400"/>
              <a:ext cx="49680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6063120" y="4160160"/>
              <a:ext cx="246240" cy="88560"/>
              <a:chOff x="6063120" y="4160160"/>
              <a:chExt cx="246240" cy="8856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6063120" y="4160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231960" y="424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44120" y="41623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6063120" y="4159080"/>
              <a:ext cx="246240" cy="88560"/>
              <a:chOff x="6063120" y="4159080"/>
              <a:chExt cx="246240" cy="88560"/>
            </a:xfrm>
          </p:grpSpPr>
          <p:sp>
            <p:nvSpPr>
              <p:cNvPr id="241" name=""/>
              <p:cNvSpPr/>
              <p:nvPr/>
            </p:nvSpPr>
            <p:spPr>
              <a:xfrm>
                <a:off x="6063120" y="42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31960" y="4159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44120" y="41590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" name=""/>
          <p:cNvGrpSpPr/>
          <p:nvPr/>
        </p:nvGrpSpPr>
        <p:grpSpPr>
          <a:xfrm>
            <a:off x="6993000" y="5375160"/>
            <a:ext cx="379440" cy="325440"/>
            <a:chOff x="6993000" y="5375160"/>
            <a:chExt cx="379440" cy="325440"/>
          </a:xfrm>
        </p:grpSpPr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6993000" y="537516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7073280" y="541368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6616800" y="4653000"/>
            <a:ext cx="501480" cy="232920"/>
            <a:chOff x="6616800" y="4653000"/>
            <a:chExt cx="501480" cy="232920"/>
          </a:xfrm>
        </p:grpSpPr>
        <p:sp>
          <p:nvSpPr>
            <p:cNvPr id="248" name=""/>
            <p:cNvSpPr/>
            <p:nvPr/>
          </p:nvSpPr>
          <p:spPr>
            <a:xfrm>
              <a:off x="6620760" y="475704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0760" y="47458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18280" y="47458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20760" y="474588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16800" y="465300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736320" y="4685760"/>
              <a:ext cx="246240" cy="88200"/>
              <a:chOff x="6736320" y="4685760"/>
              <a:chExt cx="246240" cy="8820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6736320" y="4685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05160" y="4773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7320" y="4687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736320" y="4685040"/>
              <a:ext cx="246240" cy="88200"/>
              <a:chOff x="6736320" y="4685040"/>
              <a:chExt cx="246240" cy="88200"/>
            </a:xfrm>
          </p:grpSpPr>
          <p:sp>
            <p:nvSpPr>
              <p:cNvPr id="258" name=""/>
              <p:cNvSpPr/>
              <p:nvPr/>
            </p:nvSpPr>
            <p:spPr>
              <a:xfrm>
                <a:off x="6736320" y="4771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05160" y="4685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817320" y="4685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7281720" y="2992320"/>
            <a:ext cx="501840" cy="233280"/>
            <a:chOff x="7281720" y="2992320"/>
            <a:chExt cx="501840" cy="233280"/>
          </a:xfrm>
        </p:grpSpPr>
        <p:sp>
          <p:nvSpPr>
            <p:cNvPr id="262" name=""/>
            <p:cNvSpPr/>
            <p:nvPr/>
          </p:nvSpPr>
          <p:spPr>
            <a:xfrm>
              <a:off x="7285680" y="309636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85680" y="3085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83560" y="3085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85680" y="308556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81720" y="299232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7401240" y="3025080"/>
              <a:ext cx="246240" cy="88560"/>
              <a:chOff x="7401240" y="3025080"/>
              <a:chExt cx="246240" cy="8856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7401240" y="3025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70080" y="3113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82240" y="3027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7401240" y="3024000"/>
              <a:ext cx="246240" cy="88560"/>
              <a:chOff x="7401240" y="3024000"/>
              <a:chExt cx="246240" cy="88560"/>
            </a:xfrm>
          </p:grpSpPr>
          <p:sp>
            <p:nvSpPr>
              <p:cNvPr id="272" name=""/>
              <p:cNvSpPr/>
              <p:nvPr/>
            </p:nvSpPr>
            <p:spPr>
              <a:xfrm>
                <a:off x="7401240" y="3110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70080" y="302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82240" y="30240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75" name=""/>
          <p:cNvGraphicFramePr/>
          <p:nvPr/>
        </p:nvGraphicFramePr>
        <p:xfrm>
          <a:off x="5711760" y="3149640"/>
          <a:ext cx="2509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314964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7686720" y="4309920"/>
          <a:ext cx="25092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86720" y="430992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202440" y="3165480"/>
          <a:ext cx="2509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02440" y="316548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"/>
          <p:cNvGrpSpPr/>
          <p:nvPr/>
        </p:nvGrpSpPr>
        <p:grpSpPr>
          <a:xfrm>
            <a:off x="4853160" y="2933640"/>
            <a:ext cx="380880" cy="286920"/>
            <a:chOff x="4853160" y="2933640"/>
            <a:chExt cx="380880" cy="286920"/>
          </a:xfrm>
        </p:grpSpPr>
        <p:grpSp>
          <p:nvGrpSpPr>
            <p:cNvPr id="282" name=""/>
            <p:cNvGrpSpPr/>
            <p:nvPr/>
          </p:nvGrpSpPr>
          <p:grpSpPr>
            <a:xfrm>
              <a:off x="4853160" y="3147480"/>
              <a:ext cx="380880" cy="73080"/>
              <a:chOff x="4853160" y="3147480"/>
              <a:chExt cx="380880" cy="73080"/>
            </a:xfrm>
          </p:grpSpPr>
          <p:sp>
            <p:nvSpPr>
              <p:cNvPr id="283" name=""/>
              <p:cNvSpPr/>
              <p:nvPr/>
            </p:nvSpPr>
            <p:spPr>
              <a:xfrm>
                <a:off x="4853160" y="3147480"/>
                <a:ext cx="38088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74400" y="316224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35040" y="316224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918320" y="2933640"/>
              <a:ext cx="244440" cy="213120"/>
              <a:chOff x="4918320" y="2933640"/>
              <a:chExt cx="244440" cy="213120"/>
            </a:xfrm>
          </p:grpSpPr>
          <p:sp>
            <p:nvSpPr>
              <p:cNvPr id="287" name=""/>
              <p:cNvSpPr/>
              <p:nvPr/>
            </p:nvSpPr>
            <p:spPr>
              <a:xfrm>
                <a:off x="4918320" y="293364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33800" y="295164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22440" y="295164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130360" y="296136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31800" y="304308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31800" y="307728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31800" y="311040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4939920" y="2945520"/>
              <a:ext cx="19836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848120" y="2330280"/>
            <a:ext cx="381240" cy="287640"/>
            <a:chOff x="4848120" y="2330280"/>
            <a:chExt cx="381240" cy="287640"/>
          </a:xfrm>
        </p:grpSpPr>
        <p:grpSp>
          <p:nvGrpSpPr>
            <p:cNvPr id="296" name=""/>
            <p:cNvGrpSpPr/>
            <p:nvPr/>
          </p:nvGrpSpPr>
          <p:grpSpPr>
            <a:xfrm>
              <a:off x="4848120" y="2544480"/>
              <a:ext cx="381240" cy="73440"/>
              <a:chOff x="4848120" y="2544480"/>
              <a:chExt cx="381240" cy="73440"/>
            </a:xfrm>
          </p:grpSpPr>
          <p:sp>
            <p:nvSpPr>
              <p:cNvPr id="297" name=""/>
              <p:cNvSpPr/>
              <p:nvPr/>
            </p:nvSpPr>
            <p:spPr>
              <a:xfrm>
                <a:off x="4848120" y="2544480"/>
                <a:ext cx="381240" cy="734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69360" y="255960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30360" y="255960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913280" y="2330280"/>
              <a:ext cx="244440" cy="213480"/>
              <a:chOff x="4913280" y="2330280"/>
              <a:chExt cx="244440" cy="213480"/>
            </a:xfrm>
          </p:grpSpPr>
          <p:sp>
            <p:nvSpPr>
              <p:cNvPr id="301" name=""/>
              <p:cNvSpPr/>
              <p:nvPr/>
            </p:nvSpPr>
            <p:spPr>
              <a:xfrm>
                <a:off x="4913280" y="2330280"/>
                <a:ext cx="244440" cy="21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28760" y="234828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17400" y="234828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25320" y="235800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26760" y="244008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26760" y="247428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26760" y="250740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934880" y="2342160"/>
              <a:ext cx="198720" cy="18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6527880" y="3131640"/>
            <a:ext cx="1455480" cy="218916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700680" y="3335040"/>
            <a:ext cx="1366200" cy="207720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040600" y="1565280"/>
            <a:ext cx="625320" cy="367920"/>
            <a:chOff x="8040600" y="1565280"/>
            <a:chExt cx="625320" cy="367920"/>
          </a:xfrm>
        </p:grpSpPr>
        <p:sp>
          <p:nvSpPr>
            <p:cNvPr id="312" name=""/>
            <p:cNvSpPr/>
            <p:nvPr/>
          </p:nvSpPr>
          <p:spPr>
            <a:xfrm>
              <a:off x="8045640" y="1729440"/>
              <a:ext cx="620280" cy="2037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5640" y="171216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5920" y="171216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45640" y="1712160"/>
              <a:ext cx="614880" cy="12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40600" y="1565280"/>
              <a:ext cx="619920" cy="237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8189640" y="1617480"/>
              <a:ext cx="307080" cy="138600"/>
              <a:chOff x="8189640" y="1617480"/>
              <a:chExt cx="307080" cy="13860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8189640" y="161748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00240" y="175608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90440" y="162036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8189640" y="1615320"/>
              <a:ext cx="307080" cy="138600"/>
              <a:chOff x="8189640" y="1615320"/>
              <a:chExt cx="307080" cy="138600"/>
            </a:xfrm>
          </p:grpSpPr>
          <p:sp>
            <p:nvSpPr>
              <p:cNvPr id="322" name=""/>
              <p:cNvSpPr/>
              <p:nvPr/>
            </p:nvSpPr>
            <p:spPr>
              <a:xfrm>
                <a:off x="8189640" y="175104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400240" y="161532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8290440" y="161532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8113680" y="2203560"/>
            <a:ext cx="814320" cy="1033200"/>
            <a:chOff x="8113680" y="2203560"/>
            <a:chExt cx="814320" cy="1033200"/>
          </a:xfrm>
        </p:grpSpPr>
        <p:grpSp>
          <p:nvGrpSpPr>
            <p:cNvPr id="326" name=""/>
            <p:cNvGrpSpPr/>
            <p:nvPr/>
          </p:nvGrpSpPr>
          <p:grpSpPr>
            <a:xfrm>
              <a:off x="8172360" y="2203560"/>
              <a:ext cx="709560" cy="823680"/>
              <a:chOff x="8172360" y="2203560"/>
              <a:chExt cx="709560" cy="823680"/>
            </a:xfrm>
          </p:grpSpPr>
          <p:sp>
            <p:nvSpPr>
              <p:cNvPr id="327" name=""/>
              <p:cNvSpPr/>
              <p:nvPr/>
            </p:nvSpPr>
            <p:spPr>
              <a:xfrm>
                <a:off x="8205480" y="22035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172360" y="222732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177040" y="223200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172360" y="2570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181720" y="2708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81720" y="2846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8113680" y="22291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7991640" y="2987640"/>
          <a:ext cx="2505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91640" y="298764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693200" y="4800600"/>
          <a:ext cx="250560" cy="42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3200" y="480060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 flipH="1" flipV="1">
            <a:off x="8066160" y="2904840"/>
            <a:ext cx="2232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80000" y="5392800"/>
            <a:ext cx="814320" cy="1033200"/>
            <a:chOff x="5580000" y="5392800"/>
            <a:chExt cx="814320" cy="1033200"/>
          </a:xfrm>
        </p:grpSpPr>
        <p:grpSp>
          <p:nvGrpSpPr>
            <p:cNvPr id="340" name=""/>
            <p:cNvGrpSpPr/>
            <p:nvPr/>
          </p:nvGrpSpPr>
          <p:grpSpPr>
            <a:xfrm>
              <a:off x="5638680" y="5392800"/>
              <a:ext cx="709560" cy="823680"/>
              <a:chOff x="5638680" y="5392800"/>
              <a:chExt cx="709560" cy="823680"/>
            </a:xfrm>
          </p:grpSpPr>
          <p:sp>
            <p:nvSpPr>
              <p:cNvPr id="341" name=""/>
              <p:cNvSpPr/>
              <p:nvPr/>
            </p:nvSpPr>
            <p:spPr>
              <a:xfrm>
                <a:off x="5671800" y="539280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38680" y="541656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43360" y="542124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38680" y="5759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648040" y="5897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48040" y="6035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580000" y="541836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54720" y="5348160"/>
            <a:ext cx="379440" cy="325440"/>
            <a:chOff x="6354720" y="5348160"/>
            <a:chExt cx="379440" cy="325440"/>
          </a:xfrm>
        </p:grpSpPr>
        <p:pic>
          <p:nvPicPr>
            <p:cNvPr id="349" name="" descr=""/>
            <p:cNvPicPr/>
            <p:nvPr/>
          </p:nvPicPr>
          <p:blipFill>
            <a:blip r:embed="rId17"/>
            <a:stretch/>
          </p:blipFill>
          <p:spPr>
            <a:xfrm>
              <a:off x="6354720" y="534816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8"/>
            <a:stretch/>
          </p:blipFill>
          <p:spPr>
            <a:xfrm>
              <a:off x="6435000" y="538668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6661080" y="5407200"/>
            <a:ext cx="8280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hone3"/>
          <p:cNvSpPr/>
          <p:nvPr/>
        </p:nvSpPr>
        <p:spPr>
          <a:xfrm>
            <a:off x="5359320" y="2376360"/>
            <a:ext cx="231840" cy="265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hone3"/>
          <p:cNvSpPr/>
          <p:nvPr/>
        </p:nvSpPr>
        <p:spPr>
          <a:xfrm>
            <a:off x="5400720" y="2962440"/>
            <a:ext cx="231840" cy="264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138640" y="2523600"/>
            <a:ext cx="238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154480" y="3129120"/>
            <a:ext cx="2383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291440" y="5437080"/>
            <a:ext cx="82440" cy="1810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78600" y="2448000"/>
            <a:ext cx="1150920" cy="236052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059080" y="2624040"/>
            <a:ext cx="1106280" cy="217800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106960" y="1542960"/>
            <a:ext cx="814320" cy="1033200"/>
            <a:chOff x="5106960" y="1542960"/>
            <a:chExt cx="814320" cy="1033200"/>
          </a:xfrm>
        </p:grpSpPr>
        <p:grpSp>
          <p:nvGrpSpPr>
            <p:cNvPr id="360" name=""/>
            <p:cNvGrpSpPr/>
            <p:nvPr/>
          </p:nvGrpSpPr>
          <p:grpSpPr>
            <a:xfrm>
              <a:off x="5165640" y="1542960"/>
              <a:ext cx="709560" cy="823680"/>
              <a:chOff x="5165640" y="1542960"/>
              <a:chExt cx="709560" cy="823680"/>
            </a:xfrm>
          </p:grpSpPr>
          <p:sp>
            <p:nvSpPr>
              <p:cNvPr id="361" name=""/>
              <p:cNvSpPr/>
              <p:nvPr/>
            </p:nvSpPr>
            <p:spPr>
              <a:xfrm>
                <a:off x="5198760" y="15429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65640" y="156672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70320" y="157140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65640" y="19094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175000" y="2047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75000" y="21859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106960" y="15685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835680" y="4968720"/>
            <a:ext cx="271440" cy="328680"/>
          </a:xfrm>
          <a:prstGeom prst="sun">
            <a:avLst>
              <a:gd name="adj" fmla="val 37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Cloud"/>
          <p:cNvSpPr/>
          <p:nvPr/>
        </p:nvSpPr>
        <p:spPr>
          <a:xfrm>
            <a:off x="7105680" y="1446120"/>
            <a:ext cx="1785960" cy="792360"/>
          </a:xfrm>
          <a:prstGeom prst="pi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D2E-CA2D-4EA4-994E-486CEF8F16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etscape Solutio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multiple concurrent connections to improve respons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parts of Web page arrive independ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grab more of the network bandwidth than other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n’t necessarily improve respons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loss recovery ends up being timeout dominated because windows are sm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333-F4AF-40DF-A543-C82C11A276F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TTP 1.1: Persistent Conne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connection open for a time after server response so that multiple requests can ride on single conne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&gt; reduced connection setup overh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index.ht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: keep-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HTTP requests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banner.gi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: clo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6AE-DF37-4FC4-A2A6-4E42BDDC5B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ersistent Conne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304920" y="1752480"/>
            <a:ext cx="8458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3504960" y="1828440"/>
            <a:ext cx="91116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6553080" y="18288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4340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53080" y="190512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343400" y="243828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4343400" y="274320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4343400" y="3124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343400" y="33526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343400" y="373392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343400" y="396252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4343400" y="43434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343400" y="26668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019920" y="32767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019920" y="4114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019920" y="24382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343400" y="4038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90920" y="2286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320004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590920" y="32004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320004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590920" y="45720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R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20004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629400" y="274320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29400" y="2743200"/>
            <a:ext cx="0" cy="304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0880" y="259092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Client sends HTTP request for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0880" y="36576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arses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sends HTTP request for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80880" y="4952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6291a"/>
                </a:solidFill>
                <a:latin typeface="Arial"/>
              </a:rPr>
              <a:t>Image begins to ar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19920" y="36576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29400" y="3962520"/>
            <a:ext cx="2057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reads from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629400" y="3962520"/>
            <a:ext cx="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67080" y="3352680"/>
            <a:ext cx="0" cy="30492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89548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060-6BA1-4FA3-9EA4-C2325DF9EA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nection length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does the data e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persistent connections, when connection clos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persistent connections, reply header includes content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748-B3C6-481B-AF0D-8452E9ABD07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1444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n-persistent and persistent connecti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95000" y="981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-persist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parses request, responds, and closes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RTTs to fetch each 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bject transfer suffers from slow st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428720" y="97128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for 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same TCP connection: server, parses request, responds, parses new request,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sends requests for all referenced objects as soon as it receives base HT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er RTTs and less slow st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354960" y="5398920"/>
            <a:ext cx="39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t most 1.0 browsers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allel TCP conn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78A-8CD0-485C-BB46-27732BC8FCD4}" type="slidenum">
              <a:t>4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ersistent Connec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550800" y="14108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ialized requests do not improve response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pelining reques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all – request HTML document and all emb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server to parse HTML fi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n’t consider client cached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list – request a set of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ed as a simple set of G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fet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arefully balance impact of unused data transf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93B-A0E6-4AE3-A270-D8F06662B29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ersistent Connection Performanc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nefits greatest for small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 resource utilization reduced due to fewer connection establishments and fewer active conne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CP behavior improv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er connections help adaptation to available bandwidt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r congestion window improves loss recove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FA0-D303-424A-8469-2AAC90CF07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ch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2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d balanc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s network and server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xy ca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e at the client 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D2E-B819-4EE0-A0D9-807963FD1E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eb Caches (proxy server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553760"/>
            <a:ext cx="3718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sets browser: Web accesses via web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sends all http requests to  web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object at web cache, web cache immediately returns object in http respon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 requests object from origin server, then returns http response to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431640" y="976320"/>
            <a:ext cx="806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ill client request without going to origi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040640" y="3413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970960" y="284148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767120" y="3102120"/>
            <a:ext cx="1327320" cy="59976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4692240" y="3195720"/>
            <a:ext cx="1351080" cy="6271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4737240" y="4295880"/>
            <a:ext cx="1401480" cy="7603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4721400" y="4416480"/>
            <a:ext cx="1403280" cy="78588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53240" y="5389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1422000">
            <a:off x="4759560" y="30844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19906800">
            <a:off x="4671360" y="4400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rot="1411200">
            <a:off x="4650120" y="350640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19861800">
            <a:off x="4737960" y="475236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726240" y="3095640"/>
            <a:ext cx="1401840" cy="7603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6721560" y="3238560"/>
            <a:ext cx="1403280" cy="78588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19906800">
            <a:off x="6604920" y="32000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19861800">
            <a:off x="6793920" y="351864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40640" y="4292640"/>
            <a:ext cx="1428480" cy="66816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6778800" y="4432320"/>
            <a:ext cx="1350720" cy="6271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422000">
            <a:off x="6834240" y="43430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1411200">
            <a:off x="6632640" y="47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129880" y="547704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066160" y="2131920"/>
            <a:ext cx="93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8263080" y="2700360"/>
          <a:ext cx="5461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2700360"/>
                    <a:ext cx="5461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"/>
          <p:cNvGraphicFramePr/>
          <p:nvPr/>
        </p:nvGraphicFramePr>
        <p:xfrm>
          <a:off x="8245440" y="4711680"/>
          <a:ext cx="55728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5440" y="4711680"/>
                    <a:ext cx="5572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7" name=""/>
          <p:cNvGraphicFramePr/>
          <p:nvPr/>
        </p:nvGraphicFramePr>
        <p:xfrm>
          <a:off x="6149880" y="3670200"/>
          <a:ext cx="534960" cy="7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9880" y="3670200"/>
                    <a:ext cx="5349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9" name=""/>
          <p:cNvGrpSpPr/>
          <p:nvPr/>
        </p:nvGrpSpPr>
        <p:grpSpPr>
          <a:xfrm>
            <a:off x="4068720" y="2906640"/>
            <a:ext cx="649440" cy="533160"/>
            <a:chOff x="4068720" y="2906640"/>
            <a:chExt cx="649440" cy="533160"/>
          </a:xfrm>
        </p:grpSpPr>
        <p:grpSp>
          <p:nvGrpSpPr>
            <p:cNvPr id="1320" name=""/>
            <p:cNvGrpSpPr/>
            <p:nvPr/>
          </p:nvGrpSpPr>
          <p:grpSpPr>
            <a:xfrm>
              <a:off x="4068720" y="3303720"/>
              <a:ext cx="649440" cy="136080"/>
              <a:chOff x="4068720" y="3303720"/>
              <a:chExt cx="649440" cy="136080"/>
            </a:xfrm>
          </p:grpSpPr>
          <p:sp>
            <p:nvSpPr>
              <p:cNvPr id="1321" name=""/>
              <p:cNvSpPr/>
              <p:nvPr/>
            </p:nvSpPr>
            <p:spPr>
              <a:xfrm>
                <a:off x="4068720" y="3303720"/>
                <a:ext cx="649440" cy="136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105080" y="3331440"/>
                <a:ext cx="431640" cy="8676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549320" y="3331440"/>
                <a:ext cx="131760" cy="8676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4179960" y="2906640"/>
              <a:ext cx="416520" cy="396000"/>
              <a:chOff x="4179960" y="2906640"/>
              <a:chExt cx="416520" cy="396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179960" y="2906640"/>
                <a:ext cx="416520" cy="39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206600" y="2940120"/>
                <a:ext cx="361440" cy="33264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528080" y="2940120"/>
                <a:ext cx="38880" cy="33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541400" y="2958480"/>
                <a:ext cx="10800" cy="6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543920" y="3110040"/>
                <a:ext cx="4680" cy="5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543920" y="3173400"/>
                <a:ext cx="4680" cy="6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543920" y="3235320"/>
                <a:ext cx="4680" cy="3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4216680" y="2928960"/>
              <a:ext cx="338400" cy="338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4068720" y="4870440"/>
            <a:ext cx="649440" cy="533160"/>
            <a:chOff x="4068720" y="4870440"/>
            <a:chExt cx="649440" cy="533160"/>
          </a:xfrm>
        </p:grpSpPr>
        <p:grpSp>
          <p:nvGrpSpPr>
            <p:cNvPr id="1334" name=""/>
            <p:cNvGrpSpPr/>
            <p:nvPr/>
          </p:nvGrpSpPr>
          <p:grpSpPr>
            <a:xfrm>
              <a:off x="4068720" y="5267520"/>
              <a:ext cx="649440" cy="136080"/>
              <a:chOff x="4068720" y="5267520"/>
              <a:chExt cx="649440" cy="136080"/>
            </a:xfrm>
          </p:grpSpPr>
          <p:sp>
            <p:nvSpPr>
              <p:cNvPr id="1335" name=""/>
              <p:cNvSpPr/>
              <p:nvPr/>
            </p:nvSpPr>
            <p:spPr>
              <a:xfrm>
                <a:off x="4068720" y="5267520"/>
                <a:ext cx="649440" cy="136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105080" y="5295240"/>
                <a:ext cx="431640" cy="8676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549320" y="5295240"/>
                <a:ext cx="131760" cy="8676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4179960" y="4870440"/>
              <a:ext cx="416520" cy="396000"/>
              <a:chOff x="4179960" y="4870440"/>
              <a:chExt cx="416520" cy="396000"/>
            </a:xfrm>
          </p:grpSpPr>
          <p:sp>
            <p:nvSpPr>
              <p:cNvPr id="1339" name=""/>
              <p:cNvSpPr/>
              <p:nvPr/>
            </p:nvSpPr>
            <p:spPr>
              <a:xfrm>
                <a:off x="4179960" y="4870440"/>
                <a:ext cx="416520" cy="39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206600" y="4903920"/>
                <a:ext cx="361440" cy="33264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528080" y="4903920"/>
                <a:ext cx="38880" cy="33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541400" y="4922280"/>
                <a:ext cx="10800" cy="6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543920" y="5073840"/>
                <a:ext cx="4680" cy="5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543920" y="5137200"/>
                <a:ext cx="4680" cy="6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543920" y="5199120"/>
                <a:ext cx="4680" cy="3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216680" y="4892760"/>
              <a:ext cx="338400" cy="338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74F-8B52-4F01-9EEE-D4ACB4059D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 flipH="1">
            <a:off x="7269120" y="2887560"/>
            <a:ext cx="517680" cy="258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6900840" y="2006640"/>
            <a:ext cx="449280" cy="487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Cloud"/>
          <p:cNvSpPr/>
          <p:nvPr/>
        </p:nvSpPr>
        <p:spPr>
          <a:xfrm>
            <a:off x="5294160" y="2274840"/>
            <a:ext cx="2113200" cy="1629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enefits of Web Caching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su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che is “close” to client (e.g., in same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response time: cache “closer” to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rease traffic to distant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out of institutional/local ISP network often bottleneck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6848640" y="5815080"/>
            <a:ext cx="15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oxy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67360" y="2238480"/>
            <a:ext cx="498240" cy="350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126120" y="143676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32360" y="1992240"/>
            <a:ext cx="111240" cy="468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145200" y="3379680"/>
            <a:ext cx="501840" cy="233280"/>
            <a:chOff x="6145200" y="3379680"/>
            <a:chExt cx="501840" cy="233280"/>
          </a:xfrm>
        </p:grpSpPr>
        <p:sp>
          <p:nvSpPr>
            <p:cNvPr id="1357" name=""/>
            <p:cNvSpPr/>
            <p:nvPr/>
          </p:nvSpPr>
          <p:spPr>
            <a:xfrm>
              <a:off x="6149160" y="348372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49160" y="3472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647040" y="3472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149160" y="347292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145200" y="337968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6264720" y="3412440"/>
              <a:ext cx="246240" cy="88560"/>
              <a:chOff x="6264720" y="3412440"/>
              <a:chExt cx="246240" cy="88560"/>
            </a:xfrm>
          </p:grpSpPr>
          <p:sp>
            <p:nvSpPr>
              <p:cNvPr id="1363" name=""/>
              <p:cNvSpPr/>
              <p:nvPr/>
            </p:nvSpPr>
            <p:spPr>
              <a:xfrm flipV="1">
                <a:off x="6264720" y="3412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433560" y="3501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345720" y="34146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6264720" y="3411360"/>
              <a:ext cx="246240" cy="88560"/>
              <a:chOff x="6264720" y="3411360"/>
              <a:chExt cx="246240" cy="88560"/>
            </a:xfrm>
          </p:grpSpPr>
          <p:sp>
            <p:nvSpPr>
              <p:cNvPr id="1367" name=""/>
              <p:cNvSpPr/>
              <p:nvPr/>
            </p:nvSpPr>
            <p:spPr>
              <a:xfrm>
                <a:off x="6264720" y="3498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33560" y="341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6345720" y="34113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0" name=""/>
          <p:cNvSpPr/>
          <p:nvPr/>
        </p:nvSpPr>
        <p:spPr>
          <a:xfrm>
            <a:off x="4583160" y="4330800"/>
            <a:ext cx="3585960" cy="1606320"/>
          </a:xfrm>
          <a:custGeom>
            <a:avLst/>
            <a:gdLst/>
            <a:ahLst/>
            <a:rect l="l" t="t" r="r" b="b"/>
            <a:pathLst>
              <a:path w="2259" h="1012">
                <a:moveTo>
                  <a:pt x="0" y="488"/>
                </a:moveTo>
                <a:cubicBezTo>
                  <a:pt x="2" y="348"/>
                  <a:pt x="34" y="120"/>
                  <a:pt x="199" y="60"/>
                </a:cubicBezTo>
                <a:cubicBezTo>
                  <a:pt x="364" y="0"/>
                  <a:pt x="797" y="119"/>
                  <a:pt x="989" y="125"/>
                </a:cubicBezTo>
                <a:cubicBezTo>
                  <a:pt x="1181" y="131"/>
                  <a:pt x="1231" y="104"/>
                  <a:pt x="1351" y="96"/>
                </a:cubicBezTo>
                <a:cubicBezTo>
                  <a:pt x="1471" y="88"/>
                  <a:pt x="1571" y="61"/>
                  <a:pt x="1707" y="75"/>
                </a:cubicBezTo>
                <a:cubicBezTo>
                  <a:pt x="1843" y="89"/>
                  <a:pt x="2083" y="99"/>
                  <a:pt x="2169" y="182"/>
                </a:cubicBezTo>
                <a:cubicBezTo>
                  <a:pt x="2255" y="265"/>
                  <a:pt x="2259" y="446"/>
                  <a:pt x="2226" y="572"/>
                </a:cubicBezTo>
                <a:cubicBezTo>
                  <a:pt x="2193" y="698"/>
                  <a:pt x="2097" y="873"/>
                  <a:pt x="1970" y="941"/>
                </a:cubicBezTo>
                <a:cubicBezTo>
                  <a:pt x="1843" y="1009"/>
                  <a:pt x="1634" y="977"/>
                  <a:pt x="1463" y="982"/>
                </a:cubicBezTo>
                <a:cubicBezTo>
                  <a:pt x="1292" y="987"/>
                  <a:pt x="1108" y="967"/>
                  <a:pt x="946" y="970"/>
                </a:cubicBezTo>
                <a:cubicBezTo>
                  <a:pt x="784" y="973"/>
                  <a:pt x="618" y="1012"/>
                  <a:pt x="491" y="1000"/>
                </a:cubicBezTo>
                <a:cubicBezTo>
                  <a:pt x="364" y="988"/>
                  <a:pt x="267" y="985"/>
                  <a:pt x="185" y="900"/>
                </a:cubicBezTo>
                <a:cubicBezTo>
                  <a:pt x="103" y="815"/>
                  <a:pt x="3" y="635"/>
                  <a:pt x="0" y="48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72120" y="509436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181480" y="50943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691240" y="5103720"/>
            <a:ext cx="0" cy="1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229440" y="50990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29480" y="509904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367760" y="50943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6145200" y="4670280"/>
            <a:ext cx="501840" cy="233280"/>
            <a:chOff x="6145200" y="4670280"/>
            <a:chExt cx="501840" cy="233280"/>
          </a:xfrm>
        </p:grpSpPr>
        <p:sp>
          <p:nvSpPr>
            <p:cNvPr id="1378" name=""/>
            <p:cNvSpPr/>
            <p:nvPr/>
          </p:nvSpPr>
          <p:spPr>
            <a:xfrm>
              <a:off x="6149160" y="4774320"/>
              <a:ext cx="497520" cy="1292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149160" y="4763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47040" y="4763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49160" y="476352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45200" y="4670280"/>
              <a:ext cx="497160" cy="150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3" name=""/>
            <p:cNvGrpSpPr/>
            <p:nvPr/>
          </p:nvGrpSpPr>
          <p:grpSpPr>
            <a:xfrm>
              <a:off x="6264720" y="4703040"/>
              <a:ext cx="246240" cy="88560"/>
              <a:chOff x="6264720" y="4703040"/>
              <a:chExt cx="246240" cy="88560"/>
            </a:xfrm>
          </p:grpSpPr>
          <p:sp>
            <p:nvSpPr>
              <p:cNvPr id="1384" name=""/>
              <p:cNvSpPr/>
              <p:nvPr/>
            </p:nvSpPr>
            <p:spPr>
              <a:xfrm flipV="1">
                <a:off x="6264720" y="4703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33560" y="479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345720" y="47052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6264720" y="4701960"/>
              <a:ext cx="246240" cy="88560"/>
              <a:chOff x="6264720" y="4701960"/>
              <a:chExt cx="246240" cy="88560"/>
            </a:xfrm>
          </p:grpSpPr>
          <p:sp>
            <p:nvSpPr>
              <p:cNvPr id="1388" name=""/>
              <p:cNvSpPr/>
              <p:nvPr/>
            </p:nvSpPr>
            <p:spPr>
              <a:xfrm>
                <a:off x="6264720" y="4788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433560" y="4701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6345720" y="47019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1" name=""/>
          <p:cNvSpPr/>
          <p:nvPr/>
        </p:nvSpPr>
        <p:spPr>
          <a:xfrm>
            <a:off x="6391440" y="362268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396120" y="490860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700520" y="451332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614280" y="47829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395760" y="3811680"/>
            <a:ext cx="11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7151760" y="5207040"/>
          <a:ext cx="431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1760" y="520704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8" name=""/>
          <p:cNvGrpSpPr/>
          <p:nvPr/>
        </p:nvGrpSpPr>
        <p:grpSpPr>
          <a:xfrm>
            <a:off x="4960800" y="5278320"/>
            <a:ext cx="481320" cy="442800"/>
            <a:chOff x="4960800" y="5278320"/>
            <a:chExt cx="481320" cy="442800"/>
          </a:xfrm>
        </p:grpSpPr>
        <p:grpSp>
          <p:nvGrpSpPr>
            <p:cNvPr id="1399" name=""/>
            <p:cNvGrpSpPr/>
            <p:nvPr/>
          </p:nvGrpSpPr>
          <p:grpSpPr>
            <a:xfrm>
              <a:off x="4960800" y="5608080"/>
              <a:ext cx="481320" cy="113040"/>
              <a:chOff x="4960800" y="5608080"/>
              <a:chExt cx="481320" cy="113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4960800" y="5608080"/>
                <a:ext cx="48132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987800" y="5631120"/>
                <a:ext cx="32004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317200" y="5631120"/>
                <a:ext cx="9756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5043240" y="5278320"/>
              <a:ext cx="308880" cy="328680"/>
              <a:chOff x="5043240" y="5278320"/>
              <a:chExt cx="308880" cy="328680"/>
            </a:xfrm>
          </p:grpSpPr>
          <p:sp>
            <p:nvSpPr>
              <p:cNvPr id="1404" name=""/>
              <p:cNvSpPr/>
              <p:nvPr/>
            </p:nvSpPr>
            <p:spPr>
              <a:xfrm>
                <a:off x="5043240" y="5278320"/>
                <a:ext cx="30888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063040" y="5306040"/>
                <a:ext cx="26784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301360" y="5306040"/>
                <a:ext cx="2880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311080" y="5321160"/>
                <a:ext cx="792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312880" y="5447160"/>
                <a:ext cx="36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312880" y="5499720"/>
                <a:ext cx="360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312880" y="5551200"/>
                <a:ext cx="360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>
              <a:off x="5070240" y="5297040"/>
              <a:ext cx="25092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2" name=""/>
          <p:cNvGrpSpPr/>
          <p:nvPr/>
        </p:nvGrpSpPr>
        <p:grpSpPr>
          <a:xfrm>
            <a:off x="5479920" y="5275440"/>
            <a:ext cx="492120" cy="442800"/>
            <a:chOff x="5479920" y="5275440"/>
            <a:chExt cx="492120" cy="442800"/>
          </a:xfrm>
        </p:grpSpPr>
        <p:grpSp>
          <p:nvGrpSpPr>
            <p:cNvPr id="1413" name=""/>
            <p:cNvGrpSpPr/>
            <p:nvPr/>
          </p:nvGrpSpPr>
          <p:grpSpPr>
            <a:xfrm>
              <a:off x="5479920" y="5605200"/>
              <a:ext cx="492120" cy="113040"/>
              <a:chOff x="5479920" y="5605200"/>
              <a:chExt cx="492120" cy="113040"/>
            </a:xfrm>
          </p:grpSpPr>
          <p:sp>
            <p:nvSpPr>
              <p:cNvPr id="1414" name=""/>
              <p:cNvSpPr/>
              <p:nvPr/>
            </p:nvSpPr>
            <p:spPr>
              <a:xfrm>
                <a:off x="5479920" y="5605200"/>
                <a:ext cx="49212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507640" y="5628240"/>
                <a:ext cx="32724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844240" y="5628240"/>
                <a:ext cx="10008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5564160" y="5275440"/>
              <a:ext cx="315720" cy="328680"/>
              <a:chOff x="5564160" y="5275440"/>
              <a:chExt cx="315720" cy="328680"/>
            </a:xfrm>
          </p:grpSpPr>
          <p:sp>
            <p:nvSpPr>
              <p:cNvPr id="1418" name=""/>
              <p:cNvSpPr/>
              <p:nvPr/>
            </p:nvSpPr>
            <p:spPr>
              <a:xfrm>
                <a:off x="5564160" y="5275440"/>
                <a:ext cx="31572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584320" y="5303160"/>
                <a:ext cx="27396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28040" y="5303160"/>
                <a:ext cx="2952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38120" y="5318280"/>
                <a:ext cx="828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39920" y="5444280"/>
                <a:ext cx="36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39920" y="5496840"/>
                <a:ext cx="360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39920" y="5548320"/>
                <a:ext cx="360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5591880" y="5294160"/>
              <a:ext cx="25632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6056280" y="5272200"/>
            <a:ext cx="479520" cy="442800"/>
            <a:chOff x="6056280" y="5272200"/>
            <a:chExt cx="479520" cy="442800"/>
          </a:xfrm>
        </p:grpSpPr>
        <p:grpSp>
          <p:nvGrpSpPr>
            <p:cNvPr id="1427" name=""/>
            <p:cNvGrpSpPr/>
            <p:nvPr/>
          </p:nvGrpSpPr>
          <p:grpSpPr>
            <a:xfrm>
              <a:off x="6056280" y="5601960"/>
              <a:ext cx="479520" cy="113040"/>
              <a:chOff x="6056280" y="5601960"/>
              <a:chExt cx="479520" cy="113040"/>
            </a:xfrm>
          </p:grpSpPr>
          <p:sp>
            <p:nvSpPr>
              <p:cNvPr id="1428" name=""/>
              <p:cNvSpPr/>
              <p:nvPr/>
            </p:nvSpPr>
            <p:spPr>
              <a:xfrm>
                <a:off x="6056280" y="5601960"/>
                <a:ext cx="47952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083280" y="5625000"/>
                <a:ext cx="31896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11240" y="5625000"/>
                <a:ext cx="9720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6138360" y="5272200"/>
              <a:ext cx="307800" cy="328680"/>
              <a:chOff x="6138360" y="5272200"/>
              <a:chExt cx="307800" cy="328680"/>
            </a:xfrm>
          </p:grpSpPr>
          <p:sp>
            <p:nvSpPr>
              <p:cNvPr id="1432" name=""/>
              <p:cNvSpPr/>
              <p:nvPr/>
            </p:nvSpPr>
            <p:spPr>
              <a:xfrm>
                <a:off x="6138360" y="5272200"/>
                <a:ext cx="30780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58160" y="5299920"/>
                <a:ext cx="26712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395400" y="5299920"/>
                <a:ext cx="2880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05480" y="5315040"/>
                <a:ext cx="792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07280" y="5441040"/>
                <a:ext cx="36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407280" y="5493600"/>
                <a:ext cx="360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407280" y="5545080"/>
                <a:ext cx="360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9" name=""/>
            <p:cNvSpPr/>
            <p:nvPr/>
          </p:nvSpPr>
          <p:spPr>
            <a:xfrm>
              <a:off x="6165360" y="5290920"/>
              <a:ext cx="24984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6586560" y="5268960"/>
            <a:ext cx="457200" cy="442800"/>
            <a:chOff x="6586560" y="5268960"/>
            <a:chExt cx="457200" cy="442800"/>
          </a:xfrm>
        </p:grpSpPr>
        <p:grpSp>
          <p:nvGrpSpPr>
            <p:cNvPr id="1441" name=""/>
            <p:cNvGrpSpPr/>
            <p:nvPr/>
          </p:nvGrpSpPr>
          <p:grpSpPr>
            <a:xfrm>
              <a:off x="6586560" y="5598720"/>
              <a:ext cx="457200" cy="113040"/>
              <a:chOff x="6586560" y="5598720"/>
              <a:chExt cx="457200" cy="113040"/>
            </a:xfrm>
          </p:grpSpPr>
          <p:sp>
            <p:nvSpPr>
              <p:cNvPr id="1442" name=""/>
              <p:cNvSpPr/>
              <p:nvPr/>
            </p:nvSpPr>
            <p:spPr>
              <a:xfrm>
                <a:off x="6586560" y="5598720"/>
                <a:ext cx="457200" cy="1130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612120" y="5621760"/>
                <a:ext cx="303840" cy="720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924960" y="5621760"/>
                <a:ext cx="92880" cy="720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6665040" y="5268960"/>
              <a:ext cx="293400" cy="328680"/>
              <a:chOff x="6665040" y="5268960"/>
              <a:chExt cx="293400" cy="328680"/>
            </a:xfrm>
          </p:grpSpPr>
          <p:sp>
            <p:nvSpPr>
              <p:cNvPr id="1446" name=""/>
              <p:cNvSpPr/>
              <p:nvPr/>
            </p:nvSpPr>
            <p:spPr>
              <a:xfrm>
                <a:off x="6665040" y="5268960"/>
                <a:ext cx="293400" cy="328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683760" y="5296680"/>
                <a:ext cx="254520" cy="2761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910200" y="5296680"/>
                <a:ext cx="27360" cy="276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919560" y="5311800"/>
                <a:ext cx="7560" cy="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921360" y="5437800"/>
                <a:ext cx="324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921360" y="5490360"/>
                <a:ext cx="3240" cy="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21360" y="5541840"/>
                <a:ext cx="3240" cy="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>
              <a:off x="6690600" y="5287680"/>
              <a:ext cx="238320" cy="280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54" name=""/>
          <p:cNvGraphicFramePr/>
          <p:nvPr/>
        </p:nvGraphicFramePr>
        <p:xfrm>
          <a:off x="7705800" y="2590920"/>
          <a:ext cx="43164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5800" y="259092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6" name=""/>
          <p:cNvGraphicFramePr/>
          <p:nvPr/>
        </p:nvGraphicFramePr>
        <p:xfrm>
          <a:off x="7256520" y="1641600"/>
          <a:ext cx="43164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6520" y="164160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8" name=""/>
          <p:cNvGraphicFramePr/>
          <p:nvPr/>
        </p:nvGraphicFramePr>
        <p:xfrm>
          <a:off x="5556240" y="1420920"/>
          <a:ext cx="43164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56240" y="142092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0" name=""/>
          <p:cNvGraphicFramePr/>
          <p:nvPr/>
        </p:nvGraphicFramePr>
        <p:xfrm>
          <a:off x="4680000" y="1744560"/>
          <a:ext cx="431640" cy="61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0000" y="1744560"/>
                    <a:ext cx="431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EE6-6961-4656-8460-BA095C10F2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etwork applications: some jargon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225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program that is running within a h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the same host, two processes communicate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fined by the 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es running in different hosts communicate with 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pplication-lay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47960" y="1181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r ag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interface between the user and the network appl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:brow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: mail r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audio/video: media p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928-F22C-4B04-AAB7-F55F83E6F58C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ching architec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87480" y="11854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xy Ca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 a specific client popul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store recently accessed docu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er latency for the end us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ter use of wide area bandwidth by avoiding repeated transfers of recently-used inform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perative cac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e communicating ca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hit rate and reduce access late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aches to cooperative cac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erarchical cach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hierarchical routable cache syste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D45-2445-4C60-A115-92650BC38D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285840" y="6192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ow do hosts find one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7467480" y="2895480"/>
            <a:ext cx="1082880" cy="1613160"/>
          </a:xfrm>
          <a:prstGeom prst="rect">
            <a:avLst/>
          </a:prstGeom>
          <a:ln w="0">
            <a:noFill/>
          </a:ln>
        </p:spPr>
      </p:pic>
      <p:grpSp>
        <p:nvGrpSpPr>
          <p:cNvPr id="1466" name=""/>
          <p:cNvGrpSpPr/>
          <p:nvPr/>
        </p:nvGrpSpPr>
        <p:grpSpPr>
          <a:xfrm>
            <a:off x="914400" y="3309840"/>
            <a:ext cx="1441440" cy="1164960"/>
            <a:chOff x="914400" y="3309840"/>
            <a:chExt cx="1441440" cy="1164960"/>
          </a:xfrm>
        </p:grpSpPr>
        <p:pic>
          <p:nvPicPr>
            <p:cNvPr id="1467" name="" descr=""/>
            <p:cNvPicPr/>
            <p:nvPr/>
          </p:nvPicPr>
          <p:blipFill>
            <a:blip r:embed="rId2"/>
            <a:stretch/>
          </p:blipFill>
          <p:spPr>
            <a:xfrm>
              <a:off x="914400" y="330984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3"/>
            <a:stretch/>
          </p:blipFill>
          <p:spPr>
            <a:xfrm>
              <a:off x="1219320" y="344772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9" name=""/>
          <p:cNvSpPr/>
          <p:nvPr/>
        </p:nvSpPr>
        <p:spPr>
          <a:xfrm>
            <a:off x="1121400" y="2437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205000" y="3548160"/>
            <a:ext cx="149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095880" y="3608280"/>
            <a:ext cx="1314720" cy="2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24000" y="3728880"/>
            <a:ext cx="1533600" cy="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39000" y="38149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Cloud"/>
          <p:cNvSpPr/>
          <p:nvPr/>
        </p:nvSpPr>
        <p:spPr>
          <a:xfrm>
            <a:off x="3819600" y="3076560"/>
            <a:ext cx="2112840" cy="1628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C32-E936-4C56-90CB-A9EE24FF9C06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Domain Name System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17040" y="939960"/>
            <a:ext cx="331308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N, name, Passport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address (32 bit) - used for addressing dat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”, e.g., www.scar.utoronto.ca - used by hum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p between IP addresses and n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088880" y="933480"/>
            <a:ext cx="455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plemented in hierarchy of many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pplication-layer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st, routers, name servers to communicate to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resol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core Internet function implemented as application-lay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 at network’s “edg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22C-82F9-453D-B50A-E0A8C5C55480}" type="slidenum">
              <a:t>5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ding IP Addres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omain Name System (D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387360" y="3505320"/>
            <a:ext cx="1441440" cy="1164960"/>
            <a:chOff x="387360" y="3505320"/>
            <a:chExt cx="1441440" cy="1164960"/>
          </a:xfrm>
        </p:grpSpPr>
        <p:pic>
          <p:nvPicPr>
            <p:cNvPr id="1480" name="" descr=""/>
            <p:cNvPicPr/>
            <p:nvPr/>
          </p:nvPicPr>
          <p:blipFill>
            <a:blip r:embed="rId1"/>
            <a:stretch/>
          </p:blipFill>
          <p:spPr>
            <a:xfrm>
              <a:off x="387360" y="3505320"/>
              <a:ext cx="14414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2"/>
            <a:stretch/>
          </p:blipFill>
          <p:spPr>
            <a:xfrm>
              <a:off x="692280" y="3643200"/>
              <a:ext cx="60948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82" name=""/>
          <p:cNvGraphicFramePr/>
          <p:nvPr/>
        </p:nvGraphicFramePr>
        <p:xfrm>
          <a:off x="7772400" y="3276720"/>
          <a:ext cx="89532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3276720"/>
                    <a:ext cx="8953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1859040" y="3733920"/>
            <a:ext cx="5410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846800" y="3229560"/>
            <a:ext cx="54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What’s the IP address for www.utoronto.ca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5480" y="26341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879560" y="4495680"/>
            <a:ext cx="541008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782160" y="40374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2.150.160.4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618320" y="23623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cc"/>
                </a:solidFill>
                <a:latin typeface="Comic Sans MS"/>
              </a:rPr>
              <a:t>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B28-68DF-41B9-AA37-09AB9FF6076D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685800" y="2286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9144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main name (e.g.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ww.utoronto.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ly valid, human readable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NS translates name to IP address. (e.g. 142.150.160.4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ly valid, understood by all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ly, we need local area net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Ethernet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08-00-4a-22-1b-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ly unique, but used only within a particular local area network (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on this late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4CB-D1ED-40DF-A140-0770C2F45750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52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name serv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6680" y="1184040"/>
            <a:ext cx="420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rver has all name-to-IP address mapp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name serv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SP, company ha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local (default)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DNS query first goes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oritative name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host: stores that host’s IP address,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perform name/address translation for that host’s na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52440" y="10983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ffic 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ant centralized 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n’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cal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7B4-058D-47A1-9158-7E927EC8D492}" type="slidenum">
              <a:t>5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Root name serv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ed by local name server that can not resolve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 name serv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s authoritative name server if name mapping not kn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 ma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mapping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 dozen root name servers worldw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7" name="root-servers" descr=""/>
          <p:cNvPicPr/>
          <p:nvPr/>
        </p:nvPicPr>
        <p:blipFill>
          <a:blip r:embed="rId1"/>
          <a:stretch/>
        </p:blipFill>
        <p:spPr>
          <a:xfrm>
            <a:off x="3838680" y="1743120"/>
            <a:ext cx="509580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CD9-A683-4CCB-B555-A14444887EFA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imple DNS exampl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92240" y="1071720"/>
            <a:ext cx="45194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s IP addre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s its local DNS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1.scar.utoronto.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1.scar.utoronto.c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cts root name server, if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ot name server contacts authoritative name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cornell.edu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necessa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3683160" y="5246640"/>
            <a:ext cx="286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594120" y="52308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791320" y="7365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536880" y="340848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315040" y="32572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5429160" y="15616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34160" y="1743120"/>
            <a:ext cx="942840" cy="790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 flipV="1">
            <a:off x="6819840" y="1571760"/>
            <a:ext cx="107640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619600" y="1771560"/>
            <a:ext cx="733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4019760" y="3408480"/>
            <a:ext cx="2741040" cy="580680"/>
            <a:chOff x="4019760" y="3408480"/>
            <a:chExt cx="2741040" cy="580680"/>
          </a:xfrm>
        </p:grpSpPr>
        <p:sp>
          <p:nvSpPr>
            <p:cNvPr id="1511" name=""/>
            <p:cNvSpPr/>
            <p:nvPr/>
          </p:nvSpPr>
          <p:spPr>
            <a:xfrm>
              <a:off x="4448160" y="345744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019760" y="3408480"/>
              <a:ext cx="274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1.scar.utoronto.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5027760" y="41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57100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961680" y="203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29504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942160" y="210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56128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7653240" y="2637000"/>
          <a:ext cx="4762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3240" y="2637000"/>
                    <a:ext cx="4762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1" name=""/>
          <p:cNvGraphicFramePr/>
          <p:nvPr/>
        </p:nvGraphicFramePr>
        <p:xfrm>
          <a:off x="5199120" y="2575080"/>
          <a:ext cx="4190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2575080"/>
                    <a:ext cx="419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3" name=""/>
          <p:cNvGraphicFramePr/>
          <p:nvPr/>
        </p:nvGraphicFramePr>
        <p:xfrm>
          <a:off x="6365880" y="1057320"/>
          <a:ext cx="4539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5880" y="105732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5" name=""/>
          <p:cNvGrpSpPr/>
          <p:nvPr/>
        </p:nvGrpSpPr>
        <p:grpSpPr>
          <a:xfrm>
            <a:off x="7608960" y="4603680"/>
            <a:ext cx="741240" cy="603000"/>
            <a:chOff x="7608960" y="4603680"/>
            <a:chExt cx="741240" cy="603000"/>
          </a:xfrm>
        </p:grpSpPr>
        <p:grpSp>
          <p:nvGrpSpPr>
            <p:cNvPr id="1526" name=""/>
            <p:cNvGrpSpPr/>
            <p:nvPr/>
          </p:nvGrpSpPr>
          <p:grpSpPr>
            <a:xfrm>
              <a:off x="7608960" y="5052960"/>
              <a:ext cx="741240" cy="153720"/>
              <a:chOff x="7608960" y="5052960"/>
              <a:chExt cx="741240" cy="153720"/>
            </a:xfrm>
          </p:grpSpPr>
          <p:sp>
            <p:nvSpPr>
              <p:cNvPr id="1527" name=""/>
              <p:cNvSpPr/>
              <p:nvPr/>
            </p:nvSpPr>
            <p:spPr>
              <a:xfrm>
                <a:off x="7608960" y="505296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650720" y="508464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157600" y="508464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7736040" y="4603680"/>
              <a:ext cx="475560" cy="447480"/>
              <a:chOff x="7736040" y="4603680"/>
              <a:chExt cx="475560" cy="44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7736040" y="460368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766640" y="464184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133480" y="464184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148600" y="466236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151480" y="483372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8151480" y="490536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151480" y="497520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8" name=""/>
            <p:cNvSpPr/>
            <p:nvPr/>
          </p:nvSpPr>
          <p:spPr>
            <a:xfrm>
              <a:off x="7777800" y="462924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5005440" y="4641840"/>
            <a:ext cx="741240" cy="603000"/>
            <a:chOff x="5005440" y="4641840"/>
            <a:chExt cx="741240" cy="603000"/>
          </a:xfrm>
        </p:grpSpPr>
        <p:grpSp>
          <p:nvGrpSpPr>
            <p:cNvPr id="1540" name=""/>
            <p:cNvGrpSpPr/>
            <p:nvPr/>
          </p:nvGrpSpPr>
          <p:grpSpPr>
            <a:xfrm>
              <a:off x="5005440" y="5091120"/>
              <a:ext cx="741240" cy="153720"/>
              <a:chOff x="5005440" y="5091120"/>
              <a:chExt cx="741240" cy="153720"/>
            </a:xfrm>
          </p:grpSpPr>
          <p:sp>
            <p:nvSpPr>
              <p:cNvPr id="1541" name=""/>
              <p:cNvSpPr/>
              <p:nvPr/>
            </p:nvSpPr>
            <p:spPr>
              <a:xfrm>
                <a:off x="5005440" y="509112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047200" y="512280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54080" y="512280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5132520" y="4641840"/>
              <a:ext cx="475560" cy="447480"/>
              <a:chOff x="5132520" y="4641840"/>
              <a:chExt cx="475560" cy="447480"/>
            </a:xfrm>
          </p:grpSpPr>
          <p:sp>
            <p:nvSpPr>
              <p:cNvPr id="1545" name=""/>
              <p:cNvSpPr/>
              <p:nvPr/>
            </p:nvSpPr>
            <p:spPr>
              <a:xfrm>
                <a:off x="5132520" y="464184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163120" y="468000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529960" y="468000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545080" y="470052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47960" y="487188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47960" y="494352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547960" y="501336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174280" y="466740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CDB-D8B8-4543-85A7-82B031EA6A2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80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exampl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49280" y="1438200"/>
            <a:ext cx="333216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name serv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not know authoritative nam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know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ntermediate name serv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o to contact to find authoritative nam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/>
          <p:nvPr/>
        </p:nvSpPr>
        <p:spPr>
          <a:xfrm>
            <a:off x="3483360" y="5051520"/>
            <a:ext cx="286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260760" y="58402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24600" y="5652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229360" y="1536480"/>
            <a:ext cx="699840" cy="825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388200" y="1628640"/>
            <a:ext cx="707760" cy="743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 flipV="1">
            <a:off x="6461280" y="1444320"/>
            <a:ext cx="806400" cy="888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5419440" y="1633680"/>
            <a:ext cx="631800" cy="739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3651120" y="3232080"/>
            <a:ext cx="2619000" cy="611640"/>
            <a:chOff x="3651120" y="3232080"/>
            <a:chExt cx="2619000" cy="611640"/>
          </a:xfrm>
        </p:grpSpPr>
        <p:sp>
          <p:nvSpPr>
            <p:cNvPr id="1565" name=""/>
            <p:cNvSpPr/>
            <p:nvPr/>
          </p:nvSpPr>
          <p:spPr>
            <a:xfrm>
              <a:off x="401940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651120" y="3232080"/>
              <a:ext cx="2619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scar.utoronto.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513840" y="185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78060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30440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913800" y="156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1577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cornell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5799600" y="18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1" name=""/>
          <p:cNvGraphicFramePr/>
          <p:nvPr/>
        </p:nvGraphicFramePr>
        <p:xfrm>
          <a:off x="5948280" y="966960"/>
          <a:ext cx="45396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8280" y="966960"/>
                    <a:ext cx="45396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6993000" y="2440080"/>
          <a:ext cx="45396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3000" y="244008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5" name=""/>
          <p:cNvGraphicFramePr/>
          <p:nvPr/>
        </p:nvGraphicFramePr>
        <p:xfrm>
          <a:off x="5000760" y="2411280"/>
          <a:ext cx="4539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241128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7" name=""/>
          <p:cNvGraphicFramePr/>
          <p:nvPr/>
        </p:nvGraphicFramePr>
        <p:xfrm>
          <a:off x="6986520" y="4070520"/>
          <a:ext cx="453960" cy="62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6520" y="4070520"/>
                    <a:ext cx="45396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9" name=""/>
          <p:cNvGrpSpPr/>
          <p:nvPr/>
        </p:nvGrpSpPr>
        <p:grpSpPr>
          <a:xfrm>
            <a:off x="6919920" y="5270400"/>
            <a:ext cx="741240" cy="603000"/>
            <a:chOff x="6919920" y="5270400"/>
            <a:chExt cx="741240" cy="603000"/>
          </a:xfrm>
        </p:grpSpPr>
        <p:grpSp>
          <p:nvGrpSpPr>
            <p:cNvPr id="1590" name=""/>
            <p:cNvGrpSpPr/>
            <p:nvPr/>
          </p:nvGrpSpPr>
          <p:grpSpPr>
            <a:xfrm>
              <a:off x="6919920" y="5719680"/>
              <a:ext cx="741240" cy="153720"/>
              <a:chOff x="6919920" y="5719680"/>
              <a:chExt cx="741240" cy="153720"/>
            </a:xfrm>
          </p:grpSpPr>
          <p:sp>
            <p:nvSpPr>
              <p:cNvPr id="1591" name=""/>
              <p:cNvSpPr/>
              <p:nvPr/>
            </p:nvSpPr>
            <p:spPr>
              <a:xfrm>
                <a:off x="6919920" y="571968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61680" y="575136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468560" y="575136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7047000" y="5270400"/>
              <a:ext cx="475560" cy="447480"/>
              <a:chOff x="7047000" y="5270400"/>
              <a:chExt cx="475560" cy="447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7047000" y="527040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77600" y="530856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444440" y="530856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459560" y="532908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462440" y="550044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462440" y="557208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462440" y="56419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2" name=""/>
            <p:cNvSpPr/>
            <p:nvPr/>
          </p:nvSpPr>
          <p:spPr>
            <a:xfrm>
              <a:off x="7088760" y="529596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4819680" y="4491000"/>
            <a:ext cx="741240" cy="603000"/>
            <a:chOff x="4819680" y="4491000"/>
            <a:chExt cx="741240" cy="603000"/>
          </a:xfrm>
        </p:grpSpPr>
        <p:grpSp>
          <p:nvGrpSpPr>
            <p:cNvPr id="1604" name=""/>
            <p:cNvGrpSpPr/>
            <p:nvPr/>
          </p:nvGrpSpPr>
          <p:grpSpPr>
            <a:xfrm>
              <a:off x="4819680" y="4940280"/>
              <a:ext cx="741240" cy="153720"/>
              <a:chOff x="4819680" y="4940280"/>
              <a:chExt cx="741240" cy="153720"/>
            </a:xfrm>
          </p:grpSpPr>
          <p:sp>
            <p:nvSpPr>
              <p:cNvPr id="1605" name=""/>
              <p:cNvSpPr/>
              <p:nvPr/>
            </p:nvSpPr>
            <p:spPr>
              <a:xfrm>
                <a:off x="4819680" y="494028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4861440" y="497196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368320" y="497196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4946760" y="4491000"/>
              <a:ext cx="475560" cy="447480"/>
              <a:chOff x="4946760" y="4491000"/>
              <a:chExt cx="475560" cy="447480"/>
            </a:xfrm>
          </p:grpSpPr>
          <p:sp>
            <p:nvSpPr>
              <p:cNvPr id="1609" name=""/>
              <p:cNvSpPr/>
              <p:nvPr/>
            </p:nvSpPr>
            <p:spPr>
              <a:xfrm>
                <a:off x="4946760" y="449100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977360" y="452916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344200" y="452916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359320" y="454968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362200" y="472104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362200" y="479268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362200" y="48625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4988520" y="451656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1D0-C882-4114-92FA-8ABFF8A5B8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28676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iterated queri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49200" y="817200"/>
            <a:ext cx="310536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cursive que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vy loa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don’t know the answer, ask this serv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3483360" y="5075280"/>
            <a:ext cx="286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b15.scar.utoronto.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260760" y="58402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tp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619600" y="650880"/>
            <a:ext cx="20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5514840" y="255276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5514480" y="272412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5438520" y="161928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3591360" y="3255840"/>
            <a:ext cx="2741040" cy="580680"/>
            <a:chOff x="3591360" y="3255840"/>
            <a:chExt cx="2741040" cy="580680"/>
          </a:xfrm>
        </p:grpSpPr>
        <p:sp>
          <p:nvSpPr>
            <p:cNvPr id="1629" name=""/>
            <p:cNvSpPr/>
            <p:nvPr/>
          </p:nvSpPr>
          <p:spPr>
            <a:xfrm>
              <a:off x="401976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91360" y="3255840"/>
              <a:ext cx="274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1.scar.utoronto.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808960" y="18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123240" y="22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9492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3425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cornell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1641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cornell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3" name=""/>
          <p:cNvSpPr/>
          <p:nvPr/>
        </p:nvSpPr>
        <p:spPr>
          <a:xfrm>
            <a:off x="6161400" y="277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4843440" y="4479840"/>
            <a:ext cx="741240" cy="603000"/>
            <a:chOff x="4843440" y="4479840"/>
            <a:chExt cx="741240" cy="603000"/>
          </a:xfrm>
        </p:grpSpPr>
        <p:grpSp>
          <p:nvGrpSpPr>
            <p:cNvPr id="1646" name=""/>
            <p:cNvGrpSpPr/>
            <p:nvPr/>
          </p:nvGrpSpPr>
          <p:grpSpPr>
            <a:xfrm>
              <a:off x="4843440" y="4929120"/>
              <a:ext cx="741240" cy="153720"/>
              <a:chOff x="4843440" y="4929120"/>
              <a:chExt cx="741240" cy="153720"/>
            </a:xfrm>
          </p:grpSpPr>
          <p:sp>
            <p:nvSpPr>
              <p:cNvPr id="1647" name=""/>
              <p:cNvSpPr/>
              <p:nvPr/>
            </p:nvSpPr>
            <p:spPr>
              <a:xfrm>
                <a:off x="4843440" y="4929120"/>
                <a:ext cx="74124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885200" y="4960800"/>
                <a:ext cx="49284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392080" y="496080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4970520" y="4479840"/>
              <a:ext cx="475560" cy="447480"/>
              <a:chOff x="4970520" y="4479840"/>
              <a:chExt cx="475560" cy="447480"/>
            </a:xfrm>
          </p:grpSpPr>
          <p:sp>
            <p:nvSpPr>
              <p:cNvPr id="1651" name=""/>
              <p:cNvSpPr/>
              <p:nvPr/>
            </p:nvSpPr>
            <p:spPr>
              <a:xfrm>
                <a:off x="4970520" y="4479840"/>
                <a:ext cx="47556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01120" y="4518000"/>
                <a:ext cx="41256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367960" y="451800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383080" y="453852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385960" y="470988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385960" y="478152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385960" y="485136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8" name=""/>
            <p:cNvSpPr/>
            <p:nvPr/>
          </p:nvSpPr>
          <p:spPr>
            <a:xfrm>
              <a:off x="5012280" y="4505400"/>
              <a:ext cx="386280" cy="38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6824520" y="5275440"/>
            <a:ext cx="741600" cy="602640"/>
            <a:chOff x="6824520" y="5275440"/>
            <a:chExt cx="741600" cy="602640"/>
          </a:xfrm>
        </p:grpSpPr>
        <p:grpSp>
          <p:nvGrpSpPr>
            <p:cNvPr id="1660" name=""/>
            <p:cNvGrpSpPr/>
            <p:nvPr/>
          </p:nvGrpSpPr>
          <p:grpSpPr>
            <a:xfrm>
              <a:off x="6824520" y="5724360"/>
              <a:ext cx="741600" cy="153720"/>
              <a:chOff x="6824520" y="5724360"/>
              <a:chExt cx="741600" cy="153720"/>
            </a:xfrm>
          </p:grpSpPr>
          <p:sp>
            <p:nvSpPr>
              <p:cNvPr id="1661" name=""/>
              <p:cNvSpPr/>
              <p:nvPr/>
            </p:nvSpPr>
            <p:spPr>
              <a:xfrm>
                <a:off x="6824520" y="5724360"/>
                <a:ext cx="741600" cy="15372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866280" y="5756040"/>
                <a:ext cx="493200" cy="9828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373520" y="5756040"/>
                <a:ext cx="150480" cy="9828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6951600" y="5275440"/>
              <a:ext cx="475920" cy="447480"/>
              <a:chOff x="6951600" y="5275440"/>
              <a:chExt cx="475920" cy="447480"/>
            </a:xfrm>
          </p:grpSpPr>
          <p:sp>
            <p:nvSpPr>
              <p:cNvPr id="1665" name=""/>
              <p:cNvSpPr/>
              <p:nvPr/>
            </p:nvSpPr>
            <p:spPr>
              <a:xfrm>
                <a:off x="6951600" y="5275440"/>
                <a:ext cx="475920" cy="447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982200" y="5313600"/>
                <a:ext cx="412920" cy="3762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49040" y="5313600"/>
                <a:ext cx="44280" cy="376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64520" y="5334120"/>
                <a:ext cx="126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67400" y="5505480"/>
                <a:ext cx="5400" cy="6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367400" y="5577120"/>
                <a:ext cx="5400" cy="7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367400" y="564696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2" name=""/>
            <p:cNvSpPr/>
            <p:nvPr/>
          </p:nvSpPr>
          <p:spPr>
            <a:xfrm>
              <a:off x="6993360" y="5300640"/>
              <a:ext cx="386640" cy="382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73" name=""/>
          <p:cNvGraphicFramePr/>
          <p:nvPr/>
        </p:nvGraphicFramePr>
        <p:xfrm>
          <a:off x="6207120" y="966960"/>
          <a:ext cx="45396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7120" y="966960"/>
                    <a:ext cx="45396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5" name=""/>
          <p:cNvGraphicFramePr/>
          <p:nvPr/>
        </p:nvGraphicFramePr>
        <p:xfrm>
          <a:off x="4971960" y="2417760"/>
          <a:ext cx="45396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241776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7" name=""/>
          <p:cNvGraphicFramePr/>
          <p:nvPr/>
        </p:nvGraphicFramePr>
        <p:xfrm>
          <a:off x="7008840" y="2343240"/>
          <a:ext cx="45396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8840" y="2343240"/>
                    <a:ext cx="4539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9" name=""/>
          <p:cNvGraphicFramePr/>
          <p:nvPr/>
        </p:nvGraphicFramePr>
        <p:xfrm>
          <a:off x="6964200" y="4059360"/>
          <a:ext cx="45432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64200" y="4059360"/>
                    <a:ext cx="454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1" name=""/>
          <p:cNvSpPr/>
          <p:nvPr/>
        </p:nvSpPr>
        <p:spPr>
          <a:xfrm>
            <a:off x="6705720" y="1568520"/>
            <a:ext cx="981000" cy="609480"/>
          </a:xfrm>
          <a:prstGeom prst="wedgeRoundRectCallout">
            <a:avLst>
              <a:gd name="adj1" fmla="val -154694"/>
              <a:gd name="adj2" fmla="val 5208"/>
              <a:gd name="adj3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terate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411-C788-4B3F-BCFE-CA1C722A55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3640" y="-39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ent-Server Paradigm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94040" y="1001520"/>
            <a:ext cx="41907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network app has two pieces: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12920" y="785880"/>
            <a:ext cx="4295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tiates contact with server (“speaks first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requests service from serv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Web, client is implemented in browser; for e-mail, in mail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9560" y="4086360"/>
            <a:ext cx="417672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requested servic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Web server sends requested Web page, mail server delivers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30720" y="3827520"/>
            <a:ext cx="3054600" cy="2224080"/>
          </a:xfrm>
          <a:custGeom>
            <a:avLst/>
            <a:gdLst/>
            <a:ahLst/>
            <a:rect l="l" t="t" r="r" b="b"/>
            <a:pathLst>
              <a:path w="1924" h="1401">
                <a:moveTo>
                  <a:pt x="12" y="549"/>
                </a:moveTo>
                <a:cubicBezTo>
                  <a:pt x="0" y="411"/>
                  <a:pt x="3" y="130"/>
                  <a:pt x="80" y="65"/>
                </a:cubicBezTo>
                <a:cubicBezTo>
                  <a:pt x="157" y="0"/>
                  <a:pt x="375" y="133"/>
                  <a:pt x="474" y="158"/>
                </a:cubicBezTo>
                <a:cubicBezTo>
                  <a:pt x="573" y="183"/>
                  <a:pt x="577" y="188"/>
                  <a:pt x="673" y="215"/>
                </a:cubicBezTo>
                <a:cubicBezTo>
                  <a:pt x="769" y="242"/>
                  <a:pt x="935" y="310"/>
                  <a:pt x="1050" y="321"/>
                </a:cubicBezTo>
                <a:cubicBezTo>
                  <a:pt x="1165" y="332"/>
                  <a:pt x="1237" y="266"/>
                  <a:pt x="1363" y="279"/>
                </a:cubicBezTo>
                <a:cubicBezTo>
                  <a:pt x="1489" y="292"/>
                  <a:pt x="1722" y="270"/>
                  <a:pt x="1804" y="400"/>
                </a:cubicBezTo>
                <a:cubicBezTo>
                  <a:pt x="1886" y="530"/>
                  <a:pt x="1924" y="903"/>
                  <a:pt x="1853" y="1061"/>
                </a:cubicBezTo>
                <a:cubicBezTo>
                  <a:pt x="1782" y="1219"/>
                  <a:pt x="1518" y="1293"/>
                  <a:pt x="1376" y="1347"/>
                </a:cubicBezTo>
                <a:cubicBezTo>
                  <a:pt x="1234" y="1401"/>
                  <a:pt x="1113" y="1399"/>
                  <a:pt x="1001" y="1387"/>
                </a:cubicBezTo>
                <a:cubicBezTo>
                  <a:pt x="889" y="1375"/>
                  <a:pt x="806" y="1330"/>
                  <a:pt x="702" y="1276"/>
                </a:cubicBezTo>
                <a:cubicBezTo>
                  <a:pt x="598" y="1222"/>
                  <a:pt x="467" y="1123"/>
                  <a:pt x="375" y="1060"/>
                </a:cubicBezTo>
                <a:cubicBezTo>
                  <a:pt x="283" y="997"/>
                  <a:pt x="209" y="983"/>
                  <a:pt x="149" y="898"/>
                </a:cubicBezTo>
                <a:cubicBezTo>
                  <a:pt x="89" y="813"/>
                  <a:pt x="10" y="690"/>
                  <a:pt x="12" y="54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80160" y="2560680"/>
            <a:ext cx="1730520" cy="1474920"/>
          </a:xfrm>
          <a:custGeom>
            <a:avLst/>
            <a:gdLst/>
            <a:ahLst/>
            <a:rect l="l" t="t" r="r" b="b"/>
            <a:pathLst>
              <a:path w="1090" h="929">
                <a:moveTo>
                  <a:pt x="238" y="9"/>
                </a:moveTo>
                <a:cubicBezTo>
                  <a:pt x="139" y="18"/>
                  <a:pt x="50" y="64"/>
                  <a:pt x="25" y="123"/>
                </a:cubicBezTo>
                <a:cubicBezTo>
                  <a:pt x="0" y="182"/>
                  <a:pt x="71" y="290"/>
                  <a:pt x="89" y="365"/>
                </a:cubicBezTo>
                <a:cubicBezTo>
                  <a:pt x="107" y="440"/>
                  <a:pt x="119" y="487"/>
                  <a:pt x="131" y="571"/>
                </a:cubicBezTo>
                <a:cubicBezTo>
                  <a:pt x="143" y="655"/>
                  <a:pt x="93" y="811"/>
                  <a:pt x="160" y="870"/>
                </a:cubicBezTo>
                <a:cubicBezTo>
                  <a:pt x="227" y="929"/>
                  <a:pt x="421" y="921"/>
                  <a:pt x="531" y="924"/>
                </a:cubicBezTo>
                <a:cubicBezTo>
                  <a:pt x="641" y="927"/>
                  <a:pt x="738" y="908"/>
                  <a:pt x="821" y="891"/>
                </a:cubicBezTo>
                <a:cubicBezTo>
                  <a:pt x="904" y="874"/>
                  <a:pt x="984" y="911"/>
                  <a:pt x="1027" y="821"/>
                </a:cubicBezTo>
                <a:cubicBezTo>
                  <a:pt x="1070" y="731"/>
                  <a:pt x="1090" y="458"/>
                  <a:pt x="1079" y="349"/>
                </a:cubicBezTo>
                <a:cubicBezTo>
                  <a:pt x="1068" y="240"/>
                  <a:pt x="1039" y="212"/>
                  <a:pt x="963" y="166"/>
                </a:cubicBezTo>
                <a:cubicBezTo>
                  <a:pt x="887" y="120"/>
                  <a:pt x="742" y="98"/>
                  <a:pt x="621" y="72"/>
                </a:cubicBezTo>
                <a:cubicBezTo>
                  <a:pt x="500" y="46"/>
                  <a:pt x="337" y="0"/>
                  <a:pt x="238" y="9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6480" y="2370240"/>
            <a:ext cx="1881000" cy="1587240"/>
          </a:xfrm>
          <a:custGeom>
            <a:avLst/>
            <a:gdLst/>
            <a:ahLst/>
            <a:rect l="l" t="t" r="r" b="b"/>
            <a:pathLst>
              <a:path w="1185" h="1000">
                <a:moveTo>
                  <a:pt x="512" y="33"/>
                </a:moveTo>
                <a:cubicBezTo>
                  <a:pt x="413" y="1"/>
                  <a:pt x="185" y="0"/>
                  <a:pt x="101" y="48"/>
                </a:cubicBezTo>
                <a:cubicBezTo>
                  <a:pt x="17" y="96"/>
                  <a:pt x="16" y="229"/>
                  <a:pt x="8" y="321"/>
                </a:cubicBezTo>
                <a:cubicBezTo>
                  <a:pt x="0" y="413"/>
                  <a:pt x="34" y="529"/>
                  <a:pt x="54" y="603"/>
                </a:cubicBezTo>
                <a:cubicBezTo>
                  <a:pt x="74" y="677"/>
                  <a:pt x="70" y="726"/>
                  <a:pt x="129" y="762"/>
                </a:cubicBezTo>
                <a:cubicBezTo>
                  <a:pt x="188" y="798"/>
                  <a:pt x="309" y="787"/>
                  <a:pt x="406" y="819"/>
                </a:cubicBezTo>
                <a:cubicBezTo>
                  <a:pt x="503" y="851"/>
                  <a:pt x="594" y="937"/>
                  <a:pt x="712" y="954"/>
                </a:cubicBezTo>
                <a:cubicBezTo>
                  <a:pt x="830" y="971"/>
                  <a:pt x="1039" y="1000"/>
                  <a:pt x="1112" y="921"/>
                </a:cubicBezTo>
                <a:cubicBezTo>
                  <a:pt x="1185" y="842"/>
                  <a:pt x="1153" y="583"/>
                  <a:pt x="1149" y="477"/>
                </a:cubicBezTo>
                <a:cubicBezTo>
                  <a:pt x="1144" y="371"/>
                  <a:pt x="1157" y="336"/>
                  <a:pt x="1086" y="285"/>
                </a:cubicBezTo>
                <a:cubicBezTo>
                  <a:pt x="1015" y="234"/>
                  <a:pt x="822" y="214"/>
                  <a:pt x="726" y="172"/>
                </a:cubicBezTo>
                <a:cubicBezTo>
                  <a:pt x="630" y="130"/>
                  <a:pt x="557" y="62"/>
                  <a:pt x="512" y="33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389560" y="2746440"/>
            <a:ext cx="1332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43520" y="330660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46760" y="330372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42120" y="330192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43640" y="2766960"/>
            <a:ext cx="28872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556240" y="305244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083280" y="313848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651640" y="4241880"/>
            <a:ext cx="72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651640" y="4842000"/>
            <a:ext cx="72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18240" y="424008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367320" y="495108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743440" y="494028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745240" y="49467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724360" y="4484160"/>
            <a:ext cx="235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34120" y="4594320"/>
            <a:ext cx="441360" cy="30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097400" y="4592520"/>
            <a:ext cx="41580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80400" y="509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586640" y="456516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94560" y="524196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91320" y="47656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337440" y="2817720"/>
            <a:ext cx="45864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532640" y="3103560"/>
            <a:ext cx="48888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21440" y="2914560"/>
            <a:ext cx="406440" cy="44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67440" y="2873520"/>
            <a:ext cx="208080" cy="83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85040" y="3917880"/>
            <a:ext cx="122400" cy="469800"/>
          </a:xfrm>
          <a:custGeom>
            <a:avLst/>
            <a:gdLst/>
            <a:ahLst/>
            <a:rect l="l" t="t" r="r" b="b"/>
            <a:pathLst>
              <a:path w="77" h="296">
                <a:moveTo>
                  <a:pt x="0" y="0"/>
                </a:moveTo>
                <a:lnTo>
                  <a:pt x="77" y="2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631280" y="3106800"/>
            <a:ext cx="20952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267320" y="2084400"/>
            <a:ext cx="803160" cy="63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007480" y="2170080"/>
            <a:ext cx="30312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818320" y="2925720"/>
            <a:ext cx="501480" cy="232920"/>
            <a:chOff x="5818320" y="2925720"/>
            <a:chExt cx="501480" cy="232920"/>
          </a:xfrm>
        </p:grpSpPr>
        <p:sp>
          <p:nvSpPr>
            <p:cNvPr id="409" name=""/>
            <p:cNvSpPr/>
            <p:nvPr/>
          </p:nvSpPr>
          <p:spPr>
            <a:xfrm>
              <a:off x="5822280" y="302976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22280" y="3018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9800" y="3018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22280" y="301860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18320" y="292572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937840" y="2958480"/>
              <a:ext cx="246240" cy="88200"/>
              <a:chOff x="5937840" y="2958480"/>
              <a:chExt cx="246240" cy="8820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5937840" y="2958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06680" y="3046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018840" y="2960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937840" y="2957760"/>
              <a:ext cx="246240" cy="88200"/>
              <a:chOff x="5937840" y="2957760"/>
              <a:chExt cx="246240" cy="88200"/>
            </a:xfrm>
          </p:grpSpPr>
          <p:sp>
            <p:nvSpPr>
              <p:cNvPr id="419" name=""/>
              <p:cNvSpPr/>
              <p:nvPr/>
            </p:nvSpPr>
            <p:spPr>
              <a:xfrm>
                <a:off x="5937840" y="304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06680" y="2957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018840" y="2957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6770520" y="2685960"/>
            <a:ext cx="501840" cy="232920"/>
            <a:chOff x="6770520" y="2685960"/>
            <a:chExt cx="501840" cy="232920"/>
          </a:xfrm>
        </p:grpSpPr>
        <p:sp>
          <p:nvSpPr>
            <p:cNvPr id="423" name=""/>
            <p:cNvSpPr/>
            <p:nvPr/>
          </p:nvSpPr>
          <p:spPr>
            <a:xfrm>
              <a:off x="6774480" y="279000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74480" y="277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72360" y="277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74480" y="277884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70520" y="268596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6890040" y="2718720"/>
              <a:ext cx="246240" cy="88200"/>
              <a:chOff x="6890040" y="2718720"/>
              <a:chExt cx="246240" cy="88200"/>
            </a:xfrm>
          </p:grpSpPr>
          <p:sp>
            <p:nvSpPr>
              <p:cNvPr id="429" name=""/>
              <p:cNvSpPr/>
              <p:nvPr/>
            </p:nvSpPr>
            <p:spPr>
              <a:xfrm flipV="1">
                <a:off x="6890040" y="2718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058880" y="280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71040" y="2720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890040" y="2718000"/>
              <a:ext cx="246240" cy="88200"/>
              <a:chOff x="6890040" y="2718000"/>
              <a:chExt cx="246240" cy="88200"/>
            </a:xfrm>
          </p:grpSpPr>
          <p:sp>
            <p:nvSpPr>
              <p:cNvPr id="433" name=""/>
              <p:cNvSpPr/>
              <p:nvPr/>
            </p:nvSpPr>
            <p:spPr>
              <a:xfrm>
                <a:off x="6890040" y="280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58880" y="2718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971040" y="271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7758000" y="2894040"/>
            <a:ext cx="500040" cy="232920"/>
            <a:chOff x="7758000" y="2894040"/>
            <a:chExt cx="500040" cy="232920"/>
          </a:xfrm>
        </p:grpSpPr>
        <p:sp>
          <p:nvSpPr>
            <p:cNvPr id="437" name=""/>
            <p:cNvSpPr/>
            <p:nvPr/>
          </p:nvSpPr>
          <p:spPr>
            <a:xfrm>
              <a:off x="7761960" y="2998080"/>
              <a:ext cx="4957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761960" y="2986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58040" y="2986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61960" y="2986920"/>
              <a:ext cx="4914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58000" y="2894040"/>
              <a:ext cx="4953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7877160" y="2926800"/>
              <a:ext cx="245520" cy="88200"/>
              <a:chOff x="7877160" y="2926800"/>
              <a:chExt cx="245520" cy="8820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7877160" y="2926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45640" y="3015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57800" y="2928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877160" y="2926080"/>
              <a:ext cx="245520" cy="88200"/>
              <a:chOff x="7877160" y="2926080"/>
              <a:chExt cx="245520" cy="88200"/>
            </a:xfrm>
          </p:grpSpPr>
          <p:sp>
            <p:nvSpPr>
              <p:cNvPr id="447" name=""/>
              <p:cNvSpPr/>
              <p:nvPr/>
            </p:nvSpPr>
            <p:spPr>
              <a:xfrm>
                <a:off x="7877160" y="30124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045640" y="2926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7957800" y="29260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7061040" y="3691080"/>
            <a:ext cx="501840" cy="232920"/>
            <a:chOff x="7061040" y="3691080"/>
            <a:chExt cx="501840" cy="232920"/>
          </a:xfrm>
        </p:grpSpPr>
        <p:sp>
          <p:nvSpPr>
            <p:cNvPr id="451" name=""/>
            <p:cNvSpPr/>
            <p:nvPr/>
          </p:nvSpPr>
          <p:spPr>
            <a:xfrm>
              <a:off x="7065000" y="379512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65000" y="3783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2880" y="3783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5000" y="378396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61040" y="369108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180560" y="3723840"/>
              <a:ext cx="246240" cy="88200"/>
              <a:chOff x="7180560" y="3723840"/>
              <a:chExt cx="246240" cy="8820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7180560" y="3723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49400" y="3812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261560" y="3726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180560" y="3723120"/>
              <a:ext cx="246240" cy="88200"/>
              <a:chOff x="7180560" y="3723120"/>
              <a:chExt cx="246240" cy="88200"/>
            </a:xfrm>
          </p:grpSpPr>
          <p:sp>
            <p:nvSpPr>
              <p:cNvPr id="461" name=""/>
              <p:cNvSpPr/>
              <p:nvPr/>
            </p:nvSpPr>
            <p:spPr>
              <a:xfrm>
                <a:off x="7180560" y="3809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49400" y="3723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261560" y="3723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7230960" y="4375080"/>
            <a:ext cx="501840" cy="234720"/>
            <a:chOff x="7230960" y="4375080"/>
            <a:chExt cx="501840" cy="234720"/>
          </a:xfrm>
        </p:grpSpPr>
        <p:sp>
          <p:nvSpPr>
            <p:cNvPr id="465" name=""/>
            <p:cNvSpPr/>
            <p:nvPr/>
          </p:nvSpPr>
          <p:spPr>
            <a:xfrm>
              <a:off x="7234920" y="4479840"/>
              <a:ext cx="497520" cy="1299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34920" y="44686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32800" y="44686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34920" y="4468680"/>
              <a:ext cx="493200" cy="79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30960" y="4375080"/>
              <a:ext cx="497160" cy="1515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7350480" y="4408200"/>
              <a:ext cx="246240" cy="88920"/>
              <a:chOff x="7350480" y="4408200"/>
              <a:chExt cx="246240" cy="88920"/>
            </a:xfrm>
          </p:grpSpPr>
          <p:sp>
            <p:nvSpPr>
              <p:cNvPr id="471" name=""/>
              <p:cNvSpPr/>
              <p:nvPr/>
            </p:nvSpPr>
            <p:spPr>
              <a:xfrm flipV="1">
                <a:off x="7350480" y="4408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519320" y="4497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31480" y="4410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7350480" y="4407120"/>
              <a:ext cx="246240" cy="88920"/>
              <a:chOff x="7350480" y="4407120"/>
              <a:chExt cx="246240" cy="88920"/>
            </a:xfrm>
          </p:grpSpPr>
          <p:sp>
            <p:nvSpPr>
              <p:cNvPr id="475" name=""/>
              <p:cNvSpPr/>
              <p:nvPr/>
            </p:nvSpPr>
            <p:spPr>
              <a:xfrm>
                <a:off x="7350480" y="449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519320" y="4407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431480" y="4407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 flipV="1">
            <a:off x="6073920" y="470016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548320" y="5014800"/>
          <a:ext cx="3301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5014800"/>
                    <a:ext cx="330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162840" y="4997520"/>
          <a:ext cx="33012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2840" y="4997520"/>
                    <a:ext cx="3301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3" name=""/>
          <p:cNvGrpSpPr/>
          <p:nvPr/>
        </p:nvGrpSpPr>
        <p:grpSpPr>
          <a:xfrm>
            <a:off x="5299200" y="4008600"/>
            <a:ext cx="380880" cy="286920"/>
            <a:chOff x="5299200" y="4008600"/>
            <a:chExt cx="380880" cy="286920"/>
          </a:xfrm>
        </p:grpSpPr>
        <p:grpSp>
          <p:nvGrpSpPr>
            <p:cNvPr id="484" name=""/>
            <p:cNvGrpSpPr/>
            <p:nvPr/>
          </p:nvGrpSpPr>
          <p:grpSpPr>
            <a:xfrm>
              <a:off x="5299200" y="4222440"/>
              <a:ext cx="380880" cy="73080"/>
              <a:chOff x="5299200" y="4222440"/>
              <a:chExt cx="380880" cy="73080"/>
            </a:xfrm>
          </p:grpSpPr>
          <p:sp>
            <p:nvSpPr>
              <p:cNvPr id="485" name=""/>
              <p:cNvSpPr/>
              <p:nvPr/>
            </p:nvSpPr>
            <p:spPr>
              <a:xfrm>
                <a:off x="5299200" y="4222440"/>
                <a:ext cx="38088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20440" y="423720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81080" y="423720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364360" y="4008600"/>
              <a:ext cx="244440" cy="213120"/>
              <a:chOff x="5364360" y="4008600"/>
              <a:chExt cx="244440" cy="213120"/>
            </a:xfrm>
          </p:grpSpPr>
          <p:sp>
            <p:nvSpPr>
              <p:cNvPr id="489" name=""/>
              <p:cNvSpPr/>
              <p:nvPr/>
            </p:nvSpPr>
            <p:spPr>
              <a:xfrm>
                <a:off x="5364360" y="400860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79840" y="402660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8480" y="402660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76400" y="403632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577840" y="411804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77840" y="415224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77840" y="418536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5385960" y="4020480"/>
              <a:ext cx="19836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305320" y="4611600"/>
            <a:ext cx="381240" cy="286920"/>
            <a:chOff x="5305320" y="4611600"/>
            <a:chExt cx="381240" cy="286920"/>
          </a:xfrm>
        </p:grpSpPr>
        <p:grpSp>
          <p:nvGrpSpPr>
            <p:cNvPr id="498" name=""/>
            <p:cNvGrpSpPr/>
            <p:nvPr/>
          </p:nvGrpSpPr>
          <p:grpSpPr>
            <a:xfrm>
              <a:off x="5305320" y="4825440"/>
              <a:ext cx="381240" cy="73080"/>
              <a:chOff x="5305320" y="4825440"/>
              <a:chExt cx="381240" cy="73080"/>
            </a:xfrm>
          </p:grpSpPr>
          <p:sp>
            <p:nvSpPr>
              <p:cNvPr id="499" name=""/>
              <p:cNvSpPr/>
              <p:nvPr/>
            </p:nvSpPr>
            <p:spPr>
              <a:xfrm>
                <a:off x="5305320" y="4825440"/>
                <a:ext cx="38124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26560" y="484020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87560" y="484020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370480" y="4611600"/>
              <a:ext cx="244440" cy="213120"/>
              <a:chOff x="5370480" y="4611600"/>
              <a:chExt cx="244440" cy="213120"/>
            </a:xfrm>
          </p:grpSpPr>
          <p:sp>
            <p:nvSpPr>
              <p:cNvPr id="503" name=""/>
              <p:cNvSpPr/>
              <p:nvPr/>
            </p:nvSpPr>
            <p:spPr>
              <a:xfrm>
                <a:off x="5370480" y="461160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85960" y="462960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74600" y="462960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82520" y="463932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83960" y="472104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83960" y="475524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583960" y="478836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392080" y="4623480"/>
              <a:ext cx="19872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943600" y="4361040"/>
            <a:ext cx="501480" cy="232920"/>
            <a:chOff x="5943600" y="4361040"/>
            <a:chExt cx="501480" cy="232920"/>
          </a:xfrm>
        </p:grpSpPr>
        <p:sp>
          <p:nvSpPr>
            <p:cNvPr id="512" name=""/>
            <p:cNvSpPr/>
            <p:nvPr/>
          </p:nvSpPr>
          <p:spPr>
            <a:xfrm>
              <a:off x="5947560" y="446508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47560" y="445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45080" y="445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47560" y="445392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436104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63120" y="4393800"/>
              <a:ext cx="246240" cy="88200"/>
              <a:chOff x="6063120" y="4393800"/>
              <a:chExt cx="246240" cy="88200"/>
            </a:xfrm>
          </p:grpSpPr>
          <p:sp>
            <p:nvSpPr>
              <p:cNvPr id="518" name=""/>
              <p:cNvSpPr/>
              <p:nvPr/>
            </p:nvSpPr>
            <p:spPr>
              <a:xfrm flipV="1">
                <a:off x="6063120" y="439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31960" y="4482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4120" y="4395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063120" y="4393080"/>
              <a:ext cx="246240" cy="88200"/>
              <a:chOff x="6063120" y="4393080"/>
              <a:chExt cx="246240" cy="88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063120" y="4479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31960" y="4393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144120" y="4393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6993000" y="5608800"/>
            <a:ext cx="379440" cy="325440"/>
            <a:chOff x="6993000" y="5608800"/>
            <a:chExt cx="379440" cy="325440"/>
          </a:xfrm>
        </p:grpSpPr>
        <p:pic>
          <p:nvPicPr>
            <p:cNvPr id="526" name="" descr=""/>
            <p:cNvPicPr/>
            <p:nvPr/>
          </p:nvPicPr>
          <p:blipFill>
            <a:blip r:embed="rId5"/>
            <a:stretch/>
          </p:blipFill>
          <p:spPr>
            <a:xfrm>
              <a:off x="6993000" y="560880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6"/>
            <a:stretch/>
          </p:blipFill>
          <p:spPr>
            <a:xfrm>
              <a:off x="7073280" y="564732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8" name=""/>
          <p:cNvGrpSpPr/>
          <p:nvPr/>
        </p:nvGrpSpPr>
        <p:grpSpPr>
          <a:xfrm>
            <a:off x="6616800" y="4886280"/>
            <a:ext cx="501480" cy="232920"/>
            <a:chOff x="6616800" y="4886280"/>
            <a:chExt cx="501480" cy="232920"/>
          </a:xfrm>
        </p:grpSpPr>
        <p:sp>
          <p:nvSpPr>
            <p:cNvPr id="529" name=""/>
            <p:cNvSpPr/>
            <p:nvPr/>
          </p:nvSpPr>
          <p:spPr>
            <a:xfrm>
              <a:off x="6620760" y="4990320"/>
              <a:ext cx="49716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20760" y="49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18280" y="49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20760" y="4979160"/>
              <a:ext cx="49284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16800" y="4886280"/>
              <a:ext cx="49680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6736320" y="4919040"/>
              <a:ext cx="246240" cy="88200"/>
              <a:chOff x="6736320" y="4919040"/>
              <a:chExt cx="246240" cy="8820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6736320" y="49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05160" y="50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17320" y="49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736320" y="4918320"/>
              <a:ext cx="246240" cy="88200"/>
              <a:chOff x="6736320" y="4918320"/>
              <a:chExt cx="246240" cy="88200"/>
            </a:xfrm>
          </p:grpSpPr>
          <p:sp>
            <p:nvSpPr>
              <p:cNvPr id="539" name=""/>
              <p:cNvSpPr/>
              <p:nvPr/>
            </p:nvSpPr>
            <p:spPr>
              <a:xfrm>
                <a:off x="6736320" y="50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905160" y="49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6817320" y="49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2" name=""/>
          <p:cNvGrpSpPr/>
          <p:nvPr/>
        </p:nvGrpSpPr>
        <p:grpSpPr>
          <a:xfrm>
            <a:off x="7281720" y="3225960"/>
            <a:ext cx="501840" cy="232920"/>
            <a:chOff x="7281720" y="3225960"/>
            <a:chExt cx="501840" cy="232920"/>
          </a:xfrm>
        </p:grpSpPr>
        <p:sp>
          <p:nvSpPr>
            <p:cNvPr id="543" name=""/>
            <p:cNvSpPr/>
            <p:nvPr/>
          </p:nvSpPr>
          <p:spPr>
            <a:xfrm>
              <a:off x="7285680" y="3330000"/>
              <a:ext cx="497520" cy="1288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85680" y="331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83560" y="3318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85680" y="3318840"/>
              <a:ext cx="493200" cy="7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81720" y="3225960"/>
              <a:ext cx="497160" cy="150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401240" y="3258720"/>
              <a:ext cx="246240" cy="88200"/>
              <a:chOff x="7401240" y="3258720"/>
              <a:chExt cx="246240" cy="8820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7401240" y="3258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70080" y="334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482240" y="3260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7401240" y="3258000"/>
              <a:ext cx="246240" cy="88200"/>
              <a:chOff x="7401240" y="3258000"/>
              <a:chExt cx="246240" cy="88200"/>
            </a:xfrm>
          </p:grpSpPr>
          <p:sp>
            <p:nvSpPr>
              <p:cNvPr id="553" name=""/>
              <p:cNvSpPr/>
              <p:nvPr/>
            </p:nvSpPr>
            <p:spPr>
              <a:xfrm>
                <a:off x="7401240" y="334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70080" y="3258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7482240" y="325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6" name=""/>
          <p:cNvGraphicFramePr/>
          <p:nvPr/>
        </p:nvGraphicFramePr>
        <p:xfrm>
          <a:off x="5711760" y="3382920"/>
          <a:ext cx="25092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338292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7686720" y="4543560"/>
          <a:ext cx="250920" cy="42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86720" y="4543560"/>
                    <a:ext cx="25092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6202440" y="3398760"/>
          <a:ext cx="2509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02440" y="3398760"/>
                    <a:ext cx="2509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"/>
          <p:cNvGrpSpPr/>
          <p:nvPr/>
        </p:nvGrpSpPr>
        <p:grpSpPr>
          <a:xfrm>
            <a:off x="4853160" y="3166920"/>
            <a:ext cx="380880" cy="287640"/>
            <a:chOff x="4853160" y="3166920"/>
            <a:chExt cx="380880" cy="287640"/>
          </a:xfrm>
        </p:grpSpPr>
        <p:grpSp>
          <p:nvGrpSpPr>
            <p:cNvPr id="563" name=""/>
            <p:cNvGrpSpPr/>
            <p:nvPr/>
          </p:nvGrpSpPr>
          <p:grpSpPr>
            <a:xfrm>
              <a:off x="4853160" y="3381120"/>
              <a:ext cx="380880" cy="73440"/>
              <a:chOff x="4853160" y="3381120"/>
              <a:chExt cx="380880" cy="73440"/>
            </a:xfrm>
          </p:grpSpPr>
          <p:sp>
            <p:nvSpPr>
              <p:cNvPr id="564" name=""/>
              <p:cNvSpPr/>
              <p:nvPr/>
            </p:nvSpPr>
            <p:spPr>
              <a:xfrm>
                <a:off x="4853160" y="3381120"/>
                <a:ext cx="380880" cy="7344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874400" y="339624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35040" y="339624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4918320" y="3166920"/>
              <a:ext cx="244440" cy="213480"/>
              <a:chOff x="4918320" y="3166920"/>
              <a:chExt cx="244440" cy="213480"/>
            </a:xfrm>
          </p:grpSpPr>
          <p:sp>
            <p:nvSpPr>
              <p:cNvPr id="568" name=""/>
              <p:cNvSpPr/>
              <p:nvPr/>
            </p:nvSpPr>
            <p:spPr>
              <a:xfrm>
                <a:off x="4918320" y="3166920"/>
                <a:ext cx="244440" cy="21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33800" y="318492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22440" y="318492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30360" y="319464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31800" y="327672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131800" y="331092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131800" y="334404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4939920" y="3178800"/>
              <a:ext cx="198360" cy="18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4848120" y="2563920"/>
            <a:ext cx="381240" cy="286920"/>
            <a:chOff x="4848120" y="2563920"/>
            <a:chExt cx="381240" cy="286920"/>
          </a:xfrm>
        </p:grpSpPr>
        <p:grpSp>
          <p:nvGrpSpPr>
            <p:cNvPr id="577" name=""/>
            <p:cNvGrpSpPr/>
            <p:nvPr/>
          </p:nvGrpSpPr>
          <p:grpSpPr>
            <a:xfrm>
              <a:off x="4848120" y="2777760"/>
              <a:ext cx="381240" cy="73080"/>
              <a:chOff x="4848120" y="2777760"/>
              <a:chExt cx="381240" cy="73080"/>
            </a:xfrm>
          </p:grpSpPr>
          <p:sp>
            <p:nvSpPr>
              <p:cNvPr id="578" name=""/>
              <p:cNvSpPr/>
              <p:nvPr/>
            </p:nvSpPr>
            <p:spPr>
              <a:xfrm>
                <a:off x="4848120" y="2777760"/>
                <a:ext cx="381240" cy="7308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869360" y="2792520"/>
                <a:ext cx="253440" cy="468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0360" y="2792520"/>
                <a:ext cx="77400" cy="468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913280" y="2563920"/>
              <a:ext cx="244440" cy="213120"/>
              <a:chOff x="4913280" y="2563920"/>
              <a:chExt cx="244440" cy="213120"/>
            </a:xfrm>
          </p:grpSpPr>
          <p:sp>
            <p:nvSpPr>
              <p:cNvPr id="582" name=""/>
              <p:cNvSpPr/>
              <p:nvPr/>
            </p:nvSpPr>
            <p:spPr>
              <a:xfrm>
                <a:off x="4913280" y="2563920"/>
                <a:ext cx="244440" cy="21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28760" y="2581920"/>
                <a:ext cx="212040" cy="179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117400" y="2581920"/>
                <a:ext cx="22680" cy="17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25320" y="2591640"/>
                <a:ext cx="6480" cy="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26760" y="2673360"/>
                <a:ext cx="2880" cy="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126760" y="2707560"/>
                <a:ext cx="288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26760" y="2740680"/>
                <a:ext cx="2880" cy="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934880" y="2575800"/>
              <a:ext cx="198720" cy="182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6527880" y="3365280"/>
            <a:ext cx="1455480" cy="218916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6700680" y="3568320"/>
            <a:ext cx="1366200" cy="2077200"/>
          </a:xfrm>
          <a:prstGeom prst="line">
            <a:avLst/>
          </a:prstGeom>
          <a:ln w="316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8040600" y="1798560"/>
            <a:ext cx="625320" cy="367920"/>
            <a:chOff x="8040600" y="1798560"/>
            <a:chExt cx="625320" cy="367920"/>
          </a:xfrm>
        </p:grpSpPr>
        <p:sp>
          <p:nvSpPr>
            <p:cNvPr id="593" name=""/>
            <p:cNvSpPr/>
            <p:nvPr/>
          </p:nvSpPr>
          <p:spPr>
            <a:xfrm>
              <a:off x="8045640" y="1962720"/>
              <a:ext cx="620280" cy="2037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45640" y="194544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65920" y="1945440"/>
              <a:ext cx="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045640" y="1945440"/>
              <a:ext cx="614880" cy="124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40600" y="1798560"/>
              <a:ext cx="619920" cy="23760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8189640" y="1850760"/>
              <a:ext cx="307080" cy="138600"/>
              <a:chOff x="8189640" y="1850760"/>
              <a:chExt cx="307080" cy="1386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8189640" y="185076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00240" y="198936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290440" y="185364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8189640" y="1848600"/>
              <a:ext cx="307080" cy="138600"/>
              <a:chOff x="8189640" y="1848600"/>
              <a:chExt cx="307080" cy="13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8189640" y="1984320"/>
                <a:ext cx="10944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400240" y="1848600"/>
                <a:ext cx="9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8290440" y="1848600"/>
                <a:ext cx="113760" cy="13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8113680" y="2436840"/>
            <a:ext cx="814320" cy="1033200"/>
            <a:chOff x="8113680" y="2436840"/>
            <a:chExt cx="814320" cy="1033200"/>
          </a:xfrm>
        </p:grpSpPr>
        <p:grpSp>
          <p:nvGrpSpPr>
            <p:cNvPr id="607" name=""/>
            <p:cNvGrpSpPr/>
            <p:nvPr/>
          </p:nvGrpSpPr>
          <p:grpSpPr>
            <a:xfrm>
              <a:off x="8172360" y="2436840"/>
              <a:ext cx="709560" cy="823680"/>
              <a:chOff x="8172360" y="2436840"/>
              <a:chExt cx="709560" cy="823680"/>
            </a:xfrm>
          </p:grpSpPr>
          <p:sp>
            <p:nvSpPr>
              <p:cNvPr id="608" name=""/>
              <p:cNvSpPr/>
              <p:nvPr/>
            </p:nvSpPr>
            <p:spPr>
              <a:xfrm>
                <a:off x="8205480" y="243684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172360" y="246060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177040" y="246528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172360" y="28033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181720" y="2941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181720" y="30798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8113680" y="24624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5" name=""/>
          <p:cNvGraphicFramePr/>
          <p:nvPr/>
        </p:nvGraphicFramePr>
        <p:xfrm>
          <a:off x="7991640" y="3220920"/>
          <a:ext cx="2505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91640" y="322092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7693200" y="5033880"/>
          <a:ext cx="250560" cy="42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3200" y="5033880"/>
                    <a:ext cx="250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 flipH="1" flipV="1">
            <a:off x="8066160" y="3138480"/>
            <a:ext cx="2232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580000" y="5626080"/>
            <a:ext cx="814320" cy="1033200"/>
            <a:chOff x="5580000" y="5626080"/>
            <a:chExt cx="814320" cy="1033200"/>
          </a:xfrm>
        </p:grpSpPr>
        <p:grpSp>
          <p:nvGrpSpPr>
            <p:cNvPr id="621" name=""/>
            <p:cNvGrpSpPr/>
            <p:nvPr/>
          </p:nvGrpSpPr>
          <p:grpSpPr>
            <a:xfrm>
              <a:off x="5638680" y="5626080"/>
              <a:ext cx="709560" cy="823680"/>
              <a:chOff x="5638680" y="5626080"/>
              <a:chExt cx="709560" cy="823680"/>
            </a:xfrm>
          </p:grpSpPr>
          <p:sp>
            <p:nvSpPr>
              <p:cNvPr id="622" name=""/>
              <p:cNvSpPr/>
              <p:nvPr/>
            </p:nvSpPr>
            <p:spPr>
              <a:xfrm>
                <a:off x="5671800" y="5626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38680" y="56498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43360" y="5654520"/>
                <a:ext cx="676080" cy="20016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38680" y="5992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48040" y="61308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48040" y="6269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580000" y="565164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354720" y="5581800"/>
            <a:ext cx="379440" cy="325440"/>
            <a:chOff x="6354720" y="5581800"/>
            <a:chExt cx="379440" cy="325440"/>
          </a:xfrm>
        </p:grpSpPr>
        <p:pic>
          <p:nvPicPr>
            <p:cNvPr id="630" name="" descr=""/>
            <p:cNvPicPr/>
            <p:nvPr/>
          </p:nvPicPr>
          <p:blipFill>
            <a:blip r:embed="rId17"/>
            <a:stretch/>
          </p:blipFill>
          <p:spPr>
            <a:xfrm>
              <a:off x="6354720" y="5581800"/>
              <a:ext cx="37944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8"/>
            <a:stretch/>
          </p:blipFill>
          <p:spPr>
            <a:xfrm>
              <a:off x="6435000" y="5620320"/>
              <a:ext cx="1602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"/>
          <p:cNvSpPr/>
          <p:nvPr/>
        </p:nvSpPr>
        <p:spPr>
          <a:xfrm>
            <a:off x="6661080" y="5640480"/>
            <a:ext cx="8280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hone3"/>
          <p:cNvSpPr/>
          <p:nvPr/>
        </p:nvSpPr>
        <p:spPr>
          <a:xfrm>
            <a:off x="5359320" y="2610000"/>
            <a:ext cx="231840" cy="264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hone3"/>
          <p:cNvSpPr/>
          <p:nvPr/>
        </p:nvSpPr>
        <p:spPr>
          <a:xfrm>
            <a:off x="5400720" y="3195720"/>
            <a:ext cx="231840" cy="264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138640" y="2757240"/>
            <a:ext cx="238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154480" y="3362040"/>
            <a:ext cx="238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291440" y="5670720"/>
            <a:ext cx="82440" cy="1807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00800" y="5896080"/>
            <a:ext cx="958680" cy="3052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04120" y="3270240"/>
            <a:ext cx="620640" cy="3052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35680" y="5202360"/>
            <a:ext cx="271440" cy="328320"/>
          </a:xfrm>
          <a:prstGeom prst="sun">
            <a:avLst>
              <a:gd name="adj" fmla="val 37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Cloud"/>
          <p:cNvSpPr/>
          <p:nvPr/>
        </p:nvSpPr>
        <p:spPr>
          <a:xfrm>
            <a:off x="7105680" y="1679400"/>
            <a:ext cx="1785960" cy="792360"/>
          </a:xfrm>
          <a:prstGeom prst="pie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088-57A2-4304-BD67-6A1AAF82AC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: caching and updating recor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18840" y="211608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che entries timeout (disappear) after som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date/notify mechanisms under design by IET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ietf.org/html.charters/dnsind-charter.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6A1-3BEE-4F3A-BBE4-0415502BCAB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426960" y="0"/>
            <a:ext cx="356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ＭＳ Ｐゴシック"/>
              </a:rPr>
              <a:t>Domain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61800" y="91584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ierarchical nam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ple: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www.cs.ucl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01760" y="198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Top Level Dom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gT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generic TL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cT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Country Code TL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Second Level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3629160" y="2811600"/>
            <a:ext cx="12952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854600" y="23605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8055000" y="23493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921280" y="2370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31120" y="1065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5359320" y="1537920"/>
            <a:ext cx="1230480" cy="90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6296040" y="1614240"/>
            <a:ext cx="38088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 flipV="1">
            <a:off x="6883560" y="1646280"/>
            <a:ext cx="318960" cy="73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 flipV="1">
            <a:off x="7080120" y="1527120"/>
            <a:ext cx="106704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98176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05928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98960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046400" y="341640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4506840" y="2898360"/>
            <a:ext cx="482760" cy="57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 flipV="1">
            <a:off x="5192280" y="2952360"/>
            <a:ext cx="95400" cy="4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H="1" flipV="1">
            <a:off x="6224400" y="2963880"/>
            <a:ext cx="52200" cy="4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flipV="1">
            <a:off x="3022560" y="3998520"/>
            <a:ext cx="20340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49600" y="425916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409840" y="1897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641760" y="50212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H="1">
            <a:off x="4006800" y="4824360"/>
            <a:ext cx="4608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4238640" y="4006800"/>
            <a:ext cx="73080" cy="2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H="1" flipV="1">
            <a:off x="4541760" y="3932280"/>
            <a:ext cx="611280" cy="47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07672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6568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3633840" y="5597640"/>
            <a:ext cx="179280" cy="31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056120" y="5597640"/>
            <a:ext cx="182520" cy="33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619520" y="2278080"/>
            <a:ext cx="198144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876400" y="3344760"/>
            <a:ext cx="502920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095640" y="304020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999120" y="3421080"/>
            <a:ext cx="59724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275600" y="2971800"/>
            <a:ext cx="11160" cy="46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948360" y="23637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945040" y="52560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332240" y="6037200"/>
            <a:ext cx="24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ww.cs.ucl.ac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403880" y="50212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329000" y="4781520"/>
            <a:ext cx="214560" cy="28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56212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318360" y="988920"/>
            <a:ext cx="99036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765840" y="2266920"/>
            <a:ext cx="1981440" cy="762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915160" y="1897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811840" y="402444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842160" y="402120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374920" y="4863960"/>
            <a:ext cx="93348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877160" y="2946240"/>
            <a:ext cx="93348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997440" y="591660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70240" y="59119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616120" y="51674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07032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09596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8135640" y="326088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5233680" y="2905200"/>
            <a:ext cx="511560" cy="521640"/>
            <a:chOff x="5233680" y="2905200"/>
            <a:chExt cx="511560" cy="521640"/>
          </a:xfrm>
        </p:grpSpPr>
        <p:sp>
          <p:nvSpPr>
            <p:cNvPr id="1739" name=""/>
            <p:cNvSpPr/>
            <p:nvPr/>
          </p:nvSpPr>
          <p:spPr>
            <a:xfrm flipH="1" flipV="1">
              <a:off x="5334120" y="2905200"/>
              <a:ext cx="41112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23368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6310080" y="2900520"/>
            <a:ext cx="511560" cy="521640"/>
            <a:chOff x="6310080" y="2900520"/>
            <a:chExt cx="511560" cy="521640"/>
          </a:xfrm>
        </p:grpSpPr>
        <p:sp>
          <p:nvSpPr>
            <p:cNvPr id="1742" name=""/>
            <p:cNvSpPr/>
            <p:nvPr/>
          </p:nvSpPr>
          <p:spPr>
            <a:xfrm flipH="1" flipV="1">
              <a:off x="6410520" y="2900520"/>
              <a:ext cx="41112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310080" y="296388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308720" y="2905200"/>
            <a:ext cx="510480" cy="521640"/>
            <a:chOff x="7308720" y="2905200"/>
            <a:chExt cx="510480" cy="521640"/>
          </a:xfrm>
        </p:grpSpPr>
        <p:sp>
          <p:nvSpPr>
            <p:cNvPr id="1745" name=""/>
            <p:cNvSpPr/>
            <p:nvPr/>
          </p:nvSpPr>
          <p:spPr>
            <a:xfrm flipH="1" flipV="1">
              <a:off x="7408440" y="2905200"/>
              <a:ext cx="41076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30872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E31-CA66-46C9-8F66-A80EE0B55041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685800" y="152280"/>
            <a:ext cx="77724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  <a:ea typeface="ＭＳ Ｐゴシック"/>
              </a:rPr>
              <a:t>Domains and Z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51000" y="936720"/>
            <a:ext cx="406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artition hierarchy into data administration units called “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zone implemented by a set of nam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3673440" y="2811600"/>
            <a:ext cx="129528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898880" y="23605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099280" y="23493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965920" y="2370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575400" y="10652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5403960" y="1537920"/>
            <a:ext cx="1230120" cy="90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6340320" y="1614240"/>
            <a:ext cx="381240" cy="739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 flipV="1">
            <a:off x="6927840" y="1646280"/>
            <a:ext cx="318960" cy="73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7124400" y="152712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02604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10356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033880" y="34275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091040" y="341640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4551480" y="2898360"/>
            <a:ext cx="482400" cy="57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 flipV="1">
            <a:off x="5237280" y="2952360"/>
            <a:ext cx="95040" cy="4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H="1" flipV="1">
            <a:off x="6269040" y="2963880"/>
            <a:ext cx="52560" cy="48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3067200" y="3998520"/>
            <a:ext cx="203040" cy="30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493880" y="425916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454120" y="1897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c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686040" y="50212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051080" y="4824360"/>
            <a:ext cx="4572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4282920" y="4006800"/>
            <a:ext cx="73080" cy="2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 flipV="1">
            <a:off x="4586040" y="3932280"/>
            <a:ext cx="610920" cy="479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12136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90996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3957120" y="5608800"/>
            <a:ext cx="9720" cy="33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176720" y="5553000"/>
            <a:ext cx="363600" cy="3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965320" y="3355920"/>
            <a:ext cx="4827600" cy="795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139920" y="3040200"/>
            <a:ext cx="9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043760" y="342108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319880" y="2971800"/>
            <a:ext cx="11160" cy="46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993000" y="23637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989680" y="525600"/>
            <a:ext cx="17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10040" y="6037200"/>
            <a:ext cx="24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ww.cs.ucl.ac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430960" y="50547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384800" y="4792680"/>
            <a:ext cx="1062000" cy="44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606760" y="425916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018640" y="227808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959440" y="1897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T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856120" y="402444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886440" y="4021200"/>
            <a:ext cx="933480" cy="7794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419200" y="4863960"/>
            <a:ext cx="93348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921800" y="2946240"/>
            <a:ext cx="933120" cy="7797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405320" y="590544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670200" y="5911920"/>
            <a:ext cx="596880" cy="5968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2660400" y="51674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11496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140240" y="433224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8180280" y="3260880"/>
            <a:ext cx="42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5278320" y="2905200"/>
            <a:ext cx="510480" cy="521640"/>
            <a:chOff x="5278320" y="2905200"/>
            <a:chExt cx="510480" cy="521640"/>
          </a:xfrm>
        </p:grpSpPr>
        <p:sp>
          <p:nvSpPr>
            <p:cNvPr id="1799" name=""/>
            <p:cNvSpPr/>
            <p:nvPr/>
          </p:nvSpPr>
          <p:spPr>
            <a:xfrm flipH="1" flipV="1">
              <a:off x="5378040" y="2905200"/>
              <a:ext cx="41076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7832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6354720" y="2900520"/>
            <a:ext cx="510480" cy="521640"/>
            <a:chOff x="6354720" y="2900520"/>
            <a:chExt cx="510480" cy="521640"/>
          </a:xfrm>
        </p:grpSpPr>
        <p:sp>
          <p:nvSpPr>
            <p:cNvPr id="1802" name=""/>
            <p:cNvSpPr/>
            <p:nvPr/>
          </p:nvSpPr>
          <p:spPr>
            <a:xfrm flipH="1" flipV="1">
              <a:off x="6454440" y="2900520"/>
              <a:ext cx="41076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354720" y="296388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353000" y="2905200"/>
            <a:ext cx="511560" cy="521640"/>
            <a:chOff x="7353000" y="2905200"/>
            <a:chExt cx="511560" cy="521640"/>
          </a:xfrm>
        </p:grpSpPr>
        <p:sp>
          <p:nvSpPr>
            <p:cNvPr id="1805" name=""/>
            <p:cNvSpPr/>
            <p:nvPr/>
          </p:nvSpPr>
          <p:spPr>
            <a:xfrm flipH="1" flipV="1">
              <a:off x="7453440" y="2905200"/>
              <a:ext cx="411120" cy="5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353000" y="2968560"/>
              <a:ext cx="425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904080" y="227484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878440" y="2282760"/>
            <a:ext cx="77328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815000" y="227484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481800" y="985680"/>
            <a:ext cx="772920" cy="7621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845400" y="2201760"/>
            <a:ext cx="2014560" cy="908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765680" y="2198520"/>
            <a:ext cx="1957320" cy="908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411960" y="898560"/>
            <a:ext cx="919080" cy="907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046320" y="3405240"/>
            <a:ext cx="727200" cy="684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021200" y="3402000"/>
            <a:ext cx="72684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976640" y="3402000"/>
            <a:ext cx="72720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977080" y="3402000"/>
            <a:ext cx="72684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840120" y="4210200"/>
            <a:ext cx="727200" cy="684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985080" y="3398760"/>
            <a:ext cx="72684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621240" y="4962600"/>
            <a:ext cx="1438200" cy="15764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370480" y="5018040"/>
            <a:ext cx="727200" cy="6843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C29-DAFD-44B9-B7BC-5CBD65CF6005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recor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588960" y="958320"/>
            <a:ext cx="78199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tributed db storing resource record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773360" y="1376280"/>
            <a:ext cx="5364000" cy="571680"/>
            <a:chOff x="1773360" y="1376280"/>
            <a:chExt cx="5364000" cy="571680"/>
          </a:xfrm>
        </p:grpSpPr>
        <p:sp>
          <p:nvSpPr>
            <p:cNvPr id="1825" name=""/>
            <p:cNvSpPr/>
            <p:nvPr/>
          </p:nvSpPr>
          <p:spPr>
            <a:xfrm>
              <a:off x="1773360" y="1387800"/>
              <a:ext cx="53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R format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ame, value, type, tt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54000" y="1376280"/>
              <a:ext cx="526716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285840" y="2001960"/>
            <a:ext cx="436392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hos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domain (e.g. foo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P address of authoritative name server for this domai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681440" y="1994040"/>
            <a:ext cx="42735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alias name for some “cannonical” (the real)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anonical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hostname of mailserver associat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E6D-D86F-494D-8AF5-C02A2E43ED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6348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protocol, messag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ry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ssages, both with sam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essage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"/>
          <p:cNvSpPr/>
          <p:nvPr/>
        </p:nvSpPr>
        <p:spPr>
          <a:xfrm>
            <a:off x="533520" y="2352600"/>
            <a:ext cx="380988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g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dentif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6 bit # for query, reply to query uses sam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ry or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ion des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ion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ly is author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2" name="DNSmessage" descr=""/>
          <p:cNvPicPr/>
          <p:nvPr/>
        </p:nvPicPr>
        <p:blipFill>
          <a:blip r:embed="rId1"/>
          <a:stretch/>
        </p:blipFill>
        <p:spPr>
          <a:xfrm>
            <a:off x="4756320" y="221472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307-E876-4218-87E9-D22CC85448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6348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NS protocol, messag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834" name="DNSmessage" descr=""/>
          <p:cNvPicPr/>
          <p:nvPr/>
        </p:nvPicPr>
        <p:blipFill>
          <a:blip r:embed="rId1"/>
          <a:stretch/>
        </p:blipFill>
        <p:spPr>
          <a:xfrm>
            <a:off x="4403880" y="150984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1835" name=""/>
          <p:cNvSpPr/>
          <p:nvPr/>
        </p:nvSpPr>
        <p:spPr>
          <a:xfrm>
            <a:off x="1309680" y="1488960"/>
            <a:ext cx="2314440" cy="722520"/>
          </a:xfrm>
          <a:prstGeom prst="wedgeRoundRectCallout">
            <a:avLst>
              <a:gd name="adj1" fmla="val 94444"/>
              <a:gd name="adj2" fmla="val 163847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, type fields for a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496880" y="2712960"/>
            <a:ext cx="2032200" cy="722520"/>
          </a:xfrm>
          <a:prstGeom prst="wedgeRoundRectCallout">
            <a:avLst>
              <a:gd name="adj1" fmla="val 105078"/>
              <a:gd name="adj2" fmla="val 7329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30280" y="3778200"/>
            <a:ext cx="2913120" cy="676440"/>
          </a:xfrm>
          <a:prstGeom prst="wedgeRoundRectCallout">
            <a:avLst>
              <a:gd name="adj1" fmla="val 92342"/>
              <a:gd name="adj2" fmla="val 1009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01480" y="4776840"/>
            <a:ext cx="2913120" cy="676080"/>
          </a:xfrm>
          <a:prstGeom prst="wedgeRoundRectCallout">
            <a:avLst>
              <a:gd name="adj1" fmla="val 93925"/>
              <a:gd name="adj2" fmla="val -4178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“helpfu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672-6830-4031-87E0-25E3A94BACB6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9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pplication-layer protocols (cont).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39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I: application programming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s interface between application and transport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ket: Internet AP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processes communicate by sending data into socket, reading data out of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47960" y="1380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does a process “identify” the other process with which it wants to communicat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host running other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rt numb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- allows receiving host to determine to which local process the message should be deliver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570-BDBE-47AF-81A3-34D8849B7418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294280" y="334800"/>
            <a:ext cx="45972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289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28954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58960" y="228132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(FTP, Telnet, WWW, em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90640" y="2895480"/>
            <a:ext cx="541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8960" y="2890800"/>
            <a:ext cx="26542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25840" y="2890800"/>
            <a:ext cx="28069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Control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C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58960" y="348948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Protocol (I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8960" y="408780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Interface (Ethernet, A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758960" y="4686480"/>
            <a:ext cx="54738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(fiber, twisted-pair copper, coax, 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359240" y="5632560"/>
            <a:ext cx="1230480" cy="609480"/>
          </a:xfrm>
          <a:prstGeom prst="wedgeRoundRectCallout">
            <a:avLst>
              <a:gd name="adj1" fmla="val -62902"/>
              <a:gd name="adj2" fmla="val -1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8760" y="3905280"/>
            <a:ext cx="1488960" cy="1638360"/>
          </a:xfrm>
          <a:prstGeom prst="wedgeRoundRectCallout">
            <a:avLst>
              <a:gd name="adj1" fmla="val 169935"/>
              <a:gd name="adj2" fmla="val -57652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ff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end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st-h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2240" y="2109960"/>
            <a:ext cx="1398600" cy="1636560"/>
          </a:xfrm>
          <a:prstGeom prst="wedgeRoundRectCallout">
            <a:avLst>
              <a:gd name="adj1" fmla="val 124462"/>
              <a:gd name="adj2" fmla="val 23037"/>
              <a:gd name="adj3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rel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cess-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39040" y="2313000"/>
            <a:ext cx="1444680" cy="1671480"/>
          </a:xfrm>
          <a:prstGeom prst="wedgeRoundRectCallout">
            <a:avLst>
              <a:gd name="adj1" fmla="val -135166"/>
              <a:gd name="adj2" fmla="val 10685"/>
              <a:gd name="adj3" fmla="val 1666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le in-or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cess-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80440" y="4338720"/>
            <a:ext cx="1104840" cy="1571400"/>
          </a:xfrm>
          <a:prstGeom prst="wedgeRoundRectCallout">
            <a:avLst>
              <a:gd name="adj1" fmla="val -166379"/>
              <a:gd name="adj2" fmla="val -45759"/>
              <a:gd name="adj3" fmla="val 16667"/>
            </a:avLst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-point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etwork interface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27360" y="1243080"/>
            <a:ext cx="4784400" cy="520560"/>
          </a:xfrm>
          <a:prstGeom prst="wedgeRoundRectCallout">
            <a:avLst>
              <a:gd name="adj1" fmla="val -42435"/>
              <a:gd name="adj2" fmla="val 192379"/>
              <a:gd name="adj3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s provide specialized services by building on services provided by other protoco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6D9-107A-41DC-B912-0E51721990B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295960" y="419256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98920" y="4184640"/>
            <a:ext cx="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45920" y="187200"/>
            <a:ext cx="40899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tocol s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34320" y="257796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24200" y="2643120"/>
            <a:ext cx="0" cy="280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35280" y="3517920"/>
            <a:ext cx="3424320" cy="2421000"/>
          </a:xfrm>
          <a:prstGeom prst="roundRect">
            <a:avLst>
              <a:gd name="adj" fmla="val 12426"/>
            </a:avLst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70800" y="349236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81400" y="245124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457360" y="3213000"/>
            <a:ext cx="4025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457360" y="405144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10200" y="405144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10400" y="405144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57360" y="481320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10200" y="48132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10400" y="481320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57360" y="549900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10200" y="5499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10400" y="5499000"/>
            <a:ext cx="520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390680" y="1090440"/>
            <a:ext cx="1216080" cy="1006560"/>
            <a:chOff x="1390680" y="1090440"/>
            <a:chExt cx="1216080" cy="1006560"/>
          </a:xfrm>
        </p:grpSpPr>
        <p:grpSp>
          <p:nvGrpSpPr>
            <p:cNvPr id="680" name=""/>
            <p:cNvGrpSpPr/>
            <p:nvPr/>
          </p:nvGrpSpPr>
          <p:grpSpPr>
            <a:xfrm>
              <a:off x="1390680" y="1090440"/>
              <a:ext cx="1216080" cy="1006560"/>
              <a:chOff x="1390680" y="1090440"/>
              <a:chExt cx="1216080" cy="1006560"/>
            </a:xfrm>
          </p:grpSpPr>
          <p:pic>
            <p:nvPicPr>
              <p:cNvPr id="6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90680" y="109044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7720" y="120924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3" name=""/>
            <p:cNvSpPr/>
            <p:nvPr/>
          </p:nvSpPr>
          <p:spPr>
            <a:xfrm>
              <a:off x="1464480" y="1238040"/>
              <a:ext cx="763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7501680" y="5216400"/>
            <a:ext cx="1591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e raw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o media –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electrical/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l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524000" y="4487760"/>
            <a:ext cx="1452600" cy="705600"/>
            <a:chOff x="7524000" y="4487760"/>
            <a:chExt cx="1452600" cy="705600"/>
          </a:xfrm>
        </p:grpSpPr>
        <p:sp>
          <p:nvSpPr>
            <p:cNvPr id="686" name=""/>
            <p:cNvSpPr/>
            <p:nvPr/>
          </p:nvSpPr>
          <p:spPr>
            <a:xfrm>
              <a:off x="7525080" y="4487760"/>
              <a:ext cx="1310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ing,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24000" y="4678200"/>
              <a:ext cx="1452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overy, me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7525080" y="3693960"/>
            <a:ext cx="1422000" cy="683280"/>
            <a:chOff x="7525080" y="3693960"/>
            <a:chExt cx="1422000" cy="683280"/>
          </a:xfrm>
        </p:grpSpPr>
        <p:sp>
          <p:nvSpPr>
            <p:cNvPr id="689" name=""/>
            <p:cNvSpPr/>
            <p:nvPr/>
          </p:nvSpPr>
          <p:spPr>
            <a:xfrm>
              <a:off x="7527240" y="369396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26520" y="3884760"/>
              <a:ext cx="1152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low-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25080" y="4075200"/>
              <a:ext cx="142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gestion-cn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63440" y="2197080"/>
            <a:ext cx="1212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, FTP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net,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59760" y="3835440"/>
            <a:ext cx="35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5000" y="307332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33440" y="228744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33440" y="304956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33440" y="381168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20840" y="457344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33440" y="525924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43560" y="2298600"/>
            <a:ext cx="1206720" cy="3682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43560" y="3060720"/>
            <a:ext cx="1206720" cy="36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43560" y="3822840"/>
            <a:ext cx="120672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3096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343560" y="5270400"/>
            <a:ext cx="120672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551720" y="3021120"/>
            <a:ext cx="1536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able, 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user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8280" y="4584600"/>
            <a:ext cx="120636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9088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67400" y="3822840"/>
            <a:ext cx="1206360" cy="368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654440" y="4584600"/>
            <a:ext cx="1206720" cy="368280"/>
          </a:xfrm>
          <a:prstGeom prst="rect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667400" y="5270400"/>
            <a:ext cx="12063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600" y="4510080"/>
            <a:ext cx="138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, PPP, 802.11, FD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760" y="5305320"/>
            <a:ext cx="124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NET,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44720" y="4280040"/>
            <a:ext cx="3206880" cy="1568160"/>
          </a:xfrm>
          <a:prstGeom prst="roundRect">
            <a:avLst>
              <a:gd name="adj" fmla="val 16667"/>
            </a:avLst>
          </a:pr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75480" y="427356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86640" y="2111400"/>
            <a:ext cx="153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service across abstrac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21040" y="5041800"/>
            <a:ext cx="3036960" cy="709560"/>
          </a:xfrm>
          <a:prstGeom prst="roundRect">
            <a:avLst>
              <a:gd name="adj" fmla="val 16667"/>
            </a:avLst>
          </a:prstGeom>
          <a:solidFill>
            <a:srgbClr val="ff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27240" y="50148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6367320" y="1100160"/>
            <a:ext cx="1216080" cy="1006560"/>
            <a:chOff x="6367320" y="1100160"/>
            <a:chExt cx="1216080" cy="1006560"/>
          </a:xfrm>
        </p:grpSpPr>
        <p:grpSp>
          <p:nvGrpSpPr>
            <p:cNvPr id="720" name=""/>
            <p:cNvGrpSpPr/>
            <p:nvPr/>
          </p:nvGrpSpPr>
          <p:grpSpPr>
            <a:xfrm>
              <a:off x="6367320" y="1100160"/>
              <a:ext cx="1216080" cy="1006560"/>
              <a:chOff x="6367320" y="1100160"/>
              <a:chExt cx="1216080" cy="1006560"/>
            </a:xfrm>
          </p:grpSpPr>
          <p:pic>
            <p:nvPicPr>
              <p:cNvPr id="7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67320" y="1100160"/>
                <a:ext cx="1216080" cy="100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360" y="1218960"/>
                <a:ext cx="5140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3" name=""/>
            <p:cNvSpPr/>
            <p:nvPr/>
          </p:nvSpPr>
          <p:spPr>
            <a:xfrm>
              <a:off x="6433920" y="1247760"/>
              <a:ext cx="760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4173480" y="5477040"/>
            <a:ext cx="52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3040" y="174780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31280" y="174132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976040" y="2019240"/>
            <a:ext cx="11160" cy="365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6982920" y="2025360"/>
            <a:ext cx="11160" cy="363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1F8-D40B-4BAE-BBCA-4E4F71B2A0E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 - htt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4:42:41Z</dcterms:created>
  <dc:creator>CS</dc:creator>
  <dc:description/>
  <dc:language>en-US</dc:language>
  <cp:lastModifiedBy>penny</cp:lastModifiedBy>
  <dcterms:modified xsi:type="dcterms:W3CDTF">2001-10-22T14:47:59Z</dcterms:modified>
  <cp:revision>53</cp:revision>
  <dc:subject/>
  <dc:title>CSC309 - 30 - HTTP</dc:title>
</cp:coreProperties>
</file>