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8560-F7F0-45CC-B964-8CEA7BCC4B3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DOM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e Core platform relies on an internal tree-like representation of the document, and enables you to traverse the hierarchy accordingly. The standard model of viewing a document is as a hierarchy of elements, with the computer building up an internal model of the document based on a kind of tree struc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e DOM Range and Traversal modules can be used on the Core platform for tree manipul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DOM X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e DOM XML extends the Core platform for specific XML 1.0 needs such as processing instructions, CDATA, and entit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DOM 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e HTML DOM provides a set of convenient easy-to-use ways to manipulate HTML documents. The initial HTML DOM merely describes methods, for example, for accessing an identifier by name, or a particular link. The HTML DOM is sometimes referred to as </a:t>
            </a:r>
            <a:r>
              <a:rPr b="0" i="1" lang="en-CA" sz="1000" spc="-1" strike="noStrike">
                <a:solidFill>
                  <a:srgbClr val="000000"/>
                </a:solidFill>
                <a:latin typeface="Arial"/>
              </a:rPr>
              <a:t>DOM Level 0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 but has been imported into </a:t>
            </a:r>
            <a:r>
              <a:rPr b="0" i="1" lang="en-CA" sz="1000" spc="-1" strike="noStrike">
                <a:solidFill>
                  <a:srgbClr val="000000"/>
                </a:solidFill>
                <a:latin typeface="Arial"/>
              </a:rPr>
              <a:t>DOM Level 1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DOM 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is part includes XML-tree manipulation oriented events with the Mutation events and the Web user-oriented events with mouse events and HTML ev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DOM C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e DOM CSS provides a set of convenient easy-to-use ways to manipulate CSS documents.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DOM Vie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A document may have one or more "views" associated with it, e.g., a computed view on a document after applying a CSS stylesheet, or multiple presentations (e.g., HTML Frame) of the same document in a client. That is, a view is some alternate representation of, or a presentation of, and associated with, a source docu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9A78-D182-41B7-BD06-28959551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3176-CDE7-42FA-9D59-ECF6EFC6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03B0-594F-47FD-AD70-93D26CBA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B5AE-5893-4063-ACD9-FEC6CD9C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0C9E-B81D-4321-8802-71E40EFA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5F46-7DD6-4E5A-A4CD-6AF8CF5F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9B4B-F622-4B70-931B-379B8617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B7D0-D344-4670-BD4A-F0297FCE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416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E527-36E1-4D2A-A75E-B577376F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C133-1FEB-42D2-8810-A40074D4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22D7-051C-495A-94D8-264C0F2D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7B34-C686-45E9-B4FC-4C6606FA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F79B-F86C-466E-A871-E71AC5CFE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car.utoronto.ca/~rosselet/cscc09/c09/20JScore_files/fact.html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scar.utoronto.ca/~rosselet/cscc09/c09/20JScore_files/alert.html" TargetMode="External"/><Relationship Id="rId2" Type="http://schemas.openxmlformats.org/officeDocument/2006/relationships/hyperlink" Target="http://www.scar.utoronto.ca/~rosselet/cscc09/c09/20JScore_files/onclick.html" TargetMode="External"/><Relationship Id="rId3" Type="http://schemas.openxmlformats.org/officeDocument/2006/relationships/hyperlink" Target="http://www.scar.utoronto.ca/~rosselet/cscc09/c09/20JScore_files/createwin.html" TargetMode="External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lient-Side Scripting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far, the browser has only passively displayed cont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also possible to download a program to the browser, and have it execute on the client brows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ent-side scripting requires some mechanism for referring to the HTML document within which it is embedded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16F8-7C38-44B8-9BAA-AA600A3DABC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xample Java Language Binding</a:t>
            </a:r>
            <a:endParaRPr b="0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package org.w3c.dom.html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public interface HTMLTitleEl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extends HTMLElement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public String getText(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public void setText(String text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7E59-8E0C-4F9D-A9BF-F257F58C8E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xample JavaScript Language Binding</a:t>
            </a:r>
            <a:endParaRPr b="0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mic Sans MS"/>
              </a:rPr>
              <a:t>Object HTMLTitleElemen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HTMLTitleElement has the all the properties and methods of the HTMLElement object as well as the properties and methods defined below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The HTMLTitleElement object has the following propertie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This property is of type </a:t>
            </a:r>
            <a:r>
              <a:rPr b="1" lang="en-CA" sz="2000" spc="-1" strike="noStrike">
                <a:solidFill>
                  <a:srgbClr val="000000"/>
                </a:solidFill>
                <a:latin typeface="Comic Sans MS"/>
              </a:rPr>
              <a:t>String</a:t>
            </a:r>
            <a:r>
              <a:rPr b="0" lang="en-CA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EDDF-87BF-40EF-B9DD-765670DC9E7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rivial Example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fact.htm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AAD0-8CBC-403F-97A5-7A5BA521482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Relationship to Java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tscape originated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LiveScrip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renamed to JavaScript at the last minu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ceived competition with Sun Microsystems Java for client-side scrip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lement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not draw, multi-thread, network or do I/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not interact with Browser or control cont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A4DA-82A8-4F18-8E74-7893A6BD67E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he JavaScript Language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typ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t than Java or C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variable can hold any type of valu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(8-byte IEEE f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 (first-class data typ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ray (elements can be of mixed typ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can hold values of different types at different times during exec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F50C-711A-4467-9677-800E623ED66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JavaScript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esents HTML tags as obje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g attributes are represented as object proper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st-commonly-referenced objects are defined as part of the D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E621-8A98-414A-A526-28FF8DF69ED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JavaScript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ble decla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r i = 12, msg = “hello”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omit a variable declaratio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atically declared at global scop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block-level sco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nction test() {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1 == 1 ) {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 j = 12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cument.write(j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9D71-D7A3-41D0-B564-33DFBBF7F03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Block scope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r scope = “globa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unction f(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ert(scope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r scope = “local”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ert(scope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(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Beware of references to variables that have not yet been assigned val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 rot="2005200">
            <a:off x="3885480" y="252864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as declaring up here and initializing dow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581280" y="2092320"/>
            <a:ext cx="274320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809880" y="3124080"/>
            <a:ext cx="45720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0FC9-374C-4F04-A066-393EF98EB51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xecution Context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variables are properties of objec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al objects are used for global scope and “call scope” (lexical, not run-tim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have more than one “global” sco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two windows onto the same p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still communicate using DOM object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urity implications –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ata tain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execution context (source line) has a scope chain it uses for variable name resol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F2A8-A178-40C9-AD02-096BB2653A8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755640" y="1143000"/>
            <a:ext cx="3745080" cy="4249800"/>
            <a:chOff x="755640" y="1143000"/>
            <a:chExt cx="3745080" cy="4249800"/>
          </a:xfrm>
        </p:grpSpPr>
        <p:sp>
          <p:nvSpPr>
            <p:cNvPr id="94" name=""/>
            <p:cNvSpPr/>
            <p:nvPr/>
          </p:nvSpPr>
          <p:spPr>
            <a:xfrm>
              <a:off x="755640" y="1143000"/>
              <a:ext cx="3745080" cy="424980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44720" y="1719360"/>
              <a:ext cx="3240000" cy="3024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03280" y="2583000"/>
              <a:ext cx="2737080" cy="1368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cope Chain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39840" y="1299960"/>
            <a:ext cx="3137040" cy="41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r x=1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unction f(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r y = 2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unction g(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r z = 3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1484280"/>
            <a:ext cx="100800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92720" y="2565360"/>
            <a:ext cx="100800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92720" y="3645000"/>
            <a:ext cx="100800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3645000"/>
            <a:ext cx="1223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796000" y="306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796000" y="198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75960" y="148428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74880" y="25653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object of scope f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75240" y="36450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object of scope g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1E5-F1B0-4A37-A52C-068C07E3E42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ocument Object Model (DOM)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3C Stand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In the pre-standardized world, NN &amp; IE had different DOM’s (and thus API’s), so e.g. different Javascript implementations might be required for  dynamic pages might be different for the 2 brows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The Document Object Model is a platform- and language-neutral interface (API) that allows programs and scripts to dynamically access and update the content, structure and style (essentially all attributes) of documents (both HTML and XML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D29B-1A08-45FC-ADAD-DFA2A1B5411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Implications of Lexical Scoping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unction makefunc(x) {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unction() { return x; 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= [makefunc(0), makefunc(1), makefunc(2)]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ert(a[0]()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displays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ert(a[1]()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displays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ert(a[2]()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displays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function reference is actually a reference to a “Closure” that has 2 properti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[0].__proto__: the function reference itsel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[0].__parent__: the scope obje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C0E7-44BC-4694-9060-0F2DDA6E172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emicolon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a newline terminates a statement, then a semicolon is inserted for you automatical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= 3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= 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= 3; b =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4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= 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shudder…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351F-018A-4441-9A1C-2C8B4F932B9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Literal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ual number, string, boolean litera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nction literals (“lambda” function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 square = function(x) { return x*x; 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 litera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 point = { x:2, y:4 }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ray litera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 a = [1,“foo”,,true]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gular expression litera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 a = /[1-9][0-9]*/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s object of type RegEx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BFD7-AE99-4C11-9221-BAB9A434B38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Object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002960"/>
            <a:ext cx="8001000" cy="53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language has no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las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tru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cts are most like associative array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 point = new Object(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.x = 2;  // equivalent to point[“x”] =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[“y”] = 3;  // equivalent to point.y =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ert(point.x); alert(point.y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var i in obj) document.write(i + “\n”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However, note a Javascript Object‘s definition is determined at </a:t>
            </a:r>
            <a:r>
              <a:rPr b="0" i="1" lang="en-CA" sz="2800" spc="-1" strike="noStrike">
                <a:solidFill>
                  <a:srgbClr val="000000"/>
                </a:solidFill>
                <a:latin typeface="Comic Sans MS"/>
              </a:rPr>
              <a:t>run time</a:t>
            </a:r>
            <a:r>
              <a:rPr b="0" lang="en-CA" sz="2800" spc="-1" strike="noStrike">
                <a:solidFill>
                  <a:srgbClr val="000000"/>
                </a:solidFill>
                <a:latin typeface="Comic Sans MS"/>
              </a:rPr>
              <a:t>. Unlike C++ or Java, it is possible to dynamically add new properties or methods and to change the binding of methods at run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74CF-E223-4C9B-B41D-18ED1C91063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Object Constructor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1028520"/>
            <a:ext cx="79246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unction Rectangle_area(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this.width * this.heigth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* “this” is a keyword used within a method to refer to the current object */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unction Rectangle(w,h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.width = w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.height = h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.area = Rectangle_area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r rec = new Rectangle(2,4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cument.write(rec.area()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7F40-9D4E-4D08-AC4B-2861FDECCDD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Prototype Inheritance Hack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unction Circle(x,y,r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.x = x; this.y = y; this.r = r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.prototype.pi = 3.1415926534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.prototype.area = function(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this.pi * this.r * this.r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ll look up the property in the prototype object if it’s not defined in the object itself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ing will create a local copy if property is defined in the prototype object; useful for creating instances that differ from the standa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F76B-485C-4E11-9B0E-9E5F480E952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efault Method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0100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uc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ers to the constructor function used to create an objec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unction Circle(x,y,r) {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.x = x; this.y = y; this.r = r;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String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matically called for conversions to str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Value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matically called for conversions to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734C-9C47-4912-B1E8-E3E36E357DE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rray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815328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r a = new Array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empty arr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r b = new Array(“dog”, 3, 8.4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r c = new Array(10); // array of size 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r d = [2, 5, ‘a’, ‘b’]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[15] = “hello”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implicit exten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3C9F-6D25-4D23-8967-3A82978FE4E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rray Properties and method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in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erse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rt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at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lice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lice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sh() / pop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ift() / unshift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String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3CD1-F0C2-4DD4-A425-BFC369024AB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Regular Expression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 p1 = new RegExp(“s$”)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 p2 = /s$/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atible with Perl regular expression synta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d in certain basic String metho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arch(), replace(), math(), split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43AD-507F-466D-9ECC-7D051875FBF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nsdom" descr=""/>
          <p:cNvPicPr/>
          <p:nvPr/>
        </p:nvPicPr>
        <p:blipFill>
          <a:blip r:embed="rId1"/>
          <a:stretch/>
        </p:blipFill>
        <p:spPr>
          <a:xfrm>
            <a:off x="1554120" y="990720"/>
            <a:ext cx="6035760" cy="5075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" y="76320"/>
            <a:ext cx="777240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Netscape D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E945-D902-4300-864E-81ABA94C2A1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vent-Driven Execution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vaScript programs are typically event-drive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ecution is triggered by various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ven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at occur on the Web page, usually as a result of something the user does, e.g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onClick, OnDblClick, onKeyDown, onLoad, onMouseOver, onSubmit, onResize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ts are associated with the various objects that make up a Web page, for example, an onClick event might be associated with clicking a radio button element on a for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5E00-35FF-4C32-8D20-A049C547019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88560"/>
            <a:ext cx="838224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ssociating Events with Element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812520"/>
            <a:ext cx="83822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ts can be specifie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as the values of attributes of HTML eleme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xample, a hyperlink is subject to a MouseOver event, meaning that its event handler will be triggered when the mouse passes over the link. Therefore, you place the event handler for a hyperlink's MouseOver inside the A tag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24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24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a href=“…" onMouseOver="popupFunc();"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0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ilarly, a form selection is subject to an onClick even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24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form name=“order”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24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input type=“radio” name=“size” onClick=“sizeSelection()”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24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3261-7E6A-47D7-B7F6-6974ACBE79F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838224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ssociating Events with Element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57120"/>
            <a:ext cx="83822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ents can be specified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properties associated with events on objects representing HTML element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document.order.elements[0].onclick=sizeSel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E3A9-7C00-44A7-A024-399476B9E6D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vent Example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aler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built-in alert meth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onclic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separate Javascript fun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createw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create &amp; output to a new wind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DA5B-7E0B-4CC4-881C-EA299C85102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vent Application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 input check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ids unnecessary transmission and server-side processing in case of err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floads processing task to typically lightly loaded client, rather than heavily loaded ser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s better performance for us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ical error-handling events: alert, focus, sel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gular expression type often useful for checking field synta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6B5B-DD5F-49B0-AF93-9820CFF6B16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OM cont’d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6108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mic Sans MS"/>
              </a:rPr>
              <a:t>A document can be further processed and the results of that processing can be incorporated back into (or even replace) the presented page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g. document.images[3].src = “img/button3.gif“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mic Sans MS"/>
              </a:rPr>
              <a:t>DOM also provides a standard way for developers to acquire information (possibly from multiple sources) and integrate disparate applications, for example, to tie together incompatible database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52A9-6094-4DA1-B8C3-C8ED3AF444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OM Level 2 (Nov., 2000)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7" name="" descr="DOM Level 2 Architecture"/>
          <p:cNvPicPr/>
          <p:nvPr/>
        </p:nvPicPr>
        <p:blipFill>
          <a:blip r:embed="rId1"/>
          <a:stretch/>
        </p:blipFill>
        <p:spPr>
          <a:xfrm>
            <a:off x="755640" y="1125360"/>
            <a:ext cx="7775640" cy="516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A8BA-75F8-48F7-BF4E-3418A8EDC94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OM Representation of HTML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49568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A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B&gt;text1&lt;/B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C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D&gt;child of C&lt;/D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E&gt;another child of C&lt;/E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/C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F&gt;moreText&lt;/F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dom2" descr=""/>
          <p:cNvPicPr/>
          <p:nvPr/>
        </p:nvPicPr>
        <p:blipFill>
          <a:blip r:embed="rId1"/>
          <a:stretch/>
        </p:blipFill>
        <p:spPr>
          <a:xfrm>
            <a:off x="5222880" y="1066680"/>
            <a:ext cx="3463920" cy="3429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257800" y="4572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M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52578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at representation: a b c d e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D574-C741-426E-9381-77E728CCD3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DOM Representation of HTML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de object properti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childNodes[0] =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childNodes[2] = 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firstChild =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childNodes.length =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.parentNode = 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.nextSibling = 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.nextSibling = nu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childNodes[1].firstChild = 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parentNode.parentNode = 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ElementById(“id")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dom2" descr=""/>
          <p:cNvPicPr/>
          <p:nvPr/>
        </p:nvPicPr>
        <p:blipFill>
          <a:blip r:embed="rId1"/>
          <a:stretch/>
        </p:blipFill>
        <p:spPr>
          <a:xfrm>
            <a:off x="3429000" y="1328760"/>
            <a:ext cx="3352680" cy="3319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419720" y="4343400"/>
            <a:ext cx="472428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3505320"/>
            <a:ext cx="2210040" cy="259056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dify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ertBefore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laceChild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oveChild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endChild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oneNode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E47A-E620-4A8B-9572-F09F0D8238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How the DOM is Defined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DOM is defined using IDL (Interface Definition Languag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L was originally defined for use in CORB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va RMI and Microsoft DCOM can also use ID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L is then mapped i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CMAScript (JavaScript to the rest of u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60F6-F837-417F-93FB-3D94E329DB8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xample IDL Definition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interface HTMLTitleElement: HTMLElement { attribute DOMString tex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630C-5965-45C7-9D43-7B33C3F440F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 - JS Co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4T14:52:32Z</dcterms:created>
  <dc:creator>David Penny</dc:creator>
  <dc:description/>
  <dc:language>en-US</dc:language>
  <cp:lastModifiedBy>Computing Centre</cp:lastModifiedBy>
  <dcterms:modified xsi:type="dcterms:W3CDTF">2001-10-03T16:53:49Z</dcterms:modified>
  <cp:revision>23</cp:revision>
  <dc:subject/>
  <dc:title>Client-Side Scripting</dc:title>
</cp:coreProperties>
</file>