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AC0-C982-4D8E-BBF1-49C21E57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D0B-9D67-4B29-A026-C44B4EB5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053-E289-4621-9853-F87B56F9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894-2D75-4247-8BEC-F1A10D53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399-55B4-4D73-9617-F94946A4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E84-F44E-4821-882B-BD0F74C1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07F-78EC-47D6-B8F4-51A2E235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B99-462A-4194-888E-255A6188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59F-67DE-4DF4-9356-88140EC3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565-0F3D-49B0-AD92-E6C9F2F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77E-44D0-4FE0-AE03-CDBDEC9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D64-3D20-469E-8AEC-E3FB0584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DE78-B2B9-43FA-B448-902A7379E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Secur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11480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ed Intermediaries, Secure/Authenticated E-mail, SSL/HTTPS, Signed Applets, Firewalls,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488-56F3-4931-B80D-EC28386C91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 Sockets Layer (SSL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862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SA/PGP provide security for specific network appli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SL works at Internet transport layer. Provides security to any TCP-based application using SSL servi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between WWW browsers and servers for e-commerce (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https://www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servi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(and optionally client) authentication using public key signa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ryption of all data flowing between client and server (including URL’s, any submitted form contents, data returned by the server, et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BAC-A194-499F-AAF7-0CE3A18F10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SL/HTTPS (cont’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erver authentic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SL-enabled browser includes public keys for trusted Certificate Authorities (CA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 requests server certificate, issued by trusted 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 uses CA’s public key to extract server’s public key from certifica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it your browser’s security menu to see its trusted CA’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E0D-A485-4028-A209-3C43071815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SL/HTTPS (cont’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158840"/>
            <a:ext cx="7985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ncrypted SSL sess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 generates symmetric session key, encrypts it with server’s public key, sends encrypted key to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its private key, server decrypts session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r, server agree that future messages will be encryp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data sent into TCP socket (by client and server) is encrypted with session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03E-04F1-49A6-BB59-DC878C6996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SL/HTTPS (cont’d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S and HTTP use different ports, so single server can provide both secure and insecure service simultaneous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different URL schemes (http and https), mean that a non-SSL-capable browser will not even attempt to send secure info collected through a form with submit action specified as https: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authentication can be done with client certific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SL can be used for non-Web applications, such as an e-mail user ag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9A7-745C-4B67-A59B-5875209C8E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gned Java Apple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  Download applets from source about which you know nothing – how to be sure the applet is not maliciou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de is authenticated by checking its digital signature using the source’s public key to verify the author and that code hasn’t been modifi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signature tells who the applet comes from, and that the applet has not been tampered with. A signature doesn't tell you anything about the content or quality of the applet, just that it comes from the source that signed i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2DB-E3FD-4DC7-9ABE-DD9F3F03B4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Comic Sans MS"/>
              </a:rPr>
              <a:t>Signed Apple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333080"/>
            <a:ext cx="815328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ading a signed applet triggers a Java security dialog, indicating that a java applet from “the sender’s signature id" is requesting additional privileges, e.g. reading, modification, or deletion of any of your files. Granting the privilege is noted as high ris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Java Security dialog should indicate "Identity verified b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original issuer of certific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" and display a button for you to examine the certific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 can grant permissions for applets to execute or not based on who signed the co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200-D058-4148-B1D9-0A1CF832B4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K 1.0 Securit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30320" y="3289320"/>
            <a:ext cx="5575320" cy="258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Resources (e.g. files, password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30320" y="4952880"/>
            <a:ext cx="5587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35640" y="3467160"/>
            <a:ext cx="1460520" cy="459720"/>
          </a:xfrm>
          <a:prstGeom prst="rect">
            <a:avLst/>
          </a:prstGeom>
          <a:solidFill>
            <a:srgbClr val="ff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1663560"/>
            <a:ext cx="733320" cy="2484720"/>
          </a:xfrm>
          <a:custGeom>
            <a:avLst/>
            <a:gdLst>
              <a:gd name="textAreaLeft" fmla="*/ 98280 w 733320"/>
              <a:gd name="textAreaRight" fmla="*/ 635040 w 733320"/>
              <a:gd name="textAreaTop" fmla="*/ 456120 h 2484720"/>
              <a:gd name="textAreaBottom" fmla="*/ 1693800 h 24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35" stAng="-5400000" swAng="-5400000"/>
                <a:lnTo>
                  <a:pt x="0" y="10755"/>
                </a:lnTo>
                <a:arcTo wR="21600" hR="7935" stAng="10800000" swAng="-2765835"/>
                <a:lnTo>
                  <a:pt x="14400" y="21146"/>
                </a:lnTo>
                <a:lnTo>
                  <a:pt x="21600" y="17280"/>
                </a:lnTo>
                <a:lnTo>
                  <a:pt x="14400" y="12506"/>
                </a:lnTo>
                <a:lnTo>
                  <a:pt x="14400" y="15416"/>
                </a:lnTo>
                <a:arcTo wR="21600" hR="7935" stAng="8034165" swAng="2538131"/>
                <a:lnTo>
                  <a:pt x="344" y="9345"/>
                </a:lnTo>
                <a:arcTo wR="21600" hR="7935" stAng="-10572296" swAng="5172296"/>
                <a:close/>
              </a:path>
              <a:path fill="darkenLess" w="21600" h="21600">
                <a:moveTo>
                  <a:pt x="21600" y="0"/>
                </a:moveTo>
                <a:arcTo wR="21600" hR="7935" stAng="-5400000" swAng="-5400000"/>
                <a:lnTo>
                  <a:pt x="0" y="7935"/>
                </a:lnTo>
                <a:arcTo wR="21600" hR="7935" stAng="10800000" swAng="-227704"/>
                <a:lnTo>
                  <a:pt x="344" y="9345"/>
                </a:lnTo>
                <a:arcTo wR="21600" hR="7935" stAng="-10572296" swAng="5172296"/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60840" y="1282680"/>
            <a:ext cx="1854360" cy="1193760"/>
          </a:xfrm>
          <a:prstGeom prst="flowChartDocumen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(Java app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447920"/>
            <a:ext cx="2006640" cy="1371600"/>
          </a:xfrm>
          <a:prstGeom prst="flowChartDocumen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code (Java ap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1968480"/>
            <a:ext cx="733320" cy="2497320"/>
          </a:xfrm>
          <a:custGeom>
            <a:avLst/>
            <a:gdLst>
              <a:gd name="textAreaLeft" fmla="*/ 98280 w 733320"/>
              <a:gd name="textAreaRight" fmla="*/ 635040 w 733320"/>
              <a:gd name="textAreaTop" fmla="*/ 437040 h 2497320"/>
              <a:gd name="textAreaBottom" fmla="*/ 1810800 h 249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114-1945-4C81-862E-5AA03BBCDBD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K 1.1 Securit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30320" y="3327480"/>
            <a:ext cx="5575320" cy="258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Resources (e.g. files, password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30320" y="4991040"/>
            <a:ext cx="5587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2760" y="3505320"/>
            <a:ext cx="1446120" cy="459720"/>
          </a:xfrm>
          <a:prstGeom prst="rect">
            <a:avLst/>
          </a:prstGeom>
          <a:solidFill>
            <a:srgbClr val="ff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2006640"/>
            <a:ext cx="733320" cy="2496960"/>
          </a:xfrm>
          <a:custGeom>
            <a:avLst/>
            <a:gdLst>
              <a:gd name="textAreaLeft" fmla="*/ 98280 w 733320"/>
              <a:gd name="textAreaRight" fmla="*/ 635040 w 733320"/>
              <a:gd name="textAreaTop" fmla="*/ 436680 h 2496960"/>
              <a:gd name="textAreaBottom" fmla="*/ 1810440 h 249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10040" y="1676520"/>
            <a:ext cx="814320" cy="2560680"/>
          </a:xfrm>
          <a:custGeom>
            <a:avLst/>
            <a:gdLst>
              <a:gd name="textAreaLeft" fmla="*/ 109080 w 814320"/>
              <a:gd name="textAreaRight" fmla="*/ 705240 w 814320"/>
              <a:gd name="textAreaTop" fmla="*/ 447840 h 2560680"/>
              <a:gd name="textAreaBottom" fmla="*/ 1856520 h 256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1727280"/>
            <a:ext cx="725400" cy="2763720"/>
          </a:xfrm>
          <a:custGeom>
            <a:avLst/>
            <a:gdLst>
              <a:gd name="textAreaLeft" fmla="*/ 97200 w 725400"/>
              <a:gd name="textAreaRight" fmla="*/ 628200 w 725400"/>
              <a:gd name="textAreaTop" fmla="*/ 585360 h 2763720"/>
              <a:gd name="textAreaBottom" fmla="*/ 1901880 h 27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51" stAng="-5400000" swAng="5400000"/>
                <a:lnTo>
                  <a:pt x="21600" y="10290"/>
                </a:lnTo>
                <a:arcTo wR="21600" hR="9151" stAng="0" swAng="3102066"/>
                <a:lnTo>
                  <a:pt x="6853" y="21127"/>
                </a:lnTo>
                <a:lnTo>
                  <a:pt x="0" y="18871"/>
                </a:lnTo>
                <a:lnTo>
                  <a:pt x="6853" y="15668"/>
                </a:lnTo>
                <a:lnTo>
                  <a:pt x="6853" y="17828"/>
                </a:lnTo>
                <a:arcTo wR="21600" hR="9151" stAng="3102066" swAng="-3011272"/>
                <a:lnTo>
                  <a:pt x="21558" y="9720"/>
                </a:lnTo>
                <a:arcTo wR="21600" hR="9151" stAng="-90794" swAng="-5309206"/>
                <a:close/>
              </a:path>
              <a:path fill="darkenLess" w="21600" h="21600">
                <a:moveTo>
                  <a:pt x="0" y="0"/>
                </a:moveTo>
                <a:arcTo wR="21600" hR="9151" stAng="-5400000" swAng="5400000"/>
                <a:lnTo>
                  <a:pt x="21600" y="10290"/>
                </a:lnTo>
                <a:arcTo wR="21600" hR="9151" stAng="0" swAng="-90794"/>
                <a:lnTo>
                  <a:pt x="21558" y="9720"/>
                </a:lnTo>
                <a:arcTo wR="21600" hR="9151" stAng="-90794" swAng="-530920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4560" y="1511280"/>
            <a:ext cx="8175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75280" y="1295280"/>
            <a:ext cx="90468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68680" y="339084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7960" y="1600200"/>
            <a:ext cx="2006640" cy="1371600"/>
          </a:xfrm>
          <a:prstGeom prst="flowChartDocumen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code (Java ap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42080" y="1473120"/>
            <a:ext cx="1854000" cy="1193760"/>
          </a:xfrm>
          <a:prstGeom prst="flowChartDocumen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(Java app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8D6-DDCF-4BCD-B1C5-F1137901863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DK 1.2 Security Model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079640" y="3606840"/>
            <a:ext cx="5575320" cy="2586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 Resources (e.g. files, password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9640" y="5270400"/>
            <a:ext cx="558792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4680" y="3784680"/>
            <a:ext cx="1446120" cy="459720"/>
          </a:xfrm>
          <a:prstGeom prst="rect">
            <a:avLst/>
          </a:prstGeom>
          <a:solidFill>
            <a:srgbClr val="ff66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990720"/>
            <a:ext cx="3505320" cy="838080"/>
          </a:xfrm>
          <a:prstGeom prst="flowChartDocumen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ode: applications and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24240" y="1295280"/>
            <a:ext cx="9050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08160" y="2146320"/>
            <a:ext cx="3068640" cy="95256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594240"/>
            <a:ext cx="11559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3594240"/>
            <a:ext cx="11559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43480" y="3606840"/>
            <a:ext cx="1155600" cy="104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1828800"/>
            <a:ext cx="384480" cy="290520"/>
          </a:xfrm>
          <a:prstGeom prst="downArrow">
            <a:avLst>
              <a:gd name="adj1" fmla="val 44444"/>
              <a:gd name="adj2" fmla="val 390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8" idx="2"/>
            <a:endCxn id="229" idx="0"/>
          </p:cNvCxnSpPr>
          <p:nvPr/>
        </p:nvCxnSpPr>
        <p:spPr>
          <a:xfrm rot="5400000">
            <a:off x="2395440" y="2347200"/>
            <a:ext cx="496080" cy="1999440"/>
          </a:xfrm>
          <a:prstGeom prst="curvedConnector5">
            <a:avLst>
              <a:gd name="adj1" fmla="val 49963"/>
              <a:gd name="adj2" fmla="val 49990"/>
              <a:gd name="adj3" fmla="val 4996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8" idx="2"/>
            <a:endCxn id="230" idx="3"/>
          </p:cNvCxnSpPr>
          <p:nvPr/>
        </p:nvCxnSpPr>
        <p:spPr>
          <a:xfrm rot="5400000">
            <a:off x="2818080" y="3417120"/>
            <a:ext cx="1143720" cy="5068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8" idx="2"/>
            <a:endCxn id="231" idx="0"/>
          </p:cNvCxnSpPr>
          <p:nvPr/>
        </p:nvCxnSpPr>
        <p:spPr>
          <a:xfrm flipH="1" rot="16200000">
            <a:off x="3628080" y="3113280"/>
            <a:ext cx="508680" cy="47880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sm"/>
          </a:ln>
        </p:spPr>
      </p:cxnSp>
      <p:cxnSp>
        <p:nvCxnSpPr>
          <p:cNvPr id="236" name=""/>
          <p:cNvCxnSpPr>
            <a:stCxn id="228" idx="2"/>
            <a:endCxn id="225" idx="0"/>
          </p:cNvCxnSpPr>
          <p:nvPr/>
        </p:nvCxnSpPr>
        <p:spPr>
          <a:xfrm flipH="1" rot="16200000">
            <a:off x="4330800" y="2410920"/>
            <a:ext cx="660600" cy="2036160"/>
          </a:xfrm>
          <a:prstGeom prst="curvedConnector5">
            <a:avLst>
              <a:gd name="adj1" fmla="val 51908"/>
              <a:gd name="adj2" fmla="val 49991"/>
              <a:gd name="adj3" fmla="val 51908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6959520" y="2374920"/>
            <a:ext cx="2019240" cy="3111480"/>
          </a:xfrm>
          <a:prstGeom prst="wedgeRoundRectCallout">
            <a:avLst>
              <a:gd name="adj1" fmla="val -178615"/>
              <a:gd name="adj2" fmla="val 35560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built-in notion of trusted code, each applet runs with separate per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1B4-7FF6-4DDF-B548-F7CF90E17F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ava Secu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257120"/>
            <a:ext cx="81025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DK 1.2 designed to support easily configurable security poli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JDK 1.2, no longer a built-in concept that all local code is truste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l code (e.g., non-system code, application packages installed on the local file system) is subject to the same security control as app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ame principles apply to signed applets and any Java applic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2D2-64CF-4315-82B0-483DCED809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rusted Intermediari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two entities establish shared symmetric secret key over networ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Key Distribution Cen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KDC) acting as intermediary between ent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19720" y="1218960"/>
            <a:ext cx="454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lice obtains Bob’s public key (from web site, e-mail, diskette), how does she know it is actually Bob’s public key, not Trudy’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ed Certification Authority (CA) distributes certified public ke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766-D1BC-435A-9E31-049DB097E3D9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gning Java apple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ign a jar file you need public/private keys and a certificate authority to validate the public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igned jar file includes at least one signature file, as well as normal manifes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DK provides these tools for signing apple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tool – manages identities, keys and certificates in JDK identity D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rsigner – generates signatures for jar files and verifies signatures for signed jar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tool – creates and modifies policy configuration files that define security poli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801-299C-4F83-AA2C-DE26B1C8B3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ternet availability thre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954000"/>
            <a:ext cx="77724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Denial of service (DOS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od of maliciously generated packets “swamp”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 DOS (DDOS): multiple coordinated sources swamp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C and remote host SYN-attack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813320" y="3581280"/>
            <a:ext cx="5664240" cy="2667240"/>
            <a:chOff x="1813320" y="3581280"/>
            <a:chExt cx="5664240" cy="2667240"/>
          </a:xfrm>
        </p:grpSpPr>
        <p:grpSp>
          <p:nvGrpSpPr>
            <p:cNvPr id="245" name=""/>
            <p:cNvGrpSpPr/>
            <p:nvPr/>
          </p:nvGrpSpPr>
          <p:grpSpPr>
            <a:xfrm>
              <a:off x="6692760" y="5181480"/>
              <a:ext cx="609840" cy="522360"/>
              <a:chOff x="6692760" y="5181480"/>
              <a:chExt cx="609840" cy="522360"/>
            </a:xfrm>
          </p:grpSpPr>
          <p:pic>
            <p:nvPicPr>
              <p:cNvPr id="2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692760" y="5181480"/>
                <a:ext cx="609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21640" y="5243040"/>
                <a:ext cx="257760" cy="22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8" name=""/>
            <p:cNvGrpSpPr/>
            <p:nvPr/>
          </p:nvGrpSpPr>
          <p:grpSpPr>
            <a:xfrm>
              <a:off x="3205080" y="5105520"/>
              <a:ext cx="642600" cy="327600"/>
              <a:chOff x="3205080" y="5105520"/>
              <a:chExt cx="642600" cy="327600"/>
            </a:xfrm>
          </p:grpSpPr>
          <p:sp>
            <p:nvSpPr>
              <p:cNvPr id="249" name=""/>
              <p:cNvSpPr/>
              <p:nvPr/>
            </p:nvSpPr>
            <p:spPr>
              <a:xfrm>
                <a:off x="3210120" y="5251680"/>
                <a:ext cx="637560" cy="1814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10120" y="523656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47680" y="523656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10120" y="5236560"/>
                <a:ext cx="631800" cy="11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05080" y="5105520"/>
                <a:ext cx="637200" cy="211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358440" y="5151960"/>
                <a:ext cx="315360" cy="124200"/>
                <a:chOff x="3358440" y="5151960"/>
                <a:chExt cx="315360" cy="124200"/>
              </a:xfrm>
            </p:grpSpPr>
            <p:sp>
              <p:nvSpPr>
                <p:cNvPr id="255" name=""/>
                <p:cNvSpPr/>
                <p:nvPr/>
              </p:nvSpPr>
              <p:spPr>
                <a:xfrm flipV="1">
                  <a:off x="3358440" y="5151960"/>
                  <a:ext cx="1123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574800" y="5276160"/>
                  <a:ext cx="99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62120" y="5154840"/>
                  <a:ext cx="117000" cy="121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358440" y="5150520"/>
                <a:ext cx="315360" cy="124200"/>
                <a:chOff x="3358440" y="5150520"/>
                <a:chExt cx="315360" cy="1242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358440" y="5272200"/>
                  <a:ext cx="1123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74800" y="5150520"/>
                  <a:ext cx="99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462120" y="5150520"/>
                  <a:ext cx="117000" cy="121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2351160" y="4160880"/>
              <a:ext cx="4586040" cy="1081080"/>
            </a:xfrm>
            <a:custGeom>
              <a:avLst/>
              <a:gdLst/>
              <a:ahLst/>
              <a:rect l="l" t="t" r="r" b="b"/>
              <a:pathLst>
                <a:path w="2889" h="681">
                  <a:moveTo>
                    <a:pt x="2" y="0"/>
                  </a:moveTo>
                  <a:lnTo>
                    <a:pt x="0" y="394"/>
                  </a:lnTo>
                  <a:lnTo>
                    <a:pt x="2887" y="394"/>
                  </a:lnTo>
                  <a:lnTo>
                    <a:pt x="2889" y="6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3320" y="36399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01720" y="51814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2209680" y="3581280"/>
            <a:ext cx="457200" cy="83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09680" y="3581280"/>
                      <a:ext cx="45720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7" name=""/>
            <p:cNvSpPr/>
            <p:nvPr/>
          </p:nvSpPr>
          <p:spPr>
            <a:xfrm flipV="1">
              <a:off x="3541680" y="4807080"/>
              <a:ext cx="0" cy="37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46200" y="4410000"/>
              <a:ext cx="1271880" cy="1838520"/>
            </a:xfrm>
            <a:custGeom>
              <a:avLst/>
              <a:gdLst/>
              <a:ahLst/>
              <a:rect l="l" t="t" r="r" b="b"/>
              <a:pathLst>
                <a:path w="801" h="1158">
                  <a:moveTo>
                    <a:pt x="801" y="1158"/>
                  </a:moveTo>
                  <a:lnTo>
                    <a:pt x="798" y="165"/>
                  </a:lnTo>
                  <a:lnTo>
                    <a:pt x="3" y="16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519360" y="5435640"/>
              <a:ext cx="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454560" y="5622840"/>
              <a:ext cx="533160" cy="243720"/>
              <a:chOff x="3454560" y="5622840"/>
              <a:chExt cx="533160" cy="243720"/>
            </a:xfrm>
          </p:grpSpPr>
          <p:sp>
            <p:nvSpPr>
              <p:cNvPr id="271" name=""/>
              <p:cNvSpPr/>
              <p:nvPr/>
            </p:nvSpPr>
            <p:spPr>
              <a:xfrm>
                <a:off x="3493080" y="5644080"/>
                <a:ext cx="44748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54560" y="5622840"/>
                <a:ext cx="53316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54560" y="5927760"/>
              <a:ext cx="533160" cy="243720"/>
              <a:chOff x="3454560" y="5927760"/>
              <a:chExt cx="533160" cy="2437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3080" y="5949000"/>
                <a:ext cx="44748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54560" y="5927760"/>
                <a:ext cx="53316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743200" y="4495680"/>
              <a:ext cx="533520" cy="243720"/>
              <a:chOff x="2743200" y="4495680"/>
              <a:chExt cx="533520" cy="243720"/>
            </a:xfrm>
          </p:grpSpPr>
          <p:sp>
            <p:nvSpPr>
              <p:cNvPr id="277" name=""/>
              <p:cNvSpPr/>
              <p:nvPr/>
            </p:nvSpPr>
            <p:spPr>
              <a:xfrm>
                <a:off x="2781720" y="4516920"/>
                <a:ext cx="44784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43200" y="4495680"/>
                <a:ext cx="53352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978440" y="3683160"/>
              <a:ext cx="609480" cy="522000"/>
              <a:chOff x="4978440" y="3683160"/>
              <a:chExt cx="609480" cy="5220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78440" y="3683160"/>
                <a:ext cx="609480" cy="52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07320" y="3744720"/>
                <a:ext cx="257760" cy="22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"/>
            <p:cNvSpPr/>
            <p:nvPr/>
          </p:nvSpPr>
          <p:spPr>
            <a:xfrm>
              <a:off x="5420880" y="3657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105520" y="411480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19400" y="4108320"/>
              <a:ext cx="2998800" cy="781200"/>
            </a:xfrm>
            <a:custGeom>
              <a:avLst/>
              <a:gdLst/>
              <a:ahLst/>
              <a:rect l="l" t="t" r="r" b="b"/>
              <a:pathLst>
                <a:path w="1889" h="492">
                  <a:moveTo>
                    <a:pt x="1889" y="39"/>
                  </a:moveTo>
                  <a:lnTo>
                    <a:pt x="1889" y="492"/>
                  </a:lnTo>
                  <a:lnTo>
                    <a:pt x="0" y="492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20920" y="5106960"/>
              <a:ext cx="642600" cy="328320"/>
              <a:chOff x="3220920" y="5106960"/>
              <a:chExt cx="642600" cy="328320"/>
            </a:xfrm>
          </p:grpSpPr>
          <p:sp>
            <p:nvSpPr>
              <p:cNvPr id="286" name=""/>
              <p:cNvSpPr/>
              <p:nvPr/>
            </p:nvSpPr>
            <p:spPr>
              <a:xfrm>
                <a:off x="3225960" y="5253480"/>
                <a:ext cx="637560" cy="181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25960" y="523800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63520" y="5238000"/>
                <a:ext cx="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25960" y="5238000"/>
                <a:ext cx="631800" cy="111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20920" y="5106960"/>
                <a:ext cx="637200" cy="2120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3374280" y="5153400"/>
                <a:ext cx="315360" cy="124200"/>
                <a:chOff x="3374280" y="5153400"/>
                <a:chExt cx="315360" cy="124200"/>
              </a:xfrm>
            </p:grpSpPr>
            <p:sp>
              <p:nvSpPr>
                <p:cNvPr id="292" name=""/>
                <p:cNvSpPr/>
                <p:nvPr/>
              </p:nvSpPr>
              <p:spPr>
                <a:xfrm flipV="1">
                  <a:off x="3374280" y="5153400"/>
                  <a:ext cx="1123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590640" y="5277600"/>
                  <a:ext cx="99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477960" y="5156280"/>
                  <a:ext cx="117000" cy="121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374280" y="5151960"/>
                <a:ext cx="315360" cy="124200"/>
                <a:chOff x="3374280" y="5151960"/>
                <a:chExt cx="315360" cy="1242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374280" y="5273640"/>
                  <a:ext cx="1123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590640" y="5151960"/>
                  <a:ext cx="99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3477960" y="5151960"/>
                  <a:ext cx="117000" cy="121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9" name=""/>
            <p:cNvGrpSpPr/>
            <p:nvPr/>
          </p:nvGrpSpPr>
          <p:grpSpPr>
            <a:xfrm>
              <a:off x="2666880" y="4813200"/>
              <a:ext cx="533520" cy="243720"/>
              <a:chOff x="2666880" y="4813200"/>
              <a:chExt cx="533520" cy="243720"/>
            </a:xfrm>
          </p:grpSpPr>
          <p:sp>
            <p:nvSpPr>
              <p:cNvPr id="300" name=""/>
              <p:cNvSpPr/>
              <p:nvPr/>
            </p:nvSpPr>
            <p:spPr>
              <a:xfrm>
                <a:off x="2705400" y="4834440"/>
                <a:ext cx="44784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66880" y="4813200"/>
                <a:ext cx="53352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3809880" y="4813200"/>
              <a:ext cx="533520" cy="243720"/>
              <a:chOff x="3809880" y="4813200"/>
              <a:chExt cx="533520" cy="243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848400" y="4834440"/>
                <a:ext cx="44784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09880" y="4813200"/>
                <a:ext cx="53352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572000" y="4813200"/>
              <a:ext cx="533520" cy="243720"/>
              <a:chOff x="4572000" y="4813200"/>
              <a:chExt cx="533520" cy="243720"/>
            </a:xfrm>
          </p:grpSpPr>
          <p:sp>
            <p:nvSpPr>
              <p:cNvPr id="306" name=""/>
              <p:cNvSpPr/>
              <p:nvPr/>
            </p:nvSpPr>
            <p:spPr>
              <a:xfrm>
                <a:off x="4610520" y="4834440"/>
                <a:ext cx="447840" cy="207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2000" y="4813200"/>
                <a:ext cx="533520" cy="243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8FA-9274-4FFC-AEDD-79397706B5F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 Electronic Transac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8600" y="1377720"/>
            <a:ext cx="788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Electronic Transactions (SET) designed for payment-card transactions over the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security services among 3 play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h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hant’s ba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l must have certificat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specifies legal meanings of certific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ortionment of liabilities for trans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4D5-958A-4C02-B1DF-D3D83C9449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 Electronic Transac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stomer’s card number passed to merchant’s bank without merchant ever seeing number in plain t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vents merchants from stealing or leaking payment card nu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software compon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owser wall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rchant 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quirer gate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882-B5D0-4D7E-B7DF-B33C56ED16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 Electronic Transac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sur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of info – implemented using symmetric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rity of data – implemented using digital sign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dholder authentication – implemented with digital signature and cardholder certific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hant authentication – implemented with digital signature and merchant certific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486-545A-48CC-8679-485D0E0D8F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PSec: Network Layer Securit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4040" y="1376280"/>
            <a:ext cx="825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-layer secre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ing host encrypts the data in IP dat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and UDP segments; ICMP and SNMP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-layer authentication and message integ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ination host can authenticate source IP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wo principle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 header (AH)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apsulation security payload (ESP)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7CB-4DD1-42EE-A41F-0B298C92DF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PSec: Network Layer Securit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both AH and ESP, source, destination handsha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network-layer logical channel called a Service Agreement (S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SA unidirec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quely determined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protocol (AH or E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rce IP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-bit connection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A22-F765-4248-AB4A-E7F7F72637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SP Protoco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410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secrecy, host authentication, data integ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, ESP trailer encryp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header field is in ESP trail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00240" y="1371240"/>
            <a:ext cx="380988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P authentication field is similar to AH authentication fiel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ocol = 50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523880" y="4610880"/>
            <a:ext cx="114300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4615560"/>
            <a:ext cx="114300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4521240"/>
            <a:ext cx="2667240" cy="92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/UDP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447560" y="5410080"/>
            <a:ext cx="2972160" cy="802080"/>
            <a:chOff x="1447560" y="5410080"/>
            <a:chExt cx="2972160" cy="802080"/>
          </a:xfrm>
        </p:grpSpPr>
        <p:sp>
          <p:nvSpPr>
            <p:cNvPr id="325" name=""/>
            <p:cNvSpPr/>
            <p:nvPr/>
          </p:nvSpPr>
          <p:spPr>
            <a:xfrm>
              <a:off x="2057760" y="5906880"/>
              <a:ext cx="236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tocol=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447200" y="5410080"/>
              <a:ext cx="2210040" cy="795240"/>
            </a:xfrm>
            <a:custGeom>
              <a:avLst/>
              <a:gdLst>
                <a:gd name="textAreaLeft" fmla="*/ 736200 w 2210040"/>
                <a:gd name="textAreaRight" fmla="*/ 1892520 w 2210040"/>
                <a:gd name="textAreaTop" fmla="*/ 457920 h 795240"/>
                <a:gd name="textAreaBottom" fmla="*/ 681120 h 7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477120" y="4613760"/>
            <a:ext cx="114300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0120" y="4615560"/>
            <a:ext cx="761760" cy="7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P A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720-3F41-4B88-AD45-4EC40534E87E}" type="slidenum">
              <a:t>2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uthentication Header (AH) Protoco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25240" y="990720"/>
            <a:ext cx="380988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source host authentication, data integrity, but not secre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H header inserted between IP header and IP data fiel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 field = 5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ediate routers process datagrams as usua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22680" y="990720"/>
            <a:ext cx="41976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H header inclu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on identif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 data: signed message digest, calculated over original IP datagram, providing source authentication, data integ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header field: specifies type of data (TCP, UDP, ICMP, et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066680" y="5034960"/>
            <a:ext cx="6015960" cy="377280"/>
            <a:chOff x="1066680" y="5034960"/>
            <a:chExt cx="6015960" cy="377280"/>
          </a:xfrm>
        </p:grpSpPr>
        <p:sp>
          <p:nvSpPr>
            <p:cNvPr id="333" name=""/>
            <p:cNvSpPr/>
            <p:nvPr/>
          </p:nvSpPr>
          <p:spPr>
            <a:xfrm>
              <a:off x="1066680" y="5034960"/>
              <a:ext cx="160020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P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66880" y="5046120"/>
              <a:ext cx="175284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H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1600" y="5046120"/>
              <a:ext cx="265104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CP/UDP Seg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447560" y="5410080"/>
            <a:ext cx="2972160" cy="802080"/>
            <a:chOff x="1447560" y="5410080"/>
            <a:chExt cx="2972160" cy="802080"/>
          </a:xfrm>
        </p:grpSpPr>
        <p:sp>
          <p:nvSpPr>
            <p:cNvPr id="337" name=""/>
            <p:cNvSpPr/>
            <p:nvPr/>
          </p:nvSpPr>
          <p:spPr>
            <a:xfrm>
              <a:off x="2057760" y="5906880"/>
              <a:ext cx="236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rotocol=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447200" y="5410080"/>
              <a:ext cx="2210040" cy="795240"/>
            </a:xfrm>
            <a:custGeom>
              <a:avLst/>
              <a:gdLst>
                <a:gd name="textAreaLeft" fmla="*/ 736200 w 2210040"/>
                <a:gd name="textAreaRight" fmla="*/ 1892520 w 2210040"/>
                <a:gd name="textAreaTop" fmla="*/ 457920 h 795240"/>
                <a:gd name="textAreaBottom" fmla="*/ 681120 h 79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559-1825-441A-944A-BF529A21F27B}" type="slidenum">
              <a:t>2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4840" y="152280"/>
            <a:ext cx="77724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rewall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29720" y="3505320"/>
            <a:ext cx="689004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wo categories of firewal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et fil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 gatew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501480" y="4419720"/>
            <a:ext cx="3810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9480" y="1295280"/>
            <a:ext cx="7772040" cy="1447560"/>
            <a:chOff x="609480" y="1295280"/>
            <a:chExt cx="7772040" cy="1447560"/>
          </a:xfrm>
        </p:grpSpPr>
        <p:sp>
          <p:nvSpPr>
            <p:cNvPr id="343" name=""/>
            <p:cNvSpPr/>
            <p:nvPr/>
          </p:nvSpPr>
          <p:spPr>
            <a:xfrm>
              <a:off x="609480" y="1295280"/>
              <a:ext cx="7754400" cy="14475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1200" y="1382400"/>
              <a:ext cx="7690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solates organization’s internal net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Intrane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 from larger Internet, allowing some packets to pass, blocking oth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46200" y="1066680"/>
            <a:ext cx="1099080" cy="398880"/>
            <a:chOff x="646200" y="1066680"/>
            <a:chExt cx="1099080" cy="398880"/>
          </a:xfrm>
        </p:grpSpPr>
        <p:sp>
          <p:nvSpPr>
            <p:cNvPr id="346" name=""/>
            <p:cNvSpPr/>
            <p:nvPr/>
          </p:nvSpPr>
          <p:spPr>
            <a:xfrm>
              <a:off x="646200" y="1077120"/>
              <a:ext cx="1099080" cy="35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8960" y="10666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firewa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FCA-7C6B-4D15-AD1F-CFDEE6FD83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52280"/>
            <a:ext cx="7772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Key Distribution Center (KD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066680"/>
            <a:ext cx="3962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,Bob need shared symmetr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KD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rver shares different secret key with each registered us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, Bob each have own symmetric keys,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-KD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-KD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or communicating with KD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communicates with KDC, gets session key R1, and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B-KD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,R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3916440"/>
            <a:ext cx="42624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nds Bob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-KD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,R1), Bob extracts 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, Bob now share the symmetric, secret key R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06784_" descr=""/>
          <p:cNvPicPr/>
          <p:nvPr/>
        </p:nvPicPr>
        <p:blipFill>
          <a:blip r:embed="rId1"/>
          <a:srcRect l="18745" t="0" r="0" b="0"/>
          <a:stretch/>
        </p:blipFill>
        <p:spPr>
          <a:xfrm>
            <a:off x="7797960" y="1752480"/>
            <a:ext cx="71892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bd06790_" descr=""/>
          <p:cNvPicPr/>
          <p:nvPr/>
        </p:nvPicPr>
        <p:blipFill>
          <a:blip r:embed="rId2"/>
          <a:srcRect l="0" t="0" r="38101" b="0"/>
          <a:stretch/>
        </p:blipFill>
        <p:spPr>
          <a:xfrm>
            <a:off x="4680000" y="914400"/>
            <a:ext cx="628560" cy="76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4120" y="1295280"/>
            <a:ext cx="22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43440" y="1072440"/>
            <a:ext cx="604080" cy="36612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990720"/>
            <a:ext cx="1371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A-KDC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334120" y="1371600"/>
            <a:ext cx="2209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75248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ice knows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0701800">
            <a:off x="5519520" y="1735920"/>
            <a:ext cx="202608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A-KDC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R1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mic Sans MS"/>
              </a:rPr>
              <a:t>B-KDC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A,R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2438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2438280"/>
            <a:ext cx="137160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B-KDC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,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1000" y="2714760"/>
            <a:ext cx="533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ob knows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798640"/>
            <a:ext cx="3124080" cy="853200"/>
          </a:xfrm>
          <a:prstGeom prst="leftRightArrow">
            <a:avLst>
              <a:gd name="adj1" fmla="val 50000"/>
              <a:gd name="adj2" fmla="val 72893"/>
            </a:avLst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ice, Bob communicate using shared session key 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BA0-06D0-4B5D-BE5C-1E517C0B585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rewalls are used to prevent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ial of Service (DoS) attack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 flooding: attacker establishes many bogus TCP connections. Attacked  host alloc’s TCP buffers for bogus connections, none left for “real” connec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legal modification of internal da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ttacker replaces legitimate electronic banking records with false transaction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uders from obtaining secret internal da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proprietary software source code, such as MS 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ering that could disrupt internal oper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configuration changes on corporate servers or network switch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713-4060-4949-8393-6C27563F67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acket Filtering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7680" y="1234800"/>
            <a:ext cx="7711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network is connected to Internet through a ro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 manufacturer provides options for filtering packets, based 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/UDP source and destination port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CMP message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SYN and ACK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5EE-DB98-4E98-A3B3-361FAA64BC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1: block incoming and outgoing datagrams with IP protocol field = 17 and with either source or dest port = 23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coming and outgoing UDP flows and telnet connections are block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2: Block inbound TCP segments with ACK=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vents external clients from making TCP connections with internal clients, but allows internal clients to connect to outs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acket Filtering (cont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0C2-9953-4CF3-817F-DF705D470BE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pplication gateway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3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ters packets based o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pplication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 well as on IP/TCP/UDP fiel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ow select internal users to telnet outs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3352680"/>
            <a:ext cx="76424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ire all telnet users to telnet through gate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authorized users, gateway sets up telnet connection to dest host. Gateway relays data between 2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uter filter blocks all telnet connections not originating from gate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95680" y="685800"/>
            <a:ext cx="3787920" cy="2736720"/>
          </a:xfrm>
          <a:custGeom>
            <a:avLst/>
            <a:gdLst/>
            <a:ahLst/>
            <a:rect l="l" t="t" r="r" b="b"/>
            <a:pathLst>
              <a:path w="1924" h="1401">
                <a:moveTo>
                  <a:pt x="12" y="549"/>
                </a:moveTo>
                <a:cubicBezTo>
                  <a:pt x="0" y="411"/>
                  <a:pt x="3" y="130"/>
                  <a:pt x="80" y="65"/>
                </a:cubicBezTo>
                <a:cubicBezTo>
                  <a:pt x="157" y="0"/>
                  <a:pt x="375" y="133"/>
                  <a:pt x="474" y="158"/>
                </a:cubicBezTo>
                <a:cubicBezTo>
                  <a:pt x="573" y="183"/>
                  <a:pt x="577" y="188"/>
                  <a:pt x="673" y="215"/>
                </a:cubicBezTo>
                <a:cubicBezTo>
                  <a:pt x="769" y="242"/>
                  <a:pt x="935" y="310"/>
                  <a:pt x="1050" y="321"/>
                </a:cubicBezTo>
                <a:cubicBezTo>
                  <a:pt x="1165" y="332"/>
                  <a:pt x="1237" y="266"/>
                  <a:pt x="1363" y="279"/>
                </a:cubicBezTo>
                <a:cubicBezTo>
                  <a:pt x="1489" y="292"/>
                  <a:pt x="1722" y="270"/>
                  <a:pt x="1804" y="400"/>
                </a:cubicBezTo>
                <a:cubicBezTo>
                  <a:pt x="1886" y="530"/>
                  <a:pt x="1924" y="903"/>
                  <a:pt x="1853" y="1061"/>
                </a:cubicBezTo>
                <a:cubicBezTo>
                  <a:pt x="1782" y="1219"/>
                  <a:pt x="1518" y="1293"/>
                  <a:pt x="1376" y="1347"/>
                </a:cubicBezTo>
                <a:cubicBezTo>
                  <a:pt x="1234" y="1401"/>
                  <a:pt x="1113" y="1399"/>
                  <a:pt x="1001" y="1387"/>
                </a:cubicBezTo>
                <a:cubicBezTo>
                  <a:pt x="889" y="1375"/>
                  <a:pt x="806" y="1330"/>
                  <a:pt x="702" y="1276"/>
                </a:cubicBezTo>
                <a:cubicBezTo>
                  <a:pt x="598" y="1222"/>
                  <a:pt x="467" y="1123"/>
                  <a:pt x="375" y="1060"/>
                </a:cubicBezTo>
                <a:cubicBezTo>
                  <a:pt x="283" y="997"/>
                  <a:pt x="209" y="983"/>
                  <a:pt x="149" y="898"/>
                </a:cubicBezTo>
                <a:cubicBezTo>
                  <a:pt x="89" y="813"/>
                  <a:pt x="10" y="690"/>
                  <a:pt x="12" y="549"/>
                </a:cubicBez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500800" y="1150560"/>
            <a:ext cx="889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500800" y="1824120"/>
            <a:ext cx="88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83240" y="1149480"/>
            <a:ext cx="144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294600" y="1947600"/>
            <a:ext cx="1440" cy="7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5611320" y="1934640"/>
            <a:ext cx="180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520960" y="1941120"/>
            <a:ext cx="777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556240" y="1424160"/>
            <a:ext cx="290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3280" y="1546200"/>
            <a:ext cx="54756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032240" y="1544760"/>
            <a:ext cx="515880" cy="495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64200" y="2109960"/>
            <a:ext cx="180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7542360" y="1514160"/>
            <a:ext cx="14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543800" y="2273400"/>
            <a:ext cx="128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7470720" y="942840"/>
            <a:ext cx="611280" cy="408240"/>
          </a:xfrm>
          <a:custGeom>
            <a:avLst/>
            <a:gdLst/>
            <a:ahLst/>
            <a:rect l="l" t="t" r="r" b="b"/>
            <a:pathLst>
              <a:path w="77" h="296">
                <a:moveTo>
                  <a:pt x="0" y="0"/>
                </a:moveTo>
                <a:lnTo>
                  <a:pt x="77" y="29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165800" y="1300320"/>
            <a:ext cx="622080" cy="288360"/>
            <a:chOff x="7165800" y="1300320"/>
            <a:chExt cx="622080" cy="288360"/>
          </a:xfrm>
        </p:grpSpPr>
        <p:sp>
          <p:nvSpPr>
            <p:cNvPr id="372" name=""/>
            <p:cNvSpPr/>
            <p:nvPr/>
          </p:nvSpPr>
          <p:spPr>
            <a:xfrm>
              <a:off x="7170840" y="1428840"/>
              <a:ext cx="617040" cy="159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70840" y="141552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87880" y="141552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70840" y="1415520"/>
              <a:ext cx="611640" cy="97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65800" y="1300320"/>
              <a:ext cx="616680" cy="18612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314120" y="1341360"/>
              <a:ext cx="305640" cy="108720"/>
              <a:chOff x="7314120" y="1341360"/>
              <a:chExt cx="305640" cy="108720"/>
            </a:xfrm>
          </p:grpSpPr>
          <p:sp>
            <p:nvSpPr>
              <p:cNvPr id="378" name=""/>
              <p:cNvSpPr/>
              <p:nvPr/>
            </p:nvSpPr>
            <p:spPr>
              <a:xfrm flipV="1">
                <a:off x="7314120" y="13413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23640" y="1450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14560" y="1343520"/>
                <a:ext cx="113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7314120" y="1339920"/>
              <a:ext cx="305640" cy="108720"/>
              <a:chOff x="7314120" y="1339920"/>
              <a:chExt cx="305640" cy="108720"/>
            </a:xfrm>
          </p:grpSpPr>
          <p:sp>
            <p:nvSpPr>
              <p:cNvPr id="382" name=""/>
              <p:cNvSpPr/>
              <p:nvPr/>
            </p:nvSpPr>
            <p:spPr>
              <a:xfrm>
                <a:off x="7314120" y="144648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523640" y="133992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7414560" y="1339920"/>
                <a:ext cx="113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 flipV="1">
            <a:off x="5972040" y="1665000"/>
            <a:ext cx="1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348160" y="2017800"/>
          <a:ext cx="4111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8160" y="2017800"/>
                    <a:ext cx="4111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6021360" y="1998720"/>
          <a:ext cx="409680" cy="5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21360" y="1998720"/>
                    <a:ext cx="409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5068800" y="888840"/>
            <a:ext cx="473040" cy="352440"/>
            <a:chOff x="5068800" y="888840"/>
            <a:chExt cx="473040" cy="352440"/>
          </a:xfrm>
        </p:grpSpPr>
        <p:grpSp>
          <p:nvGrpSpPr>
            <p:cNvPr id="391" name=""/>
            <p:cNvGrpSpPr/>
            <p:nvPr/>
          </p:nvGrpSpPr>
          <p:grpSpPr>
            <a:xfrm>
              <a:off x="5068800" y="1151280"/>
              <a:ext cx="473040" cy="90000"/>
              <a:chOff x="5068800" y="1151280"/>
              <a:chExt cx="473040" cy="90000"/>
            </a:xfrm>
          </p:grpSpPr>
          <p:sp>
            <p:nvSpPr>
              <p:cNvPr id="392" name=""/>
              <p:cNvSpPr/>
              <p:nvPr/>
            </p:nvSpPr>
            <p:spPr>
              <a:xfrm>
                <a:off x="5068800" y="1151280"/>
                <a:ext cx="473040" cy="9000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95440" y="1169640"/>
                <a:ext cx="314640" cy="576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19080" y="1169640"/>
                <a:ext cx="96120" cy="576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149800" y="888840"/>
              <a:ext cx="303480" cy="261360"/>
              <a:chOff x="5149800" y="888840"/>
              <a:chExt cx="303480" cy="261360"/>
            </a:xfrm>
          </p:grpSpPr>
          <p:sp>
            <p:nvSpPr>
              <p:cNvPr id="396" name=""/>
              <p:cNvSpPr/>
              <p:nvPr/>
            </p:nvSpPr>
            <p:spPr>
              <a:xfrm>
                <a:off x="5149800" y="888840"/>
                <a:ext cx="303480" cy="261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169240" y="910800"/>
                <a:ext cx="263160" cy="219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03240" y="910800"/>
                <a:ext cx="28440" cy="219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412960" y="923040"/>
                <a:ext cx="7920" cy="4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414760" y="1023120"/>
                <a:ext cx="360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14760" y="1064880"/>
                <a:ext cx="3600" cy="4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14760" y="110592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5176440" y="903600"/>
              <a:ext cx="246600" cy="223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076720" y="1565280"/>
            <a:ext cx="471600" cy="353880"/>
            <a:chOff x="5076720" y="1565280"/>
            <a:chExt cx="471600" cy="353880"/>
          </a:xfrm>
        </p:grpSpPr>
        <p:grpSp>
          <p:nvGrpSpPr>
            <p:cNvPr id="405" name=""/>
            <p:cNvGrpSpPr/>
            <p:nvPr/>
          </p:nvGrpSpPr>
          <p:grpSpPr>
            <a:xfrm>
              <a:off x="5076720" y="1828800"/>
              <a:ext cx="471600" cy="90360"/>
              <a:chOff x="5076720" y="1828800"/>
              <a:chExt cx="471600" cy="90360"/>
            </a:xfrm>
          </p:grpSpPr>
          <p:sp>
            <p:nvSpPr>
              <p:cNvPr id="406" name=""/>
              <p:cNvSpPr/>
              <p:nvPr/>
            </p:nvSpPr>
            <p:spPr>
              <a:xfrm>
                <a:off x="5076720" y="1828800"/>
                <a:ext cx="471600" cy="90360"/>
              </a:xfrm>
              <a:custGeom>
                <a:avLst/>
                <a:gdLst/>
                <a:ahLst/>
                <a:rect l="l" t="t" r="r" b="b"/>
                <a:pathLst>
                  <a:path w="531" h="97">
                    <a:moveTo>
                      <a:pt x="66" y="0"/>
                    </a:moveTo>
                    <a:lnTo>
                      <a:pt x="466" y="0"/>
                    </a:lnTo>
                    <a:lnTo>
                      <a:pt x="529" y="87"/>
                    </a:lnTo>
                    <a:lnTo>
                      <a:pt x="530" y="91"/>
                    </a:lnTo>
                    <a:lnTo>
                      <a:pt x="528" y="95"/>
                    </a:lnTo>
                    <a:lnTo>
                      <a:pt x="524" y="96"/>
                    </a:lnTo>
                    <a:lnTo>
                      <a:pt x="8" y="96"/>
                    </a:lnTo>
                    <a:lnTo>
                      <a:pt x="3" y="94"/>
                    </a:lnTo>
                    <a:lnTo>
                      <a:pt x="0" y="90"/>
                    </a:lnTo>
                    <a:lnTo>
                      <a:pt x="1" y="85"/>
                    </a:lnTo>
                    <a:lnTo>
                      <a:pt x="6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103000" y="1847160"/>
                <a:ext cx="313560" cy="57600"/>
              </a:xfrm>
              <a:custGeom>
                <a:avLst/>
                <a:gdLst/>
                <a:ahLst/>
                <a:rect l="l" t="t" r="r" b="b"/>
                <a:pathLst>
                  <a:path w="353" h="62">
                    <a:moveTo>
                      <a:pt x="47" y="0"/>
                    </a:moveTo>
                    <a:lnTo>
                      <a:pt x="335" y="0"/>
                    </a:lnTo>
                    <a:lnTo>
                      <a:pt x="352" y="61"/>
                    </a:lnTo>
                    <a:lnTo>
                      <a:pt x="0" y="61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25920" y="1847160"/>
                <a:ext cx="95760" cy="57600"/>
              </a:xfrm>
              <a:custGeom>
                <a:avLst/>
                <a:gdLst/>
                <a:ahLst/>
                <a:rect l="l" t="t" r="r" b="b"/>
                <a:pathLst>
                  <a:path w="108" h="62">
                    <a:moveTo>
                      <a:pt x="0" y="0"/>
                    </a:moveTo>
                    <a:lnTo>
                      <a:pt x="63" y="0"/>
                    </a:lnTo>
                    <a:lnTo>
                      <a:pt x="107" y="61"/>
                    </a:lnTo>
                    <a:lnTo>
                      <a:pt x="2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5157360" y="1565280"/>
              <a:ext cx="302400" cy="262440"/>
              <a:chOff x="5157360" y="1565280"/>
              <a:chExt cx="302400" cy="262440"/>
            </a:xfrm>
          </p:grpSpPr>
          <p:sp>
            <p:nvSpPr>
              <p:cNvPr id="410" name=""/>
              <p:cNvSpPr/>
              <p:nvPr/>
            </p:nvSpPr>
            <p:spPr>
              <a:xfrm>
                <a:off x="5157360" y="1565280"/>
                <a:ext cx="302400" cy="26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76800" y="1587600"/>
                <a:ext cx="262440" cy="220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10080" y="1587600"/>
                <a:ext cx="2808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419800" y="1599480"/>
                <a:ext cx="7920" cy="4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421600" y="1699920"/>
                <a:ext cx="3600" cy="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21600" y="1742040"/>
                <a:ext cx="3600" cy="4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421600" y="1783080"/>
                <a:ext cx="3600" cy="2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5184000" y="1580040"/>
              <a:ext cx="245880" cy="22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756400" y="1284120"/>
            <a:ext cx="621720" cy="287280"/>
            <a:chOff x="5756400" y="1284120"/>
            <a:chExt cx="621720" cy="287280"/>
          </a:xfrm>
        </p:grpSpPr>
        <p:sp>
          <p:nvSpPr>
            <p:cNvPr id="419" name=""/>
            <p:cNvSpPr/>
            <p:nvPr/>
          </p:nvSpPr>
          <p:spPr>
            <a:xfrm>
              <a:off x="5761440" y="1412280"/>
              <a:ext cx="616680" cy="15912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61440" y="13989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78120" y="13989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1440" y="1398960"/>
              <a:ext cx="611280" cy="9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56400" y="1284120"/>
              <a:ext cx="616320" cy="18576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904720" y="1324800"/>
              <a:ext cx="304920" cy="108360"/>
              <a:chOff x="5904720" y="1324800"/>
              <a:chExt cx="304920" cy="108360"/>
            </a:xfrm>
          </p:grpSpPr>
          <p:sp>
            <p:nvSpPr>
              <p:cNvPr id="425" name=""/>
              <p:cNvSpPr/>
              <p:nvPr/>
            </p:nvSpPr>
            <p:spPr>
              <a:xfrm flipV="1">
                <a:off x="5904720" y="13248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13880" y="14331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05160" y="1326960"/>
                <a:ext cx="11304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904720" y="1323000"/>
              <a:ext cx="304920" cy="108360"/>
              <a:chOff x="5904720" y="1323000"/>
              <a:chExt cx="304920" cy="108360"/>
            </a:xfrm>
          </p:grpSpPr>
          <p:sp>
            <p:nvSpPr>
              <p:cNvPr id="429" name=""/>
              <p:cNvSpPr/>
              <p:nvPr/>
            </p:nvSpPr>
            <p:spPr>
              <a:xfrm>
                <a:off x="5904720" y="14292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13880" y="1323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05160" y="1323000"/>
                <a:ext cx="11304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6923160" y="2684520"/>
            <a:ext cx="469800" cy="414360"/>
            <a:chOff x="6923160" y="2684520"/>
            <a:chExt cx="469800" cy="414360"/>
          </a:xfrm>
        </p:grpSpPr>
        <p:pic>
          <p:nvPicPr>
            <p:cNvPr id="433" name="" descr=""/>
            <p:cNvPicPr/>
            <p:nvPr/>
          </p:nvPicPr>
          <p:blipFill>
            <a:blip r:embed="rId5">
              <a:alphaModFix amt="50000"/>
            </a:blip>
            <a:stretch/>
          </p:blipFill>
          <p:spPr>
            <a:xfrm>
              <a:off x="6923160" y="2684520"/>
              <a:ext cx="469800" cy="4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6">
              <a:alphaModFix amt="50000"/>
            </a:blip>
            <a:stretch/>
          </p:blipFill>
          <p:spPr>
            <a:xfrm>
              <a:off x="7022520" y="2733480"/>
              <a:ext cx="198720" cy="1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6492960" y="1874880"/>
            <a:ext cx="621720" cy="285480"/>
            <a:chOff x="6492960" y="1874880"/>
            <a:chExt cx="621720" cy="285480"/>
          </a:xfrm>
        </p:grpSpPr>
        <p:sp>
          <p:nvSpPr>
            <p:cNvPr id="436" name=""/>
            <p:cNvSpPr/>
            <p:nvPr/>
          </p:nvSpPr>
          <p:spPr>
            <a:xfrm>
              <a:off x="6498000" y="2002320"/>
              <a:ext cx="616680" cy="1580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98000" y="198900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14680" y="198900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98000" y="1989000"/>
              <a:ext cx="611280" cy="96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92960" y="1874880"/>
              <a:ext cx="616320" cy="18432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641280" y="1915560"/>
              <a:ext cx="304920" cy="107640"/>
              <a:chOff x="6641280" y="1915560"/>
              <a:chExt cx="304920" cy="107640"/>
            </a:xfrm>
          </p:grpSpPr>
          <p:sp>
            <p:nvSpPr>
              <p:cNvPr id="442" name=""/>
              <p:cNvSpPr/>
              <p:nvPr/>
            </p:nvSpPr>
            <p:spPr>
              <a:xfrm flipV="1">
                <a:off x="6641280" y="19155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50440" y="20232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41720" y="1917720"/>
                <a:ext cx="113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641280" y="1913760"/>
              <a:ext cx="304920" cy="107640"/>
              <a:chOff x="6641280" y="1913760"/>
              <a:chExt cx="304920" cy="107640"/>
            </a:xfrm>
          </p:grpSpPr>
          <p:sp>
            <p:nvSpPr>
              <p:cNvPr id="446" name=""/>
              <p:cNvSpPr/>
              <p:nvPr/>
            </p:nvSpPr>
            <p:spPr>
              <a:xfrm>
                <a:off x="6641280" y="2019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50440" y="19137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6741720" y="1913760"/>
                <a:ext cx="113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6224760" y="2654280"/>
            <a:ext cx="469800" cy="412920"/>
            <a:chOff x="6224760" y="2654280"/>
            <a:chExt cx="469800" cy="412920"/>
          </a:xfrm>
        </p:grpSpPr>
        <p:pic>
          <p:nvPicPr>
            <p:cNvPr id="450" name="" descr=""/>
            <p:cNvPicPr/>
            <p:nvPr/>
          </p:nvPicPr>
          <p:blipFill>
            <a:blip r:embed="rId7"/>
            <a:stretch/>
          </p:blipFill>
          <p:spPr>
            <a:xfrm>
              <a:off x="6224760" y="2654280"/>
              <a:ext cx="469800" cy="4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8"/>
            <a:stretch/>
          </p:blipFill>
          <p:spPr>
            <a:xfrm>
              <a:off x="6324120" y="2702880"/>
              <a:ext cx="198720" cy="17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2" name=""/>
          <p:cNvSpPr/>
          <p:nvPr/>
        </p:nvSpPr>
        <p:spPr>
          <a:xfrm>
            <a:off x="6602400" y="2720880"/>
            <a:ext cx="103320" cy="22248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92880" y="2754360"/>
            <a:ext cx="101520" cy="222120"/>
          </a:xfrm>
          <a:custGeom>
            <a:avLst/>
            <a:gdLst/>
            <a:ahLst/>
            <a:rect l="l" t="t" r="r" b="b"/>
            <a:pathLst>
              <a:path w="52" h="114">
                <a:moveTo>
                  <a:pt x="0" y="114"/>
                </a:moveTo>
                <a:cubicBezTo>
                  <a:pt x="19" y="86"/>
                  <a:pt x="26" y="79"/>
                  <a:pt x="7" y="50"/>
                </a:cubicBezTo>
                <a:cubicBezTo>
                  <a:pt x="52" y="35"/>
                  <a:pt x="14" y="55"/>
                  <a:pt x="14" y="22"/>
                </a:cubicBezTo>
                <a:cubicBezTo>
                  <a:pt x="14" y="21"/>
                  <a:pt x="31" y="4"/>
                  <a:pt x="3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65840" y="2228760"/>
            <a:ext cx="338400" cy="405000"/>
          </a:xfrm>
          <a:prstGeom prst="sun">
            <a:avLst>
              <a:gd name="adj" fmla="val 374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8008920" y="771480"/>
            <a:ext cx="622080" cy="288720"/>
            <a:chOff x="8008920" y="771480"/>
            <a:chExt cx="622080" cy="288720"/>
          </a:xfrm>
        </p:grpSpPr>
        <p:sp>
          <p:nvSpPr>
            <p:cNvPr id="456" name=""/>
            <p:cNvSpPr/>
            <p:nvPr/>
          </p:nvSpPr>
          <p:spPr>
            <a:xfrm>
              <a:off x="8013960" y="900360"/>
              <a:ext cx="617040" cy="15984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13960" y="88668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631000" y="88668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13960" y="886680"/>
              <a:ext cx="611640" cy="97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008920" y="771480"/>
              <a:ext cx="616680" cy="1864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8157240" y="812520"/>
              <a:ext cx="305640" cy="109080"/>
              <a:chOff x="8157240" y="812520"/>
              <a:chExt cx="305640" cy="109080"/>
            </a:xfrm>
          </p:grpSpPr>
          <p:sp>
            <p:nvSpPr>
              <p:cNvPr id="462" name=""/>
              <p:cNvSpPr/>
              <p:nvPr/>
            </p:nvSpPr>
            <p:spPr>
              <a:xfrm flipV="1">
                <a:off x="8157240" y="81252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366760" y="9216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57680" y="814680"/>
                <a:ext cx="113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8157240" y="810720"/>
              <a:ext cx="305640" cy="109080"/>
              <a:chOff x="8157240" y="810720"/>
              <a:chExt cx="305640" cy="109080"/>
            </a:xfrm>
          </p:grpSpPr>
          <p:sp>
            <p:nvSpPr>
              <p:cNvPr id="466" name=""/>
              <p:cNvSpPr/>
              <p:nvPr/>
            </p:nvSpPr>
            <p:spPr>
              <a:xfrm>
                <a:off x="8157240" y="9176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66760" y="81072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8257680" y="811080"/>
                <a:ext cx="113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69" name=""/>
          <p:cNvCxnSpPr>
            <a:stCxn id="451" idx="3"/>
          </p:cNvCxnSpPr>
          <p:nvPr/>
        </p:nvCxnSpPr>
        <p:spPr>
          <a:xfrm flipV="1">
            <a:off x="6522840" y="2039040"/>
            <a:ext cx="1253160" cy="753480"/>
          </a:xfrm>
          <a:prstGeom prst="curvedConnector5">
            <a:avLst>
              <a:gd name="adj1" fmla="val 43706"/>
              <a:gd name="adj2" fmla="val 89435"/>
              <a:gd name="adj3" fmla="val 4370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endCxn id="464" idx="0"/>
          </p:cNvCxnSpPr>
          <p:nvPr/>
        </p:nvCxnSpPr>
        <p:spPr>
          <a:xfrm flipV="1">
            <a:off x="7620120" y="799560"/>
            <a:ext cx="638280" cy="1502280"/>
          </a:xfrm>
          <a:prstGeom prst="curvedConnector5">
            <a:avLst>
              <a:gd name="adj1" fmla="val 8182"/>
              <a:gd name="adj2" fmla="val 53475"/>
              <a:gd name="adj3" fmla="val 8182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471" name=""/>
          <p:cNvGraphicFramePr/>
          <p:nvPr/>
        </p:nvGraphicFramePr>
        <p:xfrm>
          <a:off x="7620120" y="2039760"/>
          <a:ext cx="31104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2039760"/>
                    <a:ext cx="3110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7664400" y="2517840"/>
            <a:ext cx="125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pplication gateway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21600" y="2909880"/>
            <a:ext cx="164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st-to-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lnet 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628560"/>
            <a:ext cx="71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outer an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48720" y="1143000"/>
            <a:ext cx="1295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ateway-to-remo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st telnet s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55D-D928-4A83-8D08-56ACFADCED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Limitations of Filters and Gateways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2040" y="1400040"/>
            <a:ext cx="388008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P spoof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uter can’t know if data “really” originated at source listed in h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multiple app’s. need special treatment, each has own app.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software must know how to contact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must set IP address of proxy in Web brow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36800" y="1434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ters often use all or nothing policy for UD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eoff:  degree of communication with outside world vs level of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highly protected sites still suffer from attack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05D-7E80-4E61-BB2C-220B6773696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etwork Security (summary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48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asic techniques…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yptography (symmetric and public ke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hentic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ssage integ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walls and application gatew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used in many different security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Web transactions (htt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e electronic trans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structure pro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4BE-D29B-47A3-883C-DC7FD19A6A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ertificate Autho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Certificate Authority (CA) binds public key to particular entity (person, router, et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6835680" y="3656160"/>
            <a:ext cx="1051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ertificate Authority’s privat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g0439920.thm" descr=""/>
          <p:cNvPicPr/>
          <p:nvPr/>
        </p:nvPicPr>
        <p:blipFill>
          <a:blip r:embed="rId1"/>
          <a:stretch/>
        </p:blipFill>
        <p:spPr>
          <a:xfrm>
            <a:off x="5557680" y="1882800"/>
            <a:ext cx="1440000" cy="1639800"/>
          </a:xfrm>
          <a:prstGeom prst="rect">
            <a:avLst/>
          </a:prstGeom>
          <a:ln w="0">
            <a:noFill/>
          </a:ln>
        </p:spPr>
      </p:pic>
      <p:pic>
        <p:nvPicPr>
          <p:cNvPr id="65" name="hhgc025d.thm" descr=""/>
          <p:cNvPicPr/>
          <p:nvPr/>
        </p:nvPicPr>
        <p:blipFill>
          <a:blip r:embed="rId2"/>
          <a:stretch/>
        </p:blipFill>
        <p:spPr>
          <a:xfrm>
            <a:off x="5784840" y="3968640"/>
            <a:ext cx="987480" cy="52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67360" y="1239840"/>
            <a:ext cx="2506320" cy="517680"/>
          </a:xfrm>
          <a:custGeom>
            <a:avLst/>
            <a:gdLst>
              <a:gd name="textAreaLeft" fmla="*/ 438480 w 2506320"/>
              <a:gd name="textAreaRight" fmla="*/ 1817280 w 2506320"/>
              <a:gd name="textAreaTop" fmla="*/ 69120 h 517680"/>
              <a:gd name="textAreaBottom" fmla="*/ 4485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763080" y="3570120"/>
            <a:ext cx="2829240" cy="478080"/>
          </a:xfrm>
          <a:custGeom>
            <a:avLst/>
            <a:gdLst>
              <a:gd name="textAreaLeft" fmla="*/ 495000 w 2829240"/>
              <a:gd name="textAreaRight" fmla="*/ 2051280 w 2829240"/>
              <a:gd name="textAreaTop" fmla="*/ 64080 h 478080"/>
              <a:gd name="textAreaBottom" fmla="*/ 414000 h 4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ile"/>
          <p:cNvSpPr/>
          <p:nvPr/>
        </p:nvSpPr>
        <p:spPr>
          <a:xfrm>
            <a:off x="1176480" y="1181160"/>
            <a:ext cx="1374480" cy="100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ob’s Identifying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6784_" descr=""/>
          <p:cNvPicPr/>
          <p:nvPr/>
        </p:nvPicPr>
        <p:blipFill>
          <a:blip r:embed="rId3"/>
          <a:stretch/>
        </p:blipFill>
        <p:spPr>
          <a:xfrm>
            <a:off x="609480" y="2189160"/>
            <a:ext cx="1051200" cy="1036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57480" y="3375000"/>
            <a:ext cx="1198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ob’s encrypted certif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_oeq383.thm" descr=""/>
          <p:cNvPicPr/>
          <p:nvPr/>
        </p:nvPicPr>
        <p:blipFill>
          <a:blip r:embed="rId4"/>
          <a:stretch/>
        </p:blipFill>
        <p:spPr>
          <a:xfrm>
            <a:off x="2455920" y="3033720"/>
            <a:ext cx="138888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hhgc025d.thm" descr=""/>
          <p:cNvPicPr/>
          <p:nvPr/>
        </p:nvPicPr>
        <p:blipFill>
          <a:blip r:embed="rId5"/>
          <a:stretch/>
        </p:blipFill>
        <p:spPr>
          <a:xfrm>
            <a:off x="2963880" y="1638360"/>
            <a:ext cx="985680" cy="527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54160" y="1066680"/>
            <a:ext cx="13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ob’s public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97680" y="2016000"/>
            <a:ext cx="15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rtif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1643040"/>
            <a:ext cx="457200" cy="457200"/>
          </a:xfrm>
          <a:prstGeom prst="plus">
            <a:avLst>
              <a:gd name="adj" fmla="val 376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E2A-6BCF-46BD-87AD-EE22026E74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ertificate Author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tity registers 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ublic key with 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ity provides “proof of identity” to CA at time of registr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 creates certificate binding entity to public ke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 digitally signed by 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2880" y="1312560"/>
            <a:ext cx="39276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lice wants Bob’s public ke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s Bob’s certificate (from Bob or elsewher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CA’s public key to Bob’s certificate to get Bob’s public k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8E0-C8E2-4804-94E2-3BC83F899020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cure e-mail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e.g. PGP)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75720" y="1143000"/>
            <a:ext cx="79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se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ecr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-mail message, m, to B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61800" y="1727280"/>
            <a:ext cx="8401320" cy="1891440"/>
            <a:chOff x="361800" y="1727280"/>
            <a:chExt cx="8401320" cy="1891440"/>
          </a:xfrm>
        </p:grpSpPr>
        <p:pic>
          <p:nvPicPr>
            <p:cNvPr id="82" name="bd06790_" descr=""/>
            <p:cNvPicPr/>
            <p:nvPr/>
          </p:nvPicPr>
          <p:blipFill>
            <a:blip r:embed="rId1"/>
            <a:srcRect l="0" t="0" r="38101" b="0"/>
            <a:stretch/>
          </p:blipFill>
          <p:spPr>
            <a:xfrm>
              <a:off x="361800" y="2209680"/>
              <a:ext cx="6858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bd06784_" descr=""/>
            <p:cNvPicPr/>
            <p:nvPr/>
          </p:nvPicPr>
          <p:blipFill>
            <a:blip r:embed="rId2"/>
            <a:srcRect l="18745" t="0" r="0" b="0"/>
            <a:stretch/>
          </p:blipFill>
          <p:spPr>
            <a:xfrm>
              <a:off x="7967520" y="2235240"/>
              <a:ext cx="795600" cy="10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"/>
            <p:cNvGrpSpPr/>
            <p:nvPr/>
          </p:nvGrpSpPr>
          <p:grpSpPr>
            <a:xfrm>
              <a:off x="2324160" y="2009880"/>
              <a:ext cx="761760" cy="480960"/>
              <a:chOff x="2324160" y="2009880"/>
              <a:chExt cx="761760" cy="480960"/>
            </a:xfrm>
          </p:grpSpPr>
          <p:sp>
            <p:nvSpPr>
              <p:cNvPr id="85" name=""/>
              <p:cNvSpPr/>
              <p:nvPr/>
            </p:nvSpPr>
            <p:spPr>
              <a:xfrm>
                <a:off x="2324160" y="200988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85920" y="2009880"/>
                <a:ext cx="0" cy="480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219320" y="1828800"/>
              <a:ext cx="1218960" cy="4406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e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sym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0640" y="3086280"/>
              <a:ext cx="685800" cy="440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2489040"/>
              <a:ext cx="381240" cy="3812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3657600" y="2336760"/>
              <a:ext cx="1828800" cy="68580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1240" y="3108240"/>
              <a:ext cx="89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omic Sans MS"/>
                </a:rPr>
                <a:t>Key</a:t>
              </a:r>
              <a:r>
                <a:rPr b="0" lang="en-US" sz="2000" spc="-1" strike="noStrike" baseline="-25000">
                  <a:solidFill>
                    <a:srgbClr val="ff0066"/>
                  </a:solidFill>
                  <a:latin typeface="Comic Sans MS"/>
                </a:rPr>
                <a:t>sy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82680" y="32767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540160" y="2869920"/>
              <a:ext cx="546120" cy="406440"/>
              <a:chOff x="2540160" y="2869920"/>
              <a:chExt cx="546120" cy="406440"/>
            </a:xfrm>
          </p:grpSpPr>
          <p:sp>
            <p:nvSpPr>
              <p:cNvPr id="94" name=""/>
              <p:cNvSpPr/>
              <p:nvPr/>
            </p:nvSpPr>
            <p:spPr>
              <a:xfrm>
                <a:off x="2540160" y="3276360"/>
                <a:ext cx="54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3086280" y="2869920"/>
                <a:ext cx="0" cy="40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38080" y="20318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6720" y="2679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032520" y="2047680"/>
              <a:ext cx="520560" cy="415800"/>
              <a:chOff x="6032520" y="2047680"/>
              <a:chExt cx="520560" cy="41580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6032520" y="2047680"/>
                <a:ext cx="0" cy="41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32520" y="2047680"/>
                <a:ext cx="520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91240" y="1841400"/>
              <a:ext cx="1219320" cy="44064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e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sym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2000" y="3137040"/>
              <a:ext cx="685800" cy="44064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54680" y="246384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91200" y="2476440"/>
              <a:ext cx="89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omic Sans MS"/>
                </a:rPr>
                <a:t>Key</a:t>
              </a:r>
              <a:r>
                <a:rPr b="0" lang="en-US" sz="2000" spc="-1" strike="noStrike" baseline="-25000">
                  <a:solidFill>
                    <a:srgbClr val="ff0066"/>
                  </a:solidFill>
                  <a:latin typeface="Comic Sans MS"/>
                </a:rPr>
                <a:t>sy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048440" y="2209320"/>
              <a:ext cx="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032520" y="2857680"/>
              <a:ext cx="596880" cy="495000"/>
              <a:chOff x="6032520" y="2857680"/>
              <a:chExt cx="596880" cy="4950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32520" y="2857680"/>
                <a:ext cx="0" cy="49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32520" y="3352680"/>
                <a:ext cx="59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7899480" y="2019240"/>
              <a:ext cx="40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1765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4080" y="17654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3197160"/>
              <a:ext cx="120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r>
                <a:rPr b="1" lang="en-US" sz="1800" spc="-1" strike="noStrike" baseline="-25000">
                  <a:solidFill>
                    <a:srgbClr val="ff9900"/>
                  </a:solidFill>
                  <a:latin typeface="Comic Sans MS"/>
                </a:rPr>
                <a:t>B</a:t>
              </a: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(Key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Comic Sans MS"/>
                </a:rPr>
                <a:t>sym</a:t>
              </a: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21160" y="1727280"/>
              <a:ext cx="1041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Key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Comic Sans MS"/>
                </a:rPr>
                <a:t>sym</a:t>
              </a: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(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2666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06560" y="3213000"/>
              <a:ext cx="120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r>
                <a:rPr b="1" lang="en-US" sz="1800" spc="-1" strike="noStrike" baseline="-25000">
                  <a:solidFill>
                    <a:srgbClr val="ff9900"/>
                  </a:solidFill>
                  <a:latin typeface="Comic Sans MS"/>
                </a:rPr>
                <a:t>B</a:t>
              </a: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(Key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Comic Sans MS"/>
                </a:rPr>
                <a:t>sym</a:t>
              </a: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55800" y="1733400"/>
              <a:ext cx="1041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Key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Comic Sans MS"/>
                </a:rPr>
                <a:t>sym</a:t>
              </a:r>
              <a:r>
                <a:rPr b="1" lang="en-US" sz="1600" spc="-1" strike="noStrike">
                  <a:solidFill>
                    <a:srgbClr val="ff0066"/>
                  </a:solidFill>
                  <a:latin typeface="Comic Sans MS"/>
                </a:rPr>
                <a:t>(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09480" y="380988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te random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ivate session key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crypt message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crypt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ith Bob’s public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ds bo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)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D27-AA36-4889-8EDC-4697E391DF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uthenticated e-mai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265800" y="5259240"/>
            <a:ext cx="330120" cy="444600"/>
            <a:chOff x="6265800" y="5259240"/>
            <a:chExt cx="330120" cy="444600"/>
          </a:xfrm>
        </p:grpSpPr>
        <p:sp>
          <p:nvSpPr>
            <p:cNvPr id="120" name=""/>
            <p:cNvSpPr/>
            <p:nvPr/>
          </p:nvSpPr>
          <p:spPr>
            <a:xfrm>
              <a:off x="6265800" y="5259240"/>
              <a:ext cx="0" cy="44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5800" y="5703840"/>
              <a:ext cx="33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662960" y="5246640"/>
            <a:ext cx="304560" cy="457200"/>
            <a:chOff x="7662960" y="5246640"/>
            <a:chExt cx="304560" cy="457200"/>
          </a:xfrm>
        </p:grpSpPr>
        <p:sp>
          <p:nvSpPr>
            <p:cNvPr id="123" name=""/>
            <p:cNvSpPr/>
            <p:nvPr/>
          </p:nvSpPr>
          <p:spPr>
            <a:xfrm>
              <a:off x="7662960" y="5703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967520" y="524664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243240" y="4433760"/>
            <a:ext cx="304920" cy="457200"/>
            <a:chOff x="3243240" y="4433760"/>
            <a:chExt cx="304920" cy="457200"/>
          </a:xfrm>
        </p:grpSpPr>
        <p:sp>
          <p:nvSpPr>
            <p:cNvPr id="126" name=""/>
            <p:cNvSpPr/>
            <p:nvPr/>
          </p:nvSpPr>
          <p:spPr>
            <a:xfrm>
              <a:off x="3243240" y="44337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48160" y="44337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707080" y="50943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d06790_" descr=""/>
          <p:cNvPicPr/>
          <p:nvPr/>
        </p:nvPicPr>
        <p:blipFill>
          <a:blip r:embed="rId1"/>
          <a:srcRect l="0" t="0" r="38101" b="0"/>
          <a:stretch/>
        </p:blipFill>
        <p:spPr>
          <a:xfrm>
            <a:off x="271440" y="458640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30" name="bd06784_" descr=""/>
          <p:cNvPicPr/>
          <p:nvPr/>
        </p:nvPicPr>
        <p:blipFill>
          <a:blip r:embed="rId2"/>
          <a:srcRect l="18745" t="0" r="0" b="0"/>
          <a:stretch/>
        </p:blipFill>
        <p:spPr>
          <a:xfrm>
            <a:off x="8120160" y="4560840"/>
            <a:ext cx="795240" cy="1041480"/>
          </a:xfrm>
          <a:prstGeom prst="rect">
            <a:avLst/>
          </a:prstGeom>
          <a:ln w="0">
            <a:noFill/>
          </a:ln>
        </p:spPr>
      </p:pic>
      <p:sp>
        <p:nvSpPr>
          <p:cNvPr id="131" name="Cloud"/>
          <p:cNvSpPr/>
          <p:nvPr/>
        </p:nvSpPr>
        <p:spPr>
          <a:xfrm>
            <a:off x="4005360" y="4738680"/>
            <a:ext cx="1752480" cy="685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24120" y="508176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278400" y="4484160"/>
            <a:ext cx="546120" cy="435240"/>
            <a:chOff x="6278400" y="4484160"/>
            <a:chExt cx="546120" cy="435240"/>
          </a:xfrm>
        </p:grpSpPr>
        <p:sp>
          <p:nvSpPr>
            <p:cNvPr id="134" name=""/>
            <p:cNvSpPr/>
            <p:nvPr/>
          </p:nvSpPr>
          <p:spPr>
            <a:xfrm flipV="1">
              <a:off x="6278400" y="4484160"/>
              <a:ext cx="0" cy="43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78400" y="4484160"/>
              <a:ext cx="54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75360" y="49039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05760" y="4927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omic Sans MS"/>
              </a:rPr>
              <a:t>Mat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360" y="4141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7840" y="5653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4130640"/>
            <a:ext cx="142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1800" spc="-1" strike="noStrike" baseline="-25000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(hash(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2160" y="415440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d</a:t>
            </a:r>
            <a:r>
              <a:rPr b="1" lang="en-US" sz="1800" spc="-1" strike="noStrike" baseline="-25000">
                <a:solidFill>
                  <a:srgbClr val="ff9900"/>
                </a:solidFill>
                <a:latin typeface="Comic Sans MS"/>
              </a:rPr>
              <a:t>A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(hash(ms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98440" y="4230720"/>
            <a:ext cx="990720" cy="3988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h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7440" y="4230720"/>
            <a:ext cx="762120" cy="4406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7056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7720" y="4878360"/>
            <a:ext cx="380880" cy="3808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752480" y="46479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80920" y="5246640"/>
            <a:ext cx="2666880" cy="399600"/>
            <a:chOff x="880920" y="5246640"/>
            <a:chExt cx="2666880" cy="399600"/>
          </a:xfrm>
        </p:grpSpPr>
        <p:sp>
          <p:nvSpPr>
            <p:cNvPr id="148" name=""/>
            <p:cNvSpPr/>
            <p:nvPr/>
          </p:nvSpPr>
          <p:spPr>
            <a:xfrm>
              <a:off x="880920" y="564624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547800" y="5246640"/>
              <a:ext cx="0" cy="39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252520" y="44337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24520" y="4307040"/>
            <a:ext cx="685800" cy="4406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95920" y="5500800"/>
            <a:ext cx="990720" cy="3988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h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586640" y="4484520"/>
            <a:ext cx="380880" cy="457200"/>
            <a:chOff x="7586640" y="4484520"/>
            <a:chExt cx="380880" cy="457200"/>
          </a:xfrm>
        </p:grpSpPr>
        <p:sp>
          <p:nvSpPr>
            <p:cNvPr id="154" name=""/>
            <p:cNvSpPr/>
            <p:nvPr/>
          </p:nvSpPr>
          <p:spPr>
            <a:xfrm>
              <a:off x="7586640" y="448452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67520" y="4484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33520" y="914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provide sender authentication and message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digitally signs message with secret ke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ends cleartext message together with digital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b compares a hash of the cleartext message with the decoded hash of the encoded hashed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30D-6CFC-4A96-9420-D1F74D61F3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send secret e-mail to Bob with sender authentication and  message integ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, Alice uses both h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 and Bob’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cure, Authenticated e-mai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524560" y="4549680"/>
            <a:ext cx="761760" cy="480960"/>
            <a:chOff x="5524560" y="4549680"/>
            <a:chExt cx="761760" cy="480960"/>
          </a:xfrm>
        </p:grpSpPr>
        <p:sp>
          <p:nvSpPr>
            <p:cNvPr id="160" name=""/>
            <p:cNvSpPr/>
            <p:nvPr/>
          </p:nvSpPr>
          <p:spPr>
            <a:xfrm>
              <a:off x="5524560" y="454968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6320" y="4549680"/>
              <a:ext cx="0" cy="48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419720" y="4368960"/>
            <a:ext cx="1143000" cy="440640"/>
          </a:xfrm>
          <a:prstGeom prst="rect">
            <a:avLst/>
          </a:prstGeom>
          <a:solidFill>
            <a:srgbClr val="ff00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sy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5575320"/>
            <a:ext cx="685800" cy="440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5029200"/>
            <a:ext cx="381240" cy="3808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loud"/>
          <p:cNvSpPr/>
          <p:nvPr/>
        </p:nvSpPr>
        <p:spPr>
          <a:xfrm>
            <a:off x="6858000" y="4876920"/>
            <a:ext cx="1828800" cy="685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7400" y="5597640"/>
            <a:ext cx="89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Key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Comic Sans MS"/>
              </a:rPr>
              <a:t>s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57913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778360" y="5410080"/>
            <a:ext cx="495360" cy="330480"/>
            <a:chOff x="5778360" y="5410080"/>
            <a:chExt cx="495360" cy="330480"/>
          </a:xfrm>
        </p:grpSpPr>
        <p:sp>
          <p:nvSpPr>
            <p:cNvPr id="169" name=""/>
            <p:cNvSpPr/>
            <p:nvPr/>
          </p:nvSpPr>
          <p:spPr>
            <a:xfrm>
              <a:off x="5778360" y="5740560"/>
              <a:ext cx="495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273720" y="541008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359000" y="3720960"/>
            <a:ext cx="990360" cy="3988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h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17640" y="3720960"/>
            <a:ext cx="762120" cy="4406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1640" y="491508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4381560"/>
            <a:ext cx="380880" cy="3808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905120" y="414000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028880" y="4782960"/>
            <a:ext cx="2818800" cy="347760"/>
            <a:chOff x="1028880" y="4782960"/>
            <a:chExt cx="2818800" cy="347760"/>
          </a:xfrm>
        </p:grpSpPr>
        <p:sp>
          <p:nvSpPr>
            <p:cNvPr id="177" name=""/>
            <p:cNvSpPr/>
            <p:nvPr/>
          </p:nvSpPr>
          <p:spPr>
            <a:xfrm>
              <a:off x="1028880" y="5130720"/>
              <a:ext cx="281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847680" y="4782960"/>
              <a:ext cx="0" cy="34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556080" y="3924360"/>
            <a:ext cx="304560" cy="457200"/>
            <a:chOff x="3556080" y="3924360"/>
            <a:chExt cx="304560" cy="457200"/>
          </a:xfrm>
        </p:grpSpPr>
        <p:sp>
          <p:nvSpPr>
            <p:cNvPr id="180" name=""/>
            <p:cNvSpPr/>
            <p:nvPr/>
          </p:nvSpPr>
          <p:spPr>
            <a:xfrm>
              <a:off x="3556080" y="392436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60640" y="39243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413080" y="39243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45720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52196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mailcol-1.thm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244520" cy="81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041-0B24-4F15-BE7A-6B2BD11F6C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etty Good Privacy (PGP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 e-mail encryption scheme, a de-facto stand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symmetric key cryptography, public key cryptography, hash function, and digital signa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secrecy, sender authentication, integrity and efficiency for handling large messag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57600" y="1828440"/>
            <a:ext cx="4205520" cy="426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BEGIN PGP SIGNED MESSAGE--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: SHA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b:Felix is out of town on a business trip tonight. Amorously yours, 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BEGIN PGP SIGNATURE--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: PGP 5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set: nocon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hHJRHhGJGhgg/12EpJ+lo8gE4vB3mqJhFEvZP9t6n7G6m5Gw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END PGP SIGNATURE--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449960" y="129528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PGP signed mess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C09 Programming on the Web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A49-3A34-4526-8076-0EB193D4ED2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0Secur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4T18:35:32Z</dcterms:created>
  <dc:creator>CS</dc:creator>
  <dc:description/>
  <dc:language>en-US</dc:language>
  <cp:lastModifiedBy>Computing Centre</cp:lastModifiedBy>
  <dcterms:modified xsi:type="dcterms:W3CDTF">2001-11-28T16:05:12Z</dcterms:modified>
  <cp:revision>55</cp:revision>
  <dc:subject/>
  <dc:title>20 Message Digests, Firewalls</dc:title>
</cp:coreProperties>
</file>