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608-2E03-4C62-AE19-7032D8E2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2AE-023F-456F-924F-3AB6437F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E66-E5A5-439D-89AA-DEE87E52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99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CB6-F2E2-47E5-9F15-58340343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B72-D226-472F-918A-D205649E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299-71E5-4A3A-807B-3E98D70D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F62-B730-4930-BA2E-D7D68725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77F-E670-459C-A0C1-2F537127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A86-64EF-460C-9359-912FD220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0A9-D258-4F01-B4C8-EFCCEC70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99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A89-35C3-45FC-9ED9-539775F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99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33E-5E71-446C-A05E-04EC6086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B2CA-00DB-4F29-B2A3-DE8171749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g.mdb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RDBM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R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elational </a:t>
            </a: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ta</a:t>
            </a: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se </a:t>
            </a: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nagement </a:t>
            </a: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ystem</a:t>
            </a: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Comic Sans MS"/>
              </a:rPr>
              <a:t>A way of saving and accessing data on persistent (disk) stor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88B-8A40-4D0E-A9EA-327FCD70FA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The Suppliers and Parts 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B with four tables (SUPPLIER, CITY, PART, SELLS)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LIER has attributes: number (SNO), the name (SNAME) and the city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numb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ITY has attributes number (CNO) and the city name (CNA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 has attributes: number (PNO) the name (PNAME) and the price (PRIC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LS has attributes: part (PNO) and supplier (SNO). SELLS connects SUPPLIER and PAR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270-932E-49ED-9FAB-644B630A81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ntities and Rela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i="1" lang="en-US" sz="2800" spc="-1" strike="noStrike">
                <a:solidFill>
                  <a:srgbClr val="ff3300"/>
                </a:solidFill>
                <a:latin typeface="Comic Sans MS"/>
              </a:rPr>
              <a:t>ent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presents something rea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ff3300"/>
                </a:solidFill>
                <a:latin typeface="Comic Sans MS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presents a connection between ent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ables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SUPPLI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y be regarded as </a:t>
            </a:r>
            <a:r>
              <a:rPr b="0" i="1" lang="en-US" sz="2800" spc="-1" strike="noStrike">
                <a:solidFill>
                  <a:srgbClr val="ff3300"/>
                </a:solidFill>
                <a:latin typeface="Comic Sans MS"/>
              </a:rPr>
              <a:t>entiti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SEL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y be regarded as a </a:t>
            </a:r>
            <a:r>
              <a:rPr b="0" i="1" lang="en-US" sz="2800" spc="-1" strike="noStrike">
                <a:solidFill>
                  <a:srgbClr val="ff3300"/>
                </a:solidFill>
                <a:latin typeface="Comic Sans MS"/>
              </a:rPr>
              <a:t>relationshi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tween a particular part and a particular suppli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774-8E03-49E6-9E46-CE2F2BFC0F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</a:t>
            </a: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E/R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04920" y="1809720"/>
            <a:ext cx="1523880" cy="1650600"/>
            <a:chOff x="2104920" y="1809720"/>
            <a:chExt cx="1523880" cy="1650600"/>
          </a:xfrm>
        </p:grpSpPr>
        <p:sp>
          <p:nvSpPr>
            <p:cNvPr id="128" name=""/>
            <p:cNvSpPr/>
            <p:nvPr/>
          </p:nvSpPr>
          <p:spPr>
            <a:xfrm>
              <a:off x="2104920" y="1809720"/>
              <a:ext cx="1523880" cy="1650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3333cc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S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S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C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4920" y="219096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134120" y="2247840"/>
            <a:ext cx="1523880" cy="1233360"/>
            <a:chOff x="7134120" y="2247840"/>
            <a:chExt cx="1523880" cy="1233360"/>
          </a:xfrm>
        </p:grpSpPr>
        <p:sp>
          <p:nvSpPr>
            <p:cNvPr id="131" name=""/>
            <p:cNvSpPr/>
            <p:nvPr/>
          </p:nvSpPr>
          <p:spPr>
            <a:xfrm>
              <a:off x="7134120" y="2247840"/>
              <a:ext cx="1523880" cy="1233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3333cc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P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P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34120" y="26287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29160" y="2038320"/>
            <a:ext cx="3524400" cy="992520"/>
            <a:chOff x="3629160" y="2038320"/>
            <a:chExt cx="3524400" cy="992520"/>
          </a:xfrm>
        </p:grpSpPr>
        <p:grpSp>
          <p:nvGrpSpPr>
            <p:cNvPr id="134" name=""/>
            <p:cNvGrpSpPr/>
            <p:nvPr/>
          </p:nvGrpSpPr>
          <p:grpSpPr>
            <a:xfrm>
              <a:off x="6143760" y="2495520"/>
              <a:ext cx="1009800" cy="535320"/>
              <a:chOff x="6143760" y="2495520"/>
              <a:chExt cx="1009800" cy="535320"/>
            </a:xfrm>
          </p:grpSpPr>
          <p:sp>
            <p:nvSpPr>
              <p:cNvPr id="135" name=""/>
              <p:cNvSpPr/>
              <p:nvPr/>
            </p:nvSpPr>
            <p:spPr>
              <a:xfrm>
                <a:off x="6143760" y="28764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831000" y="2495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45200" y="2631960"/>
                <a:ext cx="27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3333cc"/>
                    </a:solidFill>
                    <a:latin typeface="Arial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629160" y="2038320"/>
              <a:ext cx="990720" cy="535320"/>
              <a:chOff x="3629160" y="2038320"/>
              <a:chExt cx="990720" cy="535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629160" y="24192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30600" y="2038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16400" y="2174760"/>
                <a:ext cx="27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000" spc="-1" strike="noStrike">
                    <a:solidFill>
                      <a:srgbClr val="3333cc"/>
                    </a:solidFill>
                    <a:latin typeface="Arial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4400280" y="1809720"/>
            <a:ext cx="1977480" cy="3238560"/>
            <a:chOff x="4400280" y="1809720"/>
            <a:chExt cx="1977480" cy="3238560"/>
          </a:xfrm>
        </p:grpSpPr>
        <p:grpSp>
          <p:nvGrpSpPr>
            <p:cNvPr id="143" name=""/>
            <p:cNvGrpSpPr/>
            <p:nvPr/>
          </p:nvGrpSpPr>
          <p:grpSpPr>
            <a:xfrm>
              <a:off x="4619520" y="1809720"/>
              <a:ext cx="1523880" cy="1650600"/>
              <a:chOff x="4619520" y="1809720"/>
              <a:chExt cx="1523880" cy="1650600"/>
            </a:xfrm>
          </p:grpSpPr>
          <p:sp>
            <p:nvSpPr>
              <p:cNvPr id="144" name=""/>
              <p:cNvSpPr/>
              <p:nvPr/>
            </p:nvSpPr>
            <p:spPr>
              <a:xfrm>
                <a:off x="4619520" y="1809720"/>
                <a:ext cx="1523880" cy="1650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000" spc="-1" strike="noStrike">
                    <a:solidFill>
                      <a:srgbClr val="3333cc"/>
                    </a:solidFill>
                    <a:latin typeface="Arial"/>
                  </a:rPr>
                  <a:t>SEL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3333cc"/>
                    </a:solidFill>
                    <a:latin typeface="Arial"/>
                  </a:rPr>
                  <a:t>S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3333cc"/>
                    </a:solidFill>
                    <a:latin typeface="Arial"/>
                  </a:rPr>
                  <a:t>P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3333cc"/>
                    </a:solidFill>
                    <a:latin typeface="Arial"/>
                  </a:rPr>
                  <a:t>PR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19520" y="219096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381640" y="3495600"/>
              <a:ext cx="0" cy="15526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0280" y="3809880"/>
              <a:ext cx="1977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implemented b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809800" y="3505320"/>
            <a:ext cx="5367600" cy="2075040"/>
            <a:chOff x="2809800" y="3505320"/>
            <a:chExt cx="5367600" cy="2075040"/>
          </a:xfrm>
        </p:grpSpPr>
        <p:sp>
          <p:nvSpPr>
            <p:cNvPr id="149" name=""/>
            <p:cNvSpPr/>
            <p:nvPr/>
          </p:nvSpPr>
          <p:spPr>
            <a:xfrm>
              <a:off x="2809800" y="3505320"/>
              <a:ext cx="5029200" cy="1542960"/>
            </a:xfrm>
            <a:custGeom>
              <a:avLst/>
              <a:gdLst/>
              <a:ahLst/>
              <a:rect l="l" t="t" r="r" b="b"/>
              <a:pathLst>
                <a:path w="3168" h="546">
                  <a:moveTo>
                    <a:pt x="0" y="6"/>
                  </a:moveTo>
                  <a:lnTo>
                    <a:pt x="0" y="546"/>
                  </a:lnTo>
                  <a:lnTo>
                    <a:pt x="3168" y="546"/>
                  </a:lnTo>
                  <a:lnTo>
                    <a:pt x="3162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68480" y="35622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97680" y="39434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61600" y="5181480"/>
              <a:ext cx="4243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suppliers sell parts at a certain 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95360" y="4191120"/>
            <a:ext cx="1523880" cy="1233360"/>
            <a:chOff x="495360" y="4191120"/>
            <a:chExt cx="1523880" cy="1233360"/>
          </a:xfrm>
        </p:grpSpPr>
        <p:sp>
          <p:nvSpPr>
            <p:cNvPr id="154" name=""/>
            <p:cNvSpPr/>
            <p:nvPr/>
          </p:nvSpPr>
          <p:spPr>
            <a:xfrm>
              <a:off x="495360" y="4191120"/>
              <a:ext cx="1523880" cy="1233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3333cc"/>
                  </a:solidFill>
                  <a:latin typeface="Arial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C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3333cc"/>
                  </a:solidFill>
                  <a:latin typeface="Arial"/>
                </a:rPr>
                <a:t>C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360" y="45720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6680" y="3059280"/>
            <a:ext cx="1919160" cy="2189520"/>
            <a:chOff x="166680" y="3059280"/>
            <a:chExt cx="1919160" cy="2189520"/>
          </a:xfrm>
        </p:grpSpPr>
        <p:sp>
          <p:nvSpPr>
            <p:cNvPr id="157" name=""/>
            <p:cNvSpPr/>
            <p:nvPr/>
          </p:nvSpPr>
          <p:spPr>
            <a:xfrm>
              <a:off x="237960" y="3276720"/>
              <a:ext cx="1847880" cy="1533240"/>
            </a:xfrm>
            <a:custGeom>
              <a:avLst/>
              <a:gdLst/>
              <a:ahLst/>
              <a:rect l="l" t="t" r="r" b="b"/>
              <a:pathLst>
                <a:path w="1164" h="966">
                  <a:moveTo>
                    <a:pt x="1164" y="0"/>
                  </a:moveTo>
                  <a:lnTo>
                    <a:pt x="0" y="0"/>
                  </a:lnTo>
                  <a:lnTo>
                    <a:pt x="0" y="966"/>
                  </a:lnTo>
                  <a:lnTo>
                    <a:pt x="162" y="9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04680" y="30592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680" y="4849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9EC-F09B-4EF5-8150-DDCE1978B8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8000"/>
                </a:solidFill>
                <a:latin typeface="Courier New"/>
              </a:rPr>
              <a:t>CITY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8000"/>
                </a:solidFill>
                <a:latin typeface="Courier New"/>
              </a:rPr>
              <a:t>C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NO |  C</a:t>
            </a:r>
            <a:r>
              <a:rPr b="1" lang="en-CA" sz="2400" spc="-1" strike="noStrike">
                <a:solidFill>
                  <a:srgbClr val="008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----+---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1  | Lond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2  | Par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3  | </a:t>
            </a:r>
            <a:r>
              <a:rPr b="1" lang="en-CA" sz="2400" spc="-1" strike="noStrike">
                <a:solidFill>
                  <a:srgbClr val="008000"/>
                </a:solidFill>
                <a:latin typeface="Courier New"/>
              </a:rPr>
              <a:t>R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4  | </a:t>
            </a:r>
            <a:r>
              <a:rPr b="1" lang="en-CA" sz="2400" spc="-1" strike="noStrike">
                <a:solidFill>
                  <a:srgbClr val="008000"/>
                </a:solidFill>
                <a:latin typeface="Courier New"/>
              </a:rPr>
              <a:t>Vien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114800"/>
            <a:ext cx="7772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w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(1, Londo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presents a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distinct city, London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ith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umber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eg.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E8E-E299-4F68-84CD-B31710834B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533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UPPLI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NO |  SNAME  |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----+---------+---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1  |  Smith  | 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2  |  Jones  | 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  |  Adams  | 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4  |  Blake  | 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1148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w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(1,Smith, </a:t>
            </a:r>
            <a:r>
              <a:rPr b="0" lang="en-CA" sz="2800" spc="-1" strike="noStrike">
                <a:solidFill>
                  <a:srgbClr val="008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SUPPLIER represents a supplier with supplier number 1 whose name is Smith and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based in the city numbered 1 (Lond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E22-92B8-4E25-8DF1-91FF8159CC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990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PAR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PNO |  P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----+------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1  |  Screw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2  |  N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  |  Bol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4  |  C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3434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w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(2,Nu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PART represents a part with part number 2,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 name Nut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E6B-1BAE-445C-8519-4ED3AD3EE25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upplier-Parts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829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ELL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NO | PNO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| PR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-----+-----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+------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1  |  1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1  |  2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 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2  |  4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3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  |  1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3  |  3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4  |  2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4  |  3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4  |  4</a:t>
            </a:r>
            <a:r>
              <a:rPr b="1" lang="en-CA" sz="2800" spc="-1" strike="noStrike">
                <a:solidFill>
                  <a:srgbClr val="008000"/>
                </a:solidFill>
                <a:latin typeface="Courier New"/>
              </a:rPr>
              <a:t>  |   4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685880"/>
            <a:ext cx="4000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w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(1,2</a:t>
            </a:r>
            <a:r>
              <a:rPr b="0" lang="en-CA" sz="2800" spc="-1" strike="noStrike">
                <a:solidFill>
                  <a:srgbClr val="008000"/>
                </a:solidFill>
                <a:latin typeface="Courier New"/>
              </a:rPr>
              <a:t>,8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SELLS represents 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the relationship of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   supplier 1 (Smith)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      selling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   part 2 (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for 10 c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0ED-7A78-423E-9985-E75B8D6E5B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tructured Query Languag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080" y="971640"/>
            <a:ext cx="875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uctured Query Language (SQ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on a RDBMS to create, search and modify tabl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ble creation (by example): Executing the following causes the creation of the Suppliers and Parts database abov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CREATE TABLE 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(CNO INTEGER PRIMARY KEY, CNAME VARCHAR(20)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CREATE TABLE SUPPL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(SNO INTEGER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PRIMARY KEY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NAME VARCHAR(20),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C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NO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INTEGER REFERENCES CITY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CREATE TABLE P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(PNO INTEGER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PRIMARY KEY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,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PNAME VARCHAR(20)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CREATE TABLE S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(SNO INTEGER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REFERENCES SUPPLIER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PNO INTEGER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REFERENCES PAR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PRICE DECIMAL(4,2)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CA" sz="2000" spc="-1" strike="noStrike">
                <a:solidFill>
                  <a:srgbClr val="008000"/>
                </a:solidFill>
                <a:latin typeface="Courier New"/>
              </a:rPr>
              <a:t>PRIMARY KEY (SNO, PNO)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965-2436-4637-8917-09E3EAA790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QL Datatyp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QL Data types your database may suppor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igned fullword binary integ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ECIMAL (p[,q]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igned packed decimal number of up to p digits, with q digits to the right of the decimal point. If q is omitted it is assumed to be 0. MSAccess supports NUMBER instead of DECIM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igned doubleword floating point numb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HAR(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ixed length character string of length 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ARCHAR(n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varying length character string of maximum length 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A date attribute in a DBMS-specific forma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879-AB6C-4BBC-95C6-CE6A74AAA5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UL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L allows the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alue to appear in tuples (table rows).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dicates a non-initialized attribute in a row. This can be disallowed by adding a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OT NU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raint in table cre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CREATE TABLE SUPPLIER (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NO INTEGER</a:t>
            </a: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 PRIMARY KEY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NAME VARCHAR(20) NOT NULL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CNO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INTEGER REFERENCES CITY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dding a row to the SUPPLIER table, an SNAME must be specifi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971-1FD2-439B-872A-4E838A5634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Why Use an RDBM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Data Safe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data is immune to program crash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oncurrent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atomic updates via trans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replicated dbs for instant failover on machine/disk crash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aids to keep data meaningfu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an handle small/large quantities of data in a uniform man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easy to write SQL programs to generate arbitrary repo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B1B-74A0-4E7E-8F45-C24DEB5B3F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KEY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Primary Key for a 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Must be non-nu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Must be un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Will be indexed for fast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Foreign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Must refer to an entry in the other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Both are op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F9A-B2D0-45A1-887F-358097FE10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6120" y="1082520"/>
            <a:ext cx="883944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ult of a SQL search is a tab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Query1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PAR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Query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ELL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HERE PRICE &gt; 1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CC8-DAF6-4A14-A791-87D2BA106E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7640" y="1044720"/>
            <a:ext cx="77724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Query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N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PRICE FROM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ELL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HERE PRICE &gt; 1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Query4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P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PRICE FROM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ELL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HERE PN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AND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CE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493-6D85-4D3A-AA33-1EA00B6181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7360" y="11966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tesian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* FROM SUPPLIER, PAR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ove example forms the table SUPPLIER x PART with rows of the form (s,p) where s is a row in SUPPLIER, p is a row in PAR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otal SUPPLIER x PART has a total of 4*4 row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412-8F4F-45C7-9C54-3823CA36B0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280" y="1143000"/>
            <a:ext cx="847116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ching up rows in tables based on the same value for column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supplier, we want 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the name of their c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(Query 7.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NAME, CN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OM SUPPL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(Query7.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OM SUPPLIER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,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C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(Query7.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.SNAME, C.C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OM SUPPLIER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,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ERE S.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 =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941-B3F6-4F1B-A6BD-846E9014D1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London Supplier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9760" y="1285920"/>
            <a:ext cx="85438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</a:t>
            </a:r>
            <a:r>
              <a:rPr b="0" lang="en-CA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NAME AS LondonSuppli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OM SUPPLIER,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UPPLIE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O =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CNAME = 'London'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0B3-FDF8-48C6-B65A-54FCD1839A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Who Sells Wh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9760" y="1285920"/>
            <a:ext cx="83595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</a:t>
            </a:r>
            <a:r>
              <a:rPr b="0" lang="en-CA" sz="2400" spc="-1" strike="noStrike">
                <a:solidFill>
                  <a:srgbClr val="ff3300"/>
                </a:solidFill>
                <a:latin typeface="Comic Sans MS"/>
              </a:rPr>
              <a:t>9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NAME, PNAME, PR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ROM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ELLS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PPLIER,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ELL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O =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UPPLIER.S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SELLS.PNO = PART.P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ourier New"/>
              </a:rPr>
              <a:t>ORDER BY SNAME, PNAM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B11-626D-4B31-B086-59FDE07ED6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38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Cheapest Parts Suppliers</a:t>
            </a:r>
            <a:br>
              <a:rPr sz="4400"/>
            </a:b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(Subqueries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9760" y="1904760"/>
            <a:ext cx="85438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(Query</a:t>
            </a:r>
            <a:r>
              <a:rPr b="0" lang="en-CA" sz="1600" spc="-1" strike="noStrike">
                <a:solidFill>
                  <a:srgbClr val="ff3300"/>
                </a:solidFill>
                <a:latin typeface="Comic Sans MS"/>
              </a:rPr>
              <a:t>10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, S.SNAME, SE1.PR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OM SELLS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1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UPPLIER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, PART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.SNO = SE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SNO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.PNO = SE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PNO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SE1.PRICE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(SELECT MIN(SE2.PRICE) FROM SELLS AS SE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WHERE SE2.PNO = SE1.PN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ORDER B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P.PNA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66B-7C84-4508-8174-DE13E4ADD6E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7360" y="1130400"/>
            <a:ext cx="777240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f-Joins: Suppliers selling the same p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11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LECT * FROM SELLS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1, SELLS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2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ove example forms the table SELLS x SELLS with rows of the form (s,p) where s and p are rows in SELL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table has 8*8 = 64 row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ce that we have aliased (SELLS AS SE1) the tables so we can identify where attributes are from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076-455D-4F5F-8EC3-F093B3E70A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8720" y="1041120"/>
            <a:ext cx="82422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pliers selling the same p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11-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1.PNO, SE1.SNO, SE2.S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LLS AS SE1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LLS AS SE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1.PNO = SE2.PNO 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SE1.SNO &lt; SE2.SNO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218-6395-46A7-ACF1-998CC9EBE2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lational Mode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 published by E.F. Codd in 197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lational database consists of a collection of tabl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able consists of rows and colum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w represents a recor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olumn represents an attribute of the records contained in the tabl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EC8-F81F-48D7-8DE3-3B18737D10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arching Using SQ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88720" y="1041120"/>
            <a:ext cx="82422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tty-print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Query11-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PNAME, S1.SNAME, S2.S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ELLS AS SE1, SELLS AS SE2, PAR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UPPLIER AS S1, SUPPLIER AS S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E1.PNO = SE2.PNO AND SE1.SNO &lt; SE2.S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AND SE1.PNO = PART.PNO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SE1.SNO = S1.SNO AND SE2.SNO = S2.S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mic Sans MS"/>
              </a:rPr>
              <a:t>ORDER BY PNA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428-0BC2-4152-ADE4-4C62D9D260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ata Manipul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dd a row to SUPPLI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ERT INTO SUPPLIER VALUES (1, 'Smith',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Update rows in a t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PDATE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ELLS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ET PRICE = 15 WHERE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NO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1 AND PNO = 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lete rows from a t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 FROM SUPPLIER WHERE SNAME = 'Smith'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599-F900-4A0C-B6DE-34D6B6AEA52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Referential Integr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Delete from SUPPLIER but SELLS contains records referring to the deleted suppl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ase 1: NO A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delete proceeds, data loses integ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ase 2: CASC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delete also deletes all referring records from S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ase 3: SET NU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foreign key set to null (if allow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Case 4: SET DEFA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foreign key set to its default value (as specified in the CREATE TABLE stat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(Same options when an update occu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6CF-522D-49C6-9E6A-D1F34B736D2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Referential Integr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8762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SELLS(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GE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NOT NU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REFERENCES SUPPL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ON UPDATE CASC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ON DELETE CASCADE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P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NOT NU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REFERENCES P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ON UPDATE CASC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ON DELETE CASCADE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5EE-E277-4464-A5C8-7BD35D600B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reating Indi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Index: a data structure that assists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quickly finding specific rows based on the value of a field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traversing rows in a table on filed-sorted sorted or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May DB products will automatically create indices on PRIMARY KEY and UNIQUE colum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an ensure and/or create indices on other columns (or column combinations) as w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CA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CREATE INDEX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 price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Index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 ON 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SELLS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(</a:t>
            </a:r>
            <a:r>
              <a:rPr b="1" lang="en-CA" sz="3200" spc="-1" strike="noStrike">
                <a:solidFill>
                  <a:srgbClr val="3333cc"/>
                </a:solidFill>
                <a:latin typeface="Courier New"/>
              </a:rPr>
              <a:t>PRICE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Never need an index. For performance reasons on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Query optimizer will attempt to make use of indices to optimize the implementation of a given que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927-A406-4907-95C0-F593AB56EB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Normal Form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 database schema with no duplicated information is in </a:t>
            </a:r>
            <a:r>
              <a:rPr b="0" i="1" lang="en-CA" sz="2800" spc="-1" strike="noStrike">
                <a:solidFill>
                  <a:srgbClr val="000000"/>
                </a:solidFill>
                <a:latin typeface="Comic Sans MS"/>
              </a:rPr>
              <a:t>normal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Good to maintain data integ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Bad for queries/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lows them d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makes them more difficult to wr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F6F-1E9E-4CEB-A817-BEF5BD19C6C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De-Normaliz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9240" y="990360"/>
            <a:ext cx="433368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LIER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(normalized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O |  SNAME  |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+---------+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|  Smith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|  Jone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|  Adam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|  Blake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4105440" y="3178080"/>
            <a:ext cx="503856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LIER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(de-normalized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O |  SNAME  |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+---------+-----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|  Smith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Lo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|  Jone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|  Adam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Lod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|  Blake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DD0-A709-4777-82EF-BF0C1C709C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De-Normalized Quer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790640" y="981000"/>
            <a:ext cx="50389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LIER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(de-normalized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O |  SNAME  |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+---------+-----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|  Smith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Lo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|  Jone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|  Adam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Lod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|  Blake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0120" y="3819240"/>
            <a:ext cx="77724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SELECT SNAME FROM SUPPLIER WHERE CITY = 'London'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5572080" y="4680000"/>
            <a:ext cx="193356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988-9530-4495-831B-B5E6A088C2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Normalized Quer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0120" y="3819600"/>
            <a:ext cx="461016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ELECT S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FROM SUPPLIER, 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UPPLIER.CNO = CITY.C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CITY = 'London'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448320" y="4035600"/>
            <a:ext cx="193356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Ad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7560" y="990720"/>
            <a:ext cx="43336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LIER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400" spc="-1" strike="noStrike">
                <a:solidFill>
                  <a:srgbClr val="3333cc"/>
                </a:solidFill>
                <a:latin typeface="Courier New"/>
              </a:rPr>
              <a:t>(normalized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NO |  SNAME  |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---+---------+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|  Smith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 |  Jone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 |  Adams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  |  Blake  | </a:t>
            </a:r>
            <a:r>
              <a:rPr b="1" lang="en-CA" sz="24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561-6C07-4C75-8AC1-86A3A1E337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tc...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lational database is a powerful tool. We have not covered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action process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urrent acc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e queri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d procedures (PL/SQL, embedded Java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grity constraints 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 and Trig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ult tolera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ine backu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base distribu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c..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have just scratched the surfa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80B-7D97-4019-8BA9-EC71B2A310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RDBMS Technolog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Client/Server Data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Oracle, Sybase, MySQL, SQL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Personal Data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Embedded Data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oint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2B2-027A-4C57-A88D-1A59DE33C1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48680" y="3809880"/>
            <a:ext cx="8165880" cy="1828800"/>
            <a:chOff x="148680" y="3809880"/>
            <a:chExt cx="8165880" cy="1828800"/>
          </a:xfrm>
        </p:grpSpPr>
        <p:sp>
          <p:nvSpPr>
            <p:cNvPr id="50" name=""/>
            <p:cNvSpPr/>
            <p:nvPr/>
          </p:nvSpPr>
          <p:spPr>
            <a:xfrm>
              <a:off x="2209680" y="3809880"/>
              <a:ext cx="4191120" cy="1828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62720" y="495288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495288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57600" y="495288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4952880"/>
              <a:ext cx="685800" cy="53352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4114800"/>
              <a:ext cx="609480" cy="5335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10760" y="3809880"/>
              <a:ext cx="182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400" spc="-1" strike="noStrike">
                  <a:solidFill>
                    <a:srgbClr val="3333cc"/>
                  </a:solidFill>
                  <a:latin typeface="Arial"/>
                </a:rPr>
                <a:t>Serv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8680" y="4800600"/>
              <a:ext cx="18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server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905120" y="4419360"/>
              <a:ext cx="2209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971440" y="4572000"/>
              <a:ext cx="12193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962520" y="4648320"/>
              <a:ext cx="380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4648320"/>
              <a:ext cx="3812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4572000"/>
              <a:ext cx="12952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lg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41480" y="443880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disk 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334120" y="464796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Client/Server Databas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43000" y="1600200"/>
            <a:ext cx="7798680" cy="2895480"/>
            <a:chOff x="1143000" y="1600200"/>
            <a:chExt cx="7798680" cy="2895480"/>
          </a:xfrm>
        </p:grpSpPr>
        <p:grpSp>
          <p:nvGrpSpPr>
            <p:cNvPr id="67" name=""/>
            <p:cNvGrpSpPr/>
            <p:nvPr/>
          </p:nvGrpSpPr>
          <p:grpSpPr>
            <a:xfrm>
              <a:off x="1143000" y="1600200"/>
              <a:ext cx="1981080" cy="1371600"/>
              <a:chOff x="1143000" y="1600200"/>
              <a:chExt cx="1981080" cy="1371600"/>
            </a:xfrm>
          </p:grpSpPr>
          <p:sp>
            <p:nvSpPr>
              <p:cNvPr id="68" name=""/>
              <p:cNvSpPr/>
              <p:nvPr/>
            </p:nvSpPr>
            <p:spPr>
              <a:xfrm>
                <a:off x="1143000" y="1600200"/>
                <a:ext cx="1981080" cy="1371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05120" y="2209680"/>
                <a:ext cx="609480" cy="5335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3000" y="16002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3600" spc="-1" strike="noStrike">
                    <a:solidFill>
                      <a:srgbClr val="3333cc"/>
                    </a:solidFill>
                    <a:latin typeface="Arial"/>
                  </a:rPr>
                  <a:t>clien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038480" y="1600200"/>
              <a:ext cx="1981440" cy="1371600"/>
              <a:chOff x="4038480" y="1600200"/>
              <a:chExt cx="1981440" cy="1371600"/>
            </a:xfrm>
          </p:grpSpPr>
          <p:sp>
            <p:nvSpPr>
              <p:cNvPr id="72" name=""/>
              <p:cNvSpPr/>
              <p:nvPr/>
            </p:nvSpPr>
            <p:spPr>
              <a:xfrm>
                <a:off x="4038480" y="1600200"/>
                <a:ext cx="1981440" cy="1371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67080" y="2209680"/>
                <a:ext cx="609840" cy="5335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038480" y="160020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3600" spc="-1" strike="noStrike">
                    <a:solidFill>
                      <a:srgbClr val="3333cc"/>
                    </a:solidFill>
                    <a:latin typeface="Arial"/>
                  </a:rPr>
                  <a:t>clien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105520" y="2209680"/>
                <a:ext cx="609480" cy="5335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638680" y="3962520"/>
              <a:ext cx="60984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32160" y="32767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client proce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48520" y="3505320"/>
              <a:ext cx="7617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5638680" y="26665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20320" y="2668680"/>
            <a:ext cx="5418360" cy="1751040"/>
            <a:chOff x="220320" y="2668680"/>
            <a:chExt cx="5418360" cy="1751040"/>
          </a:xfrm>
        </p:grpSpPr>
        <p:sp>
          <p:nvSpPr>
            <p:cNvPr id="81" name=""/>
            <p:cNvSpPr/>
            <p:nvPr/>
          </p:nvSpPr>
          <p:spPr>
            <a:xfrm>
              <a:off x="2357280" y="2668680"/>
              <a:ext cx="190188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419360" y="2743200"/>
              <a:ext cx="152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572000" y="2743200"/>
              <a:ext cx="8380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724280" y="4267080"/>
              <a:ext cx="914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0320" y="3413160"/>
              <a:ext cx="22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3333cc"/>
                  </a:solidFill>
                  <a:latin typeface="Arial"/>
                </a:rPr>
                <a:t>tcp/ip conne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362320" y="32767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F1A-9669-409A-AD91-1ECD76CD10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1447920"/>
            <a:ext cx="4343400" cy="3800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05740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8000"/>
                </a:solidFill>
                <a:latin typeface="Arial"/>
              </a:rPr>
              <a:t>client ap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8000"/>
                </a:solidFill>
                <a:latin typeface="Arial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Inside the Client Proce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191120" y="3581280"/>
            <a:ext cx="4190760" cy="2133720"/>
            <a:chOff x="4191120" y="3581280"/>
            <a:chExt cx="4190760" cy="2133720"/>
          </a:xfrm>
        </p:grpSpPr>
        <p:sp>
          <p:nvSpPr>
            <p:cNvPr id="91" name=""/>
            <p:cNvSpPr/>
            <p:nvPr/>
          </p:nvSpPr>
          <p:spPr>
            <a:xfrm>
              <a:off x="4191120" y="4952880"/>
              <a:ext cx="28954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15000" y="3581280"/>
              <a:ext cx="26668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8000"/>
                  </a:solidFill>
                  <a:latin typeface="Arial"/>
                </a:rPr>
                <a:t>tcp/ip connection to serv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66680" y="2057400"/>
            <a:ext cx="5859360" cy="2913120"/>
            <a:chOff x="1066680" y="2057400"/>
            <a:chExt cx="5859360" cy="2913120"/>
          </a:xfrm>
        </p:grpSpPr>
        <p:grpSp>
          <p:nvGrpSpPr>
            <p:cNvPr id="94" name=""/>
            <p:cNvGrpSpPr/>
            <p:nvPr/>
          </p:nvGrpSpPr>
          <p:grpSpPr>
            <a:xfrm>
              <a:off x="1066680" y="4191120"/>
              <a:ext cx="3886200" cy="779400"/>
              <a:chOff x="1066680" y="4191120"/>
              <a:chExt cx="3886200" cy="779400"/>
            </a:xfrm>
          </p:grpSpPr>
          <p:sp>
            <p:nvSpPr>
              <p:cNvPr id="95" name=""/>
              <p:cNvSpPr/>
              <p:nvPr/>
            </p:nvSpPr>
            <p:spPr>
              <a:xfrm>
                <a:off x="1066680" y="4191120"/>
                <a:ext cx="388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08000" y="4267080"/>
                <a:ext cx="2268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4000" spc="-1" strike="noStrike">
                    <a:solidFill>
                      <a:srgbClr val="008000"/>
                    </a:solidFill>
                    <a:latin typeface="Arial"/>
                  </a:rPr>
                  <a:t>db library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173640" y="2057400"/>
              <a:ext cx="75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3333cc"/>
                  </a:solidFill>
                  <a:latin typeface="Arial"/>
                </a:rPr>
                <a:t>A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95680" y="2362320"/>
              <a:ext cx="16765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B42-6E37-4A67-A70E-A3E8D361D3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Pointbas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447920"/>
            <a:ext cx="4343400" cy="3800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76520" y="5257800"/>
            <a:ext cx="5943600" cy="914400"/>
            <a:chOff x="1676520" y="5257800"/>
            <a:chExt cx="5943600" cy="914400"/>
          </a:xfrm>
        </p:grpSpPr>
        <p:sp>
          <p:nvSpPr>
            <p:cNvPr id="102" name=""/>
            <p:cNvSpPr/>
            <p:nvPr/>
          </p:nvSpPr>
          <p:spPr>
            <a:xfrm>
              <a:off x="4343400" y="52578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008000"/>
                  </a:solidFill>
                  <a:latin typeface="Arial"/>
                </a:rPr>
                <a:t>local file 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5562720"/>
              <a:ext cx="2590560" cy="6094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5257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447920" y="205740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8000"/>
                </a:solidFill>
                <a:latin typeface="Arial"/>
              </a:rPr>
              <a:t>client ap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8000"/>
                </a:solidFill>
                <a:latin typeface="Arial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66680" y="2057400"/>
            <a:ext cx="5859360" cy="2887920"/>
            <a:chOff x="1066680" y="2057400"/>
            <a:chExt cx="5859360" cy="2887920"/>
          </a:xfrm>
        </p:grpSpPr>
        <p:grpSp>
          <p:nvGrpSpPr>
            <p:cNvPr id="107" name=""/>
            <p:cNvGrpSpPr/>
            <p:nvPr/>
          </p:nvGrpSpPr>
          <p:grpSpPr>
            <a:xfrm>
              <a:off x="1066680" y="4191120"/>
              <a:ext cx="3886200" cy="754200"/>
              <a:chOff x="1066680" y="4191120"/>
              <a:chExt cx="3886200" cy="754200"/>
            </a:xfrm>
          </p:grpSpPr>
          <p:sp>
            <p:nvSpPr>
              <p:cNvPr id="108" name=""/>
              <p:cNvSpPr/>
              <p:nvPr/>
            </p:nvSpPr>
            <p:spPr>
              <a:xfrm>
                <a:off x="1066680" y="4191120"/>
                <a:ext cx="388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24040" y="4363920"/>
                <a:ext cx="2617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3200" spc="-1" strike="noStrike">
                    <a:solidFill>
                      <a:srgbClr val="008000"/>
                    </a:solidFill>
                    <a:latin typeface="Arial"/>
                  </a:rPr>
                  <a:t>Pointbase lib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6173640" y="2057400"/>
              <a:ext cx="75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3333cc"/>
                  </a:solidFill>
                  <a:latin typeface="Arial"/>
                </a:rPr>
                <a:t>A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495680" y="2362320"/>
              <a:ext cx="16765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077-B5DD-441F-A400-1656C083C8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Microsoft Acce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447920"/>
            <a:ext cx="4343400" cy="3800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5680" y="243828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8000"/>
                </a:solidFill>
                <a:latin typeface="Arial"/>
              </a:rPr>
              <a:t>Access a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733920"/>
            <a:ext cx="266688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Arial"/>
              </a:rPr>
              <a:t>Microsoft 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Arial"/>
              </a:rPr>
              <a:t>SQL D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76520" y="4876920"/>
            <a:ext cx="5943600" cy="1295280"/>
            <a:chOff x="1676520" y="4876920"/>
            <a:chExt cx="5943600" cy="1295280"/>
          </a:xfrm>
        </p:grpSpPr>
        <p:sp>
          <p:nvSpPr>
            <p:cNvPr id="117" name=""/>
            <p:cNvSpPr/>
            <p:nvPr/>
          </p:nvSpPr>
          <p:spPr>
            <a:xfrm>
              <a:off x="4343400" y="525780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008000"/>
                  </a:solidFill>
                  <a:latin typeface="Arial"/>
                </a:rPr>
                <a:t>local file 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520" y="5562720"/>
              <a:ext cx="2590560" cy="6094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5480" y="4876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133-4543-491B-BF64-A467B6FE0E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APIs to RDBM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ll are very simi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A collection of routines designed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roduce and send to the db engine an SQL sta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n original SQL stat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QL that invokes a "stored procedure"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re-fab, parameterized SQ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get row/column oriented results back if applic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all ASC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parsing/compiling/enco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LOW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489-EBD9-4C6F-827E-6730BDE85D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1 - RDB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2:10:20Z</dcterms:created>
  <dc:creator>arnold rosenbloom</dc:creator>
  <dc:description/>
  <dc:language>en-US</dc:language>
  <cp:lastModifiedBy>David A. Penny</cp:lastModifiedBy>
  <dcterms:modified xsi:type="dcterms:W3CDTF">2001-11-21T16:22:31Z</dcterms:modified>
  <cp:revision>27</cp:revision>
  <dc:subject/>
  <dc:title>CSC309 - 51- RDBMS</dc:title>
</cp:coreProperties>
</file>