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278-D1D2-479F-A08B-F0033BA0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AFC-07D4-4496-A268-738FAC30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C37-15CF-4CF3-9987-5B3B840F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EE9-B06F-494E-BF57-589F40F3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39A-8C5A-4491-B65F-872EC26B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AB3-93AE-43A1-9338-FDD1F71F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2AA-C60F-48EB-9DAC-1076DAA7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225-CA97-4030-B99B-9B594D02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8FE-EFD2-4E60-A456-A000AB47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0F1-3920-409B-8436-BDD7265B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976-C360-4CB5-BE49-F748C8A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306-D179-4FEF-B215-4B70FFB3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B895-CDAB-4DE3-978C-75F81325B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ServletContext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Response.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27.0.0.1:8080/csc309/servlet/HelloWorld" TargetMode="External"/><Relationship Id="rId2" Type="http://schemas.openxmlformats.org/officeDocument/2006/relationships/hyperlink" Target="file:///examples/servlet/HelloWorld.java" TargetMode="External"/><Relationship Id="rId3" Type="http://schemas.openxmlformats.org/officeDocument/2006/relationships/hyperlink" Target="http://127.0.0.1:8080/csc309/servlet/Hello1" TargetMode="External"/><Relationship Id="rId4" Type="http://schemas.openxmlformats.org/officeDocument/2006/relationships/hyperlink" Target="file:///examples/servlet/Hello1.java" TargetMode="External"/><Relationship Id="rId5" Type="http://schemas.openxmlformats.org/officeDocument/2006/relationships/hyperlink" Target="http://127.0.0.1:8080/csc309/servlet/Hello2" TargetMode="External"/><Relationship Id="rId6" Type="http://schemas.openxmlformats.org/officeDocument/2006/relationships/hyperlink" Target="file:///examples/servlet/Hello2.java" TargetMode="External"/><Relationship Id="rId7" Type="http://schemas.openxmlformats.org/officeDocument/2006/relationships/hyperlink" Target="http://127.0.0.1:8080/csc309/servlet/ImageFileServlet?filename=C:%5Capache%5CTomcat4%5Cwebapps%5Ccsc309%5CWEB-INF%5Cclasses%5Cgrizzlypenny.jpg" TargetMode="External"/><Relationship Id="rId8" Type="http://schemas.openxmlformats.org/officeDocument/2006/relationships/hyperlink" Target="file:///examples/servlet/ImageFileServlet.java" TargetMode="External"/><Relationship Id="rId9" Type="http://schemas.openxmlformats.org/officeDocument/2006/relationships/hyperlink" Target="file:///examples/servlet/ImageFileServlet.java" TargetMode="External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Request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127.0.0.1:8080/csc309/servlet/CGILibExample" TargetMode="External"/><Relationship Id="rId2" Type="http://schemas.openxmlformats.org/officeDocument/2006/relationships/hyperlink" Target="file:///examples/servlet/CGILibExample.java" TargetMode="External"/><Relationship Id="rId3" Type="http://schemas.openxmlformats.org/officeDocument/2006/relationships/hyperlink" Target="file:///examples/servlet/CGILibExample.jav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ssion.htm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127.0.0.1:8080/csc309/servlet/SessionExample" TargetMode="External"/><Relationship Id="rId2" Type="http://schemas.openxmlformats.org/officeDocument/2006/relationships/hyperlink" Target="file:///examples/servlet/SessionExample.java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ervletApi/javax/servlet/http/HttpServle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ic Java2EE API for invoking and connecting to “mini-servers” (lightweight, short-lived, server-side interaction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ly HTTPServ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te HTTP responses (as for CG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bedded via &lt;servlet&gt; tag into HTML pages for server-side inclu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let code snippets can be embedded directly into HTML pages: JSP = Java Server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etitor: Microsoft ASP = Active Server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355-F72A-4232-AE63-A66F30B330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ServletContex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face defines a servlet’s view of the web application within which the servlet is running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ainer Provider is responsible for providing an implementation of the ServletContext interface in the servlet contain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letContext is rooted at a known path in webserv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ServletContext object, a servlet ca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 ev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URL references to resour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attributes that other servlets in the context can acces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60C-DA49-4942-8368-1699610743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ervlets associated with this lecture are part of one application, th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csc309 servlet contex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ences to servlets within that application a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a the U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http://127.0.0.1:8080/csc309/servl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C76-2AA3-437F-B2C0-44684E8E1E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omcat Configur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14300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Tom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6765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b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sc3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590920"/>
            <a:ext cx="1295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65760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128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de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167652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ver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80988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B-I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029200"/>
            <a:ext cx="1295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80060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5867280"/>
            <a:ext cx="213336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lloWorld.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52320" y="17524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7524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43000" y="2209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20968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2767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2767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495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3352680"/>
            <a:ext cx="12956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eb.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715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0F8-A818-4E00-A22C-B62D16740C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Continu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instance of ServletContext per web application per contai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access to Initialization Parame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in the deployment descript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ile called web.xml in the WEB-INF subdirectory of the app direc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InitParameter(), getInitParameterNames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1B4-1691-4AC6-91A2-DC188CD777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Attribut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xt Attribut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xt level shared objects. Can be bound into the context and accessed by any servlet that is part of the applic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etAttribute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Attribute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AttributeName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removeAttributes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than 1 thread may be accessing a shared objec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developer responsible for synchronizing access to shared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43C-EF7E-4A73-9F4D-AD2CD622BD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Context 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s servlet access to local documents associated with the application. (i.e. static web pages, image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Resource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ResourceAsStream(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ResourcePath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DAF-032C-46BB-9BFB-EFFA7C0FDD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rvletRespon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Respon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all information to be returned from the server to the cli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HTTP protocol, this information is transmitted from the server to the client either by HTTP headers or the message body of the reque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ead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an set/manipulate http head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rimitive manipul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etHeader(), addHeader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onvenience metho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etContentType(), sendRedirect(), sendErro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Writer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 a PrintWriter, used to return character data to the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091-E9BA-46A0-A59E-B1460FF9A7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interactive web p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ello Worl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der the URL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http://127.0.0.1:8080/csc309/servlet/HelloWorl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elloWorld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 between many pages (note the different kinds of hrefs)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Hello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ello1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ello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Hello2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ing different content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ImageFileServ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ImageFileServl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this different from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ag? The servlet can create the image on the f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545-14D9-4803-9FBB-0CC6F99429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rvletReques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Requ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s all information from the client requ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HTTP protocol, this information is transmitted from the client to the server in the HTTP headers and the message body of the reque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ipulate 'form' variables: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Parameter(), getParameterNames(), getParameterValues(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Cookies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all cookies associated with the requ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Session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the Session instance associated with the request (see below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A1C-C9B3-4E72-9929-B7925A9EF9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Forms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Using forms and form vari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rvl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CGILib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CGILibExample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override bo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oGet(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doPost(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s since the original CGILibExample used both the post and get methods at the same time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C8D-55C4-46F1-B641-9AEF4C237D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eb browsers ie IE, Netsca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pache, Netscape Enterprise, I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GI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pecifying what a request/response looks lik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 contain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Running JVM, hooked into the web server, loads and maintains servlets, session info, object sto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 Java class used to handle a specific requ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23C-C474-438C-9C6B-510873ED6C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en to GET/POS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form parameters are embedded in th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reload, or bookmark and return, the query will get executed a second time with the same 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d if page is a credit card order confirm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charg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orm parameters are embeddd in th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relo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will ask if it should re-p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bookmark and retur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y will proceed with no 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: POST to change state, GET to get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330-604D-4518-A9F8-391B5E1575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ss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Hypertext Transfer Protocol (HTTP) is by design a stateless protocol. To build effective web applications, requests from a particular client must be associated with each other. Many strategies for session tracking have evolved over time, but all are difficult or troublesome for the programmer to use directl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rvlet API specification defines a simple HttpSession interface that allows a servlet container to use any of several approaches to track a user’s session without involving the Application Developer in the nuances of any one approac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FC1-133D-4E32-A74B-83D8FE61B25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ssion Tracking Mechanis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ssion tok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assed back and forth between the client and servlet container. The token allows the container to associate a session with a particular sess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 container adap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whether the client (browser) is accepting cook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ok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f the client accepts cookies, sessions will identified by a token stored on the browser as a cook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URL Rewri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f the client is not accepting cookies, session token is communicated via the URL. Use the HttpServletResponse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encodeURL(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hod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EC7-9F99-465C-9D18-A560F72AA2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ss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s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instance for each active ses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HttpSession session = request.getSession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session=current session or new one, if none ex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Object o = session.getAttribute("name"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o=the object associated with "name" in this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session.setAttribute("name",o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o is now the object associated with "name" for this sess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NOTE: More than one thread may try to access a resour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The application author is responsible for synchroniz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// access to session resourc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D1B-15DD-4ED9-A93A-D6D88FC14F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ssion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e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erv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Session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SessionExample.ja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the above with cookies off and on, notice the URL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ut down and restart your browser between accepting and rejecting cook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0DA-8E19-4CAD-BE73-CC6C5AC640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Summar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Appl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lection of servl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letCon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object per web appl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Parameters (from deployment description “web.xml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tributes (name-object pairs associated with the web applica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S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ociated with one user’s inte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licit create/delete + timeout capabi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 attributes (name-object pairs associated with the app/session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plemented with cookies or URL re-wri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Servlet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meters from GET or P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ABD-1DE5-4288-B0DA-7A6AADC855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S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Server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localhost:8080/csc309/jsp/hello.jsp?name=dave (sour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(done by a servlet in Tomca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a .java source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not &lt;% line change into out.println() c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&lt;% from 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e as a serv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62-434C-49E6-88A2-FACDE30859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vanced JS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ly no different than a serv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ess other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localhost:8080/examples/jsp/num/numguess.js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:\apache\Tomcat4\webapps\examples\jsp\num\numguess.j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:\apache\Tomcat4\webapps\examples\WEB-INF\classes\num\NumberGuessBean.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3A1-A811-4ACC-BEEC-A21042DBCB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ag Lib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ction of defined XML tags that take actions when the server encounters th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ed by Java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jsp tagli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add your own tagli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A40-84BE-47DB-A1F6-AB329CA5F5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soft-specific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e Server P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imilar to J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VisualBasic instead of Ja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cess a vast array of COM and DCOM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grocerygateway.com (Nov.23 guest l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P pages invoke XSLT via COM to gen. HTML output appropriate to the requesting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P sends COM messages to C++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6CB-6772-48D2-B095-22C36B904E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Interac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4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makes a request by specifying a URL+additional info. Basically a method call, the method and argumen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eb server (specified in the URL) receives the reque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eb server identifies the request as a servlet requ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eb server passes the request to the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ontainer locates the specified servlet (Java code, loaded and running in the container JVM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ontainer feeds the request parameters to the servlet (through HttpServletRequest, HttpServletResponse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executes in a separate thr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an store/retrieve objects (possibly session scoped) from the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put of the servlet is sent via a PrintWriter back to the requesting web brows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ervlet continues to be available in the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AFC-1398-4EA5-A2F9-F6A53076FB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s vs CG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lets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generally much faster than CGI scripts because a different process model is used. (but see FastCG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 model allows resource sharing (ie database connection sharing). Container is always availabl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a standard API that is supported by many web serv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ll the advantages of the Java programming language, including ease of development and platform independenc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ccess the large set of APIs available for the Java platfor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ccess to CGI support through the Servlet AP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session awareness, ability to store and retrieve session scoped objects from servlet contain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0A9-37EF-4D06-9A9F-6388542A8D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Process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let, CGI and Fast-CGI process mode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4FB-326D-470D-8C12-58BD691DA7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API (javax.Servle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let Contai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let Interface (HttpServl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letConte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ServletRespo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ServletRequ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1D-B4D2-4BCE-9804-3AABD294AA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Containe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art of a web server or application server tha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the network services over which requests and responses are s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odes reques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s MIME based respon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and manages servlets through their lifecyc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DCA-B6CA-4F79-9334-D0E9803EE9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rvlet Interfac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central abstraction of the servlet AP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servlets either implement this interface, or extend a class that implements this interfa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cServlet and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wo classes in the servlet API that implement the Servlet interfa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042-C1BE-47D0-A489-B2B58552A7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Servl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HttpServle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developers extend HttpServlet to implement their servle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often override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doGe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doPos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code to handle htt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POS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ests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CEA-AAA7-47C9-8E60-8A3716D725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0 - Servle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1-16T20:05:12Z</dcterms:modified>
  <cp:revision>22</cp:revision>
  <dc:subject/>
  <dc:title>CGI An Example </dc:title>
</cp:coreProperties>
</file>