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75C-4150-4EA2-B068-9BF1F324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0A6-DF9D-4FF5-8901-B9BD29D5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502-3774-4422-BCFE-15C6D151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E0C-565B-4B81-8DC1-01AE9308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38B-BA8F-4C49-AAB8-584F3111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A12-34E2-424D-90D2-42CE4404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77E-363B-4165-A1BA-C575F784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D3D-FDC7-496B-89FE-56899961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6E4-78F8-4961-8DB9-078DC280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309-E25B-445B-AC7D-098A24B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5C0-E9C8-44B5-9FF6-F11234A5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369-8E1F-444F-914A-4983EA4E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6CB9-E17F-4A3F-92CC-5C0892B6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TR/html4/struct/global.html#edef-H1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3480" y="1257120"/>
            <a:ext cx="84582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XHTML is an XML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set of tag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XML is case-sen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 elements and attributes in the xhtml namespace are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ower-cas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s from HTML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itive re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4.01 Specification 24 Dec.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66ff"/>
                </a:solidFill>
                <a:latin typeface="Times New Roman"/>
              </a:rPr>
              <a:t>http://www.w3.org/TR/html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ml 1.0 (2nd e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66ff"/>
                </a:solidFill>
                <a:latin typeface="Times New Roman"/>
              </a:rPr>
              <a:t>http://www.w3.org/TR/2000/REC-xml-20001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1.0: The Extensible HyperText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66ff"/>
                </a:solidFill>
                <a:latin typeface="Times New Roman"/>
              </a:rPr>
              <a:t>http://www.w3.org/TR/xhtm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2EE-E3D2-4EC6-ADD1-84C77A2B1A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Section Delimi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57120"/>
            <a:ext cx="8648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Courier New"/>
              </a:rPr>
              <a:t>&lt;DIV class="section" id="forest-elephants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&lt;H1&gt;Forest elephants&lt;/H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&lt;P&gt;In this section, we discuss the le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known forest eleph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  </a:t>
            </a:r>
            <a:r>
              <a:rPr b="1" i="1" lang="en-US" sz="2400" spc="-1" strike="noStrike">
                <a:solidFill>
                  <a:srgbClr val="800000"/>
                </a:solidFill>
                <a:latin typeface="Courier New"/>
                <a:ea typeface="Courier New"/>
              </a:rPr>
              <a:t>...this section contin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DIV class="subsection" id="forest-habitat"</a:t>
            </a:r>
            <a:r>
              <a:rPr b="1" lang="en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2&gt;Habitat&lt;/H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Forest elephants do not live i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 among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this subsection contin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Courier New"/>
              </a:rPr>
              <a:t>&lt;/DIV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321-5897-4493-9BB1-668C9E1216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White 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te-space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 space &amp;#x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 tab &amp;#x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 form-feed &amp;#x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code zero-width space &amp;#x200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e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riage return &amp;#x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e feed &amp;#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r any combination of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ithin an element, sequences of white space separate "word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yout </a:t>
            </a:r>
            <a:r>
              <a:rPr b="1" i="1" lang="en-CA" sz="24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involve inserting inter-word sp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ept for the &lt;pre&gt;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EB8-365A-46F6-BCF2-607AE30285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Phrase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rase elements add structural information to text fragmen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ras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8E1-4223-43F9-ACF5-F7B8BA804B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Quo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blockquote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a block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nts the entire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ught to add " signs, but doesn't because of historical use as simply an indented para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q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in-line qu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n'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F78-F653-4934-8266-9AFB9FB1EAD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Lines and Para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p&gt; starts a new, logical para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contain only inlin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block elements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br/&gt; forces a lin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lear attribute indicated where the next line should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 non-breaking space prohibits a lin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nbsp; &amp;#xA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ft hyphen encourages a line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shy; &amp;#x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985-4E01-476A-B07F-8FFDC25D7A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- mis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cripts and superscri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b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erts and dele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de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formatted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9101-93BB-4FC3-BFA5-A95A16E3B7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ordered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dered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inition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219-7595-486E-B2DE-84F849C442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792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tremely useful for controlling lay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nn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You can even use them for laying out tabl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tabl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ow and colum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apply the same style across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ackg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eader and footer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ling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imal-point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F6B-1D1C-4BE7-8A10-4CA6D815C3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 an "anchor"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tag a certain part of the document with an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anchor n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name="chapter1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iv id="chapter1"&gt; … 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then jump there using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fragment identifie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href="#chapter1"&gt;go to chapter 1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href="http://www.foo.com/book.html#chapter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B34-B8C1-4BB0-A000-2B2C5C739C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frames allow authors to present documents in multiple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independent windows or sub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views offer designers a way to keep certain information visible, while other views are scrolled or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9AE-CF35-4A8A-AD24-ED0969BC06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400" y="10537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lob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bject, Images, and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yle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ignment, font styles, and horizont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lti-view presentation of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r-input Forms: Text Fields, Buttons, Menus, and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imated Documents and Smart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607-CB3F-4BE0-B3C7-CAAD3BDE02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rames - Size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rows="50%, 50%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divides the space in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cols="1*,250,3*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middle frame has a width of 250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left gets 25% of remaining, right 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rows="30%,70%" cols="33%,34%,33%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creates a 2x3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&lt;FRAMESET rows="30%,400,*,2*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first takes 30%, next takes 400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0000"/>
                </a:solidFill>
                <a:latin typeface="Arial Unicode MS"/>
                <a:ea typeface="Courier New"/>
              </a:rPr>
              <a:t>second last takes 1/3 of remainder, last 2/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DE1-7D05-428A-BD96-74EF75D449C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rames - Linking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link can have a "targe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&lt;a target="_top" href="foo.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-defined and reserved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bl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self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_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frame name="top-frame" src="bar.html"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a target="top-fram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6A0-B1F2-46C5-BC2D-E19AEDBA13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object&gt; allows authors to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ages (or use &lt;img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ets (replaces deprecated &lt;applet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deo clips (no other standard way of doing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nd files (no other standard way of doing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HTML documents (or use &lt;iframe&gt;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object&gt; not yet fully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927-B61D-4957-96F8-69BADF178BC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head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 a &lt;title&gt;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d as window titles, in favourite lists, search engine result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oose a good, context-rich one - it's displayed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OOR: "Introducti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ETTER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Introduction to Medieval Bee-Keeping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co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met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lin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b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A0A-9970-4773-B95F-950B263F24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meta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owed meta-attributes/values may be specified via a "profile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n't get into that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name="Author" content="Dave Penn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http-equiv="Expires" content="Tue, 20 Aug 199 14:25:27 GM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name="keywords" lang="en" content="vacation, sunshin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meta name="keywords" lan="fr" content="vacances, solei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fforts underway to standardize document meta-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The Dublin Core Metadata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FB9-774C-40F6-BDD1-CF922F2CB7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link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veys relationship information that may be rendered by user agents in a variety of ways or used by search eng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.g, a tool-bar with a drop-down menu of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title&gt;General Relativity - Chapter 2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Index" href="../index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Next" href="ch3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Prev" href="ch1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link rel="Start" href="grtitlepage.htm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7B5-9985-4546-A71A-69D92DF04A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urier New"/>
              </a:rPr>
              <a:t>%attrs;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= Common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ertain attributes are fairly common across all elements (but check individual el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%i18n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ng and 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%coreatt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d, class, style,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%ev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click, ondblclick, onmousedown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E26-F0E1-40EA-8008-EE3FDFDFA5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&lt;body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%attr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of the former most commonly used attributes are deprecated in favour of styleshe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399-05D3-4ECF-8341-AADF27D996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Grouping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in conjunction with class and id and style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DI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ic block-leve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SPA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ic inline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24D-3282-489D-ADC6-1BBAD2A7D5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lobal - Hea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ix levels of headings in HTML with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H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most important and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the l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rowsers usually render more important headings in larger fonts than less important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eadings do not surround their section, only their tit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&lt;div&gt; fo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5E7-5C3A-4A20-8E71-7E077F9B55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- HT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10-03T16:03:42Z</dcterms:modified>
  <cp:revision>39</cp:revision>
  <dc:subject/>
  <dc:title>csc309 - 15 - html</dc:title>
</cp:coreProperties>
</file>