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379-E342-40D0-8A25-2B09D772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8E6-FAA9-43A2-AD79-8C4945E0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F7D-5531-43A1-8EDA-84AFBEA4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2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42C-C5FE-40A1-A1C2-1258BA41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31C-4414-41D8-B998-7423797A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372-B432-44CF-BD4A-DD8C7011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326-6995-4DD0-8DA1-6977D78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663-9F46-4E8B-A04B-F004E701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7AD-7CD2-4B40-A0D1-82B66DAD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2AE-252C-45AA-AB97-2A27C32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2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138-440F-4F49-8ACA-5C279E75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2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566-41C6-4494-8CB3-682CFEEF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A02B-F8BC-4543-BB49-71F320956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ransaction.java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rivial.java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BC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DBC (Java Database Connectivity) is a standard SQL database access interfa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JDBC API defines classes to represent constructs such as database connections, SQL statements, result sets, and database metadata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DBC allows a Java program to issue SQL statements and process the resul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F3C-DFFF-4860-85BE-73AA2C3AC7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Executing Quer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query can return many rows, each with many attribu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ps a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query to the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rieve one row at a ti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row, retrieve attribu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ADF-4F7C-4873-90E9-14C26D505E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Executing Quer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 stmt = con.createStatement();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Send the query to the DB, get back a ResultSe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Set rs = stmt.executeQuery("SELECT * FROM PART;"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Go through all rows returned by the que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rs.next()){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ull out individual columns from the current row int pno=rs.getInt("PNO"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pname=rs.getString("PNAME"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 Print out the values System.out.println(pno+"\t"+pnam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s.close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59A-5F27-4C3B-BFAB-94F42F7624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Updat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Int rows</a:t>
            </a:r>
            <a:r>
              <a:rPr b="1" i="1" lang="en-CA" sz="28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ffected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stmt.executeUpdate(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i="1" lang="en-US" sz="2800" spc="-1" strike="noStrike">
                <a:solidFill>
                  <a:srgbClr val="3333cc"/>
                </a:solidFill>
                <a:latin typeface="Courier New"/>
              </a:rPr>
              <a:t>"DELETE * FROM ACCOUNTS;")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cutes a SQL INSERT, UPDATE or DELETE statement. Returns the number of rows affected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B45-1CBE-4836-8E4E-446C6BB5ED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Prepared Statemen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a parameterized SQL statemen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speedup query parsing (statement does not need to be reparsed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simplify development (clumsy strings do not have to be created and recreated for each update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ring insert="INSERT INTO ACCOUNT(NAME,AMOUNT)VALUES(?,?);"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reparedStatement ps =con.prepareStatement(insert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String(1,"Charlie"); // Fill in the first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Double(2,23.45); // Fill in the second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ows</a:t>
            </a:r>
            <a:r>
              <a:rPr b="1" lang="en-CA" sz="18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fected=ps.executeUpdat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Int(1,"Arnold"); // Fill in the first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s.setInt(2,102.23); // Fill in the second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ows</a:t>
            </a:r>
            <a:r>
              <a:rPr b="1" lang="en-CA" sz="1800" spc="-1" strike="noStrike">
                <a:solidFill>
                  <a:srgbClr val="3333cc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fected=ps.executeUpdate();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E40-36D5-4446-B0D9-771B8B6920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ransa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ransaction is a collection of DB modifications, which is treated as an atomic DB operation. All take place or none 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actions are used to make sure that a collection of updates leaves the database in a consistent state (as defined by the application program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default the Connection automatically commits changes after executing each statement. If auto commit has been disabled, the method commit must be called explicitly; otherwise, database changes will not be sav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73E-F284-4D92-8FF2-1B984321C58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Transa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Change to transactional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.setAutoCommit(fals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Transaction A begins he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DELETE * FROM ACCOUNT...;");// 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ACCOUNT ...."); //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ACCOUNT ...."); // 3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ACCOUNT ...."); // 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.commit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Commit changes to databa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All of 1,2,3,4 take effe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6A1-8A44-48B4-A4E8-487689D4E2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Transa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Transaction B begins her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DELETE * FROM SALES...;"); // 5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SALES ...."); // 6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SALES ...."); // 7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mt.executeUpdate("INSERT INTO SALES ...."); // 8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.rollback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Rollback to before transaction B bega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// None of 5,6,7,8 effects the D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Transaction.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30F-BE06-4AF5-84F6-A80D960FC9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ope of DB Conne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rvl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n/close connection on each servlet invo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ll work, but very s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s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ep 1 open connection associated with the session: HttpSession.getParameter(“dbCon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ngerous (multiple concurrent servlets in same session): concurrency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wkward (when to close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b Ap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ep 1 open connection for the web application and re-use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ngerous: Concurrency issues: bottlene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51F-82AA-4AC0-8C88-4A7572202F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nection Pool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 a pool of open connections that know how to time themselves 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ervlet cal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ConnectionPool dbcp = getServletContext().getAttribute(“dbConPool”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Connection con = dbcp.checkoutConnection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ment s = con.createStatement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bcp.checkinConnection(co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879-D9D3-4BD3-A7A9-D14DAB2DC68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nection Pool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bConnectionPool allocates a new Connection object when asked to do 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raps it in a DbConnection object that delegates calls to its enclosed Connection object and returns it to the cli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sets a timeout that will reclaim the Connection for a pool of free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client accesses DbConnection after timeout, DbConnection will request a fresh connection from the po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returns DbConnection to the pool when done with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bConnectionPool does not close the Connection, rather saves it for the next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may block awaiting a freed connection if some maximum upper limit of open connections is reach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51A-5453-4BB4-81A1-0FB893ED66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BC Goal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vi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programmers with a uniform, simple interface to a wide range of relational databa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B independence. Can replace underlying database with minimal code impac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mon base on which higher level tools and interfaces can be buil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F14-6BE7-4A2F-9A2B-68B1B4AD4C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JB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prise Java B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of Sun J2EE initi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development of Web-oriented, 3-tier, RDBMS-based, applica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y be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a persistent object that is mirrored in an RDB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 be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trans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les all the crap for you (e.g., sessions, connection pooling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F65-C140-4F2A-80C0-048564E015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Trivial First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Trivial.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rro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reate an ODBC en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e the resu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F86-E8BE-4FC0-81DD-2453519911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JDBC Applic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562360" cy="54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B3D-9B51-4342-9514-FF2242EE19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ieces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JDBC application consists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client: code implementing the applic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DBC API. Provides DB independent abstraction t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 a connection with a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 SQL statem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the resul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F56-22F4-4F69-AD48-B548518553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ieces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DBC Driv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lates API calls to requests made against the specific databas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driver for the specific databas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lled on the client. Usually a set of class files placed in the class path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large databases are now suppor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 client software (optional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es communication between DB clients and the DB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ing on the DB Manufacturer, you may need to install database client software on the client machi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DBC Driver may already include this functionalit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BE2-46B0-4B70-87FF-C799658AA2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ieces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 serv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tual database engin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cle, MSAccess, SQL Server, Postgresql et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792-8990-4F9F-AA1A-5C64F6CD22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lternatives (ODB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ODB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s version of JDB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drivers exist for ODB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 provides a JDBC-ODBC driver to allow Java applications connectivity to databases that are only ODBC enabl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1AE-13DD-4A26-B916-7B68FFD04F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I: Establish Connec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urier New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ourier New"/>
              </a:rPr>
              <a:t>Class.forName(...)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the driver class avail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urier New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ourier New"/>
              </a:rPr>
              <a:t>String url = "jdbc:odbc:supplier-part"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connect string. The connect string, mentions the driver as well as the database. For the example above, the driver i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bc:od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idge driver. The database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plier-pa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urier New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Courier New"/>
              </a:rPr>
              <a:t>Connection con=DriverManager.getConnection(url, uID, pw)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 a connection (session) with a specific database. Within the context of a Connection, SQL statements are executed and results are return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onnection can be used to obtain information about the DB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default a Connection automaticall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mm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hanges after each statemen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, setting up a connection is an expennsive oper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554-3407-4C79-AE09-4E37861945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2 - JDB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1-28T17:10:32Z</dcterms:modified>
  <cp:revision>27</cp:revision>
  <dc:subject/>
  <dc:title>CSC309 - 51 - JDBC</dc:title>
</cp:coreProperties>
</file>