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9C071-C26B-465E-B31D-2121DE82F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25712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A5EEA-C7CE-49E5-A8C3-7FD4F5F1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F34FD-8A76-46C7-9D27-E07C6FABA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A4C6B-9230-4D3A-833F-F00D3024D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5800" y="1257120"/>
            <a:ext cx="7772400" cy="490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076F0-677F-4660-8ACF-21B6B1CF8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6DB9-5450-46E7-98B0-F161D5982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C6F3A-361F-4ED5-9D8B-6757A18DE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12793-DC46-46A4-81D7-D286E12B9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54160"/>
            <a:ext cx="7772400" cy="4179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2C069-DFE8-4624-AC87-57FD3743C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ACED-B9C3-48CE-8C93-4561B369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0B39F-6B59-4ABC-99CF-9034A3A45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F4327-C2CA-486C-A1CE-2397947E2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3496-C209-4322-98F0-E63563756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file:///TrivialObject.html" TargetMode="External"/><Relationship Id="rId2" Type="http://schemas.openxmlformats.org/officeDocument/2006/relationships/hyperlink" Target="file:///TrivialObject.html" TargetMode="External"/><Relationship Id="rId3" Type="http://schemas.openxmlformats.org/officeDocument/2006/relationships/hyperlink" Target="file:///TrivialObject.html" TargetMode="External"/><Relationship Id="rId4" Type="http://schemas.openxmlformats.org/officeDocument/2006/relationships/hyperlink" Target="file:///TrivialApplet.html" TargetMode="External"/><Relationship Id="rId5" Type="http://schemas.openxmlformats.org/officeDocument/2006/relationships/hyperlink" Target="file:///TrivialApplet.html" TargetMode="External"/><Relationship Id="rId6" Type="http://schemas.openxmlformats.org/officeDocument/2006/relationships/hyperlink" Target="http://Trivial.java.html/"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GUI.html" TargetMode="External"/><Relationship Id="rId2" Type="http://schemas.openxmlformats.org/officeDocument/2006/relationships/hyperlink" Target="http://GUI.java.html/"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JS.html" TargetMode="External"/><Relationship Id="rId2" Type="http://schemas.openxmlformats.org/officeDocument/2006/relationships/hyperlink" Target="http://JS.java.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History</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reated by James Gosling et. al. at Sun Microsystems in 1991 "The Green Team"</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ere to investigate "convergence" technologie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sling created a processor-independent language for '*7', a 2-way wireless remote-control devic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lled the language 'Oak'</a:t>
            </a:r>
            <a:endParaRPr b="0" lang="en-US" sz="2400" spc="-1" strike="noStrike">
              <a:solidFill>
                <a:srgbClr val="000000"/>
              </a:solidFill>
              <a:latin typeface="Times New Roman"/>
            </a:endParaRPr>
          </a:p>
        </p:txBody>
      </p:sp>
      <p:grpSp>
        <p:nvGrpSpPr>
          <p:cNvPr id="43" name=""/>
          <p:cNvGrpSpPr/>
          <p:nvPr/>
        </p:nvGrpSpPr>
        <p:grpSpPr>
          <a:xfrm>
            <a:off x="3873600" y="3492360"/>
            <a:ext cx="1614240" cy="2422440"/>
            <a:chOff x="3873600" y="3492360"/>
            <a:chExt cx="1614240" cy="2422440"/>
          </a:xfrm>
        </p:grpSpPr>
        <p:sp>
          <p:nvSpPr>
            <p:cNvPr id="44"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5" name=""/>
            <p:cNvGrpSpPr/>
            <p:nvPr/>
          </p:nvGrpSpPr>
          <p:grpSpPr>
            <a:xfrm>
              <a:off x="3873600" y="3492360"/>
              <a:ext cx="1614240" cy="2422440"/>
              <a:chOff x="3873600" y="3492360"/>
              <a:chExt cx="1614240" cy="2422440"/>
            </a:xfrm>
          </p:grpSpPr>
          <p:sp>
            <p:nvSpPr>
              <p:cNvPr id="46"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3873600" y="3492360"/>
                <a:ext cx="1036440" cy="24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48" name="green.bbq" descr="The Green Team at a Barbecue"/>
          <p:cNvPicPr/>
          <p:nvPr/>
        </p:nvPicPr>
        <p:blipFill>
          <a:blip r:embed="rId1"/>
          <a:stretch/>
        </p:blipFill>
        <p:spPr>
          <a:xfrm>
            <a:off x="2725560" y="2421000"/>
            <a:ext cx="3314880" cy="2057400"/>
          </a:xfrm>
          <a:prstGeom prst="rect">
            <a:avLst/>
          </a:prstGeom>
          <a:ln w="0">
            <a:noFill/>
          </a:ln>
        </p:spPr>
      </p:pic>
      <p:sp>
        <p:nvSpPr>
          <p:cNvPr id="49" name=""/>
          <p:cNvSpPr/>
          <p:nvPr/>
        </p:nvSpPr>
        <p:spPr>
          <a:xfrm>
            <a:off x="4711680" y="1727280"/>
            <a:ext cx="266760" cy="9270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5C22290-8454-43EE-A443-38E804EDF356}" type="slidenum">
              <a:t>1</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0 Security Model</a:t>
            </a:r>
            <a:endParaRPr b="0" lang="en-US" sz="4000" spc="-1" strike="noStrike">
              <a:solidFill>
                <a:srgbClr val="000000"/>
              </a:solidFill>
              <a:latin typeface="Times New Roman"/>
            </a:endParaRPr>
          </a:p>
        </p:txBody>
      </p:sp>
      <p:grpSp>
        <p:nvGrpSpPr>
          <p:cNvPr id="74" name=""/>
          <p:cNvGrpSpPr/>
          <p:nvPr/>
        </p:nvGrpSpPr>
        <p:grpSpPr>
          <a:xfrm>
            <a:off x="1409760" y="1244520"/>
            <a:ext cx="6006960" cy="4593240"/>
            <a:chOff x="1409760" y="1244520"/>
            <a:chExt cx="6006960" cy="4593240"/>
          </a:xfrm>
        </p:grpSpPr>
        <p:sp>
          <p:nvSpPr>
            <p:cNvPr id="75" name=""/>
            <p:cNvSpPr/>
            <p:nvPr/>
          </p:nvSpPr>
          <p:spPr>
            <a:xfrm>
              <a:off x="1828800" y="325116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76" name=""/>
            <p:cNvSpPr/>
            <p:nvPr/>
          </p:nvSpPr>
          <p:spPr>
            <a:xfrm>
              <a:off x="1828800" y="491472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334120" y="3429000"/>
              <a:ext cx="14605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78" name=""/>
            <p:cNvSpPr/>
            <p:nvPr/>
          </p:nvSpPr>
          <p:spPr>
            <a:xfrm>
              <a:off x="4546800" y="1625400"/>
              <a:ext cx="733320" cy="2484720"/>
            </a:xfrm>
            <a:custGeom>
              <a:avLst/>
              <a:gdLst>
                <a:gd name="textAreaLeft" fmla="*/ 98280 w 733320"/>
                <a:gd name="textAreaRight" fmla="*/ 635040 w 733320"/>
                <a:gd name="textAreaTop" fmla="*/ 456120 h 2484720"/>
                <a:gd name="textAreaBottom" fmla="*/ 1693800 h 2484720"/>
              </a:gdLst>
              <a:ahLst/>
              <a:rect l="textAreaLeft" t="textAreaTop" r="textAreaRight" b="textAreaBottom"/>
              <a:pathLst>
                <a:path w="21600" h="21600">
                  <a:moveTo>
                    <a:pt x="21600" y="0"/>
                  </a:moveTo>
                  <a:arcTo wR="21600" hR="7935" stAng="-5400000" swAng="-5400000"/>
                  <a:lnTo>
                    <a:pt x="0" y="10755"/>
                  </a:lnTo>
                  <a:arcTo wR="21600" hR="7935" stAng="10800000" swAng="-2765835"/>
                  <a:lnTo>
                    <a:pt x="14400" y="21146"/>
                  </a:lnTo>
                  <a:lnTo>
                    <a:pt x="21600" y="17280"/>
                  </a:lnTo>
                  <a:lnTo>
                    <a:pt x="14400" y="12506"/>
                  </a:lnTo>
                  <a:lnTo>
                    <a:pt x="14400" y="15416"/>
                  </a:lnTo>
                  <a:arcTo wR="21600" hR="7935" stAng="8034165" swAng="2538131"/>
                  <a:lnTo>
                    <a:pt x="344" y="9345"/>
                  </a:lnTo>
                  <a:arcTo wR="21600" hR="7935" stAng="-10572296" swAng="5172296"/>
                  <a:close/>
                </a:path>
                <a:path fill="darkenLess" w="21600" h="21600">
                  <a:moveTo>
                    <a:pt x="21600" y="0"/>
                  </a:moveTo>
                  <a:arcTo wR="21600" hR="7935" stAng="-5400000" swAng="-5400000"/>
                  <a:lnTo>
                    <a:pt x="0" y="7935"/>
                  </a:lnTo>
                  <a:arcTo wR="21600" hR="7935" stAng="10800000" swAng="-227704"/>
                  <a:lnTo>
                    <a:pt x="344" y="9345"/>
                  </a:lnTo>
                  <a:arcTo wR="21600" hR="7935" stAng="-10572296" swAng="5172296"/>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59320" y="1244520"/>
              <a:ext cx="14353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0" name=""/>
            <p:cNvSpPr/>
            <p:nvPr/>
          </p:nvSpPr>
          <p:spPr>
            <a:xfrm>
              <a:off x="1409760" y="175248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1" name=""/>
            <p:cNvSpPr/>
            <p:nvPr/>
          </p:nvSpPr>
          <p:spPr>
            <a:xfrm>
              <a:off x="2718000" y="1930320"/>
              <a:ext cx="733320" cy="2497320"/>
            </a:xfrm>
            <a:custGeom>
              <a:avLst/>
              <a:gdLst>
                <a:gd name="textAreaLeft" fmla="*/ 98280 w 733320"/>
                <a:gd name="textAreaRight" fmla="*/ 635040 w 733320"/>
                <a:gd name="textAreaTop" fmla="*/ 437040 h 2497320"/>
                <a:gd name="textAreaBottom" fmla="*/ 1810800 h 2497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8745CBEB-4C64-4ED1-8D47-DCD80359DBD8}" type="slidenum">
              <a:t>10</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DK 1.1 introduced the concept of a </a:t>
            </a:r>
            <a:r>
              <a:rPr b="0" i="1" lang="en-US" sz="2800" spc="-1" strike="noStrike">
                <a:solidFill>
                  <a:srgbClr val="000000"/>
                </a:solidFill>
                <a:latin typeface="Times New Roman"/>
              </a:rPr>
              <a:t>signed appl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rrectly digitally signed applet is treated as if it is trusted local code if the signature key is recognized as trusted by the system that receives the apple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applets, together with their signatures, are delivered in the JAR (Java Archive)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DK 1.1, unsigned applets still run in the sandbo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87949F5-7BCA-4CBB-8695-35F4AF922F87}" type="slidenum">
              <a:t>11</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1 Security Model</a:t>
            </a:r>
            <a:endParaRPr b="0" lang="en-US" sz="4000" spc="-1" strike="noStrike">
              <a:solidFill>
                <a:srgbClr val="000000"/>
              </a:solidFill>
              <a:latin typeface="Times New Roman"/>
            </a:endParaRPr>
          </a:p>
        </p:txBody>
      </p:sp>
      <p:grpSp>
        <p:nvGrpSpPr>
          <p:cNvPr id="85" name=""/>
          <p:cNvGrpSpPr/>
          <p:nvPr/>
        </p:nvGrpSpPr>
        <p:grpSpPr>
          <a:xfrm>
            <a:off x="1359000" y="1333440"/>
            <a:ext cx="6197400" cy="4618800"/>
            <a:chOff x="1359000" y="1333440"/>
            <a:chExt cx="6197400" cy="4618800"/>
          </a:xfrm>
        </p:grpSpPr>
        <p:sp>
          <p:nvSpPr>
            <p:cNvPr id="86" name=""/>
            <p:cNvSpPr/>
            <p:nvPr/>
          </p:nvSpPr>
          <p:spPr>
            <a:xfrm>
              <a:off x="1968480" y="336564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87" name=""/>
            <p:cNvSpPr/>
            <p:nvPr/>
          </p:nvSpPr>
          <p:spPr>
            <a:xfrm>
              <a:off x="1968480" y="502920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30920" y="354348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89" name=""/>
            <p:cNvSpPr/>
            <p:nvPr/>
          </p:nvSpPr>
          <p:spPr>
            <a:xfrm>
              <a:off x="5843520" y="1359000"/>
              <a:ext cx="14209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0" name=""/>
            <p:cNvSpPr/>
            <p:nvPr/>
          </p:nvSpPr>
          <p:spPr>
            <a:xfrm>
              <a:off x="1359000" y="186696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1" name=""/>
            <p:cNvSpPr/>
            <p:nvPr/>
          </p:nvSpPr>
          <p:spPr>
            <a:xfrm>
              <a:off x="2667240" y="2044800"/>
              <a:ext cx="733320" cy="2496960"/>
            </a:xfrm>
            <a:custGeom>
              <a:avLst/>
              <a:gdLst>
                <a:gd name="textAreaLeft" fmla="*/ 98280 w 733320"/>
                <a:gd name="textAreaRight" fmla="*/ 635040 w 733320"/>
                <a:gd name="textAreaTop" fmla="*/ 436680 h 2496960"/>
                <a:gd name="textAreaBottom" fmla="*/ 1810440 h 2496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48200" y="1714680"/>
              <a:ext cx="814320" cy="2560680"/>
            </a:xfrm>
            <a:custGeom>
              <a:avLst/>
              <a:gdLst>
                <a:gd name="textAreaLeft" fmla="*/ 109080 w 814320"/>
                <a:gd name="textAreaRight" fmla="*/ 705240 w 814320"/>
                <a:gd name="textAreaTop" fmla="*/ 447840 h 2560680"/>
                <a:gd name="textAreaBottom" fmla="*/ 1856520 h 2560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37200" y="1765440"/>
              <a:ext cx="725400" cy="2763720"/>
            </a:xfrm>
            <a:custGeom>
              <a:avLst/>
              <a:gdLst>
                <a:gd name="textAreaLeft" fmla="*/ 97200 w 725400"/>
                <a:gd name="textAreaRight" fmla="*/ 628200 w 725400"/>
                <a:gd name="textAreaTop" fmla="*/ 585360 h 2763720"/>
                <a:gd name="textAreaBottom" fmla="*/ 1901880 h 2763720"/>
              </a:gdLst>
              <a:ahLst/>
              <a:rect l="textAreaLeft" t="textAreaTop" r="textAreaRight" b="textAreaBottom"/>
              <a:pathLst>
                <a:path w="21600" h="21600">
                  <a:moveTo>
                    <a:pt x="0" y="0"/>
                  </a:moveTo>
                  <a:arcTo wR="21600" hR="9151" stAng="-5400000" swAng="5400000"/>
                  <a:lnTo>
                    <a:pt x="21600" y="10290"/>
                  </a:lnTo>
                  <a:arcTo wR="21600" hR="9151" stAng="0" swAng="3102066"/>
                  <a:lnTo>
                    <a:pt x="6853" y="21127"/>
                  </a:lnTo>
                  <a:lnTo>
                    <a:pt x="0" y="18871"/>
                  </a:lnTo>
                  <a:lnTo>
                    <a:pt x="6853" y="15668"/>
                  </a:lnTo>
                  <a:lnTo>
                    <a:pt x="6853" y="17828"/>
                  </a:lnTo>
                  <a:arcTo wR="21600" hR="9151" stAng="3102066" swAng="-3011272"/>
                  <a:lnTo>
                    <a:pt x="21558" y="9720"/>
                  </a:lnTo>
                  <a:arcTo wR="21600" hR="9151" stAng="-90794" swAng="-5309206"/>
                  <a:close/>
                </a:path>
                <a:path fill="darkenLess" w="21600" h="21600">
                  <a:moveTo>
                    <a:pt x="0" y="0"/>
                  </a:moveTo>
                  <a:arcTo wR="21600" hR="9151" stAng="-5400000" swAng="5400000"/>
                  <a:lnTo>
                    <a:pt x="21600" y="10290"/>
                  </a:lnTo>
                  <a:arcTo wR="21600" hR="9151" stAng="0" swAng="-90794"/>
                  <a:lnTo>
                    <a:pt x="21558" y="9720"/>
                  </a:lnTo>
                  <a:arcTo wR="21600" hR="9151" stAng="-90794" swAng="-530920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22720" y="1549440"/>
              <a:ext cx="8175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13440" y="1333440"/>
              <a:ext cx="904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06840" y="3429000"/>
              <a:ext cx="165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gned</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31EA6DD6-722E-46F7-B356-2517CCBB5A70}" type="slidenum">
              <a:t>12</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S</a:t>
            </a:r>
            <a:r>
              <a:rPr b="0" lang="en-US" sz="2600" spc="-1" strike="noStrike">
                <a:solidFill>
                  <a:srgbClr val="000000"/>
                </a:solidFill>
                <a:latin typeface="Times New Roman"/>
              </a:rPr>
              <a:t>igned applets contain a signature, which is a sequence of characters embedded in the applet's code, placed there by the originator of the applet, and which can't be altered or duplicated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T</a:t>
            </a:r>
            <a:r>
              <a:rPr b="0" lang="en-US" sz="2600" spc="-1" strike="noStrike">
                <a:solidFill>
                  <a:srgbClr val="000000"/>
                </a:solidFill>
                <a:latin typeface="Times New Roman"/>
              </a:rPr>
              <a:t>he signature tells who the applet comes from, and that the applet has not been tampered with. A signature doesn't tell you anything about the content or quality of the applet, just that it comes from the source it's signed by</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an applet is signed with a name you recognize and trust, you can probably have confidence in i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985CB8C-4D65-402E-85CC-62340E29A3BC}" type="slidenum">
              <a:t>13</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t>
            </a:r>
            <a:r>
              <a:rPr b="0" lang="en-US" sz="2800" spc="-1" strike="noStrike">
                <a:solidFill>
                  <a:srgbClr val="000000"/>
                </a:solidFill>
                <a:latin typeface="Times New Roman"/>
              </a:rPr>
              <a:t>he applet should generate a Java Security dialog, indicating that a java applet from “the sender’s signature id" is requesting additional privileges, e.g. reading, modification, or deletion of any of your files. Granting the privilege is noted as high ris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Java Security dialog should indicate "Identity verified by </a:t>
            </a:r>
            <a:r>
              <a:rPr b="0" i="1" lang="en-US" sz="2800" spc="-1" strike="noStrike">
                <a:solidFill>
                  <a:srgbClr val="000000"/>
                </a:solidFill>
                <a:latin typeface="Times New Roman"/>
              </a:rPr>
              <a:t>original issuer of certificate</a:t>
            </a:r>
            <a:r>
              <a:rPr b="0" lang="en-US" sz="2800" spc="-1" strike="noStrike">
                <a:solidFill>
                  <a:srgbClr val="000000"/>
                </a:solidFill>
                <a:latin typeface="Times New Roman"/>
              </a:rPr>
              <a:t>" and display a button for you to examine the certifica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5E3CA84-1302-4408-989E-255790C18DB7}" type="slidenum">
              <a:t>14</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2 Secuiry</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DK 1.2 designed to support easily configurable security poli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DK 1.2, no longer a built-in concept that all local code is trust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code (e.g., non-system code, application packages installed on the local file system) is subject to the same security control as apple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principles apply to signed applets and any Java app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858E56D-AA09-4F4C-84C4-51C417596770}" type="slidenum">
              <a:t>15</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DK 1.2 Security Model</a:t>
            </a:r>
            <a:endParaRPr b="0" lang="en-US" sz="4000" spc="-1" strike="noStrike">
              <a:solidFill>
                <a:srgbClr val="000000"/>
              </a:solidFill>
              <a:latin typeface="Times New Roman"/>
            </a:endParaRPr>
          </a:p>
        </p:txBody>
      </p:sp>
      <p:grpSp>
        <p:nvGrpSpPr>
          <p:cNvPr id="104" name=""/>
          <p:cNvGrpSpPr/>
          <p:nvPr/>
        </p:nvGrpSpPr>
        <p:grpSpPr>
          <a:xfrm>
            <a:off x="749160" y="1028880"/>
            <a:ext cx="7912080" cy="5113800"/>
            <a:chOff x="749160" y="1028880"/>
            <a:chExt cx="7912080" cy="5113800"/>
          </a:xfrm>
        </p:grpSpPr>
        <p:sp>
          <p:nvSpPr>
            <p:cNvPr id="105" name=""/>
            <p:cNvSpPr/>
            <p:nvPr/>
          </p:nvSpPr>
          <p:spPr>
            <a:xfrm>
              <a:off x="762120" y="355608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106" name=""/>
            <p:cNvSpPr/>
            <p:nvPr/>
          </p:nvSpPr>
          <p:spPr>
            <a:xfrm>
              <a:off x="762120" y="521964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37160" y="373392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108" name=""/>
            <p:cNvSpPr/>
            <p:nvPr/>
          </p:nvSpPr>
          <p:spPr>
            <a:xfrm>
              <a:off x="2655720" y="1028880"/>
              <a:ext cx="1433520" cy="66024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ode</a:t>
              </a:r>
              <a:endParaRPr b="0" lang="en-US" sz="2800" spc="-1" strike="noStrike">
                <a:solidFill>
                  <a:srgbClr val="000000"/>
                </a:solidFill>
                <a:latin typeface="Times New Roman"/>
              </a:endParaRPr>
            </a:p>
          </p:txBody>
        </p:sp>
        <p:sp>
          <p:nvSpPr>
            <p:cNvPr id="109" name=""/>
            <p:cNvSpPr/>
            <p:nvPr/>
          </p:nvSpPr>
          <p:spPr>
            <a:xfrm>
              <a:off x="3006720" y="1244520"/>
              <a:ext cx="905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790640" y="2095560"/>
              <a:ext cx="3068640" cy="952560"/>
            </a:xfrm>
            <a:prstGeom prst="flowChartPreparati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loa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manager</a:t>
              </a:r>
              <a:endParaRPr b="0" lang="en-US" sz="2400" spc="-1" strike="noStrike">
                <a:solidFill>
                  <a:srgbClr val="000000"/>
                </a:solidFill>
                <a:latin typeface="Times New Roman"/>
              </a:endParaRPr>
            </a:p>
          </p:txBody>
        </p:sp>
        <p:sp>
          <p:nvSpPr>
            <p:cNvPr id="111" name=""/>
            <p:cNvSpPr/>
            <p:nvPr/>
          </p:nvSpPr>
          <p:spPr>
            <a:xfrm>
              <a:off x="749160" y="3543480"/>
              <a:ext cx="1155960" cy="101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63560" y="3543480"/>
              <a:ext cx="11559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225960" y="3556080"/>
              <a:ext cx="115560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174840" y="1727280"/>
              <a:ext cx="384480" cy="341280"/>
            </a:xfrm>
            <a:prstGeom prst="downArrow">
              <a:avLst>
                <a:gd name="adj1" fmla="val 44444"/>
                <a:gd name="adj2" fmla="val 390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5" name=""/>
            <p:cNvCxnSpPr>
              <a:stCxn id="110" idx="2"/>
              <a:endCxn id="111" idx="0"/>
            </p:cNvCxnSpPr>
            <p:nvPr/>
          </p:nvCxnSpPr>
          <p:spPr>
            <a:xfrm rot="5400000">
              <a:off x="2077920" y="2296440"/>
              <a:ext cx="496080" cy="1999440"/>
            </a:xfrm>
            <a:prstGeom prst="curvedConnector5">
              <a:avLst>
                <a:gd name="adj1" fmla="val 49963"/>
                <a:gd name="adj2" fmla="val 49990"/>
                <a:gd name="adj3" fmla="val 49963"/>
              </a:avLst>
            </a:prstGeom>
            <a:ln w="38160">
              <a:solidFill>
                <a:srgbClr val="000000"/>
              </a:solidFill>
              <a:miter/>
              <a:tailEnd len="med" type="triangle" w="med"/>
            </a:ln>
          </p:spPr>
        </p:cxnSp>
        <p:cxnSp>
          <p:nvCxnSpPr>
            <p:cNvPr id="116" name=""/>
            <p:cNvCxnSpPr>
              <a:stCxn id="110" idx="2"/>
              <a:endCxn id="112" idx="3"/>
            </p:cNvCxnSpPr>
            <p:nvPr/>
          </p:nvCxnSpPr>
          <p:spPr>
            <a:xfrm rot="5400000">
              <a:off x="2500560" y="3366360"/>
              <a:ext cx="1143720" cy="506880"/>
            </a:xfrm>
            <a:prstGeom prst="curvedConnector2">
              <a:avLst/>
            </a:prstGeom>
            <a:ln w="38160">
              <a:solidFill>
                <a:srgbClr val="000000"/>
              </a:solidFill>
              <a:miter/>
              <a:tailEnd len="med" type="triangle" w="med"/>
            </a:ln>
          </p:spPr>
        </p:cxnSp>
        <p:cxnSp>
          <p:nvCxnSpPr>
            <p:cNvPr id="117" name=""/>
            <p:cNvCxnSpPr>
              <a:stCxn id="110" idx="2"/>
              <a:endCxn id="113" idx="0"/>
            </p:cNvCxnSpPr>
            <p:nvPr/>
          </p:nvCxnSpPr>
          <p:spPr>
            <a:xfrm flipH="1" rot="16200000">
              <a:off x="3310560" y="3062520"/>
              <a:ext cx="508680" cy="478800"/>
            </a:xfrm>
            <a:prstGeom prst="curvedConnector5">
              <a:avLst>
                <a:gd name="adj1" fmla="val 50000"/>
                <a:gd name="adj2" fmla="val 49962"/>
                <a:gd name="adj3" fmla="val 50000"/>
              </a:avLst>
            </a:prstGeom>
            <a:ln w="38160">
              <a:solidFill>
                <a:srgbClr val="000000"/>
              </a:solidFill>
              <a:miter/>
              <a:tailEnd len="med" type="triangle" w="sm"/>
            </a:ln>
          </p:spPr>
        </p:cxnSp>
        <p:cxnSp>
          <p:nvCxnSpPr>
            <p:cNvPr id="118" name=""/>
            <p:cNvCxnSpPr>
              <a:stCxn id="110" idx="2"/>
              <a:endCxn id="107" idx="0"/>
            </p:cNvCxnSpPr>
            <p:nvPr/>
          </p:nvCxnSpPr>
          <p:spPr>
            <a:xfrm flipH="1" rot="16200000">
              <a:off x="4013280" y="2360160"/>
              <a:ext cx="660600" cy="2036160"/>
            </a:xfrm>
            <a:prstGeom prst="curvedConnector5">
              <a:avLst>
                <a:gd name="adj1" fmla="val 51908"/>
                <a:gd name="adj2" fmla="val 49991"/>
                <a:gd name="adj3" fmla="val 51908"/>
              </a:avLst>
            </a:prstGeom>
            <a:ln w="38160">
              <a:solidFill>
                <a:srgbClr val="ff0000"/>
              </a:solidFill>
              <a:miter/>
              <a:tailEnd len="med" type="triangle" w="med"/>
            </a:ln>
          </p:spPr>
        </p:cxnSp>
        <p:sp>
          <p:nvSpPr>
            <p:cNvPr id="119" name=""/>
            <p:cNvSpPr/>
            <p:nvPr/>
          </p:nvSpPr>
          <p:spPr>
            <a:xfrm>
              <a:off x="6642000" y="2324160"/>
              <a:ext cx="2019240" cy="3111480"/>
            </a:xfrm>
            <a:prstGeom prst="wedgeRoundRectCallout">
              <a:avLst>
                <a:gd name="adj1" fmla="val -178615"/>
                <a:gd name="adj2" fmla="val 35560"/>
                <a:gd name="adj3" fmla="val 16667"/>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built-in notion of trusted code, each applet runs with separate permissions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1CE281E2-71C6-4A6D-9FB8-01849733B83E}" type="slidenum">
              <a:t>16</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 Trivial Applet</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fficial (new way) of invoking applets (invokes SUN's jre1.3 plug-i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1"/>
              </a:rPr>
              <a:t>Trivial</a:t>
            </a:r>
            <a:r>
              <a:rPr b="0" lang="en-CA" sz="2800" spc="-1" strike="noStrike" u="sng">
                <a:solidFill>
                  <a:srgbClr val="0033cc"/>
                </a:solidFill>
                <a:uFillTx/>
                <a:latin typeface="Times New Roman"/>
                <a:hlinkClick r:id="rId2"/>
              </a:rPr>
              <a:t>Object</a:t>
            </a:r>
            <a:r>
              <a:rPr b="0" lang="en-US" sz="2800" spc="-1" strike="noStrike" u="sng">
                <a:solidFill>
                  <a:srgbClr val="0033cc"/>
                </a:solidFill>
                <a:uFillTx/>
                <a:latin typeface="Times New Roman"/>
                <a:hlinkClick r:id="rId3"/>
              </a:rPr>
              <a:t>.htm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ld (and convenient way) of invoking applets (invokes built-in j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US" sz="2800" spc="-1" strike="noStrike" u="sng">
                <a:solidFill>
                  <a:srgbClr val="0033cc"/>
                </a:solidFill>
                <a:uFillTx/>
                <a:latin typeface="Times New Roman"/>
                <a:hlinkClick r:id="rId4"/>
              </a:rPr>
              <a:t>TrivialApplet</a:t>
            </a:r>
            <a:r>
              <a:rPr b="0" lang="en-US" sz="2800" spc="-1" strike="noStrike" u="sng">
                <a:solidFill>
                  <a:srgbClr val="0033cc"/>
                </a:solidFill>
                <a:uFillTx/>
                <a:latin typeface="Times New Roman"/>
                <a:hlinkClick r:id="rId5"/>
              </a:rPr>
              <a:t>.ht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33cc"/>
                </a:solidFill>
                <a:uFillTx/>
                <a:latin typeface="Times New Roman"/>
                <a:hlinkClick r:id="rId6"/>
              </a:rPr>
              <a:t>Trivial.java</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4429E73-FA32-4974-BC2B-512D81DF3A7F}" type="slidenum">
              <a:t>17</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applet.Applet lifecycle method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ini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when applet is initially load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star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when started or restarted as a result of user flipping Web pag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stop()</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when user switches away from web pag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id destro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voked (usually) on browser termin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F9758D7-B8DC-4DE5-A72E-84792B103359}" type="slidenum">
              <a:t>18</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pplet contextual method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tring getParameter(St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udioClip getAudioClip(UR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mage getImage(UR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RL getCode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RL getDocument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ocale getLoc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void showStatus(str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7B97B96-4048-49DA-B734-FFE6C4B90882}" type="slidenum">
              <a:t>19</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History (cont'd)</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ld not find a market for the tech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uring a Sun offsite with Bill Joy in 199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hy not use it on the Intern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rted development of "WebRunner", later to be renamed "HotJava" browse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browser capable of downloading and running Java bytecode.</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lks were impressed with interactive Web pa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g., spinning molecules, sorting dem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downloads of HotJava</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big succes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rc Anrdreesen of Netscape agrees to support Java in Netscape browsers in 199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21306E4-44F6-46B0-817C-7C58F396486C}" type="slidenum">
              <a:t>2</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pplet GUI</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nherit from Applet and use the AWT GUI libr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nherit from JApplet and use the JFC/Swing GUI</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1"/>
              </a:rPr>
              <a:t>GUI.ht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2"/>
              </a:rPr>
              <a:t>GUI.jav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8F2EEBE-2E00-42C7-AF09-F6A6BB9CBA54}" type="slidenum">
              <a:t>20</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JavaScript Communications</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JavaScript can call methods defined in Java Apple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1"/>
              </a:rPr>
              <a:t>JS.ht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Times New Roman"/>
                <a:hlinkClick r:id="rId2"/>
              </a:rPr>
              <a:t>JS.jav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F150067-38A5-46F3-BFFB-ACBCDBB0B82E}" type="slidenum">
              <a:t>21</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How Java Applets Work</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al-estate on a Web page is set-aside for use by a Java applet via an &lt;embed&gt;, &lt;applet&gt;, or &lt;object&gt; tag (e.g., 2 inches by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Java "jar" files downloaded to client mach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ain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lass fil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other resources (images, sounds, property fi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lass indicated in the tag (must derive from </a:t>
            </a:r>
            <a:r>
              <a:rPr b="0" lang="en-CA" sz="2000" spc="-1" strike="noStrike">
                <a:solidFill>
                  <a:srgbClr val="000000"/>
                </a:solidFill>
                <a:latin typeface="Arial"/>
              </a:rPr>
              <a:t>java.applet.Applet</a:t>
            </a:r>
            <a:r>
              <a:rPr b="0" lang="en-CA" sz="2800" spc="-1" strike="noStrike">
                <a:solidFill>
                  <a:srgbClr val="000000"/>
                </a:solidFill>
                <a:latin typeface="Times New Roman"/>
              </a:rPr>
              <a:t>) is invok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4D45312-AA88-446A-B6E9-A632B4CBB471}" type="slidenum">
              <a:t>3</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Execution</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JVM (Java Virtual Machine) running within the context of the client browser attempts to load the first cla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trusted Java  </a:t>
            </a:r>
            <a:r>
              <a:rPr b="0" lang="en-CA" sz="2000" spc="-1" strike="noStrike">
                <a:solidFill>
                  <a:srgbClr val="000000"/>
                </a:solidFill>
                <a:latin typeface="Arial"/>
              </a:rPr>
              <a:t>ClassLoader</a:t>
            </a:r>
            <a:r>
              <a:rPr b="0" lang="en-CA" sz="2800" spc="-1" strike="noStrike">
                <a:solidFill>
                  <a:srgbClr val="000000"/>
                </a:solidFill>
                <a:latin typeface="Times New Roman"/>
              </a:rPr>
              <a:t> does the work</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lassloader defines a local name space that can be used to ensure that an untrusted applet cannot interfere with the running of other program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tatic checks are made against the Java bytecode to ensure it attempts to do nothing imprope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ike treat an integer as a memory addres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6C076B4-7C40-40CA-B49C-7829C7BD5EC8}" type="slidenum">
              <a:t>4</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Execution cont'd</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s the applet runs, whenever it needs access to a system resource it asks a trusted </a:t>
            </a:r>
            <a:r>
              <a:rPr b="0" lang="en-CA" sz="2400" spc="-1" strike="noStrike">
                <a:solidFill>
                  <a:srgbClr val="000000"/>
                </a:solidFill>
                <a:latin typeface="Arial"/>
              </a:rPr>
              <a:t>SecurityManager</a:t>
            </a:r>
            <a:r>
              <a:rPr b="0" lang="en-CA" sz="3200" spc="-1" strike="noStrike">
                <a:solidFill>
                  <a:srgbClr val="000000"/>
                </a:solidFill>
                <a:latin typeface="Times New Roman"/>
              </a:rPr>
              <a:t> for permis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uses user-granted permissions associated with signed certificates to grant enhanced access to system resources (e.g., file deletion cap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ithout a signed certificate associated with the permission required by an applet, the applet will raise a security excep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0538449-EAC0-4F51-BE20-322CE420DB3D}" type="slidenum">
              <a:t>5</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22 March 1996</a:t>
            </a:r>
            <a:endParaRPr b="0" lang="en-US" sz="30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rew Dean and Ed Felton of the Princeton Dept of Computer Science</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cessfully exploited a bug in Java to create a applet that deletes a file on the user's local disk.</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is bug, a binary library file is first downloaded to the user's local disk using the Netscape caching mechanism. The Java interpreter is then tricked into loading the file into memory and executing i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E48D3AC-9C11-43D0-A082-6303BE56FFC2}" type="slidenum">
              <a:t>6</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 cont'd</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lets are supposed to be able to talk only to the server that they originated from.</a:t>
            </a:r>
            <a:endParaRPr b="0" lang="en-US" sz="3000" spc="-1" strike="noStrike">
              <a:solidFill>
                <a:srgbClr val="000000"/>
              </a:solidFill>
              <a:latin typeface="Times New Roman"/>
            </a:endParaRPr>
          </a:p>
          <a:p>
            <a:pPr lvl="1" marL="735480" indent="-2829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ever in early March 1996, Steve Gibbons and Drew Dean independently discovered holes in the implementation that allows applets to make connections to any host on the Internet</a:t>
            </a:r>
            <a:endParaRPr b="0" lang="en-US" sz="26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 March 5, 1997, an internal security audit at JavaSoft revealed a bug in the Java bytecode verifier.</a:t>
            </a:r>
            <a:endParaRPr b="0" lang="en-US" sz="3000" spc="-1" strike="noStrike">
              <a:solidFill>
                <a:srgbClr val="000000"/>
              </a:solidFill>
              <a:latin typeface="Times New Roman"/>
            </a:endParaRPr>
          </a:p>
          <a:p>
            <a:pPr lvl="1" marL="735480" indent="-2829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ory, this bug could be exploited to bypass the Java Security Manager and execute forbidden operations</a:t>
            </a:r>
            <a:endParaRPr b="0"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69BD79A-C3B1-4FB5-90FC-D9C164AD386E}" type="slidenum">
              <a:t>7</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 cont'd</a:t>
            </a:r>
            <a:endParaRPr b="0" lang="en-US" sz="4000" spc="-1" strike="noStrike">
              <a:solidFill>
                <a:srgbClr val="000000"/>
              </a:solidFill>
              <a:latin typeface="Times New Roman"/>
            </a:endParaRPr>
          </a:p>
        </p:txBody>
      </p:sp>
      <p:grpSp>
        <p:nvGrpSpPr>
          <p:cNvPr id="63" name=""/>
          <p:cNvGrpSpPr/>
          <p:nvPr/>
        </p:nvGrpSpPr>
        <p:grpSpPr>
          <a:xfrm>
            <a:off x="1270080" y="1625760"/>
            <a:ext cx="6727320" cy="3966480"/>
            <a:chOff x="1270080" y="1625760"/>
            <a:chExt cx="6727320" cy="3966480"/>
          </a:xfrm>
        </p:grpSpPr>
        <p:sp>
          <p:nvSpPr>
            <p:cNvPr id="64" name=""/>
            <p:cNvSpPr/>
            <p:nvPr/>
          </p:nvSpPr>
          <p:spPr>
            <a:xfrm>
              <a:off x="1270080" y="1625760"/>
              <a:ext cx="6633720" cy="39664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586520" y="219384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Byte Code Verifier</a:t>
              </a:r>
              <a:endParaRPr b="0" lang="en-US" sz="2400" spc="-1" strike="noStrike">
                <a:solidFill>
                  <a:srgbClr val="000000"/>
                </a:solidFill>
                <a:latin typeface="Times New Roman"/>
              </a:endParaRPr>
            </a:p>
          </p:txBody>
        </p:sp>
        <p:sp>
          <p:nvSpPr>
            <p:cNvPr id="66" name=""/>
            <p:cNvSpPr/>
            <p:nvPr/>
          </p:nvSpPr>
          <p:spPr>
            <a:xfrm>
              <a:off x="1605240" y="3363120"/>
              <a:ext cx="437904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lass Loader</a:t>
              </a:r>
              <a:endParaRPr b="0" lang="en-US" sz="2400" spc="-1" strike="noStrike">
                <a:solidFill>
                  <a:srgbClr val="000000"/>
                </a:solidFill>
                <a:latin typeface="Times New Roman"/>
              </a:endParaRPr>
            </a:p>
          </p:txBody>
        </p:sp>
        <p:sp>
          <p:nvSpPr>
            <p:cNvPr id="67" name=""/>
            <p:cNvSpPr/>
            <p:nvPr/>
          </p:nvSpPr>
          <p:spPr>
            <a:xfrm>
              <a:off x="1586520" y="455328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curity Manager</a:t>
              </a:r>
              <a:endParaRPr b="0" lang="en-US" sz="2400" spc="-1" strike="noStrike">
                <a:solidFill>
                  <a:srgbClr val="000000"/>
                </a:solidFill>
                <a:latin typeface="Times New Roman"/>
              </a:endParaRPr>
            </a:p>
          </p:txBody>
        </p:sp>
        <p:sp>
          <p:nvSpPr>
            <p:cNvPr id="68" name=""/>
            <p:cNvSpPr/>
            <p:nvPr/>
          </p:nvSpPr>
          <p:spPr>
            <a:xfrm>
              <a:off x="6096960" y="177732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1</a:t>
              </a:r>
              <a:endParaRPr b="0" lang="en-US" sz="2400" spc="-1" strike="noStrike">
                <a:solidFill>
                  <a:srgbClr val="000000"/>
                </a:solidFill>
                <a:latin typeface="Times New Roman"/>
              </a:endParaRPr>
            </a:p>
          </p:txBody>
        </p:sp>
        <p:sp>
          <p:nvSpPr>
            <p:cNvPr id="69" name=""/>
            <p:cNvSpPr/>
            <p:nvPr/>
          </p:nvSpPr>
          <p:spPr>
            <a:xfrm>
              <a:off x="6096960" y="298656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2</a:t>
              </a:r>
              <a:endParaRPr b="0" lang="en-US" sz="2400" spc="-1" strike="noStrike">
                <a:solidFill>
                  <a:srgbClr val="000000"/>
                </a:solidFill>
                <a:latin typeface="Times New Roman"/>
              </a:endParaRPr>
            </a:p>
          </p:txBody>
        </p:sp>
        <p:sp>
          <p:nvSpPr>
            <p:cNvPr id="70" name=""/>
            <p:cNvSpPr/>
            <p:nvPr/>
          </p:nvSpPr>
          <p:spPr>
            <a:xfrm>
              <a:off x="6115320" y="415620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3</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3A521355-4526-4C42-AA34-971686A6C475}" type="slidenum">
              <a:t>8</a:t>
            </a:fld>
          </a:p>
        </p:txBody>
      </p:sp>
      <p:sp>
        <p:nvSpPr>
          <p:cNvPr id="5" name="PlaceHolder 4"/>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Java Security</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t>
            </a:r>
            <a:r>
              <a:rPr b="0" lang="en-US" sz="2800" spc="-1" strike="noStrike">
                <a:solidFill>
                  <a:srgbClr val="000000"/>
                </a:solidFill>
                <a:latin typeface="Times New Roman"/>
              </a:rPr>
              <a:t>he original security model provided by the Java platform is known as the </a:t>
            </a:r>
            <a:r>
              <a:rPr b="0" i="1" lang="en-US" sz="2800" spc="-1" strike="noStrike">
                <a:solidFill>
                  <a:srgbClr val="000000"/>
                </a:solidFill>
                <a:latin typeface="Times New Roman"/>
              </a:rPr>
              <a:t>sandbox model</a:t>
            </a:r>
            <a:r>
              <a:rPr b="0" lang="en-US" sz="2800" spc="-1" strike="noStrike">
                <a:solidFill>
                  <a:srgbClr val="000000"/>
                </a:solidFill>
                <a:latin typeface="Times New Roman"/>
              </a:rPr>
              <a:t>, which existed in order to provide a very restricted environment in which to run untrusted code obtained from the Interne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a:t>
            </a:r>
            <a:r>
              <a:rPr b="0" lang="en-US" sz="2800" spc="-1" strike="noStrike">
                <a:solidFill>
                  <a:srgbClr val="000000"/>
                </a:solidFill>
                <a:latin typeface="Times New Roman"/>
              </a:rPr>
              <a:t>ocal code is trusted to have full access to vital system resources (such as the file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a:t>
            </a:r>
            <a:r>
              <a:rPr b="0" lang="en-US" sz="2800" spc="-1" strike="noStrike">
                <a:solidFill>
                  <a:srgbClr val="000000"/>
                </a:solidFill>
                <a:latin typeface="Times New Roman"/>
              </a:rPr>
              <a:t>ownloaded remote code (an applet) is not trusted and can access only the limited resources provided inside the sandbo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2A0E720-4BF2-4959-90C0-95C6D6DFE750}" type="slidenum">
              <a:t>9</a:t>
            </a:fld>
          </a:p>
        </p:txBody>
      </p:sp>
      <p:sp>
        <p:nvSpPr>
          <p:cNvPr id="6" name="PlaceHolder 5"/>
          <p:cNvSpPr>
            <a:spLocks noGrp="1"/>
          </p:cNvSpPr>
          <p:nvPr>
            <p:ph type="dt" idx="1"/>
          </p:nvPr>
        </p:nvSpPr>
        <p:spPr/>
        <p:txBody>
          <a:bodyPr/>
          <a:p>
            <a:r>
              <a:rPr lang="en-US"/>
              <a:t>22 - Jav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0:39:14Z</dcterms:created>
  <dc:creator>David A. Penny</dc:creator>
  <dc:description/>
  <dc:language>en-US</dc:language>
  <cp:lastModifiedBy>penny</cp:lastModifiedBy>
  <dcterms:modified xsi:type="dcterms:W3CDTF">2001-10-16T18:34:04Z</dcterms:modified>
  <cp:revision>35</cp:revision>
  <dc:subject/>
  <dc:title>CSC309 - 22 - Java</dc:title>
</cp:coreProperties>
</file>