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A4C-2732-4B98-B3CB-B5AB4D64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04B0-9429-4E55-A325-E3697668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4832-431F-4605-8CE5-558B04C3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7640-BA20-47F7-9465-3472B120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189C-7253-4C2F-A1E5-634B7C99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161A-6862-49CC-B39D-8B51B005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625F-E848-40DC-A490-DB1F01E8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1F66-536F-4A11-99FC-7772BD4F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A3B9-B87A-4269-AF7E-9BF0BC71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6930-9B68-4E4D-95F5-A5B3DB96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E49F-3823-4D79-BE6A-E808B12D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0731-B498-4AC8-8110-0E5530FC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9520-F6CE-4A9E-94C8-DEDB3B68D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127.0.0.1/cgi-bin/hello.pl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127.0.0.1/cgi-bin/hello.pl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127.0.0.1/cgi-bin/environment.pl?var1=val1&amp;var2=val2&amp;var3=val3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127.0.0.1/cgi-bin/webPage.pl" TargetMode="External"/><Relationship Id="rId2" Type="http://schemas.openxmlformats.org/officeDocument/2006/relationships/hyperlink" Target="http://127.0.0.1/cgi-bin/getImage.pl" TargetMode="External"/><Relationship Id="rId3" Type="http://schemas.openxmlformats.org/officeDocument/2006/relationships/hyperlink" Target="http://127.0.0.1/cgi-bin/redirect.p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GI An Example</a:t>
            </a: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 to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ttp://127.0.0.1/cgi-bin/hello.p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is causes the execution of the perl script hello.p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lthough our examples use Perl, CGI scripts can be written in any language Perl, C, C++, VB, Python, SmallTalk, Assembly, Lisp etc..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28E-7B07-4E01-BA3B-1794BDBE145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cript URI (example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script-uri = protocol "://" SERVER_NAME ":" SERVER_PORT enc-script enc-path-info "?" QUERY_STR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http://finance.yahoo.com/q?s=NT.TO&amp;d=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tem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alu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_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ance.yahoo.co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_POR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specified (default to 80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c-scrip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c-path-inf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specifi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RY_STR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=NT.TO&amp;d=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0BD5-228F-4917-A90C-E1BB43EAB2C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Data Input to the CGI Scrip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ormation about a request comes fr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equest head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ociated message-body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rvers MUST make portions of this information available to script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7F8B-D533-4C83-B010-D8721C3B87F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quest Metadata (Metavariables)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AUTH_TYP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CONTENT_LENGT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CONTENT_TYP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GATEWAY_INTERFAC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PATH_INF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PATH_TRANSL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QUERY_STR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REMOTE_ADD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REMOTE_HO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REMOTE_ID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REMOTE_US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REQUEST_METH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SCRIPT_N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SERVER_N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SERVER_P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SERVER_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SERVER_SOFTW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63B0-100A-495D-AA68-C5173CA0453B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GET (part of http-spec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ault method for communicating query information to the scrip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ply specify the URL as abov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n't need a for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rything after the ? in the URL appears in the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QUERY_STR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nvironment variabl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mited amount of information can be passed this 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RL may have a length restriction on the serve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vironment variable may be restric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860F-88C9-41ED-A92E-9DF494FE04F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GET (part of http-spec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must do your own URL-Encoding (see below). URL-Encoding in this case is up to the web page designer and script writer. It is a good idea to conform to standards (see below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form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specify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method=ge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 data will be URL-Encoded (see below) by the browser before sent to the serve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QUERY_STR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visible in the URL (at the browser) and appear in server logs (which are sometimes public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35D4-2399-4ED0-AB2F-291A1C3DCE6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OST (part of http-spec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form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specify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method=po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 data will be URL-Encoded (see below) by the browser before sent to the serve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not be used from UR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 data appears in the scripts stdin (standard in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still populate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QUERY_STR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sing the UR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bitrarily long form data can be communicated (some browsers may have limits (ie 7k)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 data is not visible in the URL, usually does not appear in server log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3B8C-1213-497C-B21A-EC48FEA920F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URL-Encoding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ndard way to send many name/value pairs in a single string (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QUERY_STR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std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ed in RFC 2396 'Uniform Resource Identifiers (URI): Generic Syntax'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encode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vent confusion between CGI URL and HTML ta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think of a CGI script as a function, send arguments by specifying name/value pair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s consist of many elements, usually want all available to the script so need a way to pack and unpack them into a single string (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QUERY_STR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std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a standard set of libraries to pack and unpack cgi argu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4ABA-16AD-4A86-9E79-0AF667A5844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Rules of URL-Encod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submitted form dat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ll be concatenated into a single string of ampersand (&amp;) separated name=value pairs, one pair for each form tag. Like thi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form_tag_name_1=value_1&amp;form_tag_name_2=value_2&amp;..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Space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a name or value are replaced by a plus (+) sign. This is because url's cannot have spaces in them and under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METHOD=GE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the form data is supplied in the query string in the url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ther charact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ie, =, &amp;, +) are replaced by a percent sign (%) followed by the two-digit hexadecimal equivalent of the punctuation character in the Ascii character se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therwise, it would be hard to distinguish these characters inside a form variable from those between the form variables in the first rule above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0E67-BEC4-4594-9273-C67E6185998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ello Exampl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llo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ttp://127.0.0.1/cgi-bin/hello.p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Taking this one step at a ti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the command prompt, telnet to 127.0.0.1, port 80 and issue the following HTTP Ge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get /cgi-bin/hello.pl http/1.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executes the scrip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hello.p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The transcript is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he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otice the http header that comes back to the client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33D-C432-4D38-8B44-44DE59A3021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Environment Exampl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llow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ttp://127.0.0.1/cgi-bin/environment.pl?var1=val1&amp;var2=val2&amp;var3=val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aking this one step at a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net to 127.0.0.1, port 80 and issue the following HTTP Ge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get /cgi-bin/environment.pl?var1=val1&amp;var2=val2&amp;var3=val3 http/1.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executes the scrip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environment.p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hich prints its environment. The transcript is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he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otice where the query variables end up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DD8C-C082-4A92-84EE-410E2A3A016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GI Model (Pieces)</a:t>
            </a: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lient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eb browsers ie IE, Netscap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Web Server (WS)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pache, Netscape Enterprise, II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GI Protoco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pecifying what a request/responce looks lik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Handler program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y executable residing on the web serve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B57B-723C-44AF-B4CE-79A5C338D23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orm Exampl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form.htm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Not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serve the url-encoded form variables in the GET form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serve stdin in the POST form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serve the hidden variables in both form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1F85-8448-4B08-AC64-AA153C2A38E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Output from the CGI Scrip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ndard output (stdout) is redirected to the webserver for relay to the client (browser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or may not include a heade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n-Parsed Header Outpu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utput not parsed by the web server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sts of a complete http response message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sed Header Output: Server creates a complete http respon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ists of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header     &lt;-see be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&lt;-blank line separating header/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</a:rPr>
              <a:t>body       &lt;-message body (optionally nul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re header consists of HTTP-fields (relayed to the client) as well as the additional CGI-Fields (interpreted by the server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70C2-B71A-4E36-919A-5D8D96AD373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arsed Header Outpu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Heade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xplan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Content-typ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ME Typ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Location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y to the server that th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ipt is returning a reference to 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cument. Causes the webserver t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te a redirect. A browser ma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oose to load the specified pag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Stat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comes the status code in the server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ponce message extension-heade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tional fields recognized by the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A451-A9FA-4B8E-9577-6C04C1C3816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arsed Header Exampl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Content-type: text/htm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sourc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webPage.p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Content-type: image/jpe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sourc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getImage.p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Location http://127.0.0.1/cgi-bin/redirect.p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sourc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redirect.p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is could have redirected to yahoo.com or any other URL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aking this one step at a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net to 127.0.0.1, port 80 and issue the following HTTP Ge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get /cgi-bin/redirect.pl http/1.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ranscript is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he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7438-125F-48B5-8D9F-2532FF7B877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nteractio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ent makes a request by specifying a URL+additional inf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S (in the URL) receives the reque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S identifies the request as a CGI reques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S locates the program corresponding to the reques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S starts up the handling program (heavy weight process creation!!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S feeds request parameters to handler (through stdin or environment variables)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6FB7-6C10-4989-9882-61C9A779DB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nteraction (continued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ndler execut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put of the handler is sent via stdout back to the webserver for rerouting back to the requesting web browse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put is typically a web pag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ndler terminate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BB40-1733-4C31-A51E-757597AFE0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nteraction (continued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23888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D2B5-CF85-49B1-BA8A-E22B318F06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GI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gether the HTTP server and the CGI script are responsible for servicing a client request by sending back respons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lient request compris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Universal Resource Identifier (URI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quest metho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tional information about the request provided by the transport mechanism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F924-DF5A-4AFE-BF8D-9C765C5B6E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GI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GI defines the abstract parameters, known as metavariables, which describe the client's request. Together with a concrete programmer interface this specifies a platform-independent interface between the script and the HTTP serv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DCE1-CA0C-4560-925C-6F351696C0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cript URI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cript-URI has the syntax of generic-RL as defined in section 2.1 of RFC 180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urier New"/>
              </a:rPr>
              <a:t>&lt;scheme&gt;://&lt;host&gt;&lt;port&gt;/&lt;path&gt;?&lt;query&gt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various components of the Script-URI are defined by some of the metavariables (see Metavariables below)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FFD7-3D6E-449A-AF14-9A54139562D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cript URI (more detail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script-uri = protocol "://" SERVER_NAME ":" SERVER_PORT enc-script enc-path-info "?" QUERY_STR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'protocol' is obtained from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SERVER_PROTOCO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'enc-script' is a URL-encoded version of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SCRIPT_N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'enc-path-info' is a URL-encoded version of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</a:rPr>
              <a:t>PATH_INF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8617-6974-4124-B1AF-231D1A621F1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0 - CG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2:10:20Z</dcterms:created>
  <dc:creator>arnold rosenbloom</dc:creator>
  <dc:description/>
  <dc:language>en-US</dc:language>
  <cp:lastModifiedBy>penny</cp:lastModifiedBy>
  <dcterms:modified xsi:type="dcterms:W3CDTF">2001-10-30T15:41:55Z</dcterms:modified>
  <cp:revision>14</cp:revision>
  <dc:subject/>
  <dc:title>CSC309 - 40 - CGI</dc:title>
</cp:coreProperties>
</file>