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98A-B63D-4D8E-8D05-5F027C4F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006-E65E-4BC1-8CB8-27F23CE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4F2-4218-44DA-82E8-1A67F723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5FF-DDFF-480C-8AE4-AD8668D2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4A7-CB9B-4E90-A245-A0FFACC9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89B-5390-497A-970C-38358A4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1F6-F877-44CD-AC45-CC177EA2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10F-FD3B-457C-9901-F4BAFDC4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ACE-187B-4D40-A9A7-F0E9CC6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625-AD20-48FD-A1E2-83FB3CA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7BD-64F1-456C-8C16-93A72BC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3B0-A982-4322-AD81-663D604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DC45-01C7-4592-9723-38E4D838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erlsCGIlib" TargetMode="External"/><Relationship Id="rId2" Type="http://schemas.openxmlformats.org/officeDocument/2006/relationships/hyperlink" Target="file:///perlsCGIlib.htm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27.0.0.1/cgi-bin/CGIlibExample.pl" TargetMode="External"/><Relationship Id="rId2" Type="http://schemas.openxmlformats.org/officeDocument/2006/relationships/hyperlink" Target="file:///perl2html/CGIlibExample.pl.html" TargetMode="External"/><Relationship Id="rId3" Type="http://schemas.openxmlformats.org/officeDocument/2006/relationships/hyperlink" Target="file:///AddForm.html" TargetMode="External"/><Relationship Id="rId4" Type="http://schemas.openxmlformats.org/officeDocument/2006/relationships/hyperlink" Target="file:///perl2html/add1.pl.html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rlsCGIlib.htm" TargetMode="External"/><Relationship Id="rId2" Type="http://schemas.openxmlformats.org/officeDocument/2006/relationships/hyperlink" Target="file:///perlsCGIlib.ht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LoginFormC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Programm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l is used as an example throughout. Most of what is said here applies to any common programming language (ie C, C++, python etc.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ls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CGI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vides tools to simplif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age cre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eader, start_html, 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cre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tart_form,textfield, checkbox_group, submit, end_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ing QUERY_STRING/std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pa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ion maintainence (la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797-B47D-473B-97E4-EEF9E93BEC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curr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han one copy of a script may be executing at the same tim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 shared resources (ie files) see flock in perlfun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ordinate processes using system semaphores/mute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reful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 must understand the system the system the web server is running on. (ie. File locking does not work if the file system is NFS mounted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ckExam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t a web based exampl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F72-935D-40F2-8F60-643F0DEAAD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ttp://127.0.0.1/cgi-bin/expire1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then follow the links a few times, finally, use the back button a few tim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expire1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can not be cach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expire2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can be cach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25A-0171-4D22-9C40-2314D8D555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plex 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CGIlibExampl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exampl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AddForm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69E-AF93-4903-A535-60EA037281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atelessnes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/webserver interaction is stateless by defaul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tateles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no memory of the browsers state (probably determined by previous forms filled in and pages viewed) is kept either at the browser or webserver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ant to allow access to the addition script only once a user is logged in. Don't want to require a user to login at every p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FD-B0A7-4576-90A0-5FD49DBEB5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: Cook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e state at the browser: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ook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ame=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irs (like parameters in a CGI query str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GI scripts can create cookies and send them to the browser in the HTTP head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rowser maintains a list of cookies that belong to a particular Web server, and returns them to the CGI script during subsequent interaction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ed by Netscape 1.1 (and later), Internet Explor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erl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 CGI li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several methods that support cook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EDA-605A-4F86-AD3A-D5F49877E4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okies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LoginFor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using cooki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s limit the size of cook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s can refuse to accept th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al parame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piration 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ookie will be stored and returned until expiration time. If not specified, cookie lives until browser is exi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(ie cs.toronto.edu) return cookie to any server in this domain. If not specified, return cookie only to servers on host sending cooki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ookies sent only to scripts within the path. If not specified, return cookies to any scrip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ecure fla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return cookies only on a secure (SSL) channe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F80-13C9-4028-9867-EE796822E9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Hidden Variables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tore state in web pag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idden variabl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ed by all browser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all hidden variables to appear in all for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is sent inside each web pag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form based applications only. Following hyperlinks causes a loss of state (unless you use some javascript tricks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submitted page represents current state independent of what was done previous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see AddForm.html (the source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&lt;input type=hidden name=secret value="Don't tell anyone!!"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275-CDBF-4D50-A4C3-2413DC439F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URL Rewriting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tore state in the UR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write URLs so that they include state variabl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URL is now a CGI-get reque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ed by all brows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all URLs contain all state information (long URL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ent submitted page represents current state independent of what was done previousl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07F-690F-47A1-A712-49387BCFA3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http://127.0.0.1/cgi-bin/URLRewrit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the links a few tim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with the reload and back butt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 the site by URL alo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127.0.0.1/cgi-bin/URLRewrite.p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ck the application to thinking you have visited it 1000 tim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URLRewrite.p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B7C-CC57-479C-B051-A0E295DD34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 Stat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Store State at Server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urrent state is stored at the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e in a file or databas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request includes a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dentifying the browsers session (tokens can be passed via cookies, hidden vars, url rewriting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each request, the executing CGI script uses the token to fetch session st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Careful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back button problem. The page the user is viewing may not reflect state stored at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agma: no-cac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header to prevent page caching in client and proxi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ote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binations of the above techniques used in pract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83A-82BA-4D8C-83A5-95896D9EDB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1 - CGI Programm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0-31T16:59:38Z</dcterms:modified>
  <cp:revision>15</cp:revision>
  <dc:subject/>
  <dc:title>CSC309 - 41 - CGI Programming</dc:title>
</cp:coreProperties>
</file>