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D94B4F5-FE1E-42BA-9347-164E69BAF9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e are grateful to SGML for having weird comment characte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938F-8B46-4C0D-A5BA-98B02F00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4F39-32A9-4AE7-9C0A-16B0238A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75D3-6DF3-469F-94A5-9604EF17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A878-550E-4597-BB6B-F70256ED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66E6-2775-4F8D-A5BE-2C95E0C5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BFE3-E01E-42F2-AD0B-0B6ACFB9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D4AF-C08C-4F87-8FFE-57BA758E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93F2-CEEE-4382-922E-004D203A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5416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1A0B-D8D8-4709-84F3-F52935F4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F0BA-3658-4D53-8191-1B2A5E9B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27A9-A8F7-4171-B6BF-ED61C400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B183-30EC-476B-B87C-78201471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6631-357C-4D2C-9FA1-4C97387B8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h123.html" TargetMode="External"/><Relationship Id="rId2" Type="http://schemas.openxmlformats.org/officeDocument/2006/relationships/hyperlink" Target="file:///h123css.html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greencss.html" TargetMode="External"/><Relationship Id="rId2" Type="http://schemas.openxmlformats.org/officeDocument/2006/relationships/hyperlink" Target="file:///greencss.html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classcss.html" TargetMode="External"/><Relationship Id="rId2" Type="http://schemas.openxmlformats.org/officeDocument/2006/relationships/hyperlink" Target="file:///classcss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Separation of Style and Cont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0120" y="1257120"/>
            <a:ext cx="854712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SS = Cascading Style She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umulative effect with overrides, hence "cascading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"A simple mechanism for adding style to Web document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fonts, colours, spacing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SS applies generically to all forms of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icularly optimized for use with 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 original HTML, style was done using HTML elements and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 HTML 4, these were mostly deprecated in favour of attaching to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external style languages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not defined as part of HTM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SS is an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Definitive spe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Cascading Style Sheets, level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3366ff"/>
                </a:solidFill>
                <a:latin typeface="Times New Roman"/>
              </a:rPr>
              <a:t>http://www.w3.org/TR/REC-CS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581B-59B0-4BCE-8A19-1F99312F20C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ID as Sele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TML4 and XML allows any element to have a special "id" attribute that is unique in the doc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be used as the target for a hyper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be used to associate style properties with a particular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cs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9CCF-F8D8-4F86-8FFE-5E70B25AA97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ontextual Sele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SS can match a search pattern on a stack of open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cs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cestors, not just par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 mix and match the various types of selectors into sente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#x23a p .foo { color: red;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31C7-F84D-4F02-8F0E-4CB9653C59F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Anchor Pseudo-Cla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 hack to account for elements whose behaviour changes through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a:link { color: red } /* unvisited link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a:visited { color: red } /* visited link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a:active { color: red } /* active link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No effect on elements other than &lt;a&gt;, so 'a' may be omit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C2EC-3388-433B-A58A-1C38C801666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ypographical Pseudo-E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808992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other hack for typographically important regions of text that are not delim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-line forma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P:first-line { font-variant: small-caps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-letter (drop-caps) forma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P:first-letter { font-size: 200%; float: left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browser defines what's "in" the first letter (e.g., opening quote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"Pseudo" because it's as if the browser inserted these elements (and classes) for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seudocs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C983-B6C1-43E8-BE1A-0C0EF1FAA12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he Casc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&gt;1 style sheet can influence the presentation simultaneous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du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uthor/reader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r different properties, all matching selectors are ap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 the case of a property confli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ach rule is assigned a w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eaviest w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D8DE-EDEE-4D15-98F1-1408D8688D7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Weight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nd all declarations that apply to the element/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none, then inhe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f no inheritance, use initial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rt by presence of 'important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rt by origin (author or read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uthor overrides reader overrides browser 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rt by specificity of se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ore specific wins ('h1 p' wins over 'p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-element ('style' attribute) is the same specificity as an id-based se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rt by order spec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atter specified w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34D2-30AD-42BD-9103-EAA992C21F9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lassification prope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SS works entirely internally to classify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lies only on default values of certain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an make a &lt;p&gt; into a &lt;li&gt; (for formatting purposes) if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splay: block | inline | list-item | 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none: turns off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block: opens a new box (&lt;div&gt;) (new-line before and af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st-item: same as block with a list-item ma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line: box that can be broken at line-breaks (&lt;span&gt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hite-space: normal | pre | nowr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st-style-type, list-style-image, list-style-position, list-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CF15-3D28-4F53-ADAA-244C886CA1A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695760" y="4635360"/>
            <a:ext cx="1978200" cy="488160"/>
            <a:chOff x="3695760" y="4635360"/>
            <a:chExt cx="1978200" cy="488160"/>
          </a:xfrm>
        </p:grpSpPr>
        <p:sp>
          <p:nvSpPr>
            <p:cNvPr id="81" name=""/>
            <p:cNvSpPr/>
            <p:nvPr/>
          </p:nvSpPr>
          <p:spPr>
            <a:xfrm>
              <a:off x="3695760" y="4635360"/>
              <a:ext cx="1905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4440" y="4663800"/>
              <a:ext cx="19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element wid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Box Formatting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1244520"/>
            <a:ext cx="6540480" cy="3200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rgin (transpa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06640" y="1778040"/>
            <a:ext cx="5245200" cy="2349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55800" y="2324160"/>
            <a:ext cx="3683160" cy="1587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66"/>
                </a:solidFill>
                <a:latin typeface="Times New Roman"/>
              </a:rPr>
              <a:t>pad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83160" y="2946240"/>
            <a:ext cx="1930320" cy="77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270080" y="5235480"/>
            <a:ext cx="6565680" cy="459720"/>
            <a:chOff x="1270080" y="5235480"/>
            <a:chExt cx="6565680" cy="459720"/>
          </a:xfrm>
        </p:grpSpPr>
        <p:sp>
          <p:nvSpPr>
            <p:cNvPr id="89" name=""/>
            <p:cNvSpPr/>
            <p:nvPr/>
          </p:nvSpPr>
          <p:spPr>
            <a:xfrm>
              <a:off x="1270080" y="5270400"/>
              <a:ext cx="6565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47760" y="5235480"/>
              <a:ext cx="140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Times New Roman"/>
                </a:rPr>
                <a:t>box wid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357F-720E-4C83-980E-8EE2511E97C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Box Prope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rgin-top, margin-bottom, margin-left, margin-right, mar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dding-top, padding-bottom, padding-left, padding-right, pad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rder-top-width, border-bottom-width, border-right-width, border-left-wid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2A60-015A-47A4-AACD-10052745592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Positio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rgin width specifies min. distance to the edges of surrounding bo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ses max(left margin, right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erticalcs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t collapsed as for ver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various "auto" values used to make sum of all the width elements equal to the enclosing parent 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orizontalcs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B6A9-8706-46A4-BD57-7F06B256D77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SS Lev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SS Level 1 (implemented in NN4/6 and IE4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c,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SS Level 2 (bits and pieces being implemen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ore selectors, media-specific style sheets, content positioning, downloadable fonts, table layout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SS Level 3 (nowhere near being implemen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odu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orm elements, full-screen, fine-control of color, multi-column layout, paged medi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3E4F-B561-42EC-99A7-9748C668AC8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Floating E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loat: left | right | 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ft, right: formatted as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eft: moved to the left, text wraps on the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ight: moved to the right, text wraps on the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lear: none | left | right | b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ist sides where floating elements are not accep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.g., if 'left'. element will be moved below any left floating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cs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DCE9-CDB4-411E-B6FE-0ADE8DE1D85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Font Prope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UA (user agent = browse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kes a list of properties of all known fonts (system installed or previously downloa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or each element, UA assembles font-properties applicable to the characters of that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uses the 'font-family' to choose a tentative f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remaining properties are tested against it (e.g., size, italic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nsure glyph available for current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f matches, us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no match, repeat with next alternative matching font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no matches at all, use a UA-dependent default font-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7675-7378-4844-AC70-772FA73BAD6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Font Matc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826776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nt-style: normal | italic | obl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talic matches if keyword italic or oblique 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lse must match exa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nt-variant: normal | small-c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mall-caps satisfied if keyword present or can be synthes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nt-weight: normal | bold | bolder | lighter | 100-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lways m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nt-size: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absolut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perce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tches within UA-defined tol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calable fonts matched to within pix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bitmapped fonts matched within as much as 2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5F7D-FDFF-4146-8007-5B99CB5DD4F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Font Famil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nt-family: [family-name | generic-family]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[, [family-name | generic-family]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ody { font-family: gill, helvetica, sans-serif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eneric-fami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er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ans-ser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ur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anta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ono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ntcs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7F9A-B349-4950-BE69-0522C7A53C2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ext Prope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8013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per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ord-spacing: normal |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etter-spacing: normal |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xt-decoration: underline | overline | line-through | b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xt-transform: capitalize | uppercase | lowercase | 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xt-align: left | right | center | just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xt-indent: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perce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e-height: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perce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cs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D17A-A1BE-49E5-A792-96A81C9CBFA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Vertical Alig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ertical-align: baseline | sub | super | top | text-top | middle | bottom | text-bottom |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ercen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valigncs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8C24-4305-4F19-9922-F026D12C403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Forward Compati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lder browsers will ignore tags they don't recogni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owever, they will treat content as text to be rende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ed to enclose content in SGML comment delimi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&lt;!--   …   --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blem: won't new browsers also treat it as a com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8579-80B9-4A2B-A968-35D40C4A576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Forward Compatibility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&lt;style type="text/css"&gt; &lt;!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h1 { color: green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--&gt;&lt;/styl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&lt;style&gt; element is defined in the DTD  to contain C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quoted data - passed through unchanged by the SGML/XML par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 particular, comments are not discar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ithin CSS, &lt;!-- is not a comment character, /* */ are used inst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SS ignores &lt;!--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E0DE-0FEC-454F-B5DE-BFBE8DD1FE4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Linking CSS to XM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br>
              <a:rPr sz="3200"/>
            </a:b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&lt;!xml-stylesheet</a:t>
            </a:r>
            <a:br>
              <a:rPr sz="28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dd "style"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t must declare in D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sume.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ume.c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ume.d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0FF9-5CE2-4BD1-9864-F2A5DFED31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Linking HTML with style she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1600" y="1257120"/>
            <a:ext cx="88520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htm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hea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title&lt;/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lin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re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"stylesheet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"text/css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hre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"http://style.com/cool"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"text/css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mport url(http://style.com/basi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{ color: blue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hea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bod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&gt;Headline is blue&lt;/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"color: green"&gt;While the paragraph is green.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bod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htm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7D9D-5D05-4C28-AAD1-472DBFBABD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he CSS Langu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ing CSS, one associates style property values with XML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y element k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p&gt;, &lt;h1&gt;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y element "class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p class="my-arbitrary-class-nam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y individual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p id="a-particular-paragraph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y element in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h1&gt;This &lt;em&gt;word&lt;/em&gt; is emphas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03BC-5FD7-4CA6-B8B0-5A859E18F4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SS Gram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tylesheet: import* rulese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mport: 'import' 'url(' url ')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ulese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lector [ ',' selector]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'{' declaration [ ';' declaration]* '}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lector: simple_selector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claration: property ':' expr ['! important']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xpr: ['+' | '-']? term [ ['/' | ',' | ' ' ] term ]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DC96-F4B3-4D88-BC2E-BAA317895B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Group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e can group multiple headings, and apply a set of styles to 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123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123cs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25E4-AC64-4DD4-A763-C4B0B718B7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st styles are inherited into nested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 set a "default" style by setting property values for the &lt;body&gt;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greencss</a:t>
            </a:r>
            <a:r>
              <a:rPr b="0" lang="en-US" sz="2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F05C-D89C-4AB4-9677-CDE3A365AF1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lass as Sele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TML elements can be tagged with possibly many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yle properties can bet set across all elements of a given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classcss</a:t>
            </a:r>
            <a:r>
              <a:rPr b="0" lang="en-US" sz="2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C710-D2FE-4E15-80AC-80D03FF2018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- CS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0:39:14Z</dcterms:created>
  <dc:creator>David A. Penny</dc:creator>
  <dc:description/>
  <dc:language>en-US</dc:language>
  <cp:lastModifiedBy>penny</cp:lastModifiedBy>
  <dcterms:modified xsi:type="dcterms:W3CDTF">2001-09-25T21:36:13Z</dcterms:modified>
  <cp:revision>42</cp:revision>
  <dc:subject/>
  <dc:title>CSC309 - 14 - CSS</dc:title>
</cp:coreProperties>
</file>