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D9B8F8-4CF3-4E56-B983-71A29B97ACC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Core platform relies on an internal tree-like representation of the document, and enables you to traverse the hierarchy accordingly. The standard model of viewing a document is as a hierarchy of elements, with the computer building up an internal model of the document based on a kind of tree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Range and Traversal modules can be used on the Core platform for tree manipul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X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XML extends the Core platform for specific XML 1.0 needs such as processing instructions, CDATA, and ent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HTML DOM provides a set of convenient easy-to-use ways to manipulate HTML documents. The initial HTML DOM merely describes methods, for example, for accessing an identifier by name, or a particular link. The HTML DOM is sometimes referred to as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DOM Level 0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but has been imported into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DOM Level 1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is part includes XML-tree manipulation oriented events with the Mutation events and the Web user-oriented events with mouse events and HTM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C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CSS provides a set of convenient easy-to-use ways to manipulate CSS documents.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Vi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 document may have one or more "views" associated with it, e.g., a computed view on a document after applying a CSS stylesheet, or multiple presentations (e.g., HTML Frame) of the same document in a client. That is, a view is some alternate representation of, or a presentation of, and associated with, a source doc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512-CF88-4553-BBA6-2F5B0910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804-CC66-4E76-BD98-7DE9C77F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6DA-787F-492F-8DEB-4E6DE34A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A23-F187-4539-8E70-74DFA54A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5D5-7645-41B0-A19E-0159D3A4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D9F-949B-46CE-9278-C3188CF2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B29-0863-4198-871C-B9B7389D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7FA-89B2-416B-A209-DFC0C454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8B2-9BB4-4F7B-89B1-010AD3BC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9AE-FEFF-4035-84A6-ADF00855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880-41B1-4F17-988F-572DB13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9CE-2CD9-4282-834A-6FBBA601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9BEE-EE89-48E5-B07A-BE11EDB2E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ent-Side Scrip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far, the browser has only passively displayed co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lso possible to download a program to the browser, and have it execute on the client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vaScript / Jscript / ECMA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B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ample: JavaScript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fac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E5F-8F87-4D66-8606-1261CA5CB43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he DOM is Def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M is defined using IDL (Interface Definition Langu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was originally defined for use in COR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RMI and Microsoft DCOM can also use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L is then mapped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MAScript (JavaScript to the rest of 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53F-565B-4956-A9B3-C9E60E0C86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IDL Defi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interface HTMLTitleElement: HTMLElement { attribute DOMString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C97-E45D-43A1-9BF4-0DCD7F71BF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Java Language Bi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ackage org.w3c.dom.htm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interface HTMLTitle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extends HTMLElemen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String getTex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void setText(String tex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DA6-FCD7-437E-8421-9E32BBEBE5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JavaScript Language Bi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Object HTMLTitleEl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HTMLTitleElement has the all the properties and methods of the HTMLElement object as well as the properties and methods defined belo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The HTMLTitleElement object has the following proper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is property is of type </a:t>
            </a: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D66-B054-4225-BA91-E4EB2722E4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re -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central interface is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ains a number of factory methods for creating elements, text nodes, comments, CDATA sections, PI's attributes, and entity 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traverse the tree structure, start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Element documentEl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NodeList getElementsByTagName(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C06-EA3E-474A-92CD-A7DD401F01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re - N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presents the various types of nodes found in 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thods for traversing to nearby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thods for adding new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arious specializations for the various types of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cessingInstruction, Comment, CDATA, Notati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8BC-5EC4-46C2-A443-666B507290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M Representation of 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219320"/>
            <a:ext cx="449568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&gt;text1&lt;/B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&gt;child of C&lt;/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&gt;another child of C&lt;/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&gt;moreText&lt;/F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952880" y="1295280"/>
            <a:ext cx="3505320" cy="4803120"/>
            <a:chOff x="4952880" y="1295280"/>
            <a:chExt cx="3505320" cy="4803120"/>
          </a:xfrm>
        </p:grpSpPr>
        <p:pic>
          <p:nvPicPr>
            <p:cNvPr id="81" name="dom2" descr=""/>
            <p:cNvPicPr/>
            <p:nvPr/>
          </p:nvPicPr>
          <p:blipFill>
            <a:blip r:embed="rId1"/>
            <a:stretch/>
          </p:blipFill>
          <p:spPr>
            <a:xfrm>
              <a:off x="5181480" y="2664000"/>
              <a:ext cx="308304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952880" y="56386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M represen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1320" y="1295280"/>
              <a:ext cx="17524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24480" y="2057400"/>
              <a:ext cx="609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0080" y="4572000"/>
              <a:ext cx="609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67480" y="4572000"/>
              <a:ext cx="9907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more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2940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9400" y="2438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72400" y="4419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8B2-AF14-4717-8A7B-9C8A7859CE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M Representation of 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dom2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352680" cy="3319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324480" y="3505320"/>
            <a:ext cx="2210040" cy="2590560"/>
          </a:xfrm>
          <a:prstGeom prst="rect">
            <a:avLst/>
          </a:prstGeom>
          <a:solidFill>
            <a:srgbClr val="ff66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if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ertBefor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ve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nd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neNod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object proper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hildNodes[0]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hildNodes[2] =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firstChild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hildNodes.length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parentNode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nextSibling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nextSibling =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childNodes[1].firstChild =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parentNode.parentNode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ElementById(“id"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07F-64BB-4568-B527-3AE711D18D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lient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 is still somewhat theore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ly limited support for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6 is a big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ses of JavaScript make use of the client-side environment objects supplied (somewhat incompatibly) by the brow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C0D-E05B-4CAA-A7AA-01018000A8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cripting Languages in HTML p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rinsic event 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img src="image.gif" onclick="…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script&gt; element 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script type="text/javascript" src="script.js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depre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Courier New"/>
              </a:rPr>
              <a:t>&lt;script language="javascript" src="script.j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script type="text/javascript"&gt; &lt;!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…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javascript cod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// end of script --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no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…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alternate content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no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9DD-8415-44B3-9125-3C2FCAA8B6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.k.a. ECMA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ecma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ch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/ecma1/STAND/ECMA-262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 OO programming language for performing computations and manipulating computational objects within a hos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t intended to be computationally self-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eb browser provides an ECMAScript host environment for client-side computation including, for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, objects that represent windows, menus, pop-ups, dialog boxes, text areas, anchors, frames,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y, cookies, and input/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tp://developer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netscape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.com/docs/manuals/communicator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jsref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/contents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rther, the host environment provides a means to attach scripting cod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vents such as change of focus, page and image loading, unloading, error and abort, selection, form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ssion, and mouse 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1C0-2776-4281-887A-0ADAD2D0CF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ault Scripting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57120"/>
            <a:ext cx="86868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owser must determine the default scripting language for intrinsic event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 a META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META http-equiv="Content-Script-Type" content="</a:t>
            </a:r>
            <a:r>
              <a:rPr b="0" lang="en-CA" sz="20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ext/javascript</a:t>
            </a:r>
            <a:r>
              <a:rPr b="0" lang="en-US" sz="20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"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HTTP hea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Content-Script-Type: </a:t>
            </a:r>
            <a:r>
              <a:rPr b="0" lang="en-CA" sz="20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ext/java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therwise: document is in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lthough browsers may interpret them nonetheless but are not requir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&lt;script&gt; element scri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specify a scripting language in eac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you don't browser may interpret them noneth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B0F-89C6-4A46-9076-0AB3ED5C435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cript UR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also embed a script in a UR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</a:rPr>
              <a:t>javascript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</a:rPr>
              <a:t>: alert("hello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698-385C-4BA5-B231-60BBD516CA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cument Replac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ipts that are executed when a document is loaded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ble to modify the document's contents dynamic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&lt;script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e evaluated in order as the document is load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cript constructs within a given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&lt;scrip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that generate SGML CDATA are evaluated. Their combined generated text is inserted in the document in place of th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&lt;script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erated CDATA is re-evalua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"document.write" or equivalent statements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inv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intrinsic event handlers create and write to a new document rather than modifying the current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AFA-75AF-42B9-B904-108713BC814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cument Replacement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documents are constrained to conform to the HTML DTD both before and after processing any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script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itle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gt;Test Document&lt;/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itle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script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 type="text/javascript"&gt; document.write("&lt;p&gt;&lt;b&gt;Hello World!&lt;\/b&gt;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/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script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same effect as this HTML marku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itle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gt;Test Document&lt;/</a:t>
            </a: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title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P&gt;&lt;B&gt;Hello World!&lt;/B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2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plac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964-1A1F-4171-8663-CFF3F513C0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Netscape 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nsdom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035760" cy="50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1E1-DCC8-43B5-B3AC-26CE63B9D5A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ndow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indow object represents the window (or frame) in which a JavaScript program exec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global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following mean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 foobar = 4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ndow.foobar = 4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urier New"/>
              </a:rPr>
              <a:t>self.foobar = 4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can access the Window object of other windows/fr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14E-9F97-4EB9-BE6C-E246586B28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ample Wind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s to the HTML currently displ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s to the URL from whence it c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indow, self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, top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opener, frames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ndows in the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formation about the browser an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fo about the display on which the window is sh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istory of UR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A59-12E9-4CA2-98B0-4C69987CAF8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ample Window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ert(), confirm(), promp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cus(), blur(), close(), open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veTo(), moveBy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tInterval(), setTimeou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aler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7DD-5DB2-446A-BFCB-89AFB14593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cument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cument object is a DOM object that represents the currently displayed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dom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set of colour buttons use deprecated DOM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set of buttons set stylesheet col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3F5-5FB4-44C1-A0D5-DA5DBA0BE1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ynamic 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1 and CSS-P (CSS - Positioning) are scriptable from Java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lows HTML elements to float around and grow and shr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erged in the CSS2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dynamic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owser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tscape prematurely supported the &lt;layer&gt; tag in NN4. Not included in the final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E4 supports CSS-P quit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ose slightly different APIs to 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D6E-82AA-4F3F-B52B-CABBF88E23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ionship to Ja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origina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ve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ater renamed to JavaScript at the last min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vented by Brendan Eich at Net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ived competition with Sun Microsystems Java for client-side scrip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crosoft has a similar thing called J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draw, multi-thread, network or do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interact with Browser or control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9EA-61B0-411A-B817-FD69F865F5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lient-Side JavaScri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interact with the host environment, there needs to be an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w3.org/TR/REC-DOM-Level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owser-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tscape &amp; Microsoft stay somehwat in-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eed a reference that distinguishes NN, IE, DOM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O'Reilly Dynamic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use only common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tp://developer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netscape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.com/docs/manuals/communicator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jsref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/contents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29D-CE74-4029-AB34-02C72A8C03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avaScript Secu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nguage/API limi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 file/directory access defined in th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 network access e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load UR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send HTML form data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web servers, CGI scripts, e-mail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eaves privacy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ny restri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nnot read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nnot hide/show menubar, status line, scrollbars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nnot close a window not opened by it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'same origin policy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can only read props of documents and windows from the same place: host, port,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5B7-7182-4CC4-B687-86C2DDC98D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igned Scrip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tter set of restrictions can be re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 certain cases explicit dialog boxes will ask for user confi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close() other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 other cases user can grant privileges to signed scripts (more on this later in the cour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versalBrowser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versalFilere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versalSend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versalPreferences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7BE-8A48-4896-B85F-91FC4B9D02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 Object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3C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Document Object Model is a platform- and language-neutral interface that allows programs and scripts to dynamically access and update the content, structure and style of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document can be further processed and the results of that processing can be incorporated back into (or even replace) the presented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EF7-EDE6-4E89-9A51-1D9D96272A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OM Level 1 now being fully implemented in IE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wo pa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minimal set of objects and interfaces for accessing and manipulating document object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(mainly XML orien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ds the Level 1 Core API to describe objects and methods specific to HTML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ey differences between the core DOM and the HTML application of DOM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TML Document Object Model exposes a number of convenience methods and properties that are consistent with the existing models and are more appropriate to script writ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many cases, these enhancements are not applicable to a general DOM because they rely on the presence of a predefined DT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5B7-6EB9-4742-997D-AB5649009A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 Level 2 (Nov., 2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DOM Level 2 Architecture"/>
          <p:cNvPicPr/>
          <p:nvPr/>
        </p:nvPicPr>
        <p:blipFill>
          <a:blip r:embed="rId1"/>
          <a:stretch/>
        </p:blipFill>
        <p:spPr>
          <a:xfrm>
            <a:off x="755640" y="1125360"/>
            <a:ext cx="7775640" cy="516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DD51-1CF0-4166-82C9-28016AAFEA4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- JavaScri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14:52:32Z</dcterms:created>
  <dc:creator>David Penny</dc:creator>
  <dc:description/>
  <dc:language>en-US</dc:language>
  <cp:lastModifiedBy>penny</cp:lastModifiedBy>
  <dcterms:modified xsi:type="dcterms:W3CDTF">2001-10-15T15:48:15Z</dcterms:modified>
  <cp:revision>23</cp:revision>
  <dc:subject/>
  <dc:title>CSC309 - 21 - JavaScript</dc:title>
</cp:coreProperties>
</file>