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0545-945A-41B0-B1AE-548C88EC4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1780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43A9-4DBC-46AA-A809-79D39DF8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FA39-DAD3-4615-95A5-860ABD1D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7764-884E-4140-ADEB-076CB42DF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1EDC-7B5B-4B2C-9DFE-EAE2B65D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19D5-8F54-4682-850D-1D0243CB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FBCB-5299-4BAB-9297-5731F720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FFAE-FD72-4F18-9455-083A73A8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5416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C270-8354-4804-A7D1-59B8831C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B935-728F-4574-9DC0-939F0BCE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7A2B-AFC4-4340-A8BB-1508581A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E136-F228-4623-8DD7-E3877777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7952-1807-4676-BC84-D3052EB92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ebreview.com/browsers" TargetMode="External"/><Relationship Id="rId2" Type="http://schemas.openxmlformats.org/officeDocument/2006/relationships/hyperlink" Target="http://www.webreview.com/browsers" TargetMode="External"/><Relationship Id="rId3" Type="http://schemas.openxmlformats.org/officeDocument/2006/relationships/hyperlink" Target="http://www.webreview.com/browsers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he World Wide W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lies on the Intern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AN (Local Area Network) connected via e.g., Ethernet (physical address: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00-B0-D0-3E-51-BC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P (Internet Protocol) for bridging separate physical networks (IP address: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128.100.27.199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P (Transmission Control Protocol) for (fairly) reliably sending streams of bytes to various TCP ports on an computer on an IP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NS (Domain Name Service) for translating names and domains into IP addresses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penny.cs.toronto.edu = 128.100.27.199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uch more later in the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76C8-EF41-487B-B5D4-DED324D92EC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 - World Wide Web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Compati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ackwards Compat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ld documents work on new brow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ust continue to allow deprecated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ust continue to support older syn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wards Compat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ld browsers can render newer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requires hacks in the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deways Compat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fferent browsers can render the same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need for 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8B5F-72D6-4F03-B9B2-FC00237EA11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 - World Wide Web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Cop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ndards are evolving rapi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en designing Web pages, one must always be aware of the lowest common denominator and make the pages act reasonably for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e should not design for the latest and grea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..e, IE5.5 1024x768 32-bit col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nless for use in a controlled Intrane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lang="en-CA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CA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ebreview</a:t>
            </a:r>
            <a:r>
              <a:rPr b="0" lang="en-CA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com/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 this course, for simplicity, you may assume a fixed environment (that on CDF) as for a corporate intra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61EB-D893-4181-957F-1F83E96C861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 - World Wide Web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RPANet online in '6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P/IP selected as standard protocol in '8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SFNet widely deployed in '8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u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el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e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93A1-2058-46A1-85CB-4EC8737CABF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 - World Wide Web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m Berners-Lee at CERN proposal in '89 to have a CERN Intranet so researchers could find results of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ased on earlier Hypertext work dating back to '69, but especially work in '85 at Xerox (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NoteCards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) and '87 at Apple (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HyperCar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 collection of protocols for moving content a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specially http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hypertext transport protoc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ntained by the W3C (world-wide-web consortium) (http://www.w3.or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'93 Mosaic from NCSA: X11 on UN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44BD-9CAA-41E0-A772-AF38A27129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 - World Wide Web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Browsers and Serv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Ser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icrosoft IIS, Apache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Browsers (cli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tscape, Microsoft IE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RLs (Uniform Resource Loca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&lt;scheme&gt;:&lt;scheme-specific-par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http:&lt;http-specific-par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http://&lt;fully-qualified-domain-name&gt;/&lt;pat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http://www.cs.toronto.edu/~penny/teaching/csc3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ME (Multipurpose Internet Mail Extens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&lt;type&gt;/&lt;subtyp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ext/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EC26-8844-480B-9B49-D6A7BBF8C2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 - World Wide Web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Static Client C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 URL is typed into a client brow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http://www.cs.toronto.e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NS is used to translate the name into an IP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128.100.1.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client browser makes a connection to TCP port 80 on the server machine and sends an HTTP GET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Web server running on 'christie.cs' fetches a default page and returns it to the 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he response header indicates the MIME type of the data (often 'text/html') and the character encoding (often 'iso-8859-1') and the browser sets to work displaying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erver may have it's way with your Web page before sending it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.g., forwar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CBE1-2FE0-4BEF-9FBA-DF6FC63409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 - World Wide Web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ry i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27000" y="1091880"/>
            <a:ext cx="668016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Courier New"/>
              </a:rPr>
              <a:t>telnet www.cs.toronto.edu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Trying 128.100.1.32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Connected to christie.cs.toronto.ed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Escape character is '^]'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Courier New"/>
              </a:rPr>
              <a:t>GET /. HTTP/1.0 \n\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HTTP/1.1 200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Date: Mon, 10 Sep 2001 16:08:47 G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Content-Length: 32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Content-Type: test/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urier New"/>
              </a:rPr>
              <a:t>Connection closed by foreign ho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5963-5B5C-4EA2-9311-1B73135BA4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 - World Wide Web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Dynamic Client C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ame as the above, but the page contains references to code that executes within the brow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JavaScri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Java App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ash plu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ecurity is always an issue with dynamic client cont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keeping the client machine safe from intru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BC24-B0CC-4C18-B018-96B976C803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 - World Wide Web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Dynamically Served Cont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quests for certain pages result in programs being run on the serve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hese programs generate information that then gets returned to the browser (usually text/htm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mmon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GI with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"common gateway interfac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HTTP GET/POST methods used to send client-entered data to the server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erver-side inclu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, J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Java Servl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ecurity also an issue, but the other w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keeping the server machine safe from intru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165A-602A-4E66-B04F-A26AF7FA30A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 - World Wide Web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N-Tiered Web Archite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e main purpose of dynamically served content are the side-ef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cess to 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cess to a local fil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cess to a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 also have access to a custom-written server pr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"3-tiered" or "n-tiered"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2492-5057-46C5-8DB2-C98051608B8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 - World Wide Web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0T20:39:14Z</dcterms:created>
  <dc:creator>David A. Penny</dc:creator>
  <dc:description/>
  <dc:language>en-US</dc:language>
  <cp:lastModifiedBy>penny</cp:lastModifiedBy>
  <dcterms:modified xsi:type="dcterms:W3CDTF">2001-09-10T19:30:40Z</dcterms:modified>
  <cp:revision>33</cp:revision>
  <dc:subject/>
  <dc:title>CSC309 - 01 WWW intro</dc:title>
</cp:coreProperties>
</file>