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DCCCB0-E855-4CB6-A1E5-D36ED6302F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show them to get an idea of what they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ck for mo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566-7D0B-4B32-B94D-E3E7B10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FE1-BED3-4E89-9BE1-CA2464A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9F8-0BCF-4A5C-AEE3-48E83313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04C-CEAC-4565-BE43-7ECC228F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F2E-C30D-4399-8D05-89C876F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3B8-CD5B-49A5-B24B-500FEE02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25E-51B8-4353-A3AF-6633177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059-E580-4FF8-95CA-B4215438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B09-14D2-4A25-B2E2-55CFB32B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D9C-DC22-470D-9DDA-E8E6712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35B-56FB-497F-81FF-E25D9F1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7F7-195E-4785-85F6-ECEB9174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56F-95F2-4B0F-B18A-2DB6C1826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3.org/TR/REC-xml" TargetMode="External"/><Relationship Id="rId2" Type="http://schemas.openxmlformats.org/officeDocument/2006/relationships/hyperlink" Target="http://www.xml.com/axml/axml.html" TargetMode="External"/><Relationship Id="rId3" Type="http://schemas.openxmlformats.org/officeDocument/2006/relationships/hyperlink" Target="http://www.xml.com/axml/axml.html" TargetMode="External"/><Relationship Id="rId4" Type="http://schemas.openxmlformats.org/officeDocument/2006/relationships/hyperlink" Target="http://www.xml.com/axml/axml.html" TargetMode="External"/><Relationship Id="rId5" Type="http://schemas.openxmlformats.org/officeDocument/2006/relationships/hyperlink" Target="http://www.xml.com/axml/axml.html" TargetMode="External"/><Relationship Id="rId6" Type="http://schemas.openxmlformats.org/officeDocument/2006/relationships/hyperlink" Target="http://www.xml.com/axml/axml.html" TargetMode="Externa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ntitydtd.xml" TargetMode="External"/><Relationship Id="rId2" Type="http://schemas.openxmlformats.org/officeDocument/2006/relationships/hyperlink" Target="file:///entitydtd.xml" TargetMode="External"/><Relationship Id="rId3" Type="http://schemas.openxmlformats.org/officeDocument/2006/relationships/hyperlink" Target="file:///entitydtddtd.html" TargetMode="External"/><Relationship Id="rId4" Type="http://schemas.openxmlformats.org/officeDocument/2006/relationships/hyperlink" Target="file:///entitydtddtd.html" TargetMode="External"/><Relationship Id="rId5" Type="http://schemas.openxmlformats.org/officeDocument/2006/relationships/hyperlink" Target="file:///entitydtddtd.html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sumenoxsl.xml" TargetMode="External"/><Relationship Id="rId2" Type="http://schemas.openxmlformats.org/officeDocument/2006/relationships/hyperlink" Target="file:///resume.xm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resume.xml" TargetMode="External"/><Relationship Id="rId2" Type="http://schemas.openxmlformats.org/officeDocument/2006/relationships/hyperlink" Target="file:///resumexsl.html" TargetMode="External"/><Relationship Id="rId3" Type="http://schemas.openxmlformats.org/officeDocument/2006/relationships/hyperlink" Target="file:///resumexsl.html" TargetMode="External"/><Relationship Id="rId4" Type="http://schemas.openxmlformats.org/officeDocument/2006/relationships/hyperlink" Target="file:///resumecss.xml" TargetMode="External"/><Relationship Id="rId5" Type="http://schemas.openxmlformats.org/officeDocument/2006/relationships/hyperlink" Target="file:///resumecss.html" TargetMode="External"/><Relationship Id="rId6" Type="http://schemas.openxmlformats.org/officeDocument/2006/relationships/hyperlink" Target="file:///resumecss.html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resumenoxsl.x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sumedtd.xml" TargetMode="External"/><Relationship Id="rId2" Type="http://schemas.openxmlformats.org/officeDocument/2006/relationships/hyperlink" Target="file:///resumedtd.x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itive specification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w3.org/TR/REC-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xml.com/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axml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axml</a:t>
            </a:r>
            <a:r>
              <a:rPr b="0" lang="en-CA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.html</a:t>
            </a:r>
            <a:r>
              <a:rPr b="0" lang="en-CA" sz="2400" spc="-1" strike="noStrike">
                <a:solidFill>
                  <a:srgbClr val="3366ff"/>
                </a:solidFill>
                <a:latin typeface="Times New Roman"/>
              </a:rPr>
              <a:t> (annot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tensible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subset of SG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able generic SGML to be served, received and processed on the Web as fo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ign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ase of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roperability with SGML and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A15-259C-4A9E-A023-1B6655AA4A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ix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ed: ( #PCDATA [ '|' name]* )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#PC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b/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hello world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#PCDATA|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text &lt;a&gt;more&lt;/a&gt;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94C-D82C-4369-898D-44C705D80B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ttribute-List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to associate name-value pairs with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ttribute specifications may appear only within start-tags and empty-element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&lt;!ATTLIST tag-name att-def*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def: att-name att-type att-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default: #REQUIRED | #IMPLIED | [#FIXED] "valu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t-type: CDATA | builtin | ( token ['|' token]*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iltin: ID | ENTITY | NMTOKEN |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305-3CEF-48E9-8B3E-9E0977AFB9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ttribut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ATTLI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id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ID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name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CDATA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IM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type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(A|B|C) 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"C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kind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(ka|kb)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#FIXED "ka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name="david" type="A" kind="ka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  type="c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a id="mya"  kind="kb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F75-6A6E-4690-8228-56D34A6704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257120"/>
            <a:ext cx="83185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!ENTITY [%] name entity-valu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threeOverFour "&amp;#190;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% versionnumber "4.3.2.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!ENTITY version "Version %versionnumber;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amp;version; and &amp;threeOverFo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ntity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.xm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using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entity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200-BCD2-4045-BC14-399B582431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ternal Ent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9040" y="1257120"/>
            <a:ext cx="8369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sed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ENTITY toinclude SYSTEM "file.xm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amp;toinclu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parsed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NOTATION jpeg SYSTEM "Joint Photographic Experts Group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dogpic SYSTEM "dog.jpeg" NDATA jpe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LEMENT dog EMP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ATTLIST dog picture ENTITY #REQUIR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dog picture="dogpic"/&gt; 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i="1" lang="en-CA" sz="2000" spc="-1" strike="noStrike">
                <a:solidFill>
                  <a:srgbClr val="3333cc"/>
                </a:solidFill>
                <a:latin typeface="Times New Roman"/>
              </a:rPr>
              <a:t>&lt;!--can ONLY appear here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amp;dogpic; 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i="1" lang="en-CA" sz="2000" spc="-1" strike="noStrike">
                <a:solidFill>
                  <a:srgbClr val="3333cc"/>
                </a:solidFill>
                <a:latin typeface="Times New Roman"/>
              </a:rPr>
              <a:t>&lt;!--forbidden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1C7-6A0D-4C90-8ED7-F2E22C1A40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ntity Replacement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eral entit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quoted string actually present in the entity decl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lacement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literal entity value after replacement of character references and parameter-entity values (but not general entity refer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for mix and match of DTDs by documen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293-903E-4805-A414-F828641DE9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e-defined Entit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lt    "&amp;#38;#60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gt    "&amp;#62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amp   "&amp;#38;#38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apos  "&amp;#39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33cc"/>
                </a:solidFill>
                <a:latin typeface="Courier New"/>
              </a:rPr>
              <a:t>&lt;!ENTITY quot  "&amp;#34;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the XML processor parses the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l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t stores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#60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s its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lt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s used in the document, it therefore expands to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amp;#60;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the five bytes)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d not to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(the one byte) which would start a start t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necessary for the &gt; and qu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l XML processors must recognize these entities whether they are declared or 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f they are declared, they must be declared as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ll Unicode numeric entities are recognized by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591-C374-4CCC-955F-EDCDEA08B3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'&lt;?' Processing Instru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XML, tags starting with &lt;? are knows as "PI's": process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se are passed through without hand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&lt;?xml …&gt; are special, reserved process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first thing in any XML document is the XML declaration which states the XML standard being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&lt;?xml version="1.0"</a:t>
            </a:r>
            <a:r>
              <a:rPr b="0" lang="en-CA" sz="2400" spc="-1" strike="noStrike">
                <a:solidFill>
                  <a:srgbClr val="3333cc"/>
                </a:solidFill>
                <a:latin typeface="Courier New"/>
              </a:rPr>
              <a:t>?</a:t>
            </a:r>
            <a:r>
              <a:rPr b="0" lang="en-US" sz="2400" spc="-1" strike="noStrike">
                <a:solidFill>
                  <a:srgbClr val="3333cc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962-2BAE-40FD-8291-1BE756895C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?xml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lso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lone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?xml standalone="yes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there is no external DTD which affects the information passed from the XML processor to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encoding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&lt;?xml encoding="UTF-8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013-34E6-4703-9E38-F5213141EC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ylesheet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7520" y="1257120"/>
            <a:ext cx="8483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important PI is the one that associates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styleshee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th an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?xml-stylesheet type="text/xsl" href="resume.xsl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?xml-stylesheet type="text/css" href="resume.css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Web browser is an example of an application that reads XML and processes it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above PI tells the browser what type of stylesheet to apply and where to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SS = cascading styl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straightforward forma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more powerful - generic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specially into 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BB1-81C1-410B-853B-25E13FEEC9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new basis for defining HTML = 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oring and transmitting struct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r coupling application file formats: input and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or the content of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e also SOAP for OO R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 a basis for standardizing data in the semantic re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how to describe a financial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lows for arbitrary XML to XML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lating data amongst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lating data into XHTML for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aw XML: </a:t>
            </a:r>
            <a:r>
              <a:rPr b="0" lang="en-CA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ocessed using XSL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resume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4BE-5C59-42C3-BF5E-590526F554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amples of Style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is version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resume.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is version of </a:t>
            </a:r>
            <a:r>
              <a:rPr b="0" lang="en-CA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resume.xm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resume.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D13-78B8-4A4D-BA21-4FA97B386C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DATA S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escape blocks of text containing characters which would otherwise be recognized as mar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[CDATA[&lt;greeting&gt;hello, world!&lt;/greeting&gt;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tags recognized as character data, not mar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pecially useful for inserting whitespace which would otherwise be gobbled up by an XML par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[CDATA[ ]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4E-1285-4B1F-8CAF-7B3B042D4B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Pre-defined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5680" y="1257120"/>
            <a:ext cx="8432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ATTLIST p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xml:space (default|preserve) "preserv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xml:lang NMTOKEN #IMPLIED "f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pecification gives special meaning to the attributes xml:space and xml: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be declared before being used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ml:space indicates if XML processor should preserve white space in tags or process it normally (Usually means collapsing and/or re-forma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xml:lang is a standardized hint to the application as to the language of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-letter language codes ISO6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2-letter country codes ISO31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anguage identifiers registeres with the Internet Assigned Numbers Authority (IANA-LANGCO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180-1EA6-4147-92E0-981591B161C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to avoid name collisions when many are defining their own XM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XML namespace is a collection of names, identified by a URI reference, which are used in XML documents as element types and attribut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DBD-A1BF-469B-AED0-5051DD5428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eclaring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a family of reserved attrib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n attribute's name must either b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ml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hav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xmln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pref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xmlns' sets a default 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xmlns:' is used to declare a namespace which will be used in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5BF-D07F-4C52-97C0-F83BE04073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Qualified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mespace prefix : local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namespace prefix maps to a namespace U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html xmlns:html='http://www.w3.org/TR/REC-html4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tml:title&gt;title&lt;/html: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: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: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vailable in that element and all nested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9BC-0AE0-4535-9D94-AFEE1CE1F14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efault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 default can be set for a tag and all its nested ta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 xmlns="http://www.w3.org/1999/xhtml"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title&gt;title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default applies to the element in which it is delcared, and all nest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d they have no namespace pre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CCC-F9B8-4850-AC53-991139F769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eaning of Namespace URI'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meaning: an arbitrary set of characters following certain formatting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ould be used to point to a document that describes (any way you want) the tags available in that 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DE0-E62E-494E-BDC0-1108FFB189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Referenc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597560"/>
            <a:ext cx="1003320" cy="14475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43280" y="2946240"/>
            <a:ext cx="1536480" cy="1054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0320" y="1346040"/>
            <a:ext cx="1536840" cy="1054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05040" y="2400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05040" y="3962520"/>
            <a:ext cx="0" cy="622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960" y="2629080"/>
            <a:ext cx="4178160" cy="88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33440" y="1959120"/>
            <a:ext cx="39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Simple API for XML Pars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4200" y="2606760"/>
            <a:ext cx="3076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OM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Document Object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aw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65600" y="4237200"/>
            <a:ext cx="42670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 of the power of XM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BB6-A8E8-43E8-8B02-C0BB02DCA3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 Syntactic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5040" y="1257120"/>
            <a:ext cx="78487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nt tag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!-- …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 tag: 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tagname attribute="value" …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tag: 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/tag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ty element tag: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lt;tagname attribute="value" …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tity reference: </a:t>
            </a: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&amp;entity-re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cessing instruction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? … ?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ctype declaration: </a:t>
            </a:r>
            <a:r>
              <a:rPr b="0" lang="en-CA" sz="2800" spc="-1" strike="noStrike">
                <a:solidFill>
                  <a:srgbClr val="3333cc"/>
                </a:solidFill>
                <a:latin typeface="Arial"/>
              </a:rPr>
              <a:t>&lt;! ..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693-32C4-4CA2-A794-BAAB710A70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ags Must N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gs must 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test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&lt;a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1" lang="en-CA" sz="2800" spc="-1" strike="noStrike">
                <a:solidFill>
                  <a:srgbClr val="3366ff"/>
                </a:solidFill>
                <a:latin typeface="Courier New"/>
              </a:rPr>
              <a:t>&lt;c&gt;</a:t>
            </a: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words</a:t>
            </a:r>
            <a:r>
              <a:rPr b="1" lang="en-CA" sz="28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1" lang="en-CA" sz="2800" spc="-1" strike="noStrike">
                <a:solidFill>
                  <a:srgbClr val="3366ff"/>
                </a:solidFill>
                <a:latin typeface="Courier New"/>
              </a:rPr>
              <a:t>&lt;/c&gt;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  &lt;/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D40-9F6E-4250-ACD7-58960DB849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ocument Type Decl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XML DTD contains or points to markup declarations that provide a rudimentary grammar for a class of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lement typ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ttribute-list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ttributes that go with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tity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 reference to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specially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73A-5B60-4782-BB22-F71ADB8D5D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&lt;!DOC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SYSTEM "test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Courier New"/>
              </a:rPr>
              <a:t>markupdecl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!DOCTYPE test SYSTEM "test.dtd" 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CA" sz="2000" spc="-1" strike="noStrike">
                <a:solidFill>
                  <a:srgbClr val="000000"/>
                </a:solidFill>
                <a:latin typeface="Courier New"/>
              </a:rPr>
              <a:t>markupdecl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name given must be the same as the root element type of the XML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sumedtd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634600">
            <a:off x="4995000" y="3444840"/>
            <a:ext cx="34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lled the "internal subse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429000" y="3809880"/>
            <a:ext cx="1409760" cy="29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005-2986-47C5-8537-8165109FCC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lement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lt;!ELEMENT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ag-n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clares a new element t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l tag names should be declared (but not an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tent: EMPTY | ANY |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mixe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&lt;!ELEMENT a EMP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l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hello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&lt;b&gt;&lt;/b&gt;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   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&gt;&lt;/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a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D3A-0773-4C27-94C4-0622C3FFF3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ildren: [choice|sequence] [?|*|+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oice: ( cp [ '|' cp]+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quence: ( cp [',' cp]*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p: [name|choice|sequence] [?|*|+]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Arial"/>
              </a:rPr>
              <a:t>&lt;!ELEMENT a (b,(c|d)+)+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b/&gt;&lt;b/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a&gt; &lt;b/&gt;&lt;c/&gt;&lt;d/&gt; &lt;b/&gt;&lt;d/&gt; 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796-5907-40AE-A2D4-51CCD623BA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-XM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1T19:04:05Z</dcterms:modified>
  <cp:revision>29</cp:revision>
  <dc:subject/>
  <dc:title>CSC309 - 12 - XML</dc:title>
</cp:coreProperties>
</file>