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A81-2EC2-40E6-8C2C-6EB68DE1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449-0454-48E0-A676-7E832077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CBC-5903-4642-BE0B-08980A6F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F4C-4EDD-4A6E-B89A-20D85C09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234-C97E-44FC-87B6-94C49E14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B5C-4941-4272-953B-FA87B6D0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6FD-0EB3-46F5-A996-DB3D7D7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F5D-6412-40A8-8C96-DC944F8F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498-170B-4E17-9156-CF725762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7CB-C554-46C6-87E1-C74F6789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3AF-76C7-4C27-9406-1EA405A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35E-CBF9-4FC9-86DA-527BACDB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2072-9CF2-484C-AECD-8A465EB23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icode.org/" TargetMode="External"/><Relationship Id="rId2" Type="http://schemas.openxmlformats.org/officeDocument/2006/relationships/hyperlink" Target="http://www.unicode.org/" TargetMode="External"/><Relationship Id="rId3" Type="http://schemas.openxmlformats.org/officeDocument/2006/relationships/hyperlink" Target="http://www.unicode.org/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iso8859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zyborra.com/" TargetMode="External"/><Relationship Id="rId2" Type="http://schemas.openxmlformats.org/officeDocument/2006/relationships/hyperlink" Target="http://czyborra.com/" TargetMode="External"/><Relationship Id="rId3" Type="http://schemas.openxmlformats.org/officeDocument/2006/relationships/hyperlink" Target="http://czyborra.com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nternation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'i18n' for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als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xt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rting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lend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Web must be i18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835-A7AE-4E8D-BAE7-BB703FDDD3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nicode Surrogat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2048 escape slots to make room for 1,048,576 extra characters (less commonly used) via "surrogate pair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ne us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800-DBFF   followed by   DC00-DF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meaning in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C3E-AE24-4180-9B77-79EDB8ABA6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Unicode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5080" y="1142640"/>
            <a:ext cx="71881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icod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025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TIN SMALL LETTER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OTLESS J WITH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voiced palatal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ypographically a turned f,but better thought of as a form of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"gy" in Hungarian orth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lso archaic phonetic for palatoalveolar affricate 02A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38920" y="1600200"/>
          <a:ext cx="1712880" cy="218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38920" y="1600200"/>
                    <a:ext cx="171288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0" y="3873600"/>
          <a:ext cx="1790640" cy="220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873600"/>
                    <a:ext cx="1790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1378080"/>
          <a:ext cx="1763640" cy="2298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1378080"/>
                    <a:ext cx="176364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689-5727-4BA4-BB28-70EBDFA60B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nicode Design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57120"/>
            <a:ext cx="4584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6-bit characters (most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-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aracters, not gly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mantics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p lower to 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ps mirrored character (  ),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dicates numeric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dicates dire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s a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lain text (no format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ogical order (storage order = typing order not= display order necessari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59400" y="1257480"/>
            <a:ext cx="45846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fied characters (complex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ynamic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2 16-bit code elements to do, e.g., acc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quivalenc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re than one way to form accent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tandard states must be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1C8-BDAF-4546-B85C-4D2CC2F055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nicode Encoding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16 (a.k.a.) UCS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ault UNICODE encod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uited for storing UNICODE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dal encoding method for UNICODE that uses only first 7-bits of a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-bit, variable-length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1, 2, or 3 points could represent a UNICODE code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CII compa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67E-E49D-4EE8-9D36-C1C4C232E7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TF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87320" y="1397160"/>
          <a:ext cx="7823160" cy="3632040"/>
        </p:xfrm>
        <a:graphic>
          <a:graphicData uri="http://schemas.openxmlformats.org/drawingml/2006/table">
            <a:tbl>
              <a:tblPr/>
              <a:tblGrid>
                <a:gridCol w="3911760"/>
                <a:gridCol w="39114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CS-2 Encoding 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F-8 Bit Patter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u0000 - \u007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xxxx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u0080 - \u07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0xxxxx 10xxxx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u0800 - \uFFF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10xxxx 10xxxxxx 10xxxx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2FB-B02E-47CA-8691-5F2E33995B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oosing an En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monly used character encodings on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O-8859-1 (Latin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O-8859-5 (supports Cyrill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IFT_JIS (a Japanese enco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UC_JP (another Japanese enco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TF-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forming UA's must correctly map supported encodings to UNI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FEF-1D19-4942-88BD-FFBE97AE81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pecifying the character en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the HTT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ent-Type: text/html; charset=EUC-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rver must somehow determine encoding of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address server or config limitations, HTML documents may include explicit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EUC-JP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y only be used where the character encoding is ASCII compatible (at least until the META element is par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opening a local file, wouldn't expect this to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lthough it does on Netscape 4 (parses the meta ta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ertainty, may include a 'charset' attribute on an element that designates an external 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C11-E861-4220-966E-22587A4CC7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Using UCS-2/UTF-16 En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help out the UA, the first code element should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\uFE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M = byte order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zero-width no-break space in UNI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this character, the UA can as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yte ordering of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ught to be network byte order, but just in case it's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at the file must be UTF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 valid character byte FE or FF in most (all?) encod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E45-45BA-4065-A12C-1A0DD34F73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aracter 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09188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umeric (decimal or h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#D; refers to UNICODE char decimal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#xH; refers to UNICDE char hex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&amp;#229 = &amp;#xE5 = &amp;#Xe5 = 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Entity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ic names rather than code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efine them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lt; =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to escape the &l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nbs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n-breaking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cop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pyright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4CA-AB20-4BBE-9C57-20AB1D5413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following file inserts a symbol in 3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#19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amp;#frac3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raw byte 190 inserted into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haracter encoding should only effect the way the last character is displa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so8859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ange encoding to Cyrillic (ISO-8859-5) to get a big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ange encoding to Greek (ISO-8859-7) to get a big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166-1366-43E8-ABEC-AA89D13F9A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haracter Encod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 S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collection of characters grouped 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de point 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abstrac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.g. the letter 'e' as used in Engl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way of encoding code points into a byte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yte stream 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c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collection of "pictu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de point 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gly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82B-A9C6-4BAD-83B4-264A2A09F3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ingle-Byte Code 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9800" y="1257120"/>
            <a:ext cx="83692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merican Standard Code for Information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7-bit code (0-1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SO-8859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 set of 8-bit codes backwards compatible with 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96 extra character sl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SO-8859-0 through ISO-8895-15 (new defa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.g., ISO-8859-1 / Latin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Afrikaans, Albanian, Basque, Catalan, Danish, Dutch, English, Faroese, Finish, French, German, Icelandic, Irish, Italian, Norwegian, Portuguese, Rhaeto-Romanic, Scottish, Spanish, Swahili, Swed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Default code set for 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SO-8859-6 (Arabic) and ISO-8859-7 (Greek) do not fully handle all their respective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1C7-EB3B-4238-8E10-269020B48F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SO-885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aracters 0-127 identical to US-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28-159 for less-used control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O-64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pper portions of charsets 160-255 differ for each var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od information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zyborra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30F-72BD-41FD-9FFE-93F7C94BA0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SO-8859-1 (Latin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so8859-1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344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4120" y="4714920"/>
            <a:ext cx="65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tin1 is also the first page of ISO-10646 (Uni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3F4-8189-450C-B009-596E4EBF40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SO-8859-5 (Cyrilli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so8859-5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34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F27-95ED-4B8E-A41A-265BCEC064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so8859-6" descr="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3443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SO-8859-6 (Arabi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601-8540-4A9F-BB72-93C7548D76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Multibyte Code 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256 characters cannot handle the tens of thousands of characters used in languages such as Chinese, Japanese, and Korean (CJ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32-bits handles up to 4 billion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than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2F9-E29F-44B2-B44E-F7FFF0D55C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Unicode Stand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2440" y="109188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ines a code set with a fixed-width, 16-bit character encoding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racters from all the world's major scripts are uniformly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can combine Arabic, French, Japanese, and Russian characters all in the same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ven musical symbols, mathematics, dead languages, ecclesiastical script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65,536 unique slots (16-b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tal estimated # characters since the start of writing = 5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059-A197-46CF-A306-DCAB37D5DC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- Unicod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17T15:51:44Z</dcterms:modified>
  <cp:revision>42</cp:revision>
  <dc:subject/>
  <dc:title>CSC309 - 11 - Unicode</dc:title>
</cp:coreProperties>
</file>