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96D7-DFB4-4276-B1FE-D581A5331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1780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EC04-493B-4B3A-B73E-A4DA3DDD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DD56-2377-4C5A-967E-1C1D12CA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81D6-838D-4A45-9F5A-5B7D0C40C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5E6B-0FDA-47D0-BB0B-1C142397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CDF2-2DFE-4AB6-B00F-9623E7BA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5211-9B06-4DA5-89F3-012C7CC6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7D58-E2C9-47D4-88FE-25187F37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5416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8B0B-3E4C-48D4-B69B-1DBF1B5E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907F-0E6A-4D8B-8047-0476D871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655A-8B6E-42BF-8F5E-BC28D5D7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D0D3-9519-4E8B-AA89-30F7AB32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46C8-FC9C-4883-AD33-FF97C42C8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resume.html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resume.x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3.org/Consortiu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yperText Markup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 SGML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Standardized General Markup Langu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TML is an instance of an SGML language specifically intended to markup general types of doc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 comprom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GML applications intended to be more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.g., recipe markup, resume mar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w XHTML = an XML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8EF0-8FC0-4F63-B1E5-6BB868FA215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 - HTML Intro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Syntax of XHTML 1.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orming to XML syntax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3C XML 1.0, October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nd 1 of 3 XHTML 1.0 DTD (Document Type Defini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3C XHTML 1.0 Jan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tr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ayout-tag and frame-free.  Use with CSS for lay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ransi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ompatible with 4.01 no 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e.,g., &lt;body bgcolor="red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rame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ransitional + 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C13F-68EE-427C-8CE4-903D2982FC1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 - HTML Intro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Strict XHTM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12697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?xml version="1.0"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 encoding="iso-8859-1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DOCTYPE html PUBLIC "-//W3C//DTD XHTML 1.0 Frameset//EN" "DTD/xhtml1-frameset.dtd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html xmlns="http://www.w3.org/1999/xhtml" xml:lang="en" lang="en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meta http-equiv="Content Typ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tent="text/html; charset=iso-8859-1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itle&gt;A Document&lt;/tit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&gt;A paragraph&lt;/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1640" y="12445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o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1200" y="21463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70BD-99F5-4B6C-9E9F-13A6ADF2059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 - HTML Intro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Content no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3840" y="1104480"/>
            <a:ext cx="8572320" cy="50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riginally, HTML, as inspired by SGML, was intended to markup content, not specify formatting instru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resum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e job of the Web browser is to render the marked-up content into human-readable out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 addition, SGML always assumed the presence of tools to create the SGML as well as display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ame with HTML: but, many prefer straight text editing because of tool limi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9D3A-1FE3-47DA-85B3-12460C74FE7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 - HTML Intro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Trouble in Parad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Unfortunately, SGML, though complex, was correct in its assumption that different types of documents needed different markup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.g., Resumes, cookbooks, Shakespearean plays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resume.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E13E-34C4-4B2E-BC54-3BE64C7766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 - HTML Intro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Format not Cont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TML quickly 'degenerated' into a markup language for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omething for which it was not desig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Graphic designers starting to work on the Web were horrified at the lack of expressi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sed hac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.g., "pouring" of text into tables for precise paragraph lay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.g., using 1-pixel transparent images for precise spacing and al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2 warring factions ('html purists' and design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signers w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A171-9AAE-401D-AB72-F5F606368F3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 - HTML Intro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A Temporary Tru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SS (cascading Style She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lows graphic designers much better control over format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eparate file for detailed formatting instructions from the HTML mark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signers were happ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ore control over forma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urists were happ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moves the requirement for further formatting tags from HTML proper (a battle purists were headed towards defeat on anywa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6A9C-A2AC-4172-877B-F959A2D98A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 - HTML Intro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XML: The 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11360" y="118080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alizing that they were going to lose anyways, purists abandoned HTML and CSS to the graphics designer c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vented XML (eXtensible Markup Language) which is a complete return to SGML (a bit simp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Very useful for inter-application communications as well, as we shall s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vented XSL (eXtensible Stylesheet Language) for formatting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n particular, XHTML (= strictly formatted HT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oal of XSL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be able to specify how browsers should display X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be able to specify how XHTML should publ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9C6E-467E-43DD-8DCB-A9B1B84BDA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 - HTML Intro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HTML Standa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6560" y="1015560"/>
            <a:ext cx="7772400" cy="47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ML, first version (Berners-Lee) '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n SGML(ISO8879)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ML 2.0 (Berners-Lee, Dan Conno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produced by IETF (Internet Engineering Task Force), HTML Working group, RFC 1866 (Request for Comm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ML 3.2 (Dave Raggett) '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3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ables, applets, text-flow around images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ML 4.0 (Raggett et. al.) '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HTML 4.01, Dec 24, '99 (lo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leanup for use with XHTML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XHTML 1.0 Jan. 2000 (sh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based on XML rather than SG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references HTML 4.01 for semantics of ta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references XML 1.0 for language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provides XML DTDs for defin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4406760"/>
            <a:ext cx="5209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5079960"/>
            <a:ext cx="5209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53F2-9602-4D7F-B5B8-92F8E8A894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 - HTML Intro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Evolving Standa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signed to address client heterogene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XHTML Modularization, Apr., 2001 (lo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ndividually delimits and defines modules in XHTML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describes how to add new m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XHTML Basic, Dec., 2000 (sh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nimal set of modules (e.g., for cellph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tructure, text, hypertext, list, basic forms, basic tables, image, object, meta-info, link,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XHTML 1.1 Mar. 2001 (sh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reformulation of XHTML 1.0 Strict based on modula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ore modules to 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frames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CED5-DBCC-41D7-B7CC-491ADF3460C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 - HTML Intro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How W3C Wor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orld Wide Web Consort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reated in October 199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veloping common protocols for the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emb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panies, gov't, standards bodi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e Te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ull-time employees, paid for by the Me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orking out of MIT, INRIA, and Ke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w3.org/Consort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C28F-2592-4D0B-89C3-73680F37A75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 - HTML Intro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0T20:39:14Z</dcterms:created>
  <dc:creator>David A. Penny</dc:creator>
  <dc:description/>
  <dc:language>en-US</dc:language>
  <cp:lastModifiedBy>penny</cp:lastModifiedBy>
  <dcterms:modified xsi:type="dcterms:W3CDTF">2001-09-24T15:54:02Z</dcterms:modified>
  <cp:revision>38</cp:revision>
  <dc:subject/>
  <dc:title>CSC309 - 10 - HTML intro</dc:title>
</cp:coreProperties>
</file>