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4A1-93AC-445B-850C-E16AECAB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01A-7AB2-4C8C-B192-6C1F0FD2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63D-DF93-4BE7-82E7-F7C74B1E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7800"/>
            <a:ext cx="25023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EEB-1639-4858-883A-B6FC1146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53E-22F6-47E2-A088-E833986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B4B-14F5-4F89-BD5B-3CFEE975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3EA-15F6-498D-9D8E-8B213A6E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44D-E34C-456F-92ED-30B40361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4160"/>
            <a:ext cx="77724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019-53A6-4A13-8AAD-15346747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DF3-EEA2-4CA2-A980-8CCB7996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780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343-42AA-405A-90D7-D2CE3D5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7800"/>
            <a:ext cx="777240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E21-5F07-4EE1-91E1-9A62533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0E45-EBA1-40AC-80FF-322104430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nny@cs.toronto.edu" TargetMode="External"/><Relationship Id="rId2" Type="http://schemas.openxmlformats.org/officeDocument/2006/relationships/hyperlink" Target="mailto:penny@cs.toronto.edu" TargetMode="External"/><Relationship Id="rId3" Type="http://schemas.openxmlformats.org/officeDocument/2006/relationships/hyperlink" Target="mailto:penny@cs.toronto.edu" TargetMode="External"/><Relationship Id="rId4" Type="http://schemas.openxmlformats.org/officeDocument/2006/relationships/hyperlink" Target="mailto:penny@cs.toronto.edu" TargetMode="External"/><Relationship Id="rId5" Type="http://schemas.openxmlformats.org/officeDocument/2006/relationships/hyperlink" Target="mailto:penny@cs.toronto.edu" TargetMode="External"/><Relationship Id="rId6" Type="http://schemas.openxmlformats.org/officeDocument/2006/relationships/hyperlink" Target="mailto:penny@cs.toronto.edu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SC309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gramming on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645000"/>
            <a:ext cx="4419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f. Pe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10:30-11:30, LP396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nny@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oronto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45B-9BC6-4D2C-BFFE-26E4BD7BDA8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urse Go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erstand concepts and principles underlying Web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will understand what’s going on behind the sc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won’t need to practice hit &amp; miss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will encourage a professional approach to Web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88E-85D9-4265-B59E-1DC3CAD0A0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Course 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ic Clien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icode, XML, CSS, XHTML, XSL, &lt;IM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ynamic Client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ms, JavaScript, Java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ynamic Serv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rl CGI, Java Servlets, RDBMS via Servlet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rationa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tworks, protocols, web servers,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yper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est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rian Miller, VP Technology, grocerygatewa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18D-FA8B-4578-95AB-A32AE4353F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Minimum Prepa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SC270, CSC209, CSC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ava, systems programming, file structures, some degree of maturity in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prior knowledge of Web technologies is assu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hough we will move quickly so anything you already know will be an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79C-953E-43F9-B1AD-8E9EA57248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400" y="107928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"Programming the World Wide Web",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st Edition, Robert Sebesta,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son-Wesley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ll post soon after each 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bug me by e-mail if I forg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lso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t, … will find on your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inly from  </a:t>
            </a: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w3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Book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25600" y="2540160"/>
            <a:ext cx="5502600" cy="3111480"/>
            <a:chOff x="3225600" y="2540160"/>
            <a:chExt cx="5502600" cy="3111480"/>
          </a:xfrm>
        </p:grpSpPr>
        <p:sp>
          <p:nvSpPr>
            <p:cNvPr id="53" name=""/>
            <p:cNvSpPr txBox="1"/>
            <p:nvPr/>
          </p:nvSpPr>
          <p:spPr>
            <a:xfrm>
              <a:off x="5724360" y="2863800"/>
              <a:ext cx="3003840" cy="12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xam Fodd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219280" y="2540160"/>
              <a:ext cx="863640" cy="444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5283360" y="4368960"/>
              <a:ext cx="799920" cy="1282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3225600" y="3301560"/>
              <a:ext cx="2463480" cy="241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563-8071-468F-9F91-8E0ADD7857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4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1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HTML, XML,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2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+ JavaScript &amp; Java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3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Perl 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4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15%)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: Java Servle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 practice test (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 final exam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7B1-0B70-4835-82AD-054F4CDAB3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416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nd-in assignments on the CDF Sun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do all work on that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work at home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ood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dditional set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ra work to install onto CDF and ensure everything works properly in that environment - NO EXCUS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utorial Friday, Sep.14 1:00  in this ro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tt will introduce you to the CDF t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C3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1346-CA3F-4180-A4F9-B83E976577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 - Course Intro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0:39:14Z</dcterms:created>
  <dc:creator>David A. Penny</dc:creator>
  <dc:description/>
  <dc:language>en-US</dc:language>
  <cp:lastModifiedBy>penny</cp:lastModifiedBy>
  <dcterms:modified xsi:type="dcterms:W3CDTF">2001-09-10T19:13:06Z</dcterms:modified>
  <cp:revision>24</cp:revision>
  <dc:subject/>
  <dc:title>cCSC309 - 00 Course Intro</dc:title>
</cp:coreProperties>
</file>