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20A-49B1-4902-AFD3-3C13972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862-CD69-406B-AB7F-8B995B2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476-42C8-42A1-984A-3C9C8887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662-92DC-4ED9-8D53-0A2E2678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C9F-02AA-4036-8170-876D871B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79E-2209-4E2C-89EF-A0FDBB4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454-6B34-4558-B587-D550BC4B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5AA-48AC-45E0-858C-5140EC9A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61E-F6C5-425D-BD4E-44E61BB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6AB-CDFE-42C3-A0AC-CC65C9B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592-5D8B-40AA-99E6-3868842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B54-56FD-4C1E-BAB0-92EF9521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B91-30C6-4D86-920B-0741A356CE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217-A0D8-4DAA-BF8D-FBB17622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228600"/>
            <a:ext cx="5181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University of Crete - School of Sciences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762120"/>
            <a:ext cx="3353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puter Science Department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362320"/>
            <a:ext cx="480060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 Agent-Based Architecture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or the Conduction of Vot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9680" y="4357800"/>
            <a:ext cx="36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rgios Chalkiadak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5960" y="160020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of Science 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5080" y="387036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520" y="5334120"/>
            <a:ext cx="37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or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S.Orphanoud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Multi-Ag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3200" y="1479600"/>
            <a:ext cx="8410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goals - Cooperat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’ Coalitions 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not necessarily common 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tic Agents - maximization of own profit (utility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520" y="3429000"/>
            <a:ext cx="578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 MAS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Improvement of system’s reaction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Improvement of system’s stability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Scalability and easier upgrade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9F4-8F4F-4207-91B8-B7B7E72B4F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702A8-3552-47EF-8BAE-8ADA99884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and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22200" y="1641600"/>
            <a:ext cx="7476840" cy="3692520"/>
            <a:chOff x="1222200" y="1641600"/>
            <a:chExt cx="7476840" cy="3692520"/>
          </a:xfrm>
        </p:grpSpPr>
        <p:sp>
          <p:nvSpPr>
            <p:cNvPr id="110" name=""/>
            <p:cNvSpPr/>
            <p:nvPr/>
          </p:nvSpPr>
          <p:spPr>
            <a:xfrm>
              <a:off x="1661760" y="16416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54920" y="2174760"/>
              <a:ext cx="547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sy integration with existing architec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59960" y="2708280"/>
              <a:ext cx="41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ility to use any voting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9240" y="3774960"/>
              <a:ext cx="40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 of agents’ 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59240" y="324180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ort for voting sessions’ hierarch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59960" y="4308480"/>
              <a:ext cx="34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ility to reach an opin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1320" y="4842000"/>
              <a:ext cx="70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tisfaction of ballots’ collection systems’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2200" y="5029200"/>
              <a:ext cx="304920" cy="30492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22200" y="4419720"/>
              <a:ext cx="304920" cy="30456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2200" y="3886200"/>
              <a:ext cx="304920" cy="30492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22200" y="3352680"/>
              <a:ext cx="304920" cy="30492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2200" y="2819520"/>
              <a:ext cx="304920" cy="30456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2200" y="2286000"/>
              <a:ext cx="304920" cy="30492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2200" y="1752480"/>
              <a:ext cx="304920" cy="30492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D0B-2BF3-4565-A611-976B8B4056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4DFDA-C5A7-466C-9AAA-715E86EE05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 and other Basic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1840" y="1600200"/>
            <a:ext cx="2574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ing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t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8F5-123D-46DB-A866-0935E7A2D3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2F57A-0E60-47B6-8174-0A46E06688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 of Basic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95280" y="1130400"/>
            <a:ext cx="6477120" cy="4902120"/>
            <a:chOff x="1295280" y="1130400"/>
            <a:chExt cx="6477120" cy="4902120"/>
          </a:xfrm>
        </p:grpSpPr>
        <p:sp>
          <p:nvSpPr>
            <p:cNvPr id="128" name=""/>
            <p:cNvSpPr/>
            <p:nvPr/>
          </p:nvSpPr>
          <p:spPr>
            <a:xfrm>
              <a:off x="1442880" y="2219400"/>
              <a:ext cx="892080" cy="396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2265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all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295280" y="1130400"/>
              <a:ext cx="1490400" cy="393480"/>
              <a:chOff x="1295280" y="1130400"/>
              <a:chExt cx="1490400" cy="39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1295280" y="1130400"/>
                <a:ext cx="1490400" cy="39348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82560" y="121608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VotingSyste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573600" y="1239840"/>
              <a:ext cx="1152720" cy="393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5080" y="1285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did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5560" y="2219400"/>
              <a:ext cx="1522440" cy="396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0840" y="22654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otingSes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48040" y="5638680"/>
              <a:ext cx="876240" cy="393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0760" y="56707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o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5920" y="3257640"/>
              <a:ext cx="892080" cy="395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36200" y="33130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440" y="2219400"/>
              <a:ext cx="876240" cy="396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1200" y="226548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09920" y="2817720"/>
              <a:ext cx="116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is transmitted 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22194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onstr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7400" y="174636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7400" y="174636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16520" y="22320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onstr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4181400"/>
              <a:ext cx="1076400" cy="395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04720" y="422748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allotBo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3840" y="4181400"/>
              <a:ext cx="1766880" cy="395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88760" y="4227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otingCommitte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9760" y="541008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69760" y="541008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64200"/>
              <a:ext cx="1399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ommunicates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8880" y="35812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alculat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79640" y="30988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onstr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4360" y="412596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hand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2666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4572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1480" y="4419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181480" y="350496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72000" y="2666520"/>
              <a:ext cx="2286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2438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647960" y="152388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61960" y="24382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69C-E519-435D-A393-66EB526475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ABC39-4A50-4883-8AD3-7695E6F0C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600200"/>
            <a:ext cx="75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for a voting session - Defines the voting session parameters and constra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candidacies dynamically appli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voting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s proper algorithms for the statistic processing of voting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s the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C3A-B349-4316-9324-69DF49C347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A5CF9-6DD5-432D-9BCA-3127491B9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600200"/>
            <a:ext cx="62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ives the calls for voting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s vot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ble to fill in the ballot, in respect to the voting system that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s the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its opinion by α) the use of its own cognitive procedures, and/or β) requesting information from other vo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BAE-1766-4771-8037-52E1DCBC94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C46DE-10A9-4C73-9AF3-B585A91C9A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Committ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002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on and supervision of the voting session, performance of validation checks, extraction of the voting res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892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of ballots is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invulnerable, accurat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Privacy could be sacrifised in order to promote invulne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622680" y="685800"/>
          <a:ext cx="55213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2680" y="685800"/>
                    <a:ext cx="5521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701-2812-4723-B833-1832EEADBC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3F103-D1E4-4744-94EB-0CBD6B0F6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98108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place a candidacy dynamically, by stating his “alternative suggestion” within proper time lim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73392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future capabilities: construction and submission of promotional material, ability to bribe/ buy out vot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F0D-814E-4906-81E3-1C1D6B0CB1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D4D48-2E00-4B22-A7A4-A894E9E457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57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s the different alternative solutions (candidates) based on the arithmetic values that are inscribed on the ballots, by imposing a ballot evuation and result extraction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81280" y="838080"/>
          <a:ext cx="5392800" cy="55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38080"/>
                    <a:ext cx="539280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F93-3A3F-449E-8D63-9D1B738E72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76FD3-106C-40BE-8FB9-99F74A88BF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Voting in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09480" y="1219320"/>
            <a:ext cx="8000640" cy="4353840"/>
            <a:chOff x="609480" y="1219320"/>
            <a:chExt cx="8000640" cy="4353840"/>
          </a:xfrm>
        </p:grpSpPr>
        <p:sp>
          <p:nvSpPr>
            <p:cNvPr id="185" name=""/>
            <p:cNvSpPr/>
            <p:nvPr/>
          </p:nvSpPr>
          <p:spPr>
            <a:xfrm>
              <a:off x="4647240" y="1405800"/>
              <a:ext cx="1794600" cy="55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oting Ses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ion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77880" y="4930560"/>
              <a:ext cx="20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 of Vo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mittees cre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1592280"/>
              <a:ext cx="2093400" cy="13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0880" y="1592280"/>
              <a:ext cx="971640" cy="13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9480" y="12193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1120" y="3271320"/>
              <a:ext cx="822600" cy="21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81120" y="352008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1120" y="401724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1120" y="426600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1120" y="451512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1120" y="476352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1120" y="501228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1120" y="519876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2640" y="3084480"/>
              <a:ext cx="1644840" cy="62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itt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29200" y="3395880"/>
              <a:ext cx="52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24640" y="3893040"/>
              <a:ext cx="1720080" cy="62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itt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29200" y="3706560"/>
              <a:ext cx="156996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702880" y="1591920"/>
              <a:ext cx="194436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1120" y="3520080"/>
              <a:ext cx="822600" cy="24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188" idx="2"/>
              <a:endCxn id="203" idx="1"/>
            </p:cNvCxnSpPr>
            <p:nvPr/>
          </p:nvCxnSpPr>
          <p:spPr>
            <a:xfrm rot="5400000">
              <a:off x="1525320" y="2953080"/>
              <a:ext cx="746640" cy="636480"/>
            </a:xfrm>
            <a:prstGeom prst="bentConnector4">
              <a:avLst>
                <a:gd name="adj1" fmla="val 41630"/>
                <a:gd name="adj2" fmla="val 1352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1042920" y="292932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40640" y="4825800"/>
              <a:ext cx="119628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64920" y="2525040"/>
              <a:ext cx="119628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13840" y="3084480"/>
              <a:ext cx="119628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15040" y="3644280"/>
              <a:ext cx="119592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64440" y="4266000"/>
              <a:ext cx="119628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198" idx="6"/>
              <a:endCxn id="207" idx="3"/>
            </p:cNvCxnSpPr>
            <p:nvPr/>
          </p:nvCxnSpPr>
          <p:spPr>
            <a:xfrm flipV="1">
              <a:off x="4497120" y="2842920"/>
              <a:ext cx="2642400" cy="55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2" name=""/>
            <p:cNvCxnSpPr>
              <a:stCxn id="198" idx="6"/>
              <a:endCxn id="208" idx="2"/>
            </p:cNvCxnSpPr>
            <p:nvPr/>
          </p:nvCxnSpPr>
          <p:spPr>
            <a:xfrm flipV="1">
              <a:off x="4497480" y="3270600"/>
              <a:ext cx="2916720" cy="12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3" name=""/>
            <p:cNvCxnSpPr>
              <a:stCxn id="208" idx="3"/>
              <a:endCxn id="200" idx="7"/>
            </p:cNvCxnSpPr>
            <p:nvPr/>
          </p:nvCxnSpPr>
          <p:spPr>
            <a:xfrm flipH="1">
              <a:off x="5291640" y="3403440"/>
              <a:ext cx="2296800" cy="58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4" name=""/>
            <p:cNvCxnSpPr>
              <a:stCxn id="209" idx="2"/>
              <a:endCxn id="198" idx="5"/>
            </p:cNvCxnSpPr>
            <p:nvPr/>
          </p:nvCxnSpPr>
          <p:spPr>
            <a:xfrm flipH="1" flipV="1">
              <a:off x="4255920" y="3615120"/>
              <a:ext cx="2859120" cy="21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5" name=""/>
            <p:cNvCxnSpPr>
              <a:stCxn id="200" idx="6"/>
              <a:endCxn id="210" idx="1"/>
            </p:cNvCxnSpPr>
            <p:nvPr/>
          </p:nvCxnSpPr>
          <p:spPr>
            <a:xfrm>
              <a:off x="5544360" y="4203360"/>
              <a:ext cx="1894680" cy="11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"/>
            <p:cNvCxnSpPr>
              <a:stCxn id="200" idx="5"/>
              <a:endCxn id="206" idx="1"/>
            </p:cNvCxnSpPr>
            <p:nvPr/>
          </p:nvCxnSpPr>
          <p:spPr>
            <a:xfrm>
              <a:off x="5291640" y="4424040"/>
              <a:ext cx="1623960" cy="45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"/>
            <p:cNvCxnSpPr>
              <a:stCxn id="209" idx="3"/>
              <a:endCxn id="200" idx="6"/>
            </p:cNvCxnSpPr>
            <p:nvPr/>
          </p:nvCxnSpPr>
          <p:spPr>
            <a:xfrm flipH="1">
              <a:off x="5544360" y="3962520"/>
              <a:ext cx="1745280" cy="24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 rot="16211400">
              <a:off x="1485000" y="1998360"/>
              <a:ext cx="141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read (senso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56480" y="9144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s (teams) of voters are created within the societ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7720" y="5562720"/>
            <a:ext cx="613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) Parallel voting sessions with the same su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) Results ==&gt; Candidate!! ==&gt; next level voting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E3B-B00D-4B91-829F-6671BA3BDF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30D87-7E2E-4FA1-B906-C555660D5D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Project’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3716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gn and development of a distributed multi-agent  architecture for the conduction of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200" y="2550960"/>
            <a:ext cx="78094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Vot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 real-world paradig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any voting system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hierarchical voting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he “in parallel” conduction of voting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c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used as an infrastructure for the conduction of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385-8663-4913-A6D8-85B303363A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31C0E-2676-4612-A7B1-0DC876C9C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20" y="1143000"/>
            <a:ext cx="37692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VotingSession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tingSessionScheduling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ForCandidatesMess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didacy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teCastingStarts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teCasting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inGroup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inAccepte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ckout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veGroup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Group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Opinion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Opinion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505320"/>
            <a:ext cx="586728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181480"/>
            <a:ext cx="586728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8862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120" y="3962520"/>
            <a:ext cx="15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83400">
            <a:off x="7314840" y="1142640"/>
            <a:ext cx="439560" cy="2286000"/>
          </a:xfrm>
          <a:custGeom>
            <a:avLst/>
            <a:gdLst>
              <a:gd name="textAreaLeft" fmla="*/ 0 w 439560"/>
              <a:gd name="textAreaRight" fmla="*/ 158760 w 439560"/>
              <a:gd name="textAreaTop" fmla="*/ 131760 h 2286000"/>
              <a:gd name="textAreaBottom" fmla="*/ 21542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1"/>
                  <a:pt x="10800" y="3981"/>
                </a:cubicBezTo>
                <a:lnTo>
                  <a:pt x="10800" y="6819"/>
                </a:lnTo>
                <a:cubicBezTo>
                  <a:pt x="10800" y="8810"/>
                  <a:pt x="16200" y="10800"/>
                  <a:pt x="21600" y="10800"/>
                </a:cubicBezTo>
                <a:cubicBezTo>
                  <a:pt x="16200" y="10800"/>
                  <a:pt x="10800" y="12791"/>
                  <a:pt x="10800" y="14781"/>
                </a:cubicBezTo>
                <a:lnTo>
                  <a:pt x="10800" y="17619"/>
                </a:lnTo>
                <a:cubicBezTo>
                  <a:pt x="10800" y="196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94640" y="19051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51814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270-B584-435D-8431-6C9CCC04EB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DEE34-0DDC-4AF4-9685-0673407F7D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Implementation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9440" y="99072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: Java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network programming - independence from operating system (OS interoperability, code transferability) - applets’ execution  - interoperability with  platforms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sshopper, Voyager, JATLite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interconnection with heterogeneous applications possibly with u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2511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rejection o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(no knowledge is transmitted so far, time overhead imposed by the existence of multiple KQML’s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4100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hreaded agents (assurance of the autonomy of the p-c-a modules; promotion of agent autonomy; promotion of the architectural components scal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40344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10160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56264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55627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 Java classes were implement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sd.uoc.gr/~gehalk/Master/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1D2-E40C-418A-A01E-6041B1D235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1D90-C537-43F0-9835-12EF70A72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ed Vo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752480"/>
            <a:ext cx="77724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Method (Non-Preferential &amp; Preferent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rality Method (Non-Preferential &amp; Preferent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a Cou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-out-of-n Vot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Vot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rality Approval Vo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irjanian et al., 1998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nim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CB7-674A-4EA4-A8F2-75A6A77F9A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3F2B-D421-479A-B294-7EC3288FE3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Experiments </a:t>
            </a:r>
            <a:br>
              <a:rPr sz="44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1st: Local Elections’ Experimen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-5040" y="1368360"/>
            <a:ext cx="9890280" cy="4873680"/>
            <a:chOff x="-5040" y="1368360"/>
            <a:chExt cx="9890280" cy="4873680"/>
          </a:xfrm>
        </p:grpSpPr>
        <p:graphicFrame>
          <p:nvGraphicFramePr>
            <p:cNvPr id="243" name=""/>
            <p:cNvGraphicFramePr/>
            <p:nvPr/>
          </p:nvGraphicFramePr>
          <p:xfrm>
            <a:off x="4568760" y="1368360"/>
            <a:ext cx="5316480" cy="1878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68760" y="1368360"/>
                      <a:ext cx="5316480" cy="18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0" y="2968560"/>
            <a:ext cx="5613480" cy="3273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968560"/>
                      <a:ext cx="5613480" cy="32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4876920" y="4572000"/>
              <a:ext cx="27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rda Count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5040" y="1905120"/>
              <a:ext cx="438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n-Preferential Plurality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502920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7600" y="228600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12E-3BC2-496E-9B82-500967D495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9162-C493-457E-956C-1D115165B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Local Elections’ Experi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-Preferential Plurality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76520" y="1314360"/>
            <a:ext cx="583884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10B-5A22-4F96-99BF-889D73D120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F042E-DB0C-4B81-9949-AAB3C3B2E1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Local Elections’ Experi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rda Count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95600" y="1314360"/>
            <a:ext cx="5848200" cy="43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74D-B06B-4BAA-808C-C5CE89066E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E074D-2A8A-48BB-9383-D7907564E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Experiments 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2nd: Robot’s Action Selection Experi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06440" y="2136600"/>
          <a:ext cx="8823240" cy="29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136600"/>
                    <a:ext cx="882324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 flipV="1">
            <a:off x="380880" y="2133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5105520"/>
            <a:ext cx="5181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#6 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ccumulative weight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7040" y="1488960"/>
            <a:ext cx="86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rjanian et al., 199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 Visual Obstacle Avoiders + 1 Sonar Obstacle Avoi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6240" y="5562720"/>
            <a:ext cx="47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ction #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ccumulative weight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BFD-7638-4CF2-A0EA-777E9FC1010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5C5B8-9626-42B1-8427-9BC9D64527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Robot’s Action Selection Experi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urality Approval Vo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38360" y="1257480"/>
            <a:ext cx="58291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6A-030A-493B-BA29-BD14582957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5A49-A9D2-4010-9BB7-BD8312BDB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0840" y="1641600"/>
            <a:ext cx="42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ombination of Voting Theory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48480" y="297180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ny vo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5080" y="4038480"/>
            <a:ext cx="63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conduction infrastructure to be utiliz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architectures or othe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175248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0481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41911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1EC-911E-40F5-BE82-64953E3494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2D725-23B3-4C16-A661-522F36D223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320" y="1447920"/>
            <a:ext cx="42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age Retrieval by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of voting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many different voting systems =&gt; conclusions concerning the ways of integration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about the degree of importance of the various characteristic attributes (use of voters’ actions’ and results’ history, use of weighted voting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Future Work (under way at UoC, Nov.200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5025960"/>
            <a:ext cx="1656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191120" y="1752480"/>
            <a:ext cx="3936960" cy="3962880"/>
            <a:chOff x="4191120" y="1752480"/>
            <a:chExt cx="3936960" cy="3962880"/>
          </a:xfrm>
        </p:grpSpPr>
        <p:grpSp>
          <p:nvGrpSpPr>
            <p:cNvPr id="275" name=""/>
            <p:cNvGrpSpPr/>
            <p:nvPr/>
          </p:nvGrpSpPr>
          <p:grpSpPr>
            <a:xfrm>
              <a:off x="5111640" y="2104920"/>
              <a:ext cx="1069920" cy="503280"/>
              <a:chOff x="5111640" y="2104920"/>
              <a:chExt cx="1069920" cy="503280"/>
            </a:xfrm>
          </p:grpSpPr>
          <p:sp>
            <p:nvSpPr>
              <p:cNvPr id="276" name=""/>
              <p:cNvSpPr/>
              <p:nvPr/>
            </p:nvSpPr>
            <p:spPr>
              <a:xfrm flipH="1">
                <a:off x="5111640" y="2104920"/>
                <a:ext cx="1069920" cy="50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86520" y="2104920"/>
                <a:ext cx="95040" cy="63720"/>
              </a:xfrm>
              <a:custGeom>
                <a:avLst/>
                <a:gdLst/>
                <a:ahLst/>
                <a:rect l="l" t="t" r="r" b="b"/>
                <a:pathLst>
                  <a:path w="121" h="79">
                    <a:moveTo>
                      <a:pt x="58" y="79"/>
                    </a:moveTo>
                    <a:lnTo>
                      <a:pt x="121" y="0"/>
                    </a:lnTo>
                    <a:lnTo>
                      <a:pt x="0" y="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651720" y="2104920"/>
              <a:ext cx="468360" cy="453960"/>
              <a:chOff x="6651720" y="2104920"/>
              <a:chExt cx="468360" cy="453960"/>
            </a:xfrm>
          </p:grpSpPr>
          <p:sp>
            <p:nvSpPr>
              <p:cNvPr id="279" name=""/>
              <p:cNvSpPr/>
              <p:nvPr/>
            </p:nvSpPr>
            <p:spPr>
              <a:xfrm>
                <a:off x="6651720" y="2104920"/>
                <a:ext cx="46836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51720" y="2104920"/>
                <a:ext cx="87120" cy="71640"/>
              </a:xfrm>
              <a:custGeom>
                <a:avLst/>
                <a:gdLst/>
                <a:ahLst/>
                <a:rect l="l" t="t" r="r" b="b"/>
                <a:pathLst>
                  <a:path w="111" h="90">
                    <a:moveTo>
                      <a:pt x="111" y="38"/>
                    </a:moveTo>
                    <a:lnTo>
                      <a:pt x="0" y="0"/>
                    </a:lnTo>
                    <a:lnTo>
                      <a:pt x="23" y="9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646600" y="2255760"/>
              <a:ext cx="5652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35960" y="230040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316200" y="2104920"/>
              <a:ext cx="159120" cy="453960"/>
              <a:chOff x="6316200" y="2104920"/>
              <a:chExt cx="159120" cy="45396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6316200" y="2104920"/>
                <a:ext cx="13356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9640" y="210492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7" y="89"/>
                    </a:moveTo>
                    <a:lnTo>
                      <a:pt x="75" y="0"/>
                    </a:lnTo>
                    <a:lnTo>
                      <a:pt x="0" y="7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450120" y="2255760"/>
              <a:ext cx="5652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39480" y="230040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311440" y="2911320"/>
              <a:ext cx="1005120" cy="503280"/>
              <a:chOff x="5311440" y="2911320"/>
              <a:chExt cx="1005120" cy="5032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5311440" y="2911320"/>
                <a:ext cx="1004760" cy="50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19720" y="2911320"/>
                <a:ext cx="96840" cy="63720"/>
              </a:xfrm>
              <a:custGeom>
                <a:avLst/>
                <a:gdLst/>
                <a:ahLst/>
                <a:rect l="l" t="t" r="r" b="b"/>
                <a:pathLst>
                  <a:path w="122" h="81">
                    <a:moveTo>
                      <a:pt x="62" y="81"/>
                    </a:moveTo>
                    <a:lnTo>
                      <a:pt x="122" y="0"/>
                    </a:lnTo>
                    <a:lnTo>
                      <a:pt x="0" y="1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504120" y="2911320"/>
              <a:ext cx="214200" cy="452520"/>
              <a:chOff x="6504120" y="2911320"/>
              <a:chExt cx="214200" cy="452520"/>
            </a:xfrm>
          </p:grpSpPr>
          <p:sp>
            <p:nvSpPr>
              <p:cNvPr id="292" name=""/>
              <p:cNvSpPr/>
              <p:nvPr/>
            </p:nvSpPr>
            <p:spPr>
              <a:xfrm>
                <a:off x="6516720" y="2911320"/>
                <a:ext cx="201600" cy="45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04120" y="2911320"/>
                <a:ext cx="82440" cy="71640"/>
              </a:xfrm>
              <a:custGeom>
                <a:avLst/>
                <a:gdLst/>
                <a:ahLst/>
                <a:rect l="l" t="t" r="r" b="b"/>
                <a:pathLst>
                  <a:path w="104" h="91">
                    <a:moveTo>
                      <a:pt x="104" y="64"/>
                    </a:moveTo>
                    <a:lnTo>
                      <a:pt x="16" y="0"/>
                    </a:lnTo>
                    <a:lnTo>
                      <a:pt x="0" y="9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718320" y="2911320"/>
              <a:ext cx="1071720" cy="503280"/>
              <a:chOff x="6718320" y="2911320"/>
              <a:chExt cx="1071720" cy="503280"/>
            </a:xfrm>
          </p:grpSpPr>
          <p:sp>
            <p:nvSpPr>
              <p:cNvPr id="295" name=""/>
              <p:cNvSpPr/>
              <p:nvPr/>
            </p:nvSpPr>
            <p:spPr>
              <a:xfrm>
                <a:off x="6718320" y="2911320"/>
                <a:ext cx="1071720" cy="50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18320" y="291132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123" h="78">
                    <a:moveTo>
                      <a:pt x="123" y="8"/>
                    </a:moveTo>
                    <a:lnTo>
                      <a:pt x="0" y="0"/>
                    </a:lnTo>
                    <a:lnTo>
                      <a:pt x="63" y="7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15160" y="3112920"/>
              <a:ext cx="564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4520" y="315612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24680" y="3112920"/>
              <a:ext cx="5652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14040" y="315612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915160" y="3716280"/>
              <a:ext cx="468000" cy="554040"/>
              <a:chOff x="5915160" y="3716280"/>
              <a:chExt cx="468000" cy="55404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5915160" y="3716280"/>
                <a:ext cx="46800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00720" y="3716280"/>
                <a:ext cx="82440" cy="7308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93" y="92"/>
                    </a:moveTo>
                    <a:lnTo>
                      <a:pt x="104" y="0"/>
                    </a:lnTo>
                    <a:lnTo>
                      <a:pt x="0" y="4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986520" y="3716280"/>
              <a:ext cx="468360" cy="503280"/>
              <a:chOff x="6986520" y="3716280"/>
              <a:chExt cx="468360" cy="503280"/>
            </a:xfrm>
          </p:grpSpPr>
          <p:sp>
            <p:nvSpPr>
              <p:cNvPr id="305" name=""/>
              <p:cNvSpPr/>
              <p:nvPr/>
            </p:nvSpPr>
            <p:spPr>
              <a:xfrm>
                <a:off x="6986520" y="3716280"/>
                <a:ext cx="468360" cy="50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986520" y="371628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109" y="43"/>
                    </a:moveTo>
                    <a:lnTo>
                      <a:pt x="0" y="0"/>
                    </a:lnTo>
                    <a:lnTo>
                      <a:pt x="18" y="9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114960" y="3968640"/>
              <a:ext cx="5652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4320" y="40114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626160" y="3716280"/>
              <a:ext cx="158760" cy="503280"/>
              <a:chOff x="6626160" y="3716280"/>
              <a:chExt cx="158760" cy="503280"/>
            </a:xfrm>
          </p:grpSpPr>
          <p:sp>
            <p:nvSpPr>
              <p:cNvPr id="310" name=""/>
              <p:cNvSpPr/>
              <p:nvPr/>
            </p:nvSpPr>
            <p:spPr>
              <a:xfrm>
                <a:off x="6651720" y="3716280"/>
                <a:ext cx="133200" cy="50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26160" y="371628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7" y="73"/>
                    </a:moveTo>
                    <a:lnTo>
                      <a:pt x="31" y="0"/>
                    </a:lnTo>
                    <a:lnTo>
                      <a:pt x="0" y="8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851520" y="3968640"/>
              <a:ext cx="5652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40880" y="40114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858920" y="4619520"/>
              <a:ext cx="1189440" cy="406440"/>
              <a:chOff x="4858920" y="4619520"/>
              <a:chExt cx="1189440" cy="406440"/>
            </a:xfrm>
          </p:grpSpPr>
          <p:sp>
            <p:nvSpPr>
              <p:cNvPr id="315" name=""/>
              <p:cNvSpPr/>
              <p:nvPr/>
            </p:nvSpPr>
            <p:spPr>
              <a:xfrm flipH="1">
                <a:off x="4858920" y="4622760"/>
                <a:ext cx="1189080" cy="40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51520" y="46195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121" h="76">
                    <a:moveTo>
                      <a:pt x="44" y="76"/>
                    </a:moveTo>
                    <a:lnTo>
                      <a:pt x="121" y="4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249960" y="4622760"/>
              <a:ext cx="284040" cy="403200"/>
              <a:chOff x="6249960" y="4622760"/>
              <a:chExt cx="284040" cy="403200"/>
            </a:xfrm>
          </p:grpSpPr>
          <p:sp>
            <p:nvSpPr>
              <p:cNvPr id="318" name=""/>
              <p:cNvSpPr/>
              <p:nvPr/>
            </p:nvSpPr>
            <p:spPr>
              <a:xfrm>
                <a:off x="6249960" y="4622760"/>
                <a:ext cx="284040" cy="40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49960" y="462276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100" h="92">
                    <a:moveTo>
                      <a:pt x="100" y="53"/>
                    </a:moveTo>
                    <a:lnTo>
                      <a:pt x="0" y="0"/>
                    </a:lnTo>
                    <a:lnTo>
                      <a:pt x="2" y="9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585120" y="4622760"/>
              <a:ext cx="1020600" cy="403200"/>
              <a:chOff x="6585120" y="4622760"/>
              <a:chExt cx="1020600" cy="403200"/>
            </a:xfrm>
          </p:grpSpPr>
          <p:sp>
            <p:nvSpPr>
              <p:cNvPr id="321" name=""/>
              <p:cNvSpPr/>
              <p:nvPr/>
            </p:nvSpPr>
            <p:spPr>
              <a:xfrm>
                <a:off x="6585120" y="4622760"/>
                <a:ext cx="1020600" cy="40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85120" y="46227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123" h="74">
                    <a:moveTo>
                      <a:pt x="123" y="2"/>
                    </a:moveTo>
                    <a:lnTo>
                      <a:pt x="0" y="0"/>
                    </a:lnTo>
                    <a:lnTo>
                      <a:pt x="70" y="7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864400" y="5025960"/>
              <a:ext cx="1655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16720" y="4622760"/>
              <a:ext cx="5652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06080" y="466740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48200" y="4622760"/>
              <a:ext cx="56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36120" y="466740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.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5025960"/>
              <a:ext cx="1655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9360" y="515628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ttrib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97200" y="5349960"/>
              <a:ext cx="65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96120" y="5532480"/>
              <a:ext cx="64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lgorith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876920" y="1752480"/>
              <a:ext cx="304776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cision on image similarity (by voting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952880" y="2666880"/>
              <a:ext cx="304812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ale levels' comparison (by voting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5029200" y="3438360"/>
              <a:ext cx="304812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arison of regions (by voting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4952880" y="4343400"/>
              <a:ext cx="304812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arison of attributes (by voting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37640" y="516888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ttrib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8720" y="5349960"/>
              <a:ext cx="65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37640" y="5532480"/>
              <a:ext cx="64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lgorith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7840" y="51530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ttrib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8920" y="5334120"/>
              <a:ext cx="65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7840" y="5516640"/>
              <a:ext cx="64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lgorith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B9B-65DF-45CF-9A50-2095A83328C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AD62E-EB9A-41AA-8713-CEC90D9647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4840" y="1889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79800" y="128916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for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4480" y="248904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3760" y="428616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4840" y="48862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84840" y="54864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2680" y="30877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36512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6524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5639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316404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43624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496260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56092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81240" y="36878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7638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B02-00B4-4894-AD24-AC977AD8EB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A285E-1FCA-4E1A-909F-B2A9EB104A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Future Work 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4920" y="1371600"/>
            <a:ext cx="8510760" cy="4493880"/>
            <a:chOff x="304920" y="1371600"/>
            <a:chExt cx="8510760" cy="4493880"/>
          </a:xfrm>
        </p:grpSpPr>
        <p:sp>
          <p:nvSpPr>
            <p:cNvPr id="344" name=""/>
            <p:cNvSpPr/>
            <p:nvPr/>
          </p:nvSpPr>
          <p:spPr>
            <a:xfrm>
              <a:off x="809280" y="1371600"/>
              <a:ext cx="80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gration with algorithms for the statistic processing of 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2240" y="1996920"/>
              <a:ext cx="656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ice and hopefull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stru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an election method by the Se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2120" y="3003480"/>
              <a:ext cx="670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e behaviour of  Candidates ++ (e.g. construction and delivery of promotional material and /or “bribing”/purchase of vote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308480"/>
              <a:ext cx="626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of KQML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as the communication language, if exchange of knowledge is required (easy to imple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us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QML wrappers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over existing messag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920" y="1447920"/>
              <a:ext cx="304560" cy="30456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920" y="2133720"/>
              <a:ext cx="304560" cy="30456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4920" y="3124080"/>
              <a:ext cx="304560" cy="30492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920" y="4419720"/>
              <a:ext cx="304560" cy="30456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7FF-36DF-413B-AA97-85C061224E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DA54C-2511-4122-8E1B-50E8CAF85E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209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an Image Retrieval by Content System which facilitates vot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ually, under development right now at Uoc (Nov.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733920"/>
            <a:ext cx="67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iration: Psychological Theory of Pandemonium (for explanation of Perception) : “Daemons” (Perceptional/Cognitive Units) “yell” (vote)  about what they believe they per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9625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43828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3D1-41A3-40DC-B9B7-BB8DDAED4E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8CBA6-1442-4B50-87B0-7E35D28519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936800"/>
            <a:ext cx="69501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ot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procedure of collecting and evaluating the opinions of vo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’s Impossibility Theorem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fai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onsist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voting system for elections with &gt; 2 candidates !!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(There is no satisfactory democratic function of social welfar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21C-FCF7-4519-AB98-A495C8C8C7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B2030-6D54-4CFA-904F-AB114A598E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4479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re is no fairness criterion that can’t be violat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The Majority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dorcet Criterio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The Monotonicity Criterio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The Independence of Irrelevant Alternatives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2D6-4F8C-46DC-BFB8-9A7365231A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7FA0C-05BF-45D8-91F9-523CF48B9D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Systems and ballots’ collec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640" y="182880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Systems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majoritarian, proportional representation, preferential/positional, candidates’ elimination, utilitarian, weighted voting aggreg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0481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ts’ Collection Systems : Voting in election centers, electronic vot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054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esirable propertie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ts’ Collection Systems : accuracy, convenience, flexibility, mobility, privacy, invulnerability, verif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DBB-38DD-47A0-9530-3C1E527AF8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1DF25-6A5C-4994-9B70-00385C26FB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Voting and its Uses in Computer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743120"/>
            <a:ext cx="784872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Problems with Security and Privacy - development of cryptograph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Integrity of distributed file syste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ford, 1978 : Weighted Voting: “read quorums” / “write quorum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’s Action Selection (Pirjanian et al.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of moving objects (Pirjanian et al.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approach to cue integration - identification of planar surfaces in images  (Brautigam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D51-6A71-4725-B6D7-D710551DB0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A7985-7DBC-4587-9E2E-03540658D8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General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17960" y="1676520"/>
            <a:ext cx="55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The representative, the 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3720" y="220968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titie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5280" y="2701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3480" y="339876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1680" y="409572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veness/ Re-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1680" y="479412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48769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41911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29160" y="35053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29160" y="28195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895480"/>
            <a:ext cx="2895840" cy="2743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124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5" idx="5"/>
            <a:endCxn id="96" idx="0"/>
          </p:cNvCxnSpPr>
          <p:nvPr/>
        </p:nvCxnSpPr>
        <p:spPr>
          <a:xfrm>
            <a:off x="2152440" y="3904920"/>
            <a:ext cx="28620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97" idx="0"/>
            <a:endCxn id="95" idx="3"/>
          </p:cNvCxnSpPr>
          <p:nvPr/>
        </p:nvCxnSpPr>
        <p:spPr>
          <a:xfrm flipV="1">
            <a:off x="1142640" y="3904560"/>
            <a:ext cx="3625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flipV="1">
            <a:off x="10666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91320"/>
            <a:ext cx="205740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72120" y="36576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6386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uses of agen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os Chalkiadakis: An Agent-Based Architecture for the Conduction of Vo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161-7008-4F99-B480-B991A161DC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2B2DE-DF1B-4C7D-A45F-144671A8FD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4:51:16Z</dcterms:created>
  <dc:creator>gehalk</dc:creator>
  <dc:description/>
  <dc:language>en-US</dc:language>
  <cp:lastModifiedBy>Georgios Chalkiadakis</cp:lastModifiedBy>
  <cp:lastPrinted>2000-11-20T20:45:24Z</cp:lastPrinted>
  <dcterms:modified xsi:type="dcterms:W3CDTF">2000-11-20T20:46:56Z</dcterms:modified>
  <cp:revision>52</cp:revision>
  <dc:subject/>
  <dc:title>No Slide Title</dc:title>
</cp:coreProperties>
</file>