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75D-1DD5-4EAB-A361-119928E7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C01D-F152-40CB-A7D8-910F0552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D4E-F3D1-4810-BC49-C0B911A3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26D8-1265-40C1-A160-4F84A10C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343-7843-4C84-931C-E3104953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306E-A059-400D-AC85-92718ADD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5792-1739-41DF-9366-31124B3E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397F-9F64-4F5A-A17D-835818B3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91C6-2253-440A-A092-9B69FCE6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FA68-6C96-4FF9-969A-FCA2EE6F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14B-F073-4205-8570-AA50B7E4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E45E-F22D-4FCB-B8C0-E73561B5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E666-E6F5-4D12-ABBE-B034ED45E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2000" y="2286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89040" y="388620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0"/>
            <a:endCxn id="41" idx="2"/>
          </p:cNvCxnSpPr>
          <p:nvPr/>
        </p:nvCxnSpPr>
        <p:spPr>
          <a:xfrm flipH="1" flipV="1">
            <a:off x="4393800" y="2654280"/>
            <a:ext cx="10929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" name=""/>
          <p:cNvCxnSpPr>
            <a:stCxn id="42" idx="0"/>
            <a:endCxn id="41" idx="2"/>
          </p:cNvCxnSpPr>
          <p:nvPr/>
        </p:nvCxnSpPr>
        <p:spPr>
          <a:xfrm flipV="1">
            <a:off x="3225600" y="2654280"/>
            <a:ext cx="11685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3962520" y="420732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39625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053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3581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4197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72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74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2"/>
            <a:endCxn id="53" idx="0"/>
          </p:cNvCxnSpPr>
          <p:nvPr/>
        </p:nvCxnSpPr>
        <p:spPr>
          <a:xfrm>
            <a:off x="2704680" y="3109680"/>
            <a:ext cx="17154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76720" y="838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0"/>
            <a:endCxn id="55" idx="2"/>
          </p:cNvCxnSpPr>
          <p:nvPr/>
        </p:nvCxnSpPr>
        <p:spPr>
          <a:xfrm flipV="1">
            <a:off x="2705040" y="1204200"/>
            <a:ext cx="1410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5" idx="2"/>
            <a:endCxn id="51" idx="0"/>
          </p:cNvCxnSpPr>
          <p:nvPr/>
        </p:nvCxnSpPr>
        <p:spPr>
          <a:xfrm>
            <a:off x="4114800" y="1204920"/>
            <a:ext cx="127080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3" idx="0"/>
          </p:cNvCxnSpPr>
          <p:nvPr/>
        </p:nvCxnSpPr>
        <p:spPr>
          <a:xfrm flipH="1">
            <a:off x="4419000" y="2424240"/>
            <a:ext cx="965880" cy="20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114800" y="14479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286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920" y="281952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819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0"/>
            <a:endCxn id="64" idx="2"/>
          </p:cNvCxnSpPr>
          <p:nvPr/>
        </p:nvCxnSpPr>
        <p:spPr>
          <a:xfrm flipV="1">
            <a:off x="4419360" y="2118600"/>
            <a:ext cx="108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>
            <a:stCxn id="64" idx="1"/>
            <a:endCxn id="63" idx="1"/>
          </p:cNvCxnSpPr>
          <p:nvPr/>
        </p:nvCxnSpPr>
        <p:spPr>
          <a:xfrm flipV="1" rot="10800000">
            <a:off x="3351960" y="1936440"/>
            <a:ext cx="229320" cy="2743920"/>
          </a:xfrm>
          <a:prstGeom prst="curvedConnector5">
            <a:avLst>
              <a:gd name="adj1" fmla="val 200000"/>
              <a:gd name="adj2" fmla="val 49993"/>
              <a:gd name="adj3" fmla="val 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809880"/>
            <a:ext cx="1676520" cy="8384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1828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sha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8098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/Shar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ess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257800"/>
            <a:ext cx="16765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ful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9" idx="0"/>
          </p:cNvCxnSpPr>
          <p:nvPr/>
        </p:nvCxnSpPr>
        <p:spPr>
          <a:xfrm flipH="1" rot="16200000">
            <a:off x="3275280" y="2514240"/>
            <a:ext cx="2520" cy="2591640"/>
          </a:xfrm>
          <a:prstGeom prst="curvedConnector5">
            <a:avLst>
              <a:gd name="adj1" fmla="val -33900000"/>
              <a:gd name="adj2" fmla="val 50000"/>
              <a:gd name="adj3" fmla="val -33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553080" y="3809880"/>
            <a:ext cx="16765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ance ba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0"/>
            <a:endCxn id="73" idx="0"/>
          </p:cNvCxnSpPr>
          <p:nvPr/>
        </p:nvCxnSpPr>
        <p:spPr>
          <a:xfrm flipH="1" rot="16200000">
            <a:off x="4685040" y="1104480"/>
            <a:ext cx="2520" cy="5411160"/>
          </a:xfrm>
          <a:prstGeom prst="curvedConnector5">
            <a:avLst>
              <a:gd name="adj1" fmla="val -61200000"/>
              <a:gd name="adj2" fmla="val 50000"/>
              <a:gd name="adj3" fmla="val -61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781680" y="11430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20" y="1295280"/>
            <a:ext cx="178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rietar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2133360"/>
            <a:ext cx="220968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57800" y="2133360"/>
            <a:ext cx="236232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72428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4723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57800" y="472392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d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57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76" idx="0"/>
          </p:cNvCxnSpPr>
          <p:nvPr/>
        </p:nvCxnSpPr>
        <p:spPr>
          <a:xfrm>
            <a:off x="1218960" y="869760"/>
            <a:ext cx="1371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75" idx="0"/>
          </p:cNvCxnSpPr>
          <p:nvPr/>
        </p:nvCxnSpPr>
        <p:spPr>
          <a:xfrm flipH="1">
            <a:off x="7772040" y="793800"/>
            <a:ext cx="388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2209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213372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1629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itanc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V="1" rot="16200000">
            <a:off x="6971760" y="6362280"/>
            <a:ext cx="381600" cy="15300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31520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chitectural evolut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V="1">
            <a:off x="7162920" y="540936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315200" y="5410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act”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029200"/>
            <a:ext cx="2210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0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8:05:08Z</dcterms:created>
  <dc:creator>The User</dc:creator>
  <dc:description/>
  <dc:language>en-US</dc:language>
  <cp:lastModifiedBy>ntuser</cp:lastModifiedBy>
  <dcterms:modified xsi:type="dcterms:W3CDTF">2001-03-12T21:14:10Z</dcterms:modified>
  <cp:revision>13</cp:revision>
  <dc:subject/>
  <dc:title>PowerPoint Presentation</dc:title>
</cp:coreProperties>
</file>