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BB37-62AE-4933-AF35-49F3A3ACE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95A1-090A-41CB-97ED-0B5D5C58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04CE-F6B8-4E48-98CA-59BBA3E78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D40C-2B02-4FC9-9AEF-212FB3C7C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1119-1064-4D42-9E9A-BE09D9B1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6B32-DF34-42E9-8E2B-CE23EBB4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76AE-FF78-470A-841C-7BE8C5C1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2C87-33C4-449D-AE4A-0F4DC4B2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A1BD-780E-414D-86D5-24A7FDF5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00DE-A422-4D41-B5B5-DE398AA8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2CF6-A922-4E4C-BEAA-C7380830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306E-9FA1-4C61-B98C-85433A4F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3621-9132-45B4-B3CA-0D4146733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2000" y="2286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89040" y="3886200"/>
            <a:ext cx="14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3886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3" idx="0"/>
            <a:endCxn id="41" idx="2"/>
          </p:cNvCxnSpPr>
          <p:nvPr/>
        </p:nvCxnSpPr>
        <p:spPr>
          <a:xfrm flipH="1" flipV="1">
            <a:off x="4393800" y="2654280"/>
            <a:ext cx="109296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5" name=""/>
          <p:cNvCxnSpPr>
            <a:stCxn id="42" idx="0"/>
            <a:endCxn id="41" idx="2"/>
          </p:cNvCxnSpPr>
          <p:nvPr/>
        </p:nvCxnSpPr>
        <p:spPr>
          <a:xfrm flipV="1">
            <a:off x="3225600" y="2654280"/>
            <a:ext cx="116856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3962520" y="4207320"/>
            <a:ext cx="8384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3962520" y="32004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505320" y="36576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48320" y="35812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41972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720" y="20574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2743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52" idx="2"/>
            <a:endCxn id="53" idx="0"/>
          </p:cNvCxnSpPr>
          <p:nvPr/>
        </p:nvCxnSpPr>
        <p:spPr>
          <a:xfrm>
            <a:off x="2704680" y="3109680"/>
            <a:ext cx="1715400" cy="138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276720" y="8380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2" idx="0"/>
            <a:endCxn id="55" idx="2"/>
          </p:cNvCxnSpPr>
          <p:nvPr/>
        </p:nvCxnSpPr>
        <p:spPr>
          <a:xfrm flipV="1">
            <a:off x="2705040" y="1204200"/>
            <a:ext cx="1410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" name=""/>
          <p:cNvCxnSpPr>
            <a:stCxn id="55" idx="2"/>
            <a:endCxn id="51" idx="0"/>
          </p:cNvCxnSpPr>
          <p:nvPr/>
        </p:nvCxnSpPr>
        <p:spPr>
          <a:xfrm>
            <a:off x="4114800" y="1204920"/>
            <a:ext cx="127080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1" idx="2"/>
            <a:endCxn id="53" idx="0"/>
          </p:cNvCxnSpPr>
          <p:nvPr/>
        </p:nvCxnSpPr>
        <p:spPr>
          <a:xfrm flipH="1">
            <a:off x="4419000" y="2424240"/>
            <a:ext cx="965880" cy="207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4114800" y="1447920"/>
            <a:ext cx="228600" cy="274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428640" y="23623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029920" y="281952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2819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1752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63" idx="0"/>
            <a:endCxn id="64" idx="2"/>
          </p:cNvCxnSpPr>
          <p:nvPr/>
        </p:nvCxnSpPr>
        <p:spPr>
          <a:xfrm flipV="1">
            <a:off x="4419360" y="2118600"/>
            <a:ext cx="1080" cy="23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6" name=""/>
          <p:cNvCxnSpPr>
            <a:stCxn id="64" idx="1"/>
            <a:endCxn id="63" idx="1"/>
          </p:cNvCxnSpPr>
          <p:nvPr/>
        </p:nvCxnSpPr>
        <p:spPr>
          <a:xfrm flipV="1" rot="10800000">
            <a:off x="3351960" y="1936440"/>
            <a:ext cx="229320" cy="2743920"/>
          </a:xfrm>
          <a:prstGeom prst="curvedConnector5">
            <a:avLst>
              <a:gd name="adj1" fmla="val 200000"/>
              <a:gd name="adj2" fmla="val 49993"/>
              <a:gd name="adj3" fmla="val 2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3809880"/>
            <a:ext cx="1676520" cy="83844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rr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l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219320"/>
            <a:ext cx="182880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ic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ice sharing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3809880"/>
            <a:ext cx="167616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rnal/Shar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5257800"/>
            <a:ext cx="16761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less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5257800"/>
            <a:ext cx="16765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lful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7" idx="0"/>
            <a:endCxn id="69" idx="0"/>
          </p:cNvCxnSpPr>
          <p:nvPr/>
        </p:nvCxnSpPr>
        <p:spPr>
          <a:xfrm flipH="1" rot="16200000">
            <a:off x="3275280" y="2514240"/>
            <a:ext cx="2520" cy="2591640"/>
          </a:xfrm>
          <a:prstGeom prst="curvedConnector5">
            <a:avLst>
              <a:gd name="adj1" fmla="val -33900000"/>
              <a:gd name="adj2" fmla="val 50000"/>
              <a:gd name="adj3" fmla="val -339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6553080" y="3809880"/>
            <a:ext cx="167652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iance bas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7" idx="0"/>
            <a:endCxn id="73" idx="0"/>
          </p:cNvCxnSpPr>
          <p:nvPr/>
        </p:nvCxnSpPr>
        <p:spPr>
          <a:xfrm flipH="1" rot="16200000">
            <a:off x="4685040" y="1104480"/>
            <a:ext cx="2520" cy="5411160"/>
          </a:xfrm>
          <a:prstGeom prst="curvedConnector5">
            <a:avLst>
              <a:gd name="adj1" fmla="val -61200000"/>
              <a:gd name="adj2" fmla="val 50000"/>
              <a:gd name="adj3" fmla="val -61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781680" y="1143000"/>
            <a:ext cx="19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n Syste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entralized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1520" y="1295280"/>
            <a:ext cx="178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prietary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ized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828800" y="2133360"/>
            <a:ext cx="220968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257800" y="2133360"/>
            <a:ext cx="2362320" cy="1523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724280" y="22096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4723920"/>
            <a:ext cx="457200" cy="38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5257800" y="4723920"/>
            <a:ext cx="533520" cy="38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533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ld Business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05720" y="4572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 Business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2"/>
            <a:endCxn id="76" idx="0"/>
          </p:cNvCxnSpPr>
          <p:nvPr/>
        </p:nvCxnSpPr>
        <p:spPr>
          <a:xfrm>
            <a:off x="1218960" y="869760"/>
            <a:ext cx="13716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3" idx="2"/>
            <a:endCxn id="75" idx="0"/>
          </p:cNvCxnSpPr>
          <p:nvPr/>
        </p:nvCxnSpPr>
        <p:spPr>
          <a:xfrm flipH="1">
            <a:off x="7772040" y="793800"/>
            <a:ext cx="3888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1295280" y="2209680"/>
            <a:ext cx="228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72400" y="213372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162920" y="5715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5791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heritance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/>
          <p:nvPr/>
        </p:nvCxnSpPr>
        <p:spPr>
          <a:xfrm flipV="1" rot="16200000">
            <a:off x="6971760" y="6362280"/>
            <a:ext cx="381600" cy="15300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7315200" y="61722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chitectural evolution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/>
          <p:nvPr/>
        </p:nvCxnSpPr>
        <p:spPr>
          <a:xfrm flipV="1">
            <a:off x="7162920" y="540936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7315200" y="5410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act”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5029200"/>
            <a:ext cx="22100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502920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eg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5T18:05:08Z</dcterms:created>
  <dc:creator>The User</dc:creator>
  <dc:description/>
  <dc:language>en-US</dc:language>
  <cp:lastModifiedBy>ntuser</cp:lastModifiedBy>
  <dcterms:modified xsi:type="dcterms:W3CDTF">2001-03-12T21:14:10Z</dcterms:modified>
  <cp:revision>13</cp:revision>
  <dc:subject/>
  <dc:title>PowerPoint Presentation</dc:title>
</cp:coreProperties>
</file>