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58560" y="3932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2000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7252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8648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5856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7252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8648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30240" y="188640"/>
            <a:ext cx="731376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58560" y="3932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252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86480" y="1484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5856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7252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86480" y="3932280"/>
            <a:ext cx="24890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30240" y="188640"/>
            <a:ext cx="731376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0" y="3932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0240" y="187920"/>
            <a:ext cx="731376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0000" y="1484280"/>
            <a:ext cx="3772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58560" y="3932280"/>
            <a:ext cx="77310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y, 26th. 2008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2952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y, 26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 2008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580920"/>
            <a:ext cx="5713560" cy="14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320" y="190440"/>
            <a:ext cx="1295280" cy="934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1268280"/>
            <a:ext cx="5715000" cy="30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cab1a"/>
                </a:solidFill>
                <a:latin typeface="Verdana"/>
              </a:rPr>
              <a:t>Architecture Rationale Exploration and</a:t>
            </a:r>
            <a:br>
              <a:rPr sz="3200"/>
            </a:br>
            <a:r>
              <a:rPr b="1" lang="en-US" sz="3200" spc="-1" strike="noStrike">
                <a:solidFill>
                  <a:srgbClr val="fcab1a"/>
                </a:solidFill>
                <a:latin typeface="Verdana"/>
              </a:rPr>
              <a:t>Comparison using Ontology-based description</a:t>
            </a:r>
            <a:br>
              <a:rPr sz="3200"/>
            </a:br>
            <a:r>
              <a:rPr b="1" lang="en-US" sz="3200" spc="-1" strike="noStrike">
                <a:solidFill>
                  <a:srgbClr val="fcab1a"/>
                </a:solidFill>
                <a:latin typeface="Verdana"/>
              </a:rPr>
              <a:t>and Named 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7490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Claudia López</a:t>
            </a:r>
            <a:r>
              <a:rPr b="1" lang="en-US" sz="2000" spc="-1" strike="noStrike" baseline="30000">
                <a:solidFill>
                  <a:srgbClr val="183883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, Luiz Marcio Cysneiros</a:t>
            </a:r>
            <a:r>
              <a:rPr b="1" lang="en-US" sz="2000" spc="-1" strike="noStrike" baseline="30000">
                <a:solidFill>
                  <a:srgbClr val="183883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, Hernán Astudillo</a:t>
            </a:r>
            <a:r>
              <a:rPr b="1" lang="en-US" sz="2000" spc="-1" strike="noStrike" baseline="30000">
                <a:solidFill>
                  <a:srgbClr val="18388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baseline="30000">
                <a:solidFill>
                  <a:srgbClr val="183883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Universidad Técnica Federico Santa María, Valparaíso,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baseline="30000">
                <a:solidFill>
                  <a:srgbClr val="183883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York University, Toronto, Can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2193840"/>
            <a:ext cx="8062920" cy="33368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 for DD&amp;R: 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2198520"/>
            <a:ext cx="7991280" cy="3602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 for DD&amp;R: Arg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ntology for DD&amp;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Key ontology design decision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000" spc="-1" strike="noStrike">
                <a:solidFill>
                  <a:srgbClr val="183883"/>
                </a:solidFill>
                <a:latin typeface="Arial"/>
              </a:rPr>
              <a:t>Claim is not a subclass of Softgoa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Developers usually do not attempt to achieve Claim Softgoals the way they do for NFR Softgoals or Operationalizing Softgoals [6]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000" spc="-1" strike="noStrike">
                <a:solidFill>
                  <a:srgbClr val="183883"/>
                </a:solidFill>
                <a:latin typeface="Arial"/>
              </a:rPr>
              <a:t>Argumentation is not a subclass of Explicit Interdependency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Refinements involving Claim Softgoals are somewhat different in nature than those involving NFR Softgoals and Operationalizing Softgoal [6]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Claims” are means to record rationale related to an specific softgoal or refinemen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hey do not represent a problem or solution refinemen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488960"/>
            <a:ext cx="701676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 =&gt; Ontology In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re Semantic Web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Named graphs (NGs) [24]: RDF Graphs with URI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Extension on top of RDF syntax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Each RDF graph has an URI =&gt; statement to be made about a set of triples (a RDF graph)</a:t>
            </a:r>
            <a:r>
              <a:rPr b="0" lang="ar-SA" sz="18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Simplifies data handling and adding metadata to RDF graph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SPARQL [23]: query language for RDF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Can be used to query required and optional graph patterns and constraint solutions to user-defined filter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Query: set of triple patterns containing Subject, Predicate and Object; at least one of them as variable (Basic Graph Pattern)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Query's output: set of RDF Terms which matches the queried basic graph patter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RIQL [25]: query language for Named Graph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-based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1483920"/>
            <a:ext cx="7732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1 SIG =&gt; 1 Named Graph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2041560"/>
            <a:ext cx="785016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Identify differences (labels)</a:t>
            </a:r>
            <a:r>
              <a:rPr b="0" lang="ar-SA" sz="2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063880"/>
            <a:ext cx="7850160" cy="4554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ntology-based Tool: Compari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Querying the rational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SELECT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DISTINCT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 ?claimlabel ?arg ?softgoallabel ?interdependency ?arg2 ?claimlabel2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WHERE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 {{?claim rdfs:label ?claimlabel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claim rdf:type sig:Claim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softgoal rdfs:label ?softgoallabel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softgoal rdf:type sig:Softgoal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arg sig:argOfSoftgoalHead ?softgoal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arg sig:argOfSoftgoalTail ?claim.}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183883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claim2 rdf:type sig:Claim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claim2 rdfs:label ?claimlabel2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interdependency rdf:type sig:Interdependency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arg2 sig:argOfInterdependencyHead ?interdependency.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?arg2 sig:argOfInterdependencyTail ?claim2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83883"/>
                </a:solidFill>
                <a:latin typeface="Arial"/>
              </a:rPr>
              <a:t>}}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-based Tool: Rational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543560"/>
            <a:ext cx="91440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Architecture descriptions record the results of the architecting proces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hey have neglected the discarded alternative decisions and the rationale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But recording the architecture process and the rationale can be quite usefu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Design decisions and its rationale can be represented as Softgoal Interdependency Graphs (SIGs)</a:t>
            </a:r>
            <a:r>
              <a:rPr b="0" lang="ar-SA" sz="2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Unfortunately, SIGs can become quite complex (even unreadable) for designs with many alternatives and/or a well-documented rational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Particularly hard, yet very valuable, is comparing SIGs to identify reuse opportunitie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-based Tool: Rational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33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64360" y="1341360"/>
            <a:ext cx="2160720" cy="5516640"/>
          </a:xfrm>
          <a:prstGeom prst="ellipse">
            <a:avLst/>
          </a:prstGeom>
          <a:solidFill>
            <a:srgbClr val="3366ff">
              <a:alpha val="4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4134960" y="1849320"/>
            <a:ext cx="1123920" cy="8893080"/>
          </a:xfrm>
          <a:prstGeom prst="ellipse">
            <a:avLst/>
          </a:prstGeom>
          <a:solidFill>
            <a:srgbClr val="3366ff">
              <a:alpha val="4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Querying the selected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7731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183883"/>
                </a:solidFill>
                <a:latin typeface="Arial"/>
              </a:rPr>
              <a:t>SELECT</a:t>
            </a: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183883"/>
                </a:solidFill>
                <a:latin typeface="Arial"/>
              </a:rPr>
              <a:t>DISTINCT</a:t>
            </a: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 ?softgoallabel ?topic ?ref ?softgoallabel2 ?topic2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183883"/>
                </a:solidFill>
                <a:latin typeface="Arial"/>
              </a:rPr>
              <a:t>WHERE</a:t>
            </a: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 {?softgoal rdfs:label ?softgoallabel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softgoal rdf:type sig:Softgoal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softgoal sig:label sig:Satisfied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183883"/>
                </a:solidFill>
                <a:latin typeface="Arial"/>
              </a:rPr>
              <a:t>OPTIONAL</a:t>
            </a: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 {?softgoal sig:topic ?topic}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softgoal2 rdfs:label ?softgoallabel2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softgoal2 rdf:type sig:Softgoal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softgoal2 sig:label sig:Satisfied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183883"/>
                </a:solidFill>
                <a:latin typeface="Arial"/>
              </a:rPr>
              <a:t>OPTIONAL</a:t>
            </a: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{?softgoal2 sig:topic ?topic2.}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ref sig:refinementHead ?softgoal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?ref sig:refinementTail ?softgoal2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4792680"/>
            <a:ext cx="88200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-based Tool: The 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8028000" cy="5051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883640" y="1413000"/>
            <a:ext cx="1296720" cy="3240000"/>
          </a:xfrm>
          <a:prstGeom prst="ellipse">
            <a:avLst/>
          </a:prstGeom>
          <a:solidFill>
            <a:srgbClr val="3366ff">
              <a:alpha val="4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933640" y="-333720"/>
            <a:ext cx="4248360" cy="8172360"/>
          </a:xfrm>
          <a:prstGeom prst="ellipse">
            <a:avLst/>
          </a:prstGeom>
          <a:solidFill>
            <a:srgbClr val="3366ff">
              <a:alpha val="4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Ontology and Semantic Web technologies can help to facilitate exploration and comparison of NFR knowledge (represented with SIGs)</a:t>
            </a:r>
            <a:r>
              <a:rPr b="0" lang="ar-SA" sz="2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We aim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Generate machine-readable and shareable descriptions of NFR knowledg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Simplify the visualization of SIG models to explore the stored knowledg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Promote reuse of NFRs knowledg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ngoing Work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Desktop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and Web versio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NFR catalogues and faceted search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SIGs by Rationale: SIGs with or without rationale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Operationalizing Softgoals by Contribution: helping or making</a:t>
            </a:r>
            <a:r>
              <a:rPr b="1" lang="en-GB" sz="20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a specific NFR Softgoa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orrelations by Operationalizing Softgoals: still unknown correlations of your operationalizing softgoal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Social Informar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600" spc="-1" strike="noStrike">
                <a:solidFill>
                  <a:srgbClr val="183883"/>
                </a:solidFill>
                <a:latin typeface="Arial"/>
              </a:rPr>
              <a:t>Who, When, Trust on SIG author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600" spc="-1" strike="noStrike">
                <a:solidFill>
                  <a:srgbClr val="183883"/>
                </a:solidFill>
                <a:latin typeface="Arial"/>
              </a:rPr>
              <a:t>Ongoing project: decision on analysis, deprecated, approved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opy and paste, ontology chang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anks for your comment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0240" y="2192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ndix - Comparison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Triple </a:t>
            </a:r>
            <a:r>
              <a:rPr b="1" lang="en-US" sz="1600" spc="-1" strike="noStrike">
                <a:solidFill>
                  <a:srgbClr val="183883"/>
                </a:solidFill>
                <a:latin typeface="Arial"/>
              </a:rPr>
              <a:t>findTriple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(Triple tri1) </a:t>
            </a:r>
            <a:r>
              <a:rPr b="0" i="1" lang="en-US" sz="16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ound=compareTriples(Triple tri1, Triple tri2);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if(found) return triple2; 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else return null;</a:t>
            </a:r>
            <a:r>
              <a:rPr b="0" i="1" lang="en-US" sz="16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boolean </a:t>
            </a:r>
            <a:r>
              <a:rPr b="1" lang="en-US" sz="1600" spc="-1" strike="noStrike">
                <a:solidFill>
                  <a:srgbClr val="183883"/>
                </a:solidFill>
                <a:latin typeface="Arial"/>
              </a:rPr>
              <a:t>compareTriples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(Triple tri1, Triple tri2)</a:t>
            </a:r>
            <a:r>
              <a:rPr b="0" i="1" lang="en-US" sz="16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ubject=compareUris(tri1.getSubject().toString(), tri2.getSubject().toString());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predicate=compareUris(tri1.getPredicate().toString(), tri2.getPredicate().toString());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object=compareUris(tri1.getObject().toString(), tri2.getObject().toString());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if(subject and predicate and object) 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else return false; </a:t>
            </a:r>
            <a:r>
              <a:rPr b="0" i="1" lang="en-US" sz="16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0240" y="2192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ndix - Comparison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boolean </a:t>
            </a:r>
            <a:r>
              <a:rPr b="1" lang="en-GB" sz="1400" spc="-1" strike="noStrike">
                <a:solidFill>
                  <a:srgbClr val="183883"/>
                </a:solidFill>
                <a:latin typeface="Arial"/>
              </a:rPr>
              <a:t>compareURIs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(URI uri1, URI uri2)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uri.isSoftgoal())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compareLabels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NFRTypeRelated(uri1,uri2))</a:t>
            </a:r>
            <a:r>
              <a:rPr b="0" lang="ar-SA" sz="1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return true;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uri.isInterdependency())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compareHeadLabel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TailLabel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Contribution(uri1, uri2)</a:t>
            </a:r>
            <a:r>
              <a:rPr b="0" lang="ar-SA" sz="1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return true;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uri.isArgOfRe¯nement())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compareHeadInterdependency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ClaimLabels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Contribution(uri1, uri2)</a:t>
            </a:r>
            <a:r>
              <a:rPr b="0" lang="ar-SA" sz="1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return true;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uri.isArgOfSoftgoal())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if(compareHeadLabel(uri1, uri2)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ClaimLabels(uri1, uri2 </a:t>
            </a:r>
            <a:r>
              <a:rPr b="0" i="1" lang="en-GB" sz="1400" spc="-1" strike="noStrike">
                <a:solidFill>
                  <a:srgbClr val="183883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compareContribution(uri1, uri2)</a:t>
            </a:r>
            <a:r>
              <a:rPr b="0" lang="ar-SA" sz="1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return true;}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else return false;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83883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ivation: SIG Comparis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773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Evaluating current design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urrent SIG (alternatives and rationale)</a:t>
            </a:r>
            <a:r>
              <a:rPr b="0" lang="ar-SA" sz="20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Updating for new requirement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urrent and past SIGs (design evolution), rationale behind old decisions, past mistak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Reusing past designs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Related SIGs from previous work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Identify</a:t>
            </a: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and reuse the most suitable design (non-technical information, rationale)</a:t>
            </a:r>
            <a:r>
              <a:rPr b="0" lang="ar-SA" sz="20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Reusing (to date) unknown interdependencie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o discover some unknown correlations of your operationalization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SIG modeling tools: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lvl="1" marL="733680" indent="-28116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NFR-Assistant [17] and OME3 [18]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not intended to simplify review and reuse of SIG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do not enable view-based exploration and review of SIG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Ontology and NFRs: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lvl="1" marL="733680" indent="-28116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ElicitO [20]: ontology-based tool that supports NFRs elicitation (not NFRs solutions description and their rationale)</a:t>
            </a:r>
            <a:r>
              <a:rPr b="0" lang="ar-SA" sz="24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33680" indent="-28116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Sancho et al. [22] proposed using an ontological database with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a Software Performance Engineering Body of Knowledg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Has problems to represent the SIG semantic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b4cce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We reuse some ideas: Refinement as a class, NFR ontology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Ontology for Design Decisions and Rationale (DD&amp;R)</a:t>
            </a:r>
            <a:r>
              <a:rPr b="0" lang="ar-SA" sz="28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lvl="1" marL="704160" indent="-2696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Allows to describe the SIG semantic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Semantic Web-based tool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lvl="1" marL="704160" indent="-2696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Represents SIGs as named graph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04160" indent="-2696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Uses query languages for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Querying the stored NFR knowledge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View-based exploration of SIG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omparing SIGs and highlight their differenc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Goal:</a:t>
            </a: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83883"/>
                </a:solidFill>
                <a:latin typeface="Arial"/>
              </a:rPr>
              <a:t>Help software practitioners to collect, review and reuse design decisions and rationale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mantic Web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The Semantic Web [26]: Web + Meanin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Extension of the current Web where well-defined meaning is given to informa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Environment where software agents can process this information and carry out sophisticated tasks for users.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RDF [27]: Graphs that describe the meaning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RDF (Resource Description Framework) allows to represent meaningful Web content as directed, labeled graph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Triple Pattern: Source node (subject), a property arc (predicate), and a target node (object)</a:t>
            </a:r>
            <a:r>
              <a:rPr b="0" lang="ar-SA" sz="20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183883"/>
                </a:solidFill>
                <a:latin typeface="Arial"/>
              </a:rPr>
              <a:t>particular things (digital documents, concepts or whatever) have properties (for instance "wasWrittenBy") with certain values (another thing)</a:t>
            </a:r>
            <a:r>
              <a:rPr b="0" lang="en-GB" sz="16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mantic Web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731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RDF: Graphs that describe the meanin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Each node and arc is identified by a Universal Resource Identifier (URI)</a:t>
            </a:r>
            <a:r>
              <a:rPr b="0" lang="ar-SA" sz="2000" spc="-1" strike="noStrike">
                <a:solidFill>
                  <a:srgbClr val="183883"/>
                </a:solidFill>
                <a:latin typeface="Arial"/>
                <a:ea typeface="Arial"/>
              </a:rPr>
              <a:t>‏</a:t>
            </a:r>
            <a:r>
              <a:rPr b="0" lang="es-CL" sz="2000" spc="-1" strike="noStrike">
                <a:solidFill>
                  <a:srgbClr val="183883"/>
                </a:solidFill>
                <a:latin typeface="Arial"/>
                <a:ea typeface="Arial"/>
              </a:rPr>
              <a:t> reference (URL is the most common URI)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URIs allow to identify uniquely each resource in the Web and relate it to a definition.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183883"/>
                </a:solidFill>
                <a:latin typeface="Arial"/>
              </a:rPr>
              <a:t>Ontology: Taxonomy + Inference Rule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an be used to discover common meanings among different information stores, and relate them to be dealt as the same concep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In the Web researchers jargon, it is a document that formally define concepts and their relationship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183883"/>
                </a:solidFill>
                <a:latin typeface="Arial"/>
              </a:rPr>
              <a:t>Can also define inference rules to add further description and reasoning power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0240" y="189000"/>
            <a:ext cx="7315200" cy="64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 for DD&amp;R: Soft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058840"/>
            <a:ext cx="792180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993080" cy="3914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830240" y="188640"/>
            <a:ext cx="7313760" cy="641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tology for DD&amp;R: Interdep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M</dc:creator>
  <dc:description/>
  <dc:language>en-US</dc:language>
  <cp:lastModifiedBy>USM</cp:lastModifiedBy>
  <dcterms:modified xsi:type="dcterms:W3CDTF">2008-05-28T18:52:36Z</dcterms:modified>
  <cp:revision>12</cp:revision>
  <dc:subject/>
  <dc:title>Architecture Rationale Exploration and Comparison using Ontology-based description and Named Graphs</dc:title>
</cp:coreProperties>
</file>